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379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Jan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an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7 vs more bit ed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ing now caught up with Nov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plenary vot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3 visio e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ing now caught up with Nov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plenary vote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27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ccept comment resolutions for 22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3 Missing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ccept rec resolutions of comment of 96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ast Reliability Improv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 comment 197 still un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the reliability of bcast should be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8,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to improve reli of bcast we ask a ad-hoc group to work out the details of an approach based upon a mech of PIFS before all bcast incl beacon, restrict from new xmit at TBTT w or w/o a more bcast bit, and bring a detailed proposal back to the MAc group for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ast Reliability Improv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(96/15): To use PIFS before all multicast including beacons with a restriction against new TX at TBTT by non-AP, w/ more bit by adopting the text changes presented within this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MORE bit, see section 8.2.1.4 - already in the d2.1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in 96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1, 7, 4 (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SF Timer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hange in clause 8.1.2.3 “0.0025” to “0.0035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5,4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6,7,7 (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Hy - new backoff # after hop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 to adopt 96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ture No vote”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 resolution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m: No action requested. wanted to make group aware of issues. (see 96/19 for 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 before fixed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ad vs word alignment trade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sc CIF bi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SS/IBSS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ync vs TB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T: How tell when CF period beg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change Cf parameter CFP_rate as per text in cf_param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5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ture No vote”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 resolution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c 6-218 - editors will change must to 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c 6-110 does not match history, research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Johnny: moved: to move 4.4 inserted as new section into clause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1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5 Goals for Jan ‘96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D2 draft editing using D2.1 as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output of Nov mtg (D2.1) to complete D2 LB comment processing resulting in D2.2 (D3.0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make a D3 - 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Third time is a charm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802.11 create Draft D3 from D2.1 and adopted changes from this week and send D3 out for (regular, not confirmation) Letter Ballot per schedule passed out by V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0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stponed to after other sub-group repor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r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ve one goal - Process D3 LB comments and forward D3.1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v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Pro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ood progres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 5, 8 completed so far, 6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ther Clauses (1,2,3,7) not check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work refelcts D2.1 not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MAC PICs proforma work done so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c 6 LB comments vs 247 imp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2.0 LB comments not res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 comments were resolved, but reversal of 95/247 caused a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we decline LB comments 6-300, 301, 302, 304, 305, 307 because the plenary declined to alter the D2.1 multi-rate mech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t’l MAC mgt SAP text for clause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; to adopt clause 7 MAC mgt improvements from Tom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I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dopt CIF changes rec by gr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State Machines (6.7) moved to informative An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technical change from D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mply corrected placement of informativ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clause 6.7 be moved to an informative annex and that the MAC group continue to work according to agenda to improve that ann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1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January 96 MAC group report</dc:title>
</cp:coreProperties>
</file>