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A1ACB9C-982D-4841-A36A-4053F9803921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4th Session of meetings of IEEE P802.11 Wireless Local Area Networks  Tentative Agenda</dc:title>
</cp:coreProperties>
</file>