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158D2097-66C1-447D-80C1-DF2C33A6C93A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7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anc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 26-28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rrisburg, 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August 26, 13:0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t is subject to cancellation by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D4.1 Recirculation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mit D5.0 to LMSC (Sponsor)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Aug 26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Resolution of Recirculation Ballot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Adjour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Wednesday n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-2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risburg, P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stin, TX?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uffer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uquerque, N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7th Session of meetings of IEEE P802.11 Wireless Local Area Networks  Tentative Agenda</dc:title>
</cp:coreProperties>
</file>