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C4F628-F4AB-47C0-8C6B-4CC59BA3C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5200" y="83016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5200" y="9828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5360" y="1814400"/>
            <a:ext cx="83818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Perspective on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136600" y="5794200"/>
            <a:ext cx="5232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Enschede, Neth, Jul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14560" y="2009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World has Changed Since the Last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oeing Mobi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71440" y="12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ng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5880" y="195264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 FCC 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de fact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72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9840" y="18543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69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1160" y="2522520"/>
            <a:ext cx="2017800" cy="2179800"/>
            <a:chOff x="1181160" y="2522520"/>
            <a:chExt cx="2017800" cy="2179800"/>
          </a:xfrm>
        </p:grpSpPr>
        <p:sp>
          <p:nvSpPr>
            <p:cNvPr id="121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36368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443320" y="33433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176560" y="269064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71756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37040" y="282564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73996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3964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82880" y="259704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11240" y="136836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8120" y="145404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060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44600" y="18162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3488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99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03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184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165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1755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4220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14600" y="18730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139920" y="20131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048120" y="3886200"/>
            <a:ext cx="210960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7120" y="226044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93800" y="246852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0" y="26287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24160" y="313056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4160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704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9708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9720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36384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98108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61944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61944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5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91780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62520" y="28386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98108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771720" y="15228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e a paper on the feasibility of standardizing HiperLAN and SuperNet PHYs - Boeing volun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Perspective on 802.11- Enschede, Neth</dc:title>
</cp:coreProperties>
</file>