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18C2EF-10F0-48CC-B47D-78D58FAA3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8804C81-9EC7-4F51-8121-A1579AF5B605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Hopping - Multiple AP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pecified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 optimization prefers network-wide ho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system - less collisions, less ìair usage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klore saya that FCC forbids this. If so, what is the rat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tr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Wish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r channels (Petition by Symbo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