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38160">
            <a:solidFill>
              <a:srgbClr val="fc0128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7451640" y="6529320"/>
            <a:ext cx="93996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</a:t>
            </a:r>
            <a:fld id="{EC7A4B18-5607-469C-B4EE-9A8F4361E510}" type="slidenum"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 of IEEE P802.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ared by Vic Hayes, Chair, AT&amp;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recht, the Nether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76320"/>
            <a:ext cx="81532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, MAC: 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62040" y="3898800"/>
            <a:ext cx="7620120" cy="22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93760" indent="-2937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ed Medium Access Control Protocol” using an Ethernet like </a:t>
            </a:r>
            <a:r>
              <a:rPr b="0" i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CSMA/CA + Ac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ision “Avoidance” rather then a “Detection” sche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7920" indent="-2365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iveness demonstrated in </a:t>
            </a:r>
            <a:r>
              <a:rPr b="0" i="1" lang="en-US" sz="1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Wavela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du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MAC level recovery of “Lost Packet” using a retransmission algorith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es provisions to deal with “Hidden Node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03360" y="1449360"/>
            <a:ext cx="555300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, MAC: Performan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976320" y="5300640"/>
            <a:ext cx="762012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93760" indent="-2937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t and stable throughpu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Based on 2 Mbps </a:t>
            </a:r>
            <a:r>
              <a:rPr b="0" i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Wavela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p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440000" y="1263600"/>
            <a:ext cx="6062760" cy="40464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895560" y="1876320"/>
            <a:ext cx="119556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, MAC: Other Fun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33320" y="137016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93760" indent="-2937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aming through the Wireless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tain Continuous connec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will “Re-Associate” with Access Points based on “Signal / Link Quality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multi channel roam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ion System” will adapt to logical location changes of the s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sions to use minimum Battery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ategy: Switch nodes off as much as possible, while maintaining network configu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ffic buffering functions are included in the Access Point to support th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d Equivalent Privacy” encryption algorithm is inclu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, PHY, Ra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ntrate radio work on the 2.4 GHz band (IS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promising globall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read Spectrum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so allowed to start work in 1.9, 5.2 and 5.8 GHz b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activity y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Sequence Spread Spectr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Sequence uses an 11 chip Barker Sequence to multiply the transmitte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r divides received signal by same Sequence to recover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rrow band interference deminis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ations can resolve multipath in the corre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ation of 2 Mbit/s in DQPSK (Differential Quadrature Phase Shift Key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ll back modulation of 1 Mbit/s in DBPSK (Differential Binary P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cy Hopping Spread Spectr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cy Hopping uses one of out 79 channels at a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ps from one frequency channel to the next at a 2.5 hops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sets of 22 hop sequences def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ation for 1 Mbit/s in 2 level GFSK (Gaussian Frequency Shift Key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ation for 2 Mbit/s in 4 level GFSK, channel perm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, PHY, Infra-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ation for 1 Mbit/s (basic rate) in 16-PPM (Pulse Position Modul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ation for 2 Mbit/s (enhanced rate) in 4 -P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ter illuminates the ceiling with diffused Infra-red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r read from ceiling, so there is no requirements to line transmitter and receiver pai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 draft ballot condu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.5 % approval (75 % required, unanimous prefer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 (17) appro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 (66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appro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(11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ving negative votes at November/January mee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 draft sent to ISO annexed to a Proposed New Work I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P802.11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81200" y="1114560"/>
            <a:ext cx="762012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  <a:tabLst>
                <a:tab algn="ctr" pos="1600200"/>
                <a:tab algn="ctr" pos="4172040"/>
                <a:tab algn="ctr" pos="6400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G Confirmation ballot Jan/Feb 19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  <a:tabLst>
                <a:tab algn="ctr" pos="1600200"/>
                <a:tab algn="ctr" pos="4172040"/>
                <a:tab algn="ctr" pos="6400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ve issues at March 1996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  <a:tabLst>
                <a:tab algn="ctr" pos="1600200"/>
                <a:tab algn="ctr" pos="4172040"/>
                <a:tab algn="ctr" pos="6400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nsor Ballot Mar/Apr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  <a:tabLst>
                <a:tab algn="ctr" pos="1600200"/>
                <a:tab algn="ctr" pos="4172040"/>
                <a:tab algn="ctr" pos="6400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ve issues at May 1996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  <a:tabLst>
                <a:tab algn="ctr" pos="1600200"/>
                <a:tab algn="ctr" pos="4172040"/>
                <a:tab algn="ctr" pos="6400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nsor Confirmation ballot Jun 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  <a:tabLst>
                <a:tab algn="ctr" pos="1600200"/>
                <a:tab algn="ctr" pos="4172040"/>
                <a:tab algn="ctr" pos="6400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ve issues at July 1996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  <a:tabLst>
                <a:tab algn="ctr" pos="1600200"/>
                <a:tab algn="ctr" pos="4172040"/>
                <a:tab algn="ctr" pos="6400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s Board meeting September 17-18, 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econference, January 9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hysical Layer Group assembled at the Westgate Hotel, San Diego, Califor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CC staff at the Federal Communications Building, Washington, D.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P8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P802.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l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um Access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PROJECT 8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and Metropolitan Standards Committee (LM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ed in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nsored by the Computer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st of 35 Socie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Area Networks (L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nly LAN standards development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Standards adopted as International Standard by ISO/I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tional Standards Organization and International Electrical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ropolitan Area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 450 Voting Members, over 600 Obser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 Working Groups, 2 Technical Advisory Grou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 through 802.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PROJECT 80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Area Network -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rate to high signaling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1 Mbit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rately sized geographic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om  to campus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ly owned, used and operated by single 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ntrast to wide area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 shared me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Project 802.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less Local Area Networks Standards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ed July 19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b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 voting members, 28 aspirant voting memb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bership is by individual, not by comp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te mailing list with over 180 addr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A, Canada, Europe, Israel, Japan, Korea, Taiw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factur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-electron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ra-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 equi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ver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factur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 Functional requir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ments study showed two types of networking nee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nchronous, that is bursty traffic, but when something to send: need for very fast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ochronous, that is regular traffic, in small amounts at a time, but at a constant 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fore 802.11 adopted the following requir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nchronous MSDU delivery on al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DU is the MAC Service Data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"time-bound MSDU delivery service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destrian speed and vehicular spe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mises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first review 802.10 prov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 MAC to support various PH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ulation depend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r Archite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1803240"/>
            <a:ext cx="890280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e PH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300400" y="1380960"/>
            <a:ext cx="1057320" cy="519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757760" y="1400040"/>
            <a:ext cx="1209600" cy="519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286000" y="2666880"/>
            <a:ext cx="1028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80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805200" y="2000160"/>
            <a:ext cx="1557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BASE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362560" y="2000160"/>
            <a:ext cx="1523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BASE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819600" y="2405160"/>
            <a:ext cx="15429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BROAD3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362560" y="2392200"/>
            <a:ext cx="1523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BASE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800520" y="2808360"/>
            <a:ext cx="15620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BASE-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400720" y="2808360"/>
            <a:ext cx="14526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BASE-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809880" y="3162240"/>
            <a:ext cx="15336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BASE-F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324400" y="3181320"/>
            <a:ext cx="15620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BASE-F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14760" y="3543120"/>
            <a:ext cx="15048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BASE-F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934320" y="2494080"/>
            <a:ext cx="148608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ll Ethernet, but not inter-operable on the medi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419200" y="4514760"/>
            <a:ext cx="895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802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857840" y="4214880"/>
            <a:ext cx="1143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S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838760" y="4610160"/>
            <a:ext cx="1143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H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819680" y="5010120"/>
            <a:ext cx="11811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0" y="4214880"/>
            <a:ext cx="142884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ly all 802.11, but not inter-operable on the medi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81200" y="2647800"/>
            <a:ext cx="952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762120" y="4476600"/>
            <a:ext cx="1238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re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