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9FA07ED-434D-4C31-ADD8-355E53FCB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768240"/>
            <a:ext cx="5029200" cy="3767400"/>
          </a:xfrm>
          <a:prstGeom prst="rect">
            <a:avLst/>
          </a:prstGeom>
          <a:ln w="0">
            <a:noFill/>
          </a:ln>
        </p:spPr>
      </p:sp>
      <p:sp>
        <p:nvSpPr>
          <p:cNvPr id="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371600" y="768240"/>
            <a:ext cx="5029200" cy="3767400"/>
          </a:xfrm>
          <a:prstGeom prst="rect">
            <a:avLst/>
          </a:prstGeom>
          <a:ln w="0">
            <a:noFill/>
          </a:ln>
        </p:spPr>
      </p:sp>
      <p:sp>
        <p:nvSpPr>
          <p:cNvPr id="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71600" y="768240"/>
            <a:ext cx="5029200" cy="3767400"/>
          </a:xfrm>
          <a:prstGeom prst="rect">
            <a:avLst/>
          </a:prstGeom>
          <a:ln w="0">
            <a:noFill/>
          </a:ln>
        </p:spPr>
      </p:sp>
      <p:sp>
        <p:nvSpPr>
          <p:cNvPr id="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43040" y="83808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7305840" y="457200"/>
            <a:ext cx="2036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19</a:t>
            </a:r>
            <a:endParaRPr b="0" lang="en-US" sz="1600" spc="-1" strike="noStrike">
              <a:solidFill>
                <a:srgbClr val="000000"/>
              </a:solidFill>
              <a:latin typeface="Arial"/>
            </a:endParaRPr>
          </a:p>
        </p:txBody>
      </p:sp>
      <p:sp>
        <p:nvSpPr>
          <p:cNvPr id="2" name=""/>
          <p:cNvSpPr txBox="1"/>
          <p:nvPr/>
        </p:nvSpPr>
        <p:spPr>
          <a:xfrm>
            <a:off x="735120" y="336600"/>
            <a:ext cx="3049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scellaneous Subjects</a:t>
            </a:r>
            <a:endParaRPr b="0" lang="en-US" sz="2000" spc="-1" strike="noStrike">
              <a:solidFill>
                <a:srgbClr val="000000"/>
              </a:solidFill>
              <a:latin typeface="Arial"/>
            </a:endParaRPr>
          </a:p>
        </p:txBody>
      </p:sp>
      <p:sp>
        <p:nvSpPr>
          <p:cNvPr id="3" name=""/>
          <p:cNvSpPr/>
          <p:nvPr/>
        </p:nvSpPr>
        <p:spPr>
          <a:xfrm>
            <a:off x="743040" y="1600200"/>
            <a:ext cx="840096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8366040" y="88596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80CA4B2A-E9B4-4E4E-B5E6-27BFE071F5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p:nvPr/>
        </p:nvSpPr>
        <p:spPr>
          <a:xfrm>
            <a:off x="581040" y="531720"/>
            <a:ext cx="78264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762120" y="2286000"/>
            <a:ext cx="8381880" cy="1143000"/>
          </a:xfrm>
          <a:prstGeom prst="rect">
            <a:avLst/>
          </a:prstGeom>
          <a:noFill/>
          <a:ln w="0">
            <a:noFill/>
          </a:ln>
        </p:spPr>
        <p:txBody>
          <a:bodyPr lIns="0" rIns="0" tIns="0" bIns="0" anchor="t">
            <a:noAutofit/>
          </a:bodyPr>
          <a:p>
            <a:pPr algn="ctr">
              <a:lnSpc>
                <a:spcPct val="90000"/>
              </a:lnSpc>
            </a:pPr>
            <a:r>
              <a:rPr b="1" lang="en-US" sz="3200" spc="-1" strike="noStrike">
                <a:solidFill>
                  <a:srgbClr val="618ffd"/>
                </a:solidFill>
                <a:latin typeface="Arial"/>
                <a:ea typeface="Arial"/>
              </a:rPr>
              <a:t>Miscellaneous D2.1 issues</a:t>
            </a:r>
            <a:endParaRPr b="0" lang="en-US" sz="3200" spc="-1" strike="noStrike">
              <a:solidFill>
                <a:srgbClr val="000000"/>
              </a:solidFill>
              <a:latin typeface="Arial"/>
            </a:endParaRPr>
          </a:p>
        </p:txBody>
      </p:sp>
      <p:sp>
        <p:nvSpPr>
          <p:cNvPr id="53" name=""/>
          <p:cNvSpPr txBox="1"/>
          <p:nvPr/>
        </p:nvSpPr>
        <p:spPr>
          <a:xfrm>
            <a:off x="1447920" y="3886200"/>
            <a:ext cx="701028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Arial"/>
                <a:ea typeface="Arial"/>
              </a:rPr>
              <a:t>Subjects for next LB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Intention:</a:t>
            </a:r>
            <a:endParaRPr b="0" lang="en-US" sz="3200" spc="-1" strike="noStrike">
              <a:solidFill>
                <a:srgbClr val="000000"/>
              </a:solidFill>
              <a:latin typeface="Arial"/>
            </a:endParaRPr>
          </a:p>
        </p:txBody>
      </p:sp>
      <p:sp>
        <p:nvSpPr>
          <p:cNvPr id="5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ddress issues remaining in draft D2.1 after the current round of Letter Ballot comment resolut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Discuss validity of the subjects address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nd discuss the recommendations made in this pap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ext changes for the recommendations are not currently provided, but will be included in the next Letter Ballot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People are encouraged to reference this paper and include these subjects in their Lette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association Request Frame format:</a:t>
            </a:r>
            <a:endParaRPr b="0" lang="en-US" sz="3200" spc="-1" strike="noStrike">
              <a:solidFill>
                <a:srgbClr val="000000"/>
              </a:solidFill>
              <a:latin typeface="Arial"/>
            </a:endParaRPr>
          </a:p>
        </p:txBody>
      </p:sp>
      <p:sp>
        <p:nvSpPr>
          <p:cNvPr id="61"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e Field definition has changed, such that “Current_AP_Address has been moved to the en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does not follow the rules that fixed length fields will be earlier in the frame then the variable length field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ackground is apparently that a reassociation frame is identical to an Association frame, with the difference being in the last field.</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hange it back such that the general rule is followed that fixed fields come before variable length fiel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Not all fields are at Word boundaries:</a:t>
            </a:r>
            <a:endParaRPr b="0" lang="en-US" sz="3200" spc="-1" strike="noStrike">
              <a:solidFill>
                <a:srgbClr val="000000"/>
              </a:solidFill>
              <a:latin typeface="Arial"/>
            </a:endParaRPr>
          </a:p>
        </p:txBody>
      </p:sp>
      <p:sp>
        <p:nvSpPr>
          <p:cNvPr id="65"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It has been a design assumption that fields are alligned to word boundari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hanges have been made in the last update to affect that, but not all field definitions do follow tha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Reason code is only 1 octe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the variable length fields are not following this rul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Make the Reason code 2 octe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specify Variable length fields such that they end on Word Boundaries, by specifying a pad Byte with content 0 where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Field issues:</a:t>
            </a:r>
            <a:endParaRPr b="0" lang="en-US" sz="3200" spc="-1" strike="noStrike">
              <a:solidFill>
                <a:srgbClr val="000000"/>
              </a:solidFill>
              <a:latin typeface="Arial"/>
            </a:endParaRPr>
          </a:p>
        </p:txBody>
      </p:sp>
      <p:sp>
        <p:nvSpPr>
          <p:cNvPr id="69"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apability Fields are present i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acon, Probe, Probe Responce, (Re)Association request and responce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ESS bit and an IBSS bit are defined to distinguish between Infrastructure and Ad-Ho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assumes that an IBSS is not part of an ESS although it has an ESSID.</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hange ESS bit into “Infrastructure BSS” bit as befor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Infrastructure BSS and IBSS bits have no meaning (should be 0) in all but Beacon, Probe and Probe Response fram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This one seems OK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So in Association and Reassociation (Req+Resp) the bits are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Field.</a:t>
            </a:r>
            <a:endParaRPr b="0" lang="en-US" sz="3200" spc="-1" strike="noStrike">
              <a:solidFill>
                <a:srgbClr val="000000"/>
              </a:solidFill>
              <a:latin typeface="Arial"/>
            </a:endParaRPr>
          </a:p>
        </p:txBody>
      </p:sp>
      <p:sp>
        <p:nvSpPr>
          <p:cNvPr id="73"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F-Aware only defined in (Re)_Association request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allows the station to make it known to the AP that it is capable to participate in a PCF.</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conclude whether a PCF is active when a CF_Parameter_Set field is present in the Beacon or Probe Respons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tells all stations to set their NAV at the TBTT to CFP_Max_Duration.</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a station needs to know whether the PCF does indeed provide a polling mechanis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cause the implementation of a PCF for transfering “Down traffic” without a polling list is vali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owever this mechanism can be used for all traffic to all stations regardless whether the station is CF_A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7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F-Polling bit only defined in (RE)-Association Request frames for CF-Aware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request to use the polling mechanism when it is ther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confirmation that the station can depend on the polling mechanism in (RE)-Association Response frames would be useful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Polling_PCF” bit is needed in the “Capability Information” field of an AP, or in a separate field in the CF_Parameter_Set fie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cknowledge CF_Polling mechanism availability in the (RE)-Association Response fram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81" name=""/>
          <p:cNvSpPr txBox="1"/>
          <p:nvPr/>
        </p:nvSpPr>
        <p:spPr>
          <a:xfrm>
            <a:off x="750960" y="1905120"/>
            <a:ext cx="877428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How does a Station or AP know whether the other side does support WE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there is no way to know that, sinse everything in the Beacon will be send in the clea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if WEP is being used, but the other side does not support it, it will still be Acked, and the sending station does not get any feedback that the frame gets los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an AP can be configured so that it does not accept any data frames that were not encrypted, to protect the D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Define a “WEP supported”, and a “WEP mandatory” bit (only setable in AP) in the capability information field, which is set accordingly in at least the Beacon, Probe response, (Re)-Association Request and Response fra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ynchronisation: </a:t>
            </a:r>
            <a:endParaRPr b="0" lang="en-US" sz="3200" spc="-1" strike="noStrike">
              <a:solidFill>
                <a:srgbClr val="000000"/>
              </a:solidFill>
              <a:latin typeface="Arial"/>
            </a:endParaRPr>
          </a:p>
        </p:txBody>
      </p:sp>
      <p:sp>
        <p:nvSpPr>
          <p:cNvPr id="85" name=""/>
          <p:cNvSpPr txBox="1"/>
          <p:nvPr/>
        </p:nvSpPr>
        <p:spPr>
          <a:xfrm>
            <a:off x="750960" y="1905120"/>
            <a:ext cx="8393040" cy="4372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ation is to synchronise to a BSS it needs to copy the TSF Timestamp, the Beacon_Interva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t also needs to be able to determine when the next TBTT occurs, and all subsequent TBTTs (by adding Beacon_Period every Beacon tim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a station needs to calculate TSF_Time modulo (Beacon_Period), and calculate the remaind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rather complex function that needs to be performed on the full 64 bit TSF at every synchronisation ev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prevented by adding a “Next TBTT” parameter in the Beacon and Probe response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16 bit field which represent bit 11 till 26 of the TSF tim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cause the TBTT will be on a Kusec bound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