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5726F4-5516-4C65-8574-82DC28371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line for 802.11 Letter Bal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ocument contains the time line to go through the various ballots for 802.1, assuming positiv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ly proposed by Vic Hayes, and presented at the Januar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objections were raised from the attend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 WORKING GROUP CONFIRMATION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11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25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27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 2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3 (Sun) (thirty days from mailing date, thirty-eight days from 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7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11 (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INITIAL SPONSOR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15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1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3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at IE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5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mai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9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recei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 2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 (Thu) (thirty days from mail arrive date, forty days from 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8 (W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3 (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SPONSOR CONFIRMATION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6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3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5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at IE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7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mai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31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recei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4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19 (Wed) (fifteen days from mail arrive, twenty-five days from ftp-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25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tandard due at IEEE office: August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 September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opportunity (but needs ExCom e-mail ballot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at IEEE office: Novemb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: December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