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970F5A01-CB61-4508-9E52-C9AB9F035146}"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525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59277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5</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ing reliability of delivery of multicast frames in an Infrastructure BSS</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new paragraph, case of AP, uses multicast bur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an AP for an infrastructure BSS and there is no PCF, (the To_DS bit shall be clear), then the AP shall transmit multicast frames by using the basic access mechanism with the exception that PIFS shall be used instead of DIFS, and backoff before transmission shall not be performed. If any of the associated STA are in PS mode, then all multicast frames shall be buffered and shall then be transmitted immediately following the next DTIM transmission. The first multicast frame transmitted after the next DTIM shall be transmitted after waiting for PIFS medium free time following the completion of the DTIM transmission. Each subsequent multicast frame (if more are buffered) shall follow the previous multicast frame transmission after waiting for PIFS medium free time, without performing any backoff. If the medium is sensed busy at any time, then wait for PIFS is restarted when the medium returns to the idle state, and after PIFS, the next multicast frame in the queue shall be 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from 6.2.7.</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last paragraph of this section talks about unreliability</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last paragraph of section with the following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re is no MAC level recovery on Broadcast or Multicast fames except for those frames sent with the To_DS bit set. </a:t>
            </a:r>
            <a:r>
              <a:rPr b="1" i="1" lang="en-US" sz="1800" spc="-1" strike="noStrike">
                <a:solidFill>
                  <a:srgbClr val="fc0128"/>
                </a:solidFill>
                <a:latin typeface="Arial"/>
                <a:ea typeface="Arial"/>
              </a:rPr>
              <a:t>However, due to the use of the PIFS for multicast frame transmissions that have the To_DS bit clear, these transmissions will effectively be granted a priority and will enjoy a reasonable proabability of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carrier sense mechanism needs to include TBTT as causing Carrier Sense to be asserted for SLOT TIME sec</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fter 3rd paragraph, add new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 second virtual carrier sense mechanism called TBTT_BUSY shall be provided by a MAC while operating in an infrastructure BSS, in order to allow multicast traffic (including beacons) to be delivered to stations within a BSS that includes an AP. This mechanism forces a medium busy condition in all STA within an infrastructure BSS and all APs for one SLOT TIME beginning at each TB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modify first sentence of last paragraph, new text:</a:t>
            </a:r>
            <a:endParaRPr b="0" lang="en-US" sz="32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NAV state is combined with </a:t>
            </a:r>
            <a:r>
              <a:rPr b="1" i="1" lang="en-US" sz="1800" spc="-1" strike="noStrike">
                <a:solidFill>
                  <a:srgbClr val="fc0128"/>
                </a:solidFill>
                <a:latin typeface="Arial"/>
                <a:ea typeface="Arial"/>
              </a:rPr>
              <a:t>the TBTT_BUSY indication and</a:t>
            </a:r>
            <a:r>
              <a:rPr b="1" lang="en-US" sz="1800" spc="-1" strike="noStrike">
                <a:solidFill>
                  <a:srgbClr val="000000"/>
                </a:solidFill>
                <a:latin typeface="Arial"/>
                <a:ea typeface="Arial"/>
              </a:rPr>
              <a:t> the physical carrier sense to indicate the busy/free state of the medium.</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what about interference from an adjacent BSS on the same channel?</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jacent BSS will not know of TBTT for my BSS, so while adjacent BSS on same channel may through DCF allow some protection for non-multicast frames, first multicast frame in burst might be squashed until PIFS kick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eacon generation</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1.2.1., beacon to use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first paragraph with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ccess Point shall define the timing for the entire BSS by transmiting Beacons according to the aBeacon_Period parameter within the AP. This defines a series of Target Beacon Transmission Times (TBTTs) exactly aBeacon_Period time units apart, time zero is defined to be a TBTT. At each TBTT, the AP shall schedule a Beacon as the next frame for transmission. If the medium is sensed to be unavailable, the AP shall delay the actual transmission of a Beacon </a:t>
            </a:r>
            <a:r>
              <a:rPr b="1" i="1" lang="en-US" sz="1800" spc="-1" strike="noStrike">
                <a:solidFill>
                  <a:srgbClr val="fc0128"/>
                </a:solidFill>
                <a:latin typeface="Arial"/>
                <a:ea typeface="Arial"/>
              </a:rPr>
              <a:t>until immediately following the next PIFS medium idle time such as is described for multicast frames in section 6</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No backoff shall be performed preceeding this transmission. (Note that the beacon frame is a multicast frame.)</a:t>
            </a:r>
            <a:r>
              <a:rPr b="1" lang="en-US" sz="1800" spc="-1" strike="noStrike">
                <a:solidFill>
                  <a:srgbClr val="000000"/>
                </a:solidFill>
                <a:latin typeface="Arial"/>
                <a:ea typeface="Arial"/>
              </a:rPr>
              <a:t> The beacon period is included in beacon and probe Response frame, and stations shall adopt that beacon period when joining the B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P’s role</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ill sense medium beginning at TBTT</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atches for PIFS medium idle time before commencing all multicast (incl. Beacon) transmission</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P also implements TBTT_BUSY virtual carrier sense mechanism</a:t>
            </a:r>
            <a:endParaRPr b="0" lang="en-US" sz="24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need to note that after DTIM, first traffic out is multic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to use PIFS before all multicast including beacons with a restriction against new TX at TBTT by non-AP, w or w/o more bit by adopting the text changes presented within this presentation </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or MORE bit, see section 8.2.1.4 - already in the d2.1 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in frame format sec.</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4.1.3.1.8., use of more bit in multicast frame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d another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The More Data field shall be set to “1” in broadcast/multicast frames transmitted by the AP, when additional broadcast/multicast frames remain to be transmitted by the AP during this beacon interval. The More Data field shall be set to “0” in broadcast/multicast frames when no more broadcast/multicast frames remain to be transmitted by the AP during this beacon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use in multicast</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1.4., use of more bit, multicast frames</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ready has reference, subsection e)</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reference is to old name, update ref.</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ower management bits shall be set to indicate the presence of further buffered broadcast/multicast MSDU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t>
            </a:r>
            <a:r>
              <a:rPr b="1" i="1" lang="en-US" sz="1800" spc="-1" strike="noStrike">
                <a:solidFill>
                  <a:srgbClr val="fc0128"/>
                </a:solidFill>
                <a:latin typeface="Arial"/>
                <a:ea typeface="Arial"/>
              </a:rPr>
              <a:t>More Data field</a:t>
            </a:r>
            <a:r>
              <a:rPr b="1" lang="en-US" sz="1800" spc="-1" strike="noStrike">
                <a:solidFill>
                  <a:srgbClr val="000000"/>
                </a:solidFill>
                <a:latin typeface="Arial"/>
                <a:ea typeface="Arial"/>
              </a:rPr>
              <a:t> shall be set to indicate the presence of further buffered broadcast/multicast MSDUs.</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l of section 8 has this name referenc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3.2. modify first sentence of first paragraph and add one new sentence, cite new additional use of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to replace first sentence of first paragraph, section 6.2.3.2.:</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no B-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first paragraph, leave unchanged:</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desiring to initiate transfer of data and management MPDUs shall utilize both the physical and virtual carrier sense functions to determine the state of the medium. If the medium is busy, the STA shall defer until after a DIFS is detected, and then generate a random backoff period for an additional defferral time before transmitting. This process minimizes collisions during contentno between multiple STA that have been deferring to the same even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paragraph </a:t>
            </a:r>
            <a:r>
              <a:rPr b="1" i="1" lang="en-US" sz="2400" spc="-1" strike="noStrike" u="sng">
                <a:solidFill>
                  <a:srgbClr val="000000"/>
                </a:solidFill>
                <a:uFillTx/>
                <a:latin typeface="Arial"/>
                <a:ea typeface="Arial"/>
              </a:rPr>
              <a:t>for insertion after</a:t>
            </a:r>
            <a:r>
              <a:rPr b="1" lang="en-US" sz="2400" spc="-1" strike="noStrike">
                <a:solidFill>
                  <a:srgbClr val="000000"/>
                </a:solidFill>
                <a:latin typeface="Arial"/>
                <a:ea typeface="Arial"/>
              </a:rPr>
              <a:t>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eliminate back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add phrase to the end of the paragraph to yield the following update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change paragraph to read as follow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7. first paragraph needs to be split into two paragraph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delete existing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n the absence of a PCF, when Broadcast or Multicast MPDUs are transferred from an STA with the To_DS bit clear, only the basic access mechanism shall be used. Regardless of the length of the frame, no RTS/CTS excange shall be used. In addition, no ACK shall be transmitted by any of the recipients of the fram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case of ad-hoc multicast, uses basic mechanism:</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hew James Fischer</dc:creator>
  <dc:description/>
  <dc:language>en-US</dc:language>
  <cp:lastModifiedBy>Vic Hayes</cp:lastModifiedBy>
  <cp:revision>0</cp:revision>
  <dc:subject/>
  <dc:title/>
</cp:coreProperties>
</file>