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99E9A0-C1A4-447A-9D15-41DF6E095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050F1C1-FE60-4C39-AAF6-24CC5C6D0424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Hopping - Multiple AP’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specified in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level optimization prefers network-wide hop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system - less collisions, less ìair usage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klore saya that FCC forbids this. If so, what is the rat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tr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Wish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ed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r channels (Petition by Symbo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ftali Chayat</dc:creator>
  <dc:description/>
  <dc:language>en-US</dc:language>
  <cp:lastModifiedBy>Vic Hayes</cp:lastModifiedBy>
  <cp:revision>0</cp:revision>
  <dc:subject/>
  <dc:title>Frequency Hopping Spread Spectrum section of the 802.11 Wireless LAN Standard</dc:title>
</cp:coreProperties>
</file>