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45368BA4-D368-4ACE-8B6D-5B12F66EA76B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7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ance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 26-28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rrisburg, 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August 26, 13:0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t is subject to cancellation by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D4.1 Recirculation B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mit D5.0 to LMSC (Sponsor) B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Aug 26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Resolution of Recirculation Ballot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Adjour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Wednesday n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-2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risburg, P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stin, TX?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uffer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buquerque, N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7th Session of meetings of IEEE P802.11 Wireless Local Area Networks  Tentative Agenda</dc:title>
</cp:coreProperties>
</file>