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D6D96E-1718-464C-A84B-0EAB35E52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915320" y="358920"/>
            <a:ext cx="12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-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35120" y="33660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59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1D8BF2CA-93EB-4DA3-948F-BA3122B59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213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  <a:ea typeface="Arial"/>
              </a:rPr>
              <a:t>Inter Access Poin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3429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ironet &amp; 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70160" y="5118120"/>
            <a:ext cx="5349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resented By: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Mike Trom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63800" y="885960"/>
            <a:ext cx="1717920" cy="435240"/>
            <a:chOff x="1963800" y="885960"/>
            <a:chExt cx="1717920" cy="435240"/>
          </a:xfrm>
        </p:grpSpPr>
        <p:sp>
          <p:nvSpPr>
            <p:cNvPr id="92" name=""/>
            <p:cNvSpPr/>
            <p:nvPr/>
          </p:nvSpPr>
          <p:spPr>
            <a:xfrm>
              <a:off x="2163600" y="892080"/>
              <a:ext cx="235440" cy="424080"/>
            </a:xfrm>
            <a:custGeom>
              <a:avLst/>
              <a:gdLst/>
              <a:ahLst/>
              <a:rect l="0" t="0" r="r" b="b"/>
              <a:pathLst>
                <a:path w="654" h="1178">
                  <a:moveTo>
                    <a:pt x="0" y="719"/>
                  </a:moveTo>
                  <a:lnTo>
                    <a:pt x="0" y="799"/>
                  </a:lnTo>
                  <a:lnTo>
                    <a:pt x="221" y="799"/>
                  </a:lnTo>
                  <a:lnTo>
                    <a:pt x="234" y="816"/>
                  </a:lnTo>
                  <a:lnTo>
                    <a:pt x="283" y="918"/>
                  </a:lnTo>
                  <a:lnTo>
                    <a:pt x="305" y="993"/>
                  </a:lnTo>
                  <a:lnTo>
                    <a:pt x="318" y="1037"/>
                  </a:lnTo>
                  <a:lnTo>
                    <a:pt x="327" y="1054"/>
                  </a:lnTo>
                  <a:lnTo>
                    <a:pt x="327" y="1072"/>
                  </a:lnTo>
                  <a:lnTo>
                    <a:pt x="327" y="1090"/>
                  </a:lnTo>
                  <a:lnTo>
                    <a:pt x="318" y="1107"/>
                  </a:lnTo>
                  <a:lnTo>
                    <a:pt x="309" y="1121"/>
                  </a:lnTo>
                  <a:lnTo>
                    <a:pt x="296" y="1125"/>
                  </a:lnTo>
                  <a:lnTo>
                    <a:pt x="283" y="1134"/>
                  </a:lnTo>
                  <a:lnTo>
                    <a:pt x="269" y="1134"/>
                  </a:lnTo>
                  <a:lnTo>
                    <a:pt x="243" y="1143"/>
                  </a:lnTo>
                  <a:lnTo>
                    <a:pt x="212" y="1143"/>
                  </a:lnTo>
                  <a:lnTo>
                    <a:pt x="199" y="1143"/>
                  </a:lnTo>
                  <a:lnTo>
                    <a:pt x="199" y="1178"/>
                  </a:lnTo>
                  <a:lnTo>
                    <a:pt x="654" y="1178"/>
                  </a:lnTo>
                  <a:lnTo>
                    <a:pt x="654" y="1143"/>
                  </a:lnTo>
                  <a:lnTo>
                    <a:pt x="623" y="1134"/>
                  </a:lnTo>
                  <a:lnTo>
                    <a:pt x="601" y="1134"/>
                  </a:lnTo>
                  <a:lnTo>
                    <a:pt x="588" y="1121"/>
                  </a:lnTo>
                  <a:lnTo>
                    <a:pt x="570" y="1112"/>
                  </a:lnTo>
                  <a:lnTo>
                    <a:pt x="553" y="1090"/>
                  </a:lnTo>
                  <a:lnTo>
                    <a:pt x="535" y="1072"/>
                  </a:lnTo>
                  <a:lnTo>
                    <a:pt x="522" y="1037"/>
                  </a:lnTo>
                  <a:lnTo>
                    <a:pt x="500" y="1006"/>
                  </a:lnTo>
                  <a:lnTo>
                    <a:pt x="61" y="0"/>
                  </a:lnTo>
                  <a:lnTo>
                    <a:pt x="26" y="0"/>
                  </a:lnTo>
                  <a:lnTo>
                    <a:pt x="0" y="61"/>
                  </a:lnTo>
                  <a:lnTo>
                    <a:pt x="0" y="251"/>
                  </a:lnTo>
                  <a:lnTo>
                    <a:pt x="199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63800" y="914400"/>
              <a:ext cx="200520" cy="402120"/>
            </a:xfrm>
            <a:custGeom>
              <a:avLst/>
              <a:gdLst/>
              <a:ahLst/>
              <a:rect l="0" t="0" r="r" b="b"/>
              <a:pathLst>
                <a:path w="557" h="1117">
                  <a:moveTo>
                    <a:pt x="557" y="185"/>
                  </a:moveTo>
                  <a:lnTo>
                    <a:pt x="557" y="0"/>
                  </a:lnTo>
                  <a:lnTo>
                    <a:pt x="168" y="905"/>
                  </a:lnTo>
                  <a:lnTo>
                    <a:pt x="146" y="954"/>
                  </a:lnTo>
                  <a:lnTo>
                    <a:pt x="123" y="980"/>
                  </a:lnTo>
                  <a:lnTo>
                    <a:pt x="101" y="1016"/>
                  </a:lnTo>
                  <a:lnTo>
                    <a:pt x="83" y="1038"/>
                  </a:lnTo>
                  <a:lnTo>
                    <a:pt x="61" y="1051"/>
                  </a:lnTo>
                  <a:lnTo>
                    <a:pt x="48" y="1064"/>
                  </a:lnTo>
                  <a:lnTo>
                    <a:pt x="26" y="1073"/>
                  </a:lnTo>
                  <a:lnTo>
                    <a:pt x="0" y="1082"/>
                  </a:lnTo>
                  <a:lnTo>
                    <a:pt x="0" y="1117"/>
                  </a:lnTo>
                  <a:lnTo>
                    <a:pt x="349" y="1117"/>
                  </a:lnTo>
                  <a:lnTo>
                    <a:pt x="349" y="1082"/>
                  </a:lnTo>
                  <a:lnTo>
                    <a:pt x="336" y="1082"/>
                  </a:lnTo>
                  <a:lnTo>
                    <a:pt x="309" y="1073"/>
                  </a:lnTo>
                  <a:lnTo>
                    <a:pt x="287" y="1073"/>
                  </a:lnTo>
                  <a:lnTo>
                    <a:pt x="265" y="1064"/>
                  </a:lnTo>
                  <a:lnTo>
                    <a:pt x="252" y="1060"/>
                  </a:lnTo>
                  <a:lnTo>
                    <a:pt x="239" y="1051"/>
                  </a:lnTo>
                  <a:lnTo>
                    <a:pt x="230" y="1029"/>
                  </a:lnTo>
                  <a:lnTo>
                    <a:pt x="225" y="1016"/>
                  </a:lnTo>
                  <a:lnTo>
                    <a:pt x="225" y="1003"/>
                  </a:lnTo>
                  <a:lnTo>
                    <a:pt x="225" y="994"/>
                  </a:lnTo>
                  <a:lnTo>
                    <a:pt x="230" y="967"/>
                  </a:lnTo>
                  <a:lnTo>
                    <a:pt x="243" y="932"/>
                  </a:lnTo>
                  <a:lnTo>
                    <a:pt x="261" y="883"/>
                  </a:lnTo>
                  <a:lnTo>
                    <a:pt x="314" y="755"/>
                  </a:lnTo>
                  <a:lnTo>
                    <a:pt x="322" y="728"/>
                  </a:lnTo>
                  <a:lnTo>
                    <a:pt x="557" y="728"/>
                  </a:lnTo>
                  <a:lnTo>
                    <a:pt x="557" y="658"/>
                  </a:lnTo>
                  <a:lnTo>
                    <a:pt x="358" y="658"/>
                  </a:lnTo>
                  <a:lnTo>
                    <a:pt x="557" y="180"/>
                  </a:lnTo>
                  <a:lnTo>
                    <a:pt x="55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41520" y="885960"/>
              <a:ext cx="68760" cy="63720"/>
            </a:xfrm>
            <a:custGeom>
              <a:avLst/>
              <a:gdLst/>
              <a:ahLst/>
              <a:rect l="0" t="0" r="r" b="b"/>
              <a:pathLst>
                <a:path w="191" h="177">
                  <a:moveTo>
                    <a:pt x="89" y="0"/>
                  </a:moveTo>
                  <a:lnTo>
                    <a:pt x="75" y="0"/>
                  </a:lnTo>
                  <a:lnTo>
                    <a:pt x="53" y="4"/>
                  </a:lnTo>
                  <a:lnTo>
                    <a:pt x="39" y="17"/>
                  </a:lnTo>
                  <a:lnTo>
                    <a:pt x="26" y="26"/>
                  </a:lnTo>
                  <a:lnTo>
                    <a:pt x="17" y="39"/>
                  </a:lnTo>
                  <a:lnTo>
                    <a:pt x="13" y="52"/>
                  </a:lnTo>
                  <a:lnTo>
                    <a:pt x="4" y="70"/>
                  </a:lnTo>
                  <a:lnTo>
                    <a:pt x="0" y="93"/>
                  </a:lnTo>
                  <a:lnTo>
                    <a:pt x="4" y="106"/>
                  </a:lnTo>
                  <a:lnTo>
                    <a:pt x="13" y="120"/>
                  </a:lnTo>
                  <a:lnTo>
                    <a:pt x="17" y="133"/>
                  </a:lnTo>
                  <a:lnTo>
                    <a:pt x="26" y="146"/>
                  </a:lnTo>
                  <a:lnTo>
                    <a:pt x="39" y="159"/>
                  </a:lnTo>
                  <a:lnTo>
                    <a:pt x="62" y="168"/>
                  </a:lnTo>
                  <a:lnTo>
                    <a:pt x="75" y="177"/>
                  </a:lnTo>
                  <a:lnTo>
                    <a:pt x="98" y="177"/>
                  </a:lnTo>
                  <a:lnTo>
                    <a:pt x="120" y="177"/>
                  </a:lnTo>
                  <a:lnTo>
                    <a:pt x="133" y="168"/>
                  </a:lnTo>
                  <a:lnTo>
                    <a:pt x="156" y="159"/>
                  </a:lnTo>
                  <a:lnTo>
                    <a:pt x="160" y="146"/>
                  </a:lnTo>
                  <a:lnTo>
                    <a:pt x="169" y="133"/>
                  </a:lnTo>
                  <a:lnTo>
                    <a:pt x="173" y="120"/>
                  </a:lnTo>
                  <a:lnTo>
                    <a:pt x="182" y="106"/>
                  </a:lnTo>
                  <a:lnTo>
                    <a:pt x="191" y="89"/>
                  </a:lnTo>
                  <a:lnTo>
                    <a:pt x="182" y="70"/>
                  </a:lnTo>
                  <a:lnTo>
                    <a:pt x="173" y="52"/>
                  </a:lnTo>
                  <a:lnTo>
                    <a:pt x="169" y="39"/>
                  </a:lnTo>
                  <a:lnTo>
                    <a:pt x="160" y="26"/>
                  </a:lnTo>
                  <a:lnTo>
                    <a:pt x="147" y="17"/>
                  </a:lnTo>
                  <a:lnTo>
                    <a:pt x="133" y="4"/>
                  </a:lnTo>
                  <a:lnTo>
                    <a:pt x="11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1920" y="1023840"/>
              <a:ext cx="151200" cy="292320"/>
            </a:xfrm>
            <a:custGeom>
              <a:avLst/>
              <a:gdLst/>
              <a:ahLst/>
              <a:rect l="0" t="0" r="r" b="b"/>
              <a:pathLst>
                <a:path w="420" h="812">
                  <a:moveTo>
                    <a:pt x="278" y="0"/>
                  </a:moveTo>
                  <a:lnTo>
                    <a:pt x="265" y="13"/>
                  </a:lnTo>
                  <a:lnTo>
                    <a:pt x="137" y="52"/>
                  </a:lnTo>
                  <a:lnTo>
                    <a:pt x="88" y="74"/>
                  </a:lnTo>
                  <a:lnTo>
                    <a:pt x="48" y="88"/>
                  </a:lnTo>
                  <a:lnTo>
                    <a:pt x="4" y="101"/>
                  </a:lnTo>
                  <a:lnTo>
                    <a:pt x="4" y="132"/>
                  </a:lnTo>
                  <a:lnTo>
                    <a:pt x="48" y="123"/>
                  </a:lnTo>
                  <a:lnTo>
                    <a:pt x="74" y="123"/>
                  </a:lnTo>
                  <a:lnTo>
                    <a:pt x="88" y="123"/>
                  </a:lnTo>
                  <a:lnTo>
                    <a:pt x="101" y="132"/>
                  </a:lnTo>
                  <a:lnTo>
                    <a:pt x="111" y="132"/>
                  </a:lnTo>
                  <a:lnTo>
                    <a:pt x="115" y="136"/>
                  </a:lnTo>
                  <a:lnTo>
                    <a:pt x="133" y="149"/>
                  </a:lnTo>
                  <a:lnTo>
                    <a:pt x="133" y="167"/>
                  </a:lnTo>
                  <a:lnTo>
                    <a:pt x="137" y="185"/>
                  </a:lnTo>
                  <a:lnTo>
                    <a:pt x="137" y="216"/>
                  </a:lnTo>
                  <a:lnTo>
                    <a:pt x="137" y="658"/>
                  </a:lnTo>
                  <a:lnTo>
                    <a:pt x="133" y="684"/>
                  </a:lnTo>
                  <a:lnTo>
                    <a:pt x="133" y="719"/>
                  </a:lnTo>
                  <a:lnTo>
                    <a:pt x="115" y="733"/>
                  </a:lnTo>
                  <a:lnTo>
                    <a:pt x="111" y="755"/>
                  </a:lnTo>
                  <a:lnTo>
                    <a:pt x="97" y="768"/>
                  </a:lnTo>
                  <a:lnTo>
                    <a:pt x="66" y="777"/>
                  </a:lnTo>
                  <a:lnTo>
                    <a:pt x="30" y="781"/>
                  </a:lnTo>
                  <a:lnTo>
                    <a:pt x="0" y="781"/>
                  </a:lnTo>
                  <a:lnTo>
                    <a:pt x="0" y="812"/>
                  </a:lnTo>
                  <a:lnTo>
                    <a:pt x="420" y="812"/>
                  </a:lnTo>
                  <a:lnTo>
                    <a:pt x="420" y="781"/>
                  </a:lnTo>
                  <a:lnTo>
                    <a:pt x="385" y="781"/>
                  </a:lnTo>
                  <a:lnTo>
                    <a:pt x="354" y="777"/>
                  </a:lnTo>
                  <a:lnTo>
                    <a:pt x="337" y="768"/>
                  </a:lnTo>
                  <a:lnTo>
                    <a:pt x="314" y="755"/>
                  </a:lnTo>
                  <a:lnTo>
                    <a:pt x="300" y="741"/>
                  </a:lnTo>
                  <a:lnTo>
                    <a:pt x="292" y="719"/>
                  </a:lnTo>
                  <a:lnTo>
                    <a:pt x="283" y="697"/>
                  </a:lnTo>
                  <a:lnTo>
                    <a:pt x="283" y="671"/>
                  </a:lnTo>
                  <a:lnTo>
                    <a:pt x="283" y="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56000" y="1023840"/>
              <a:ext cx="209880" cy="292320"/>
            </a:xfrm>
            <a:custGeom>
              <a:avLst/>
              <a:gdLst/>
              <a:ahLst/>
              <a:rect l="0" t="0" r="r" b="b"/>
              <a:pathLst>
                <a:path w="583" h="812">
                  <a:moveTo>
                    <a:pt x="264" y="0"/>
                  </a:moveTo>
                  <a:lnTo>
                    <a:pt x="238" y="13"/>
                  </a:lnTo>
                  <a:lnTo>
                    <a:pt x="202" y="26"/>
                  </a:lnTo>
                  <a:lnTo>
                    <a:pt x="158" y="39"/>
                  </a:lnTo>
                  <a:lnTo>
                    <a:pt x="123" y="52"/>
                  </a:lnTo>
                  <a:lnTo>
                    <a:pt x="61" y="83"/>
                  </a:lnTo>
                  <a:lnTo>
                    <a:pt x="17" y="97"/>
                  </a:lnTo>
                  <a:lnTo>
                    <a:pt x="0" y="101"/>
                  </a:lnTo>
                  <a:lnTo>
                    <a:pt x="0" y="132"/>
                  </a:lnTo>
                  <a:lnTo>
                    <a:pt x="30" y="123"/>
                  </a:lnTo>
                  <a:lnTo>
                    <a:pt x="61" y="123"/>
                  </a:lnTo>
                  <a:lnTo>
                    <a:pt x="74" y="123"/>
                  </a:lnTo>
                  <a:lnTo>
                    <a:pt x="83" y="123"/>
                  </a:lnTo>
                  <a:lnTo>
                    <a:pt x="97" y="132"/>
                  </a:lnTo>
                  <a:lnTo>
                    <a:pt x="101" y="136"/>
                  </a:lnTo>
                  <a:lnTo>
                    <a:pt x="119" y="145"/>
                  </a:lnTo>
                  <a:lnTo>
                    <a:pt x="119" y="158"/>
                  </a:lnTo>
                  <a:lnTo>
                    <a:pt x="119" y="171"/>
                  </a:lnTo>
                  <a:lnTo>
                    <a:pt x="119" y="194"/>
                  </a:lnTo>
                  <a:lnTo>
                    <a:pt x="119" y="684"/>
                  </a:lnTo>
                  <a:lnTo>
                    <a:pt x="119" y="706"/>
                  </a:lnTo>
                  <a:lnTo>
                    <a:pt x="119" y="719"/>
                  </a:lnTo>
                  <a:lnTo>
                    <a:pt x="110" y="733"/>
                  </a:lnTo>
                  <a:lnTo>
                    <a:pt x="97" y="746"/>
                  </a:lnTo>
                  <a:lnTo>
                    <a:pt x="83" y="759"/>
                  </a:lnTo>
                  <a:lnTo>
                    <a:pt x="61" y="768"/>
                  </a:lnTo>
                  <a:lnTo>
                    <a:pt x="39" y="777"/>
                  </a:lnTo>
                  <a:lnTo>
                    <a:pt x="13" y="781"/>
                  </a:lnTo>
                  <a:lnTo>
                    <a:pt x="0" y="781"/>
                  </a:lnTo>
                  <a:lnTo>
                    <a:pt x="0" y="812"/>
                  </a:lnTo>
                  <a:lnTo>
                    <a:pt x="419" y="812"/>
                  </a:lnTo>
                  <a:lnTo>
                    <a:pt x="419" y="781"/>
                  </a:lnTo>
                  <a:lnTo>
                    <a:pt x="384" y="781"/>
                  </a:lnTo>
                  <a:lnTo>
                    <a:pt x="349" y="777"/>
                  </a:lnTo>
                  <a:lnTo>
                    <a:pt x="322" y="768"/>
                  </a:lnTo>
                  <a:lnTo>
                    <a:pt x="305" y="755"/>
                  </a:lnTo>
                  <a:lnTo>
                    <a:pt x="286" y="733"/>
                  </a:lnTo>
                  <a:lnTo>
                    <a:pt x="277" y="719"/>
                  </a:lnTo>
                  <a:lnTo>
                    <a:pt x="273" y="693"/>
                  </a:lnTo>
                  <a:lnTo>
                    <a:pt x="273" y="671"/>
                  </a:lnTo>
                  <a:lnTo>
                    <a:pt x="273" y="251"/>
                  </a:lnTo>
                  <a:lnTo>
                    <a:pt x="273" y="233"/>
                  </a:lnTo>
                  <a:lnTo>
                    <a:pt x="286" y="207"/>
                  </a:lnTo>
                  <a:lnTo>
                    <a:pt x="300" y="185"/>
                  </a:lnTo>
                  <a:lnTo>
                    <a:pt x="322" y="158"/>
                  </a:lnTo>
                  <a:lnTo>
                    <a:pt x="327" y="136"/>
                  </a:lnTo>
                  <a:lnTo>
                    <a:pt x="358" y="132"/>
                  </a:lnTo>
                  <a:lnTo>
                    <a:pt x="371" y="123"/>
                  </a:lnTo>
                  <a:lnTo>
                    <a:pt x="393" y="114"/>
                  </a:lnTo>
                  <a:lnTo>
                    <a:pt x="397" y="123"/>
                  </a:lnTo>
                  <a:lnTo>
                    <a:pt x="411" y="123"/>
                  </a:lnTo>
                  <a:lnTo>
                    <a:pt x="481" y="167"/>
                  </a:lnTo>
                  <a:lnTo>
                    <a:pt x="481" y="171"/>
                  </a:lnTo>
                  <a:lnTo>
                    <a:pt x="494" y="180"/>
                  </a:lnTo>
                  <a:lnTo>
                    <a:pt x="516" y="171"/>
                  </a:lnTo>
                  <a:lnTo>
                    <a:pt x="530" y="171"/>
                  </a:lnTo>
                  <a:lnTo>
                    <a:pt x="552" y="167"/>
                  </a:lnTo>
                  <a:lnTo>
                    <a:pt x="561" y="149"/>
                  </a:lnTo>
                  <a:lnTo>
                    <a:pt x="565" y="145"/>
                  </a:lnTo>
                  <a:lnTo>
                    <a:pt x="574" y="132"/>
                  </a:lnTo>
                  <a:lnTo>
                    <a:pt x="583" y="123"/>
                  </a:lnTo>
                  <a:lnTo>
                    <a:pt x="583" y="101"/>
                  </a:lnTo>
                  <a:lnTo>
                    <a:pt x="574" y="83"/>
                  </a:lnTo>
                  <a:lnTo>
                    <a:pt x="574" y="61"/>
                  </a:lnTo>
                  <a:lnTo>
                    <a:pt x="565" y="39"/>
                  </a:lnTo>
                  <a:lnTo>
                    <a:pt x="552" y="30"/>
                  </a:lnTo>
                  <a:lnTo>
                    <a:pt x="538" y="17"/>
                  </a:lnTo>
                  <a:lnTo>
                    <a:pt x="516" y="13"/>
                  </a:lnTo>
                  <a:lnTo>
                    <a:pt x="494" y="4"/>
                  </a:lnTo>
                  <a:lnTo>
                    <a:pt x="481" y="0"/>
                  </a:lnTo>
                  <a:lnTo>
                    <a:pt x="455" y="4"/>
                  </a:lnTo>
                  <a:lnTo>
                    <a:pt x="433" y="13"/>
                  </a:lnTo>
                  <a:lnTo>
                    <a:pt x="406" y="17"/>
                  </a:lnTo>
                  <a:lnTo>
                    <a:pt x="384" y="30"/>
                  </a:lnTo>
                  <a:lnTo>
                    <a:pt x="362" y="52"/>
                  </a:lnTo>
                  <a:lnTo>
                    <a:pt x="336" y="83"/>
                  </a:lnTo>
                  <a:lnTo>
                    <a:pt x="314" y="110"/>
                  </a:lnTo>
                  <a:lnTo>
                    <a:pt x="286" y="145"/>
                  </a:lnTo>
                  <a:lnTo>
                    <a:pt x="273" y="158"/>
                  </a:lnTo>
                  <a:lnTo>
                    <a:pt x="273" y="4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86120" y="1023840"/>
              <a:ext cx="138600" cy="294120"/>
            </a:xfrm>
            <a:custGeom>
              <a:avLst/>
              <a:gdLst/>
              <a:ahLst/>
              <a:rect l="0" t="0" r="r" b="b"/>
              <a:pathLst>
                <a:path w="385" h="817">
                  <a:moveTo>
                    <a:pt x="0" y="773"/>
                  </a:moveTo>
                  <a:lnTo>
                    <a:pt x="0" y="817"/>
                  </a:lnTo>
                  <a:lnTo>
                    <a:pt x="39" y="817"/>
                  </a:lnTo>
                  <a:lnTo>
                    <a:pt x="74" y="817"/>
                  </a:lnTo>
                  <a:lnTo>
                    <a:pt x="111" y="808"/>
                  </a:lnTo>
                  <a:lnTo>
                    <a:pt x="150" y="795"/>
                  </a:lnTo>
                  <a:lnTo>
                    <a:pt x="186" y="773"/>
                  </a:lnTo>
                  <a:lnTo>
                    <a:pt x="217" y="751"/>
                  </a:lnTo>
                  <a:lnTo>
                    <a:pt x="243" y="725"/>
                  </a:lnTo>
                  <a:lnTo>
                    <a:pt x="269" y="698"/>
                  </a:lnTo>
                  <a:lnTo>
                    <a:pt x="301" y="667"/>
                  </a:lnTo>
                  <a:lnTo>
                    <a:pt x="319" y="641"/>
                  </a:lnTo>
                  <a:lnTo>
                    <a:pt x="341" y="605"/>
                  </a:lnTo>
                  <a:lnTo>
                    <a:pt x="354" y="565"/>
                  </a:lnTo>
                  <a:lnTo>
                    <a:pt x="368" y="530"/>
                  </a:lnTo>
                  <a:lnTo>
                    <a:pt x="376" y="486"/>
                  </a:lnTo>
                  <a:lnTo>
                    <a:pt x="385" y="446"/>
                  </a:lnTo>
                  <a:lnTo>
                    <a:pt x="385" y="402"/>
                  </a:lnTo>
                  <a:lnTo>
                    <a:pt x="385" y="362"/>
                  </a:lnTo>
                  <a:lnTo>
                    <a:pt x="376" y="318"/>
                  </a:lnTo>
                  <a:lnTo>
                    <a:pt x="368" y="278"/>
                  </a:lnTo>
                  <a:lnTo>
                    <a:pt x="354" y="243"/>
                  </a:lnTo>
                  <a:lnTo>
                    <a:pt x="341" y="208"/>
                  </a:lnTo>
                  <a:lnTo>
                    <a:pt x="319" y="171"/>
                  </a:lnTo>
                  <a:lnTo>
                    <a:pt x="301" y="145"/>
                  </a:lnTo>
                  <a:lnTo>
                    <a:pt x="278" y="123"/>
                  </a:lnTo>
                  <a:lnTo>
                    <a:pt x="247" y="97"/>
                  </a:lnTo>
                  <a:lnTo>
                    <a:pt x="217" y="66"/>
                  </a:lnTo>
                  <a:lnTo>
                    <a:pt x="186" y="52"/>
                  </a:lnTo>
                  <a:lnTo>
                    <a:pt x="150" y="30"/>
                  </a:lnTo>
                  <a:lnTo>
                    <a:pt x="115" y="17"/>
                  </a:lnTo>
                  <a:lnTo>
                    <a:pt x="79" y="13"/>
                  </a:lnTo>
                  <a:lnTo>
                    <a:pt x="4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30" y="61"/>
                  </a:lnTo>
                  <a:lnTo>
                    <a:pt x="48" y="74"/>
                  </a:lnTo>
                  <a:lnTo>
                    <a:pt x="74" y="88"/>
                  </a:lnTo>
                  <a:lnTo>
                    <a:pt x="98" y="101"/>
                  </a:lnTo>
                  <a:lnTo>
                    <a:pt x="115" y="123"/>
                  </a:lnTo>
                  <a:lnTo>
                    <a:pt x="137" y="136"/>
                  </a:lnTo>
                  <a:lnTo>
                    <a:pt x="150" y="163"/>
                  </a:lnTo>
                  <a:lnTo>
                    <a:pt x="172" y="194"/>
                  </a:lnTo>
                  <a:lnTo>
                    <a:pt x="186" y="230"/>
                  </a:lnTo>
                  <a:lnTo>
                    <a:pt x="199" y="265"/>
                  </a:lnTo>
                  <a:lnTo>
                    <a:pt x="208" y="292"/>
                  </a:lnTo>
                  <a:lnTo>
                    <a:pt x="217" y="331"/>
                  </a:lnTo>
                  <a:lnTo>
                    <a:pt x="217" y="375"/>
                  </a:lnTo>
                  <a:lnTo>
                    <a:pt x="221" y="411"/>
                  </a:lnTo>
                  <a:lnTo>
                    <a:pt x="221" y="450"/>
                  </a:lnTo>
                  <a:lnTo>
                    <a:pt x="217" y="530"/>
                  </a:lnTo>
                  <a:lnTo>
                    <a:pt x="208" y="583"/>
                  </a:lnTo>
                  <a:lnTo>
                    <a:pt x="199" y="619"/>
                  </a:lnTo>
                  <a:lnTo>
                    <a:pt x="195" y="650"/>
                  </a:lnTo>
                  <a:lnTo>
                    <a:pt x="186" y="667"/>
                  </a:lnTo>
                  <a:lnTo>
                    <a:pt x="164" y="681"/>
                  </a:lnTo>
                  <a:lnTo>
                    <a:pt x="150" y="703"/>
                  </a:lnTo>
                  <a:lnTo>
                    <a:pt x="137" y="725"/>
                  </a:lnTo>
                  <a:lnTo>
                    <a:pt x="115" y="738"/>
                  </a:lnTo>
                  <a:lnTo>
                    <a:pt x="102" y="751"/>
                  </a:lnTo>
                  <a:lnTo>
                    <a:pt x="79" y="760"/>
                  </a:lnTo>
                  <a:lnTo>
                    <a:pt x="61" y="764"/>
                  </a:lnTo>
                  <a:lnTo>
                    <a:pt x="48" y="773"/>
                  </a:lnTo>
                  <a:lnTo>
                    <a:pt x="1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4640" y="1023840"/>
              <a:ext cx="141480" cy="294120"/>
            </a:xfrm>
            <a:custGeom>
              <a:avLst/>
              <a:gdLst/>
              <a:ahLst/>
              <a:rect l="0" t="0" r="r" b="b"/>
              <a:pathLst>
                <a:path w="393" h="817">
                  <a:moveTo>
                    <a:pt x="393" y="52"/>
                  </a:moveTo>
                  <a:lnTo>
                    <a:pt x="393" y="0"/>
                  </a:lnTo>
                  <a:lnTo>
                    <a:pt x="384" y="0"/>
                  </a:lnTo>
                  <a:lnTo>
                    <a:pt x="340" y="4"/>
                  </a:lnTo>
                  <a:lnTo>
                    <a:pt x="300" y="13"/>
                  </a:lnTo>
                  <a:lnTo>
                    <a:pt x="265" y="17"/>
                  </a:lnTo>
                  <a:lnTo>
                    <a:pt x="221" y="39"/>
                  </a:lnTo>
                  <a:lnTo>
                    <a:pt x="185" y="52"/>
                  </a:lnTo>
                  <a:lnTo>
                    <a:pt x="158" y="74"/>
                  </a:lnTo>
                  <a:lnTo>
                    <a:pt x="132" y="101"/>
                  </a:lnTo>
                  <a:lnTo>
                    <a:pt x="101" y="123"/>
                  </a:lnTo>
                  <a:lnTo>
                    <a:pt x="83" y="149"/>
                  </a:lnTo>
                  <a:lnTo>
                    <a:pt x="61" y="180"/>
                  </a:lnTo>
                  <a:lnTo>
                    <a:pt x="39" y="217"/>
                  </a:lnTo>
                  <a:lnTo>
                    <a:pt x="26" y="247"/>
                  </a:lnTo>
                  <a:lnTo>
                    <a:pt x="13" y="283"/>
                  </a:lnTo>
                  <a:lnTo>
                    <a:pt x="4" y="327"/>
                  </a:lnTo>
                  <a:lnTo>
                    <a:pt x="0" y="367"/>
                  </a:lnTo>
                  <a:lnTo>
                    <a:pt x="0" y="411"/>
                  </a:lnTo>
                  <a:lnTo>
                    <a:pt x="0" y="450"/>
                  </a:lnTo>
                  <a:lnTo>
                    <a:pt x="4" y="499"/>
                  </a:lnTo>
                  <a:lnTo>
                    <a:pt x="13" y="534"/>
                  </a:lnTo>
                  <a:lnTo>
                    <a:pt x="26" y="578"/>
                  </a:lnTo>
                  <a:lnTo>
                    <a:pt x="48" y="614"/>
                  </a:lnTo>
                  <a:lnTo>
                    <a:pt x="66" y="650"/>
                  </a:lnTo>
                  <a:lnTo>
                    <a:pt x="88" y="676"/>
                  </a:lnTo>
                  <a:lnTo>
                    <a:pt x="110" y="703"/>
                  </a:lnTo>
                  <a:lnTo>
                    <a:pt x="132" y="734"/>
                  </a:lnTo>
                  <a:lnTo>
                    <a:pt x="167" y="751"/>
                  </a:lnTo>
                  <a:lnTo>
                    <a:pt x="203" y="773"/>
                  </a:lnTo>
                  <a:lnTo>
                    <a:pt x="239" y="795"/>
                  </a:lnTo>
                  <a:lnTo>
                    <a:pt x="269" y="808"/>
                  </a:lnTo>
                  <a:lnTo>
                    <a:pt x="305" y="817"/>
                  </a:lnTo>
                  <a:lnTo>
                    <a:pt x="349" y="817"/>
                  </a:lnTo>
                  <a:lnTo>
                    <a:pt x="393" y="817"/>
                  </a:lnTo>
                  <a:lnTo>
                    <a:pt x="393" y="773"/>
                  </a:lnTo>
                  <a:lnTo>
                    <a:pt x="384" y="773"/>
                  </a:lnTo>
                  <a:lnTo>
                    <a:pt x="358" y="764"/>
                  </a:lnTo>
                  <a:lnTo>
                    <a:pt x="336" y="760"/>
                  </a:lnTo>
                  <a:lnTo>
                    <a:pt x="314" y="747"/>
                  </a:lnTo>
                  <a:lnTo>
                    <a:pt x="287" y="725"/>
                  </a:lnTo>
                  <a:lnTo>
                    <a:pt x="269" y="703"/>
                  </a:lnTo>
                  <a:lnTo>
                    <a:pt x="256" y="681"/>
                  </a:lnTo>
                  <a:lnTo>
                    <a:pt x="239" y="663"/>
                  </a:lnTo>
                  <a:lnTo>
                    <a:pt x="221" y="632"/>
                  </a:lnTo>
                  <a:lnTo>
                    <a:pt x="208" y="596"/>
                  </a:lnTo>
                  <a:lnTo>
                    <a:pt x="194" y="565"/>
                  </a:lnTo>
                  <a:lnTo>
                    <a:pt x="185" y="530"/>
                  </a:lnTo>
                  <a:lnTo>
                    <a:pt x="171" y="486"/>
                  </a:lnTo>
                  <a:lnTo>
                    <a:pt x="167" y="446"/>
                  </a:lnTo>
                  <a:lnTo>
                    <a:pt x="167" y="402"/>
                  </a:lnTo>
                  <a:lnTo>
                    <a:pt x="158" y="353"/>
                  </a:lnTo>
                  <a:lnTo>
                    <a:pt x="158" y="331"/>
                  </a:lnTo>
                  <a:lnTo>
                    <a:pt x="167" y="269"/>
                  </a:lnTo>
                  <a:lnTo>
                    <a:pt x="171" y="221"/>
                  </a:lnTo>
                  <a:lnTo>
                    <a:pt x="180" y="194"/>
                  </a:lnTo>
                  <a:lnTo>
                    <a:pt x="194" y="163"/>
                  </a:lnTo>
                  <a:lnTo>
                    <a:pt x="203" y="145"/>
                  </a:lnTo>
                  <a:lnTo>
                    <a:pt x="217" y="132"/>
                  </a:lnTo>
                  <a:lnTo>
                    <a:pt x="239" y="114"/>
                  </a:lnTo>
                  <a:lnTo>
                    <a:pt x="252" y="101"/>
                  </a:lnTo>
                  <a:lnTo>
                    <a:pt x="265" y="88"/>
                  </a:lnTo>
                  <a:lnTo>
                    <a:pt x="278" y="74"/>
                  </a:lnTo>
                  <a:lnTo>
                    <a:pt x="300" y="66"/>
                  </a:lnTo>
                  <a:lnTo>
                    <a:pt x="322" y="61"/>
                  </a:lnTo>
                  <a:lnTo>
                    <a:pt x="340" y="52"/>
                  </a:lnTo>
                  <a:lnTo>
                    <a:pt x="371" y="52"/>
                  </a:lnTo>
                  <a:lnTo>
                    <a:pt x="39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5280" y="1023840"/>
              <a:ext cx="298800" cy="292320"/>
            </a:xfrm>
            <a:custGeom>
              <a:avLst/>
              <a:gdLst/>
              <a:ahLst/>
              <a:rect l="0" t="0" r="r" b="b"/>
              <a:pathLst>
                <a:path w="830" h="812">
                  <a:moveTo>
                    <a:pt x="242" y="0"/>
                  </a:moveTo>
                  <a:lnTo>
                    <a:pt x="211" y="13"/>
                  </a:lnTo>
                  <a:lnTo>
                    <a:pt x="88" y="52"/>
                  </a:lnTo>
                  <a:lnTo>
                    <a:pt x="0" y="88"/>
                  </a:lnTo>
                  <a:lnTo>
                    <a:pt x="0" y="114"/>
                  </a:lnTo>
                  <a:lnTo>
                    <a:pt x="30" y="110"/>
                  </a:lnTo>
                  <a:lnTo>
                    <a:pt x="52" y="110"/>
                  </a:lnTo>
                  <a:lnTo>
                    <a:pt x="61" y="110"/>
                  </a:lnTo>
                  <a:lnTo>
                    <a:pt x="79" y="114"/>
                  </a:lnTo>
                  <a:lnTo>
                    <a:pt x="88" y="123"/>
                  </a:lnTo>
                  <a:lnTo>
                    <a:pt x="97" y="132"/>
                  </a:lnTo>
                  <a:lnTo>
                    <a:pt x="101" y="132"/>
                  </a:lnTo>
                  <a:lnTo>
                    <a:pt x="110" y="149"/>
                  </a:lnTo>
                  <a:lnTo>
                    <a:pt x="114" y="167"/>
                  </a:lnTo>
                  <a:lnTo>
                    <a:pt x="114" y="185"/>
                  </a:lnTo>
                  <a:lnTo>
                    <a:pt x="114" y="675"/>
                  </a:lnTo>
                  <a:lnTo>
                    <a:pt x="114" y="697"/>
                  </a:lnTo>
                  <a:lnTo>
                    <a:pt x="101" y="719"/>
                  </a:lnTo>
                  <a:lnTo>
                    <a:pt x="97" y="741"/>
                  </a:lnTo>
                  <a:lnTo>
                    <a:pt x="88" y="755"/>
                  </a:lnTo>
                  <a:lnTo>
                    <a:pt x="74" y="768"/>
                  </a:lnTo>
                  <a:lnTo>
                    <a:pt x="52" y="777"/>
                  </a:lnTo>
                  <a:lnTo>
                    <a:pt x="30" y="781"/>
                  </a:lnTo>
                  <a:lnTo>
                    <a:pt x="4" y="781"/>
                  </a:lnTo>
                  <a:lnTo>
                    <a:pt x="4" y="812"/>
                  </a:lnTo>
                  <a:lnTo>
                    <a:pt x="374" y="812"/>
                  </a:lnTo>
                  <a:lnTo>
                    <a:pt x="374" y="781"/>
                  </a:lnTo>
                  <a:lnTo>
                    <a:pt x="352" y="777"/>
                  </a:lnTo>
                  <a:lnTo>
                    <a:pt x="326" y="777"/>
                  </a:lnTo>
                  <a:lnTo>
                    <a:pt x="304" y="768"/>
                  </a:lnTo>
                  <a:lnTo>
                    <a:pt x="291" y="755"/>
                  </a:lnTo>
                  <a:lnTo>
                    <a:pt x="277" y="746"/>
                  </a:lnTo>
                  <a:lnTo>
                    <a:pt x="268" y="733"/>
                  </a:lnTo>
                  <a:lnTo>
                    <a:pt x="264" y="710"/>
                  </a:lnTo>
                  <a:lnTo>
                    <a:pt x="264" y="693"/>
                  </a:lnTo>
                  <a:lnTo>
                    <a:pt x="264" y="202"/>
                  </a:lnTo>
                  <a:lnTo>
                    <a:pt x="291" y="180"/>
                  </a:lnTo>
                  <a:lnTo>
                    <a:pt x="313" y="149"/>
                  </a:lnTo>
                  <a:lnTo>
                    <a:pt x="330" y="136"/>
                  </a:lnTo>
                  <a:lnTo>
                    <a:pt x="361" y="123"/>
                  </a:lnTo>
                  <a:lnTo>
                    <a:pt x="374" y="114"/>
                  </a:lnTo>
                  <a:lnTo>
                    <a:pt x="396" y="110"/>
                  </a:lnTo>
                  <a:lnTo>
                    <a:pt x="414" y="101"/>
                  </a:lnTo>
                  <a:lnTo>
                    <a:pt x="437" y="101"/>
                  </a:lnTo>
                  <a:lnTo>
                    <a:pt x="464" y="101"/>
                  </a:lnTo>
                  <a:lnTo>
                    <a:pt x="494" y="110"/>
                  </a:lnTo>
                  <a:lnTo>
                    <a:pt x="521" y="123"/>
                  </a:lnTo>
                  <a:lnTo>
                    <a:pt x="530" y="132"/>
                  </a:lnTo>
                  <a:lnTo>
                    <a:pt x="547" y="149"/>
                  </a:lnTo>
                  <a:lnTo>
                    <a:pt x="556" y="180"/>
                  </a:lnTo>
                  <a:lnTo>
                    <a:pt x="561" y="207"/>
                  </a:lnTo>
                  <a:lnTo>
                    <a:pt x="561" y="233"/>
                  </a:lnTo>
                  <a:lnTo>
                    <a:pt x="561" y="671"/>
                  </a:lnTo>
                  <a:lnTo>
                    <a:pt x="561" y="693"/>
                  </a:lnTo>
                  <a:lnTo>
                    <a:pt x="561" y="710"/>
                  </a:lnTo>
                  <a:lnTo>
                    <a:pt x="547" y="733"/>
                  </a:lnTo>
                  <a:lnTo>
                    <a:pt x="543" y="755"/>
                  </a:lnTo>
                  <a:lnTo>
                    <a:pt x="521" y="759"/>
                  </a:lnTo>
                  <a:lnTo>
                    <a:pt x="512" y="768"/>
                  </a:lnTo>
                  <a:lnTo>
                    <a:pt x="486" y="777"/>
                  </a:lnTo>
                  <a:lnTo>
                    <a:pt x="459" y="781"/>
                  </a:lnTo>
                  <a:lnTo>
                    <a:pt x="459" y="812"/>
                  </a:lnTo>
                  <a:lnTo>
                    <a:pt x="830" y="812"/>
                  </a:lnTo>
                  <a:lnTo>
                    <a:pt x="830" y="781"/>
                  </a:lnTo>
                  <a:lnTo>
                    <a:pt x="799" y="777"/>
                  </a:lnTo>
                  <a:lnTo>
                    <a:pt x="772" y="768"/>
                  </a:lnTo>
                  <a:lnTo>
                    <a:pt x="750" y="759"/>
                  </a:lnTo>
                  <a:lnTo>
                    <a:pt x="737" y="755"/>
                  </a:lnTo>
                  <a:lnTo>
                    <a:pt x="724" y="733"/>
                  </a:lnTo>
                  <a:lnTo>
                    <a:pt x="715" y="719"/>
                  </a:lnTo>
                  <a:lnTo>
                    <a:pt x="715" y="693"/>
                  </a:lnTo>
                  <a:lnTo>
                    <a:pt x="715" y="671"/>
                  </a:lnTo>
                  <a:lnTo>
                    <a:pt x="715" y="233"/>
                  </a:lnTo>
                  <a:lnTo>
                    <a:pt x="715" y="207"/>
                  </a:lnTo>
                  <a:lnTo>
                    <a:pt x="710" y="185"/>
                  </a:lnTo>
                  <a:lnTo>
                    <a:pt x="693" y="136"/>
                  </a:lnTo>
                  <a:lnTo>
                    <a:pt x="680" y="101"/>
                  </a:lnTo>
                  <a:lnTo>
                    <a:pt x="662" y="66"/>
                  </a:lnTo>
                  <a:lnTo>
                    <a:pt x="644" y="52"/>
                  </a:lnTo>
                  <a:lnTo>
                    <a:pt x="627" y="39"/>
                  </a:lnTo>
                  <a:lnTo>
                    <a:pt x="613" y="30"/>
                  </a:lnTo>
                  <a:lnTo>
                    <a:pt x="591" y="17"/>
                  </a:lnTo>
                  <a:lnTo>
                    <a:pt x="569" y="13"/>
                  </a:lnTo>
                  <a:lnTo>
                    <a:pt x="547" y="4"/>
                  </a:lnTo>
                  <a:lnTo>
                    <a:pt x="530" y="4"/>
                  </a:lnTo>
                  <a:lnTo>
                    <a:pt x="512" y="0"/>
                  </a:lnTo>
                  <a:lnTo>
                    <a:pt x="486" y="4"/>
                  </a:lnTo>
                  <a:lnTo>
                    <a:pt x="450" y="13"/>
                  </a:lnTo>
                  <a:lnTo>
                    <a:pt x="424" y="17"/>
                  </a:lnTo>
                  <a:lnTo>
                    <a:pt x="396" y="30"/>
                  </a:lnTo>
                  <a:lnTo>
                    <a:pt x="361" y="52"/>
                  </a:lnTo>
                  <a:lnTo>
                    <a:pt x="339" y="74"/>
                  </a:lnTo>
                  <a:lnTo>
                    <a:pt x="295" y="110"/>
                  </a:lnTo>
                  <a:lnTo>
                    <a:pt x="255" y="145"/>
                  </a:lnTo>
                  <a:lnTo>
                    <a:pt x="255" y="4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89400" y="1212840"/>
              <a:ext cx="143280" cy="108360"/>
            </a:xfrm>
            <a:custGeom>
              <a:avLst/>
              <a:gdLst/>
              <a:ahLst/>
              <a:rect l="0" t="0" r="r" b="b"/>
              <a:pathLst>
                <a:path w="398" h="301">
                  <a:moveTo>
                    <a:pt x="0" y="159"/>
                  </a:moveTo>
                  <a:lnTo>
                    <a:pt x="0" y="301"/>
                  </a:lnTo>
                  <a:lnTo>
                    <a:pt x="17" y="301"/>
                  </a:lnTo>
                  <a:lnTo>
                    <a:pt x="52" y="301"/>
                  </a:lnTo>
                  <a:lnTo>
                    <a:pt x="83" y="293"/>
                  </a:lnTo>
                  <a:lnTo>
                    <a:pt x="106" y="284"/>
                  </a:lnTo>
                  <a:lnTo>
                    <a:pt x="133" y="284"/>
                  </a:lnTo>
                  <a:lnTo>
                    <a:pt x="168" y="270"/>
                  </a:lnTo>
                  <a:lnTo>
                    <a:pt x="199" y="257"/>
                  </a:lnTo>
                  <a:lnTo>
                    <a:pt x="225" y="244"/>
                  </a:lnTo>
                  <a:lnTo>
                    <a:pt x="247" y="221"/>
                  </a:lnTo>
                  <a:lnTo>
                    <a:pt x="269" y="199"/>
                  </a:lnTo>
                  <a:lnTo>
                    <a:pt x="287" y="181"/>
                  </a:lnTo>
                  <a:lnTo>
                    <a:pt x="310" y="159"/>
                  </a:lnTo>
                  <a:lnTo>
                    <a:pt x="332" y="133"/>
                  </a:lnTo>
                  <a:lnTo>
                    <a:pt x="354" y="102"/>
                  </a:lnTo>
                  <a:lnTo>
                    <a:pt x="368" y="74"/>
                  </a:lnTo>
                  <a:lnTo>
                    <a:pt x="390" y="39"/>
                  </a:lnTo>
                  <a:lnTo>
                    <a:pt x="398" y="13"/>
                  </a:lnTo>
                  <a:lnTo>
                    <a:pt x="368" y="0"/>
                  </a:lnTo>
                  <a:lnTo>
                    <a:pt x="341" y="39"/>
                  </a:lnTo>
                  <a:lnTo>
                    <a:pt x="306" y="80"/>
                  </a:lnTo>
                  <a:lnTo>
                    <a:pt x="274" y="111"/>
                  </a:lnTo>
                  <a:lnTo>
                    <a:pt x="247" y="137"/>
                  </a:lnTo>
                  <a:lnTo>
                    <a:pt x="212" y="150"/>
                  </a:lnTo>
                  <a:lnTo>
                    <a:pt x="177" y="164"/>
                  </a:lnTo>
                  <a:lnTo>
                    <a:pt x="133" y="172"/>
                  </a:lnTo>
                  <a:lnTo>
                    <a:pt x="97" y="181"/>
                  </a:lnTo>
                  <a:lnTo>
                    <a:pt x="70" y="172"/>
                  </a:lnTo>
                  <a:lnTo>
                    <a:pt x="35" y="172"/>
                  </a:lnTo>
                  <a:lnTo>
                    <a:pt x="4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89400" y="1023840"/>
              <a:ext cx="127440" cy="114840"/>
            </a:xfrm>
            <a:custGeom>
              <a:avLst/>
              <a:gdLst/>
              <a:ahLst/>
              <a:rect l="0" t="0" r="r" b="b"/>
              <a:pathLst>
                <a:path w="354" h="319">
                  <a:moveTo>
                    <a:pt x="0" y="270"/>
                  </a:moveTo>
                  <a:lnTo>
                    <a:pt x="0" y="319"/>
                  </a:lnTo>
                  <a:lnTo>
                    <a:pt x="354" y="319"/>
                  </a:lnTo>
                  <a:lnTo>
                    <a:pt x="354" y="284"/>
                  </a:lnTo>
                  <a:lnTo>
                    <a:pt x="345" y="253"/>
                  </a:lnTo>
                  <a:lnTo>
                    <a:pt x="337" y="221"/>
                  </a:lnTo>
                  <a:lnTo>
                    <a:pt x="323" y="186"/>
                  </a:lnTo>
                  <a:lnTo>
                    <a:pt x="319" y="159"/>
                  </a:lnTo>
                  <a:lnTo>
                    <a:pt x="297" y="128"/>
                  </a:lnTo>
                  <a:lnTo>
                    <a:pt x="284" y="111"/>
                  </a:lnTo>
                  <a:lnTo>
                    <a:pt x="261" y="89"/>
                  </a:lnTo>
                  <a:lnTo>
                    <a:pt x="247" y="66"/>
                  </a:lnTo>
                  <a:lnTo>
                    <a:pt x="225" y="52"/>
                  </a:lnTo>
                  <a:lnTo>
                    <a:pt x="199" y="30"/>
                  </a:lnTo>
                  <a:lnTo>
                    <a:pt x="177" y="26"/>
                  </a:lnTo>
                  <a:lnTo>
                    <a:pt x="150" y="17"/>
                  </a:lnTo>
                  <a:lnTo>
                    <a:pt x="115" y="4"/>
                  </a:lnTo>
                  <a:lnTo>
                    <a:pt x="93" y="4"/>
                  </a:lnTo>
                  <a:lnTo>
                    <a:pt x="61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66"/>
                  </a:lnTo>
                  <a:lnTo>
                    <a:pt x="13" y="66"/>
                  </a:lnTo>
                  <a:lnTo>
                    <a:pt x="44" y="66"/>
                  </a:lnTo>
                  <a:lnTo>
                    <a:pt x="74" y="74"/>
                  </a:lnTo>
                  <a:lnTo>
                    <a:pt x="93" y="89"/>
                  </a:lnTo>
                  <a:lnTo>
                    <a:pt x="115" y="111"/>
                  </a:lnTo>
                  <a:lnTo>
                    <a:pt x="137" y="128"/>
                  </a:lnTo>
                  <a:lnTo>
                    <a:pt x="150" y="164"/>
                  </a:lnTo>
                  <a:lnTo>
                    <a:pt x="164" y="199"/>
                  </a:lnTo>
                  <a:lnTo>
                    <a:pt x="172" y="248"/>
                  </a:lnTo>
                  <a:lnTo>
                    <a:pt x="177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8160" y="1025640"/>
              <a:ext cx="111600" cy="295560"/>
            </a:xfrm>
            <a:custGeom>
              <a:avLst/>
              <a:gdLst/>
              <a:ahLst/>
              <a:rect l="0" t="0" r="r" b="b"/>
              <a:pathLst>
                <a:path w="310" h="821">
                  <a:moveTo>
                    <a:pt x="310" y="61"/>
                  </a:moveTo>
                  <a:lnTo>
                    <a:pt x="310" y="0"/>
                  </a:lnTo>
                  <a:lnTo>
                    <a:pt x="288" y="0"/>
                  </a:lnTo>
                  <a:lnTo>
                    <a:pt x="253" y="13"/>
                  </a:lnTo>
                  <a:lnTo>
                    <a:pt x="217" y="26"/>
                  </a:lnTo>
                  <a:lnTo>
                    <a:pt x="186" y="39"/>
                  </a:lnTo>
                  <a:lnTo>
                    <a:pt x="155" y="66"/>
                  </a:lnTo>
                  <a:lnTo>
                    <a:pt x="124" y="88"/>
                  </a:lnTo>
                  <a:lnTo>
                    <a:pt x="98" y="119"/>
                  </a:lnTo>
                  <a:lnTo>
                    <a:pt x="84" y="145"/>
                  </a:lnTo>
                  <a:lnTo>
                    <a:pt x="61" y="171"/>
                  </a:lnTo>
                  <a:lnTo>
                    <a:pt x="39" y="216"/>
                  </a:lnTo>
                  <a:lnTo>
                    <a:pt x="26" y="255"/>
                  </a:lnTo>
                  <a:lnTo>
                    <a:pt x="13" y="286"/>
                  </a:lnTo>
                  <a:lnTo>
                    <a:pt x="4" y="335"/>
                  </a:lnTo>
                  <a:lnTo>
                    <a:pt x="0" y="383"/>
                  </a:lnTo>
                  <a:lnTo>
                    <a:pt x="0" y="424"/>
                  </a:lnTo>
                  <a:lnTo>
                    <a:pt x="0" y="468"/>
                  </a:lnTo>
                  <a:lnTo>
                    <a:pt x="4" y="512"/>
                  </a:lnTo>
                  <a:lnTo>
                    <a:pt x="13" y="547"/>
                  </a:lnTo>
                  <a:lnTo>
                    <a:pt x="17" y="587"/>
                  </a:lnTo>
                  <a:lnTo>
                    <a:pt x="30" y="622"/>
                  </a:lnTo>
                  <a:lnTo>
                    <a:pt x="52" y="658"/>
                  </a:lnTo>
                  <a:lnTo>
                    <a:pt x="66" y="684"/>
                  </a:lnTo>
                  <a:lnTo>
                    <a:pt x="84" y="715"/>
                  </a:lnTo>
                  <a:lnTo>
                    <a:pt x="111" y="733"/>
                  </a:lnTo>
                  <a:lnTo>
                    <a:pt x="133" y="755"/>
                  </a:lnTo>
                  <a:lnTo>
                    <a:pt x="159" y="777"/>
                  </a:lnTo>
                  <a:lnTo>
                    <a:pt x="195" y="790"/>
                  </a:lnTo>
                  <a:lnTo>
                    <a:pt x="221" y="803"/>
                  </a:lnTo>
                  <a:lnTo>
                    <a:pt x="253" y="812"/>
                  </a:lnTo>
                  <a:lnTo>
                    <a:pt x="288" y="812"/>
                  </a:lnTo>
                  <a:lnTo>
                    <a:pt x="310" y="821"/>
                  </a:lnTo>
                  <a:lnTo>
                    <a:pt x="310" y="680"/>
                  </a:lnTo>
                  <a:lnTo>
                    <a:pt x="288" y="666"/>
                  </a:lnTo>
                  <a:lnTo>
                    <a:pt x="266" y="658"/>
                  </a:lnTo>
                  <a:lnTo>
                    <a:pt x="244" y="644"/>
                  </a:lnTo>
                  <a:lnTo>
                    <a:pt x="221" y="622"/>
                  </a:lnTo>
                  <a:lnTo>
                    <a:pt x="208" y="600"/>
                  </a:lnTo>
                  <a:lnTo>
                    <a:pt x="186" y="574"/>
                  </a:lnTo>
                  <a:lnTo>
                    <a:pt x="172" y="547"/>
                  </a:lnTo>
                  <a:lnTo>
                    <a:pt x="159" y="516"/>
                  </a:lnTo>
                  <a:lnTo>
                    <a:pt x="155" y="481"/>
                  </a:lnTo>
                  <a:lnTo>
                    <a:pt x="137" y="441"/>
                  </a:lnTo>
                  <a:lnTo>
                    <a:pt x="133" y="396"/>
                  </a:lnTo>
                  <a:lnTo>
                    <a:pt x="124" y="361"/>
                  </a:lnTo>
                  <a:lnTo>
                    <a:pt x="120" y="313"/>
                  </a:lnTo>
                  <a:lnTo>
                    <a:pt x="310" y="313"/>
                  </a:lnTo>
                  <a:lnTo>
                    <a:pt x="310" y="255"/>
                  </a:lnTo>
                  <a:lnTo>
                    <a:pt x="124" y="255"/>
                  </a:lnTo>
                  <a:lnTo>
                    <a:pt x="133" y="216"/>
                  </a:lnTo>
                  <a:lnTo>
                    <a:pt x="155" y="167"/>
                  </a:lnTo>
                  <a:lnTo>
                    <a:pt x="168" y="132"/>
                  </a:lnTo>
                  <a:lnTo>
                    <a:pt x="195" y="110"/>
                  </a:lnTo>
                  <a:lnTo>
                    <a:pt x="221" y="88"/>
                  </a:lnTo>
                  <a:lnTo>
                    <a:pt x="244" y="66"/>
                  </a:lnTo>
                  <a:lnTo>
                    <a:pt x="279" y="61"/>
                  </a:lnTo>
                  <a:lnTo>
                    <a:pt x="31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14680" y="954000"/>
              <a:ext cx="167040" cy="363960"/>
            </a:xfrm>
            <a:custGeom>
              <a:avLst/>
              <a:gdLst/>
              <a:ahLst/>
              <a:rect l="0" t="0" r="r" b="b"/>
              <a:pathLst>
                <a:path w="464" h="1011">
                  <a:moveTo>
                    <a:pt x="229" y="0"/>
                  </a:moveTo>
                  <a:lnTo>
                    <a:pt x="202" y="48"/>
                  </a:lnTo>
                  <a:lnTo>
                    <a:pt x="154" y="101"/>
                  </a:lnTo>
                  <a:lnTo>
                    <a:pt x="101" y="163"/>
                  </a:lnTo>
                  <a:lnTo>
                    <a:pt x="13" y="242"/>
                  </a:lnTo>
                  <a:lnTo>
                    <a:pt x="0" y="246"/>
                  </a:lnTo>
                  <a:lnTo>
                    <a:pt x="0" y="256"/>
                  </a:lnTo>
                  <a:lnTo>
                    <a:pt x="4" y="278"/>
                  </a:lnTo>
                  <a:lnTo>
                    <a:pt x="97" y="278"/>
                  </a:lnTo>
                  <a:lnTo>
                    <a:pt x="97" y="800"/>
                  </a:lnTo>
                  <a:lnTo>
                    <a:pt x="97" y="813"/>
                  </a:lnTo>
                  <a:lnTo>
                    <a:pt x="97" y="861"/>
                  </a:lnTo>
                  <a:lnTo>
                    <a:pt x="110" y="897"/>
                  </a:lnTo>
                  <a:lnTo>
                    <a:pt x="123" y="932"/>
                  </a:lnTo>
                  <a:lnTo>
                    <a:pt x="136" y="958"/>
                  </a:lnTo>
                  <a:lnTo>
                    <a:pt x="167" y="989"/>
                  </a:lnTo>
                  <a:lnTo>
                    <a:pt x="180" y="994"/>
                  </a:lnTo>
                  <a:lnTo>
                    <a:pt x="194" y="1003"/>
                  </a:lnTo>
                  <a:lnTo>
                    <a:pt x="229" y="1011"/>
                  </a:lnTo>
                  <a:lnTo>
                    <a:pt x="256" y="1011"/>
                  </a:lnTo>
                  <a:lnTo>
                    <a:pt x="287" y="1011"/>
                  </a:lnTo>
                  <a:lnTo>
                    <a:pt x="322" y="1003"/>
                  </a:lnTo>
                  <a:lnTo>
                    <a:pt x="349" y="1003"/>
                  </a:lnTo>
                  <a:lnTo>
                    <a:pt x="375" y="980"/>
                  </a:lnTo>
                  <a:lnTo>
                    <a:pt x="397" y="958"/>
                  </a:lnTo>
                  <a:lnTo>
                    <a:pt x="428" y="941"/>
                  </a:lnTo>
                  <a:lnTo>
                    <a:pt x="455" y="910"/>
                  </a:lnTo>
                  <a:lnTo>
                    <a:pt x="464" y="883"/>
                  </a:lnTo>
                  <a:lnTo>
                    <a:pt x="441" y="861"/>
                  </a:lnTo>
                  <a:lnTo>
                    <a:pt x="419" y="892"/>
                  </a:lnTo>
                  <a:lnTo>
                    <a:pt x="393" y="910"/>
                  </a:lnTo>
                  <a:lnTo>
                    <a:pt x="371" y="928"/>
                  </a:lnTo>
                  <a:lnTo>
                    <a:pt x="336" y="928"/>
                  </a:lnTo>
                  <a:lnTo>
                    <a:pt x="322" y="928"/>
                  </a:lnTo>
                  <a:lnTo>
                    <a:pt x="300" y="919"/>
                  </a:lnTo>
                  <a:lnTo>
                    <a:pt x="287" y="905"/>
                  </a:lnTo>
                  <a:lnTo>
                    <a:pt x="274" y="892"/>
                  </a:lnTo>
                  <a:lnTo>
                    <a:pt x="256" y="870"/>
                  </a:lnTo>
                  <a:lnTo>
                    <a:pt x="252" y="848"/>
                  </a:lnTo>
                  <a:lnTo>
                    <a:pt x="252" y="826"/>
                  </a:lnTo>
                  <a:lnTo>
                    <a:pt x="252" y="795"/>
                  </a:lnTo>
                  <a:lnTo>
                    <a:pt x="252" y="278"/>
                  </a:lnTo>
                  <a:lnTo>
                    <a:pt x="428" y="278"/>
                  </a:lnTo>
                  <a:lnTo>
                    <a:pt x="428" y="211"/>
                  </a:lnTo>
                  <a:lnTo>
                    <a:pt x="252" y="211"/>
                  </a:lnTo>
                  <a:lnTo>
                    <a:pt x="252" y="114"/>
                  </a:lnTo>
                  <a:lnTo>
                    <a:pt x="252" y="66"/>
                  </a:lnTo>
                  <a:lnTo>
                    <a:pt x="252" y="30"/>
                  </a:lnTo>
                  <a:lnTo>
                    <a:pt x="252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38320" y="693720"/>
            <a:ext cx="774720" cy="825840"/>
            <a:chOff x="1138320" y="693720"/>
            <a:chExt cx="774720" cy="825840"/>
          </a:xfrm>
        </p:grpSpPr>
        <p:sp>
          <p:nvSpPr>
            <p:cNvPr id="105" name=""/>
            <p:cNvSpPr/>
            <p:nvPr/>
          </p:nvSpPr>
          <p:spPr>
            <a:xfrm>
              <a:off x="1138320" y="814320"/>
              <a:ext cx="609840" cy="705240"/>
            </a:xfrm>
            <a:custGeom>
              <a:avLst/>
              <a:gdLst/>
              <a:ahLst/>
              <a:rect l="0" t="0" r="r" b="b"/>
              <a:pathLst>
                <a:path w="1694" h="1959">
                  <a:moveTo>
                    <a:pt x="1469" y="180"/>
                  </a:moveTo>
                  <a:lnTo>
                    <a:pt x="1539" y="97"/>
                  </a:lnTo>
                  <a:lnTo>
                    <a:pt x="1531" y="88"/>
                  </a:lnTo>
                  <a:lnTo>
                    <a:pt x="1495" y="66"/>
                  </a:lnTo>
                  <a:lnTo>
                    <a:pt x="1447" y="48"/>
                  </a:lnTo>
                  <a:lnTo>
                    <a:pt x="1403" y="39"/>
                  </a:lnTo>
                  <a:lnTo>
                    <a:pt x="1363" y="26"/>
                  </a:lnTo>
                  <a:lnTo>
                    <a:pt x="1319" y="17"/>
                  </a:lnTo>
                  <a:lnTo>
                    <a:pt x="1271" y="13"/>
                  </a:lnTo>
                  <a:lnTo>
                    <a:pt x="1222" y="4"/>
                  </a:lnTo>
                  <a:lnTo>
                    <a:pt x="1182" y="0"/>
                  </a:lnTo>
                  <a:lnTo>
                    <a:pt x="1134" y="0"/>
                  </a:lnTo>
                  <a:lnTo>
                    <a:pt x="1081" y="4"/>
                  </a:lnTo>
                  <a:lnTo>
                    <a:pt x="1041" y="4"/>
                  </a:lnTo>
                  <a:lnTo>
                    <a:pt x="993" y="13"/>
                  </a:lnTo>
                  <a:lnTo>
                    <a:pt x="944" y="17"/>
                  </a:lnTo>
                  <a:lnTo>
                    <a:pt x="896" y="30"/>
                  </a:lnTo>
                  <a:lnTo>
                    <a:pt x="852" y="39"/>
                  </a:lnTo>
                  <a:lnTo>
                    <a:pt x="802" y="52"/>
                  </a:lnTo>
                  <a:lnTo>
                    <a:pt x="754" y="74"/>
                  </a:lnTo>
                  <a:lnTo>
                    <a:pt x="709" y="88"/>
                  </a:lnTo>
                  <a:lnTo>
                    <a:pt x="661" y="114"/>
                  </a:lnTo>
                  <a:lnTo>
                    <a:pt x="621" y="136"/>
                  </a:lnTo>
                  <a:lnTo>
                    <a:pt x="573" y="167"/>
                  </a:lnTo>
                  <a:lnTo>
                    <a:pt x="537" y="185"/>
                  </a:lnTo>
                  <a:lnTo>
                    <a:pt x="489" y="216"/>
                  </a:lnTo>
                  <a:lnTo>
                    <a:pt x="445" y="251"/>
                  </a:lnTo>
                  <a:lnTo>
                    <a:pt x="405" y="286"/>
                  </a:lnTo>
                  <a:lnTo>
                    <a:pt x="370" y="313"/>
                  </a:lnTo>
                  <a:lnTo>
                    <a:pt x="335" y="352"/>
                  </a:lnTo>
                  <a:lnTo>
                    <a:pt x="291" y="396"/>
                  </a:lnTo>
                  <a:lnTo>
                    <a:pt x="255" y="436"/>
                  </a:lnTo>
                  <a:lnTo>
                    <a:pt x="229" y="480"/>
                  </a:lnTo>
                  <a:lnTo>
                    <a:pt x="194" y="521"/>
                  </a:lnTo>
                  <a:lnTo>
                    <a:pt x="167" y="574"/>
                  </a:lnTo>
                  <a:lnTo>
                    <a:pt x="136" y="613"/>
                  </a:lnTo>
                  <a:lnTo>
                    <a:pt x="114" y="662"/>
                  </a:lnTo>
                  <a:lnTo>
                    <a:pt x="88" y="706"/>
                  </a:lnTo>
                  <a:lnTo>
                    <a:pt x="74" y="746"/>
                  </a:lnTo>
                  <a:lnTo>
                    <a:pt x="61" y="794"/>
                  </a:lnTo>
                  <a:lnTo>
                    <a:pt x="39" y="852"/>
                  </a:lnTo>
                  <a:lnTo>
                    <a:pt x="30" y="891"/>
                  </a:lnTo>
                  <a:lnTo>
                    <a:pt x="13" y="984"/>
                  </a:lnTo>
                  <a:lnTo>
                    <a:pt x="4" y="1032"/>
                  </a:lnTo>
                  <a:lnTo>
                    <a:pt x="0" y="1081"/>
                  </a:lnTo>
                  <a:lnTo>
                    <a:pt x="0" y="1125"/>
                  </a:lnTo>
                  <a:lnTo>
                    <a:pt x="0" y="1173"/>
                  </a:lnTo>
                  <a:lnTo>
                    <a:pt x="4" y="1222"/>
                  </a:lnTo>
                  <a:lnTo>
                    <a:pt x="4" y="1266"/>
                  </a:lnTo>
                  <a:lnTo>
                    <a:pt x="17" y="1315"/>
                  </a:lnTo>
                  <a:lnTo>
                    <a:pt x="26" y="1354"/>
                  </a:lnTo>
                  <a:lnTo>
                    <a:pt x="39" y="1390"/>
                  </a:lnTo>
                  <a:lnTo>
                    <a:pt x="52" y="1438"/>
                  </a:lnTo>
                  <a:lnTo>
                    <a:pt x="74" y="1483"/>
                  </a:lnTo>
                  <a:lnTo>
                    <a:pt x="83" y="1523"/>
                  </a:lnTo>
                  <a:lnTo>
                    <a:pt x="101" y="1558"/>
                  </a:lnTo>
                  <a:lnTo>
                    <a:pt x="132" y="1602"/>
                  </a:lnTo>
                  <a:lnTo>
                    <a:pt x="158" y="1642"/>
                  </a:lnTo>
                  <a:lnTo>
                    <a:pt x="185" y="1668"/>
                  </a:lnTo>
                  <a:lnTo>
                    <a:pt x="216" y="1704"/>
                  </a:lnTo>
                  <a:lnTo>
                    <a:pt x="242" y="1739"/>
                  </a:lnTo>
                  <a:lnTo>
                    <a:pt x="277" y="1770"/>
                  </a:lnTo>
                  <a:lnTo>
                    <a:pt x="317" y="1796"/>
                  </a:lnTo>
                  <a:lnTo>
                    <a:pt x="352" y="1823"/>
                  </a:lnTo>
                  <a:lnTo>
                    <a:pt x="396" y="1845"/>
                  </a:lnTo>
                  <a:lnTo>
                    <a:pt x="432" y="1871"/>
                  </a:lnTo>
                  <a:lnTo>
                    <a:pt x="480" y="1893"/>
                  </a:lnTo>
                  <a:lnTo>
                    <a:pt x="524" y="1915"/>
                  </a:lnTo>
                  <a:lnTo>
                    <a:pt x="564" y="1929"/>
                  </a:lnTo>
                  <a:lnTo>
                    <a:pt x="608" y="1929"/>
                  </a:lnTo>
                  <a:lnTo>
                    <a:pt x="657" y="1942"/>
                  </a:lnTo>
                  <a:lnTo>
                    <a:pt x="696" y="1951"/>
                  </a:lnTo>
                  <a:lnTo>
                    <a:pt x="740" y="1959"/>
                  </a:lnTo>
                  <a:lnTo>
                    <a:pt x="789" y="1959"/>
                  </a:lnTo>
                  <a:lnTo>
                    <a:pt x="837" y="1951"/>
                  </a:lnTo>
                  <a:lnTo>
                    <a:pt x="878" y="1959"/>
                  </a:lnTo>
                  <a:lnTo>
                    <a:pt x="931" y="1959"/>
                  </a:lnTo>
                  <a:lnTo>
                    <a:pt x="979" y="1951"/>
                  </a:lnTo>
                  <a:lnTo>
                    <a:pt x="1028" y="1942"/>
                  </a:lnTo>
                  <a:lnTo>
                    <a:pt x="1068" y="1929"/>
                  </a:lnTo>
                  <a:lnTo>
                    <a:pt x="1125" y="1924"/>
                  </a:lnTo>
                  <a:lnTo>
                    <a:pt x="1173" y="1907"/>
                  </a:lnTo>
                  <a:lnTo>
                    <a:pt x="1209" y="1889"/>
                  </a:lnTo>
                  <a:lnTo>
                    <a:pt x="1257" y="1871"/>
                  </a:lnTo>
                  <a:lnTo>
                    <a:pt x="1306" y="1845"/>
                  </a:lnTo>
                  <a:lnTo>
                    <a:pt x="1354" y="1823"/>
                  </a:lnTo>
                  <a:lnTo>
                    <a:pt x="1390" y="1796"/>
                  </a:lnTo>
                  <a:lnTo>
                    <a:pt x="1438" y="1774"/>
                  </a:lnTo>
                  <a:lnTo>
                    <a:pt x="1482" y="1748"/>
                  </a:lnTo>
                  <a:lnTo>
                    <a:pt x="1522" y="1712"/>
                  </a:lnTo>
                  <a:lnTo>
                    <a:pt x="1557" y="1677"/>
                  </a:lnTo>
                  <a:lnTo>
                    <a:pt x="1601" y="1651"/>
                  </a:lnTo>
                  <a:lnTo>
                    <a:pt x="1641" y="1607"/>
                  </a:lnTo>
                  <a:lnTo>
                    <a:pt x="1676" y="1567"/>
                  </a:lnTo>
                  <a:lnTo>
                    <a:pt x="1694" y="1536"/>
                  </a:lnTo>
                  <a:lnTo>
                    <a:pt x="1685" y="1545"/>
                  </a:lnTo>
                  <a:lnTo>
                    <a:pt x="1614" y="1607"/>
                  </a:lnTo>
                  <a:lnTo>
                    <a:pt x="1575" y="1638"/>
                  </a:lnTo>
                  <a:lnTo>
                    <a:pt x="1531" y="1655"/>
                  </a:lnTo>
                  <a:lnTo>
                    <a:pt x="1495" y="1690"/>
                  </a:lnTo>
                  <a:lnTo>
                    <a:pt x="1456" y="1712"/>
                  </a:lnTo>
                  <a:lnTo>
                    <a:pt x="1403" y="1735"/>
                  </a:lnTo>
                  <a:lnTo>
                    <a:pt x="1363" y="1757"/>
                  </a:lnTo>
                  <a:lnTo>
                    <a:pt x="1271" y="1796"/>
                  </a:lnTo>
                  <a:lnTo>
                    <a:pt x="1187" y="1818"/>
                  </a:lnTo>
                  <a:lnTo>
                    <a:pt x="1138" y="1832"/>
                  </a:lnTo>
                  <a:lnTo>
                    <a:pt x="1090" y="1840"/>
                  </a:lnTo>
                  <a:lnTo>
                    <a:pt x="1041" y="1845"/>
                  </a:lnTo>
                  <a:lnTo>
                    <a:pt x="997" y="1854"/>
                  </a:lnTo>
                  <a:lnTo>
                    <a:pt x="949" y="1854"/>
                  </a:lnTo>
                  <a:lnTo>
                    <a:pt x="900" y="1858"/>
                  </a:lnTo>
                  <a:lnTo>
                    <a:pt x="860" y="1854"/>
                  </a:lnTo>
                  <a:lnTo>
                    <a:pt x="815" y="1854"/>
                  </a:lnTo>
                  <a:lnTo>
                    <a:pt x="767" y="1845"/>
                  </a:lnTo>
                  <a:lnTo>
                    <a:pt x="718" y="1832"/>
                  </a:lnTo>
                  <a:lnTo>
                    <a:pt x="674" y="1823"/>
                  </a:lnTo>
                  <a:lnTo>
                    <a:pt x="635" y="1809"/>
                  </a:lnTo>
                  <a:lnTo>
                    <a:pt x="586" y="1796"/>
                  </a:lnTo>
                  <a:lnTo>
                    <a:pt x="551" y="1774"/>
                  </a:lnTo>
                  <a:lnTo>
                    <a:pt x="507" y="1757"/>
                  </a:lnTo>
                  <a:lnTo>
                    <a:pt x="467" y="1726"/>
                  </a:lnTo>
                  <a:lnTo>
                    <a:pt x="432" y="1699"/>
                  </a:lnTo>
                  <a:lnTo>
                    <a:pt x="396" y="1668"/>
                  </a:lnTo>
                  <a:lnTo>
                    <a:pt x="370" y="1642"/>
                  </a:lnTo>
                  <a:lnTo>
                    <a:pt x="335" y="1615"/>
                  </a:lnTo>
                  <a:lnTo>
                    <a:pt x="299" y="1571"/>
                  </a:lnTo>
                  <a:lnTo>
                    <a:pt x="268" y="1523"/>
                  </a:lnTo>
                  <a:lnTo>
                    <a:pt x="251" y="1474"/>
                  </a:lnTo>
                  <a:lnTo>
                    <a:pt x="233" y="1412"/>
                  </a:lnTo>
                  <a:lnTo>
                    <a:pt x="216" y="1354"/>
                  </a:lnTo>
                  <a:lnTo>
                    <a:pt x="202" y="1284"/>
                  </a:lnTo>
                  <a:lnTo>
                    <a:pt x="194" y="1222"/>
                  </a:lnTo>
                  <a:lnTo>
                    <a:pt x="194" y="1147"/>
                  </a:lnTo>
                  <a:lnTo>
                    <a:pt x="202" y="1081"/>
                  </a:lnTo>
                  <a:lnTo>
                    <a:pt x="207" y="997"/>
                  </a:lnTo>
                  <a:lnTo>
                    <a:pt x="229" y="927"/>
                  </a:lnTo>
                  <a:lnTo>
                    <a:pt x="242" y="852"/>
                  </a:lnTo>
                  <a:lnTo>
                    <a:pt x="268" y="777"/>
                  </a:lnTo>
                  <a:lnTo>
                    <a:pt x="313" y="706"/>
                  </a:lnTo>
                  <a:lnTo>
                    <a:pt x="352" y="627"/>
                  </a:lnTo>
                  <a:lnTo>
                    <a:pt x="405" y="556"/>
                  </a:lnTo>
                  <a:lnTo>
                    <a:pt x="467" y="480"/>
                  </a:lnTo>
                  <a:lnTo>
                    <a:pt x="537" y="418"/>
                  </a:lnTo>
                  <a:lnTo>
                    <a:pt x="608" y="348"/>
                  </a:lnTo>
                  <a:lnTo>
                    <a:pt x="683" y="299"/>
                  </a:lnTo>
                  <a:lnTo>
                    <a:pt x="754" y="251"/>
                  </a:lnTo>
                  <a:lnTo>
                    <a:pt x="829" y="207"/>
                  </a:lnTo>
                  <a:lnTo>
                    <a:pt x="909" y="171"/>
                  </a:lnTo>
                  <a:lnTo>
                    <a:pt x="993" y="149"/>
                  </a:lnTo>
                  <a:lnTo>
                    <a:pt x="1063" y="132"/>
                  </a:lnTo>
                  <a:lnTo>
                    <a:pt x="1103" y="132"/>
                  </a:lnTo>
                  <a:lnTo>
                    <a:pt x="1147" y="123"/>
                  </a:lnTo>
                  <a:lnTo>
                    <a:pt x="1187" y="123"/>
                  </a:lnTo>
                  <a:lnTo>
                    <a:pt x="1222" y="123"/>
                  </a:lnTo>
                  <a:lnTo>
                    <a:pt x="1257" y="123"/>
                  </a:lnTo>
                  <a:lnTo>
                    <a:pt x="1301" y="132"/>
                  </a:lnTo>
                  <a:lnTo>
                    <a:pt x="1341" y="136"/>
                  </a:lnTo>
                  <a:lnTo>
                    <a:pt x="1372" y="149"/>
                  </a:lnTo>
                  <a:lnTo>
                    <a:pt x="1403" y="158"/>
                  </a:lnTo>
                  <a:lnTo>
                    <a:pt x="1438" y="171"/>
                  </a:lnTo>
                  <a:lnTo>
                    <a:pt x="1469" y="180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03200" y="693720"/>
              <a:ext cx="609840" cy="708480"/>
            </a:xfrm>
            <a:custGeom>
              <a:avLst/>
              <a:gdLst/>
              <a:ahLst/>
              <a:rect l="0" t="0" r="r" b="b"/>
              <a:pathLst>
                <a:path w="1694" h="1968">
                  <a:moveTo>
                    <a:pt x="233" y="1783"/>
                  </a:moveTo>
                  <a:lnTo>
                    <a:pt x="158" y="1867"/>
                  </a:lnTo>
                  <a:lnTo>
                    <a:pt x="163" y="1867"/>
                  </a:lnTo>
                  <a:lnTo>
                    <a:pt x="207" y="1889"/>
                  </a:lnTo>
                  <a:lnTo>
                    <a:pt x="246" y="1911"/>
                  </a:lnTo>
                  <a:lnTo>
                    <a:pt x="291" y="1924"/>
                  </a:lnTo>
                  <a:lnTo>
                    <a:pt x="330" y="1937"/>
                  </a:lnTo>
                  <a:lnTo>
                    <a:pt x="379" y="1951"/>
                  </a:lnTo>
                  <a:lnTo>
                    <a:pt x="423" y="1951"/>
                  </a:lnTo>
                  <a:lnTo>
                    <a:pt x="471" y="1968"/>
                  </a:lnTo>
                  <a:lnTo>
                    <a:pt x="520" y="1968"/>
                  </a:lnTo>
                  <a:lnTo>
                    <a:pt x="568" y="1968"/>
                  </a:lnTo>
                  <a:lnTo>
                    <a:pt x="612" y="1968"/>
                  </a:lnTo>
                  <a:lnTo>
                    <a:pt x="661" y="1959"/>
                  </a:lnTo>
                  <a:lnTo>
                    <a:pt x="701" y="1951"/>
                  </a:lnTo>
                  <a:lnTo>
                    <a:pt x="749" y="1946"/>
                  </a:lnTo>
                  <a:lnTo>
                    <a:pt x="798" y="1933"/>
                  </a:lnTo>
                  <a:lnTo>
                    <a:pt x="846" y="1924"/>
                  </a:lnTo>
                  <a:lnTo>
                    <a:pt x="896" y="1902"/>
                  </a:lnTo>
                  <a:lnTo>
                    <a:pt x="940" y="1889"/>
                  </a:lnTo>
                  <a:lnTo>
                    <a:pt x="988" y="1867"/>
                  </a:lnTo>
                  <a:lnTo>
                    <a:pt x="1037" y="1854"/>
                  </a:lnTo>
                  <a:lnTo>
                    <a:pt x="1072" y="1832"/>
                  </a:lnTo>
                  <a:lnTo>
                    <a:pt x="1121" y="1796"/>
                  </a:lnTo>
                  <a:lnTo>
                    <a:pt x="1160" y="1770"/>
                  </a:lnTo>
                  <a:lnTo>
                    <a:pt x="1204" y="1743"/>
                  </a:lnTo>
                  <a:lnTo>
                    <a:pt x="1244" y="1712"/>
                  </a:lnTo>
                  <a:lnTo>
                    <a:pt x="1288" y="1677"/>
                  </a:lnTo>
                  <a:lnTo>
                    <a:pt x="1323" y="1642"/>
                  </a:lnTo>
                  <a:lnTo>
                    <a:pt x="1363" y="1602"/>
                  </a:lnTo>
                  <a:lnTo>
                    <a:pt x="1398" y="1567"/>
                  </a:lnTo>
                  <a:lnTo>
                    <a:pt x="1434" y="1527"/>
                  </a:lnTo>
                  <a:lnTo>
                    <a:pt x="1469" y="1483"/>
                  </a:lnTo>
                  <a:lnTo>
                    <a:pt x="1495" y="1438"/>
                  </a:lnTo>
                  <a:lnTo>
                    <a:pt x="1531" y="1398"/>
                  </a:lnTo>
                  <a:lnTo>
                    <a:pt x="1553" y="1350"/>
                  </a:lnTo>
                  <a:lnTo>
                    <a:pt x="1575" y="1306"/>
                  </a:lnTo>
                  <a:lnTo>
                    <a:pt x="1601" y="1257"/>
                  </a:lnTo>
                  <a:lnTo>
                    <a:pt x="1623" y="1209"/>
                  </a:lnTo>
                  <a:lnTo>
                    <a:pt x="1637" y="1169"/>
                  </a:lnTo>
                  <a:lnTo>
                    <a:pt x="1659" y="1116"/>
                  </a:lnTo>
                  <a:lnTo>
                    <a:pt x="1663" y="1068"/>
                  </a:lnTo>
                  <a:lnTo>
                    <a:pt x="1672" y="1028"/>
                  </a:lnTo>
                  <a:lnTo>
                    <a:pt x="1685" y="971"/>
                  </a:lnTo>
                  <a:lnTo>
                    <a:pt x="1694" y="931"/>
                  </a:lnTo>
                  <a:lnTo>
                    <a:pt x="1694" y="887"/>
                  </a:lnTo>
                  <a:lnTo>
                    <a:pt x="1694" y="830"/>
                  </a:lnTo>
                  <a:lnTo>
                    <a:pt x="1694" y="781"/>
                  </a:lnTo>
                  <a:lnTo>
                    <a:pt x="1694" y="741"/>
                  </a:lnTo>
                  <a:lnTo>
                    <a:pt x="1685" y="697"/>
                  </a:lnTo>
                  <a:lnTo>
                    <a:pt x="1676" y="649"/>
                  </a:lnTo>
                  <a:lnTo>
                    <a:pt x="1672" y="609"/>
                  </a:lnTo>
                  <a:lnTo>
                    <a:pt x="1659" y="565"/>
                  </a:lnTo>
                  <a:lnTo>
                    <a:pt x="1637" y="516"/>
                  </a:lnTo>
                  <a:lnTo>
                    <a:pt x="1623" y="480"/>
                  </a:lnTo>
                  <a:lnTo>
                    <a:pt x="1601" y="436"/>
                  </a:lnTo>
                  <a:lnTo>
                    <a:pt x="1579" y="396"/>
                  </a:lnTo>
                  <a:lnTo>
                    <a:pt x="1557" y="370"/>
                  </a:lnTo>
                  <a:lnTo>
                    <a:pt x="1539" y="326"/>
                  </a:lnTo>
                  <a:lnTo>
                    <a:pt x="1504" y="291"/>
                  </a:lnTo>
                  <a:lnTo>
                    <a:pt x="1478" y="251"/>
                  </a:lnTo>
                  <a:lnTo>
                    <a:pt x="1447" y="229"/>
                  </a:lnTo>
                  <a:lnTo>
                    <a:pt x="1407" y="194"/>
                  </a:lnTo>
                  <a:lnTo>
                    <a:pt x="1376" y="167"/>
                  </a:lnTo>
                  <a:lnTo>
                    <a:pt x="1337" y="136"/>
                  </a:lnTo>
                  <a:lnTo>
                    <a:pt x="1293" y="110"/>
                  </a:lnTo>
                  <a:lnTo>
                    <a:pt x="1253" y="97"/>
                  </a:lnTo>
                  <a:lnTo>
                    <a:pt x="1218" y="74"/>
                  </a:lnTo>
                  <a:lnTo>
                    <a:pt x="1178" y="52"/>
                  </a:lnTo>
                  <a:lnTo>
                    <a:pt x="1129" y="39"/>
                  </a:lnTo>
                  <a:lnTo>
                    <a:pt x="1085" y="26"/>
                  </a:lnTo>
                  <a:lnTo>
                    <a:pt x="1046" y="17"/>
                  </a:lnTo>
                  <a:lnTo>
                    <a:pt x="993" y="4"/>
                  </a:lnTo>
                  <a:lnTo>
                    <a:pt x="953" y="0"/>
                  </a:lnTo>
                  <a:lnTo>
                    <a:pt x="904" y="0"/>
                  </a:lnTo>
                  <a:lnTo>
                    <a:pt x="856" y="0"/>
                  </a:lnTo>
                  <a:lnTo>
                    <a:pt x="806" y="0"/>
                  </a:lnTo>
                  <a:lnTo>
                    <a:pt x="758" y="4"/>
                  </a:lnTo>
                  <a:lnTo>
                    <a:pt x="714" y="13"/>
                  </a:lnTo>
                  <a:lnTo>
                    <a:pt x="665" y="17"/>
                  </a:lnTo>
                  <a:lnTo>
                    <a:pt x="617" y="26"/>
                  </a:lnTo>
                  <a:lnTo>
                    <a:pt x="577" y="39"/>
                  </a:lnTo>
                  <a:lnTo>
                    <a:pt x="529" y="52"/>
                  </a:lnTo>
                  <a:lnTo>
                    <a:pt x="480" y="74"/>
                  </a:lnTo>
                  <a:lnTo>
                    <a:pt x="427" y="97"/>
                  </a:lnTo>
                  <a:lnTo>
                    <a:pt x="396" y="110"/>
                  </a:lnTo>
                  <a:lnTo>
                    <a:pt x="348" y="136"/>
                  </a:lnTo>
                  <a:lnTo>
                    <a:pt x="295" y="158"/>
                  </a:lnTo>
                  <a:lnTo>
                    <a:pt x="264" y="185"/>
                  </a:lnTo>
                  <a:lnTo>
                    <a:pt x="220" y="220"/>
                  </a:lnTo>
                  <a:lnTo>
                    <a:pt x="171" y="251"/>
                  </a:lnTo>
                  <a:lnTo>
                    <a:pt x="132" y="286"/>
                  </a:lnTo>
                  <a:lnTo>
                    <a:pt x="101" y="321"/>
                  </a:lnTo>
                  <a:lnTo>
                    <a:pt x="61" y="361"/>
                  </a:lnTo>
                  <a:lnTo>
                    <a:pt x="17" y="396"/>
                  </a:lnTo>
                  <a:lnTo>
                    <a:pt x="0" y="423"/>
                  </a:lnTo>
                  <a:lnTo>
                    <a:pt x="0" y="418"/>
                  </a:lnTo>
                  <a:lnTo>
                    <a:pt x="4" y="418"/>
                  </a:lnTo>
                  <a:lnTo>
                    <a:pt x="88" y="352"/>
                  </a:lnTo>
                  <a:lnTo>
                    <a:pt x="114" y="326"/>
                  </a:lnTo>
                  <a:lnTo>
                    <a:pt x="163" y="299"/>
                  </a:lnTo>
                  <a:lnTo>
                    <a:pt x="198" y="268"/>
                  </a:lnTo>
                  <a:lnTo>
                    <a:pt x="246" y="251"/>
                  </a:lnTo>
                  <a:lnTo>
                    <a:pt x="282" y="229"/>
                  </a:lnTo>
                  <a:lnTo>
                    <a:pt x="330" y="207"/>
                  </a:lnTo>
                  <a:lnTo>
                    <a:pt x="423" y="171"/>
                  </a:lnTo>
                  <a:lnTo>
                    <a:pt x="511" y="136"/>
                  </a:lnTo>
                  <a:lnTo>
                    <a:pt x="564" y="132"/>
                  </a:lnTo>
                  <a:lnTo>
                    <a:pt x="604" y="114"/>
                  </a:lnTo>
                  <a:lnTo>
                    <a:pt x="652" y="110"/>
                  </a:lnTo>
                  <a:lnTo>
                    <a:pt x="701" y="101"/>
                  </a:lnTo>
                  <a:lnTo>
                    <a:pt x="745" y="101"/>
                  </a:lnTo>
                  <a:lnTo>
                    <a:pt x="784" y="101"/>
                  </a:lnTo>
                  <a:lnTo>
                    <a:pt x="833" y="101"/>
                  </a:lnTo>
                  <a:lnTo>
                    <a:pt x="882" y="110"/>
                  </a:lnTo>
                  <a:lnTo>
                    <a:pt x="927" y="114"/>
                  </a:lnTo>
                  <a:lnTo>
                    <a:pt x="966" y="123"/>
                  </a:lnTo>
                  <a:lnTo>
                    <a:pt x="1015" y="136"/>
                  </a:lnTo>
                  <a:lnTo>
                    <a:pt x="1063" y="149"/>
                  </a:lnTo>
                  <a:lnTo>
                    <a:pt x="1099" y="167"/>
                  </a:lnTo>
                  <a:lnTo>
                    <a:pt x="1143" y="185"/>
                  </a:lnTo>
                  <a:lnTo>
                    <a:pt x="1191" y="216"/>
                  </a:lnTo>
                  <a:lnTo>
                    <a:pt x="1226" y="233"/>
                  </a:lnTo>
                  <a:lnTo>
                    <a:pt x="1253" y="255"/>
                  </a:lnTo>
                  <a:lnTo>
                    <a:pt x="1293" y="291"/>
                  </a:lnTo>
                  <a:lnTo>
                    <a:pt x="1328" y="321"/>
                  </a:lnTo>
                  <a:lnTo>
                    <a:pt x="1359" y="352"/>
                  </a:lnTo>
                  <a:lnTo>
                    <a:pt x="1385" y="388"/>
                  </a:lnTo>
                  <a:lnTo>
                    <a:pt x="1412" y="436"/>
                  </a:lnTo>
                  <a:lnTo>
                    <a:pt x="1442" y="489"/>
                  </a:lnTo>
                  <a:lnTo>
                    <a:pt x="1460" y="543"/>
                  </a:lnTo>
                  <a:lnTo>
                    <a:pt x="1482" y="609"/>
                  </a:lnTo>
                  <a:lnTo>
                    <a:pt x="1491" y="671"/>
                  </a:lnTo>
                  <a:lnTo>
                    <a:pt x="1495" y="741"/>
                  </a:lnTo>
                  <a:lnTo>
                    <a:pt x="1495" y="812"/>
                  </a:lnTo>
                  <a:lnTo>
                    <a:pt x="1495" y="887"/>
                  </a:lnTo>
                  <a:lnTo>
                    <a:pt x="1491" y="966"/>
                  </a:lnTo>
                  <a:lnTo>
                    <a:pt x="1469" y="1041"/>
                  </a:lnTo>
                  <a:lnTo>
                    <a:pt x="1447" y="1112"/>
                  </a:lnTo>
                  <a:lnTo>
                    <a:pt x="1412" y="1187"/>
                  </a:lnTo>
                  <a:lnTo>
                    <a:pt x="1385" y="1266"/>
                  </a:lnTo>
                  <a:lnTo>
                    <a:pt x="1337" y="1328"/>
                  </a:lnTo>
                  <a:lnTo>
                    <a:pt x="1288" y="1407"/>
                  </a:lnTo>
                  <a:lnTo>
                    <a:pt x="1226" y="1483"/>
                  </a:lnTo>
                  <a:lnTo>
                    <a:pt x="1156" y="1554"/>
                  </a:lnTo>
                  <a:lnTo>
                    <a:pt x="1085" y="1611"/>
                  </a:lnTo>
                  <a:lnTo>
                    <a:pt x="1015" y="1664"/>
                  </a:lnTo>
                  <a:lnTo>
                    <a:pt x="940" y="1721"/>
                  </a:lnTo>
                  <a:lnTo>
                    <a:pt x="869" y="1757"/>
                  </a:lnTo>
                  <a:lnTo>
                    <a:pt x="784" y="1792"/>
                  </a:lnTo>
                  <a:lnTo>
                    <a:pt x="709" y="1814"/>
                  </a:lnTo>
                  <a:lnTo>
                    <a:pt x="626" y="1832"/>
                  </a:lnTo>
                  <a:lnTo>
                    <a:pt x="582" y="1840"/>
                  </a:lnTo>
                  <a:lnTo>
                    <a:pt x="555" y="1840"/>
                  </a:lnTo>
                  <a:lnTo>
                    <a:pt x="511" y="1849"/>
                  </a:lnTo>
                  <a:lnTo>
                    <a:pt x="471" y="1849"/>
                  </a:lnTo>
                  <a:lnTo>
                    <a:pt x="427" y="1840"/>
                  </a:lnTo>
                  <a:lnTo>
                    <a:pt x="401" y="1832"/>
                  </a:lnTo>
                  <a:lnTo>
                    <a:pt x="361" y="1832"/>
                  </a:lnTo>
                  <a:lnTo>
                    <a:pt x="326" y="1818"/>
                  </a:lnTo>
                  <a:lnTo>
                    <a:pt x="282" y="1805"/>
                  </a:lnTo>
                  <a:lnTo>
                    <a:pt x="255" y="1796"/>
                  </a:lnTo>
                  <a:lnTo>
                    <a:pt x="233" y="1783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7120" y="814320"/>
              <a:ext cx="282960" cy="581400"/>
            </a:xfrm>
            <a:custGeom>
              <a:avLst/>
              <a:gdLst/>
              <a:ahLst/>
              <a:rect l="0" t="0" r="r" b="b"/>
              <a:pathLst>
                <a:path w="786" h="1615">
                  <a:moveTo>
                    <a:pt x="0" y="1377"/>
                  </a:moveTo>
                  <a:lnTo>
                    <a:pt x="0" y="1615"/>
                  </a:lnTo>
                  <a:lnTo>
                    <a:pt x="66" y="1598"/>
                  </a:lnTo>
                  <a:lnTo>
                    <a:pt x="101" y="1585"/>
                  </a:lnTo>
                  <a:lnTo>
                    <a:pt x="136" y="1571"/>
                  </a:lnTo>
                  <a:lnTo>
                    <a:pt x="171" y="1558"/>
                  </a:lnTo>
                  <a:lnTo>
                    <a:pt x="212" y="1545"/>
                  </a:lnTo>
                  <a:lnTo>
                    <a:pt x="256" y="1523"/>
                  </a:lnTo>
                  <a:lnTo>
                    <a:pt x="283" y="1510"/>
                  </a:lnTo>
                  <a:lnTo>
                    <a:pt x="318" y="1488"/>
                  </a:lnTo>
                  <a:lnTo>
                    <a:pt x="353" y="1461"/>
                  </a:lnTo>
                  <a:lnTo>
                    <a:pt x="389" y="1439"/>
                  </a:lnTo>
                  <a:lnTo>
                    <a:pt x="424" y="1413"/>
                  </a:lnTo>
                  <a:lnTo>
                    <a:pt x="450" y="1391"/>
                  </a:lnTo>
                  <a:lnTo>
                    <a:pt x="486" y="1355"/>
                  </a:lnTo>
                  <a:lnTo>
                    <a:pt x="521" y="1329"/>
                  </a:lnTo>
                  <a:lnTo>
                    <a:pt x="547" y="1294"/>
                  </a:lnTo>
                  <a:lnTo>
                    <a:pt x="574" y="1258"/>
                  </a:lnTo>
                  <a:lnTo>
                    <a:pt x="606" y="1223"/>
                  </a:lnTo>
                  <a:lnTo>
                    <a:pt x="654" y="1143"/>
                  </a:lnTo>
                  <a:lnTo>
                    <a:pt x="694" y="1076"/>
                  </a:lnTo>
                  <a:lnTo>
                    <a:pt x="729" y="988"/>
                  </a:lnTo>
                  <a:lnTo>
                    <a:pt x="756" y="913"/>
                  </a:lnTo>
                  <a:lnTo>
                    <a:pt x="769" y="843"/>
                  </a:lnTo>
                  <a:lnTo>
                    <a:pt x="786" y="759"/>
                  </a:lnTo>
                  <a:lnTo>
                    <a:pt x="786" y="684"/>
                  </a:lnTo>
                  <a:lnTo>
                    <a:pt x="786" y="649"/>
                  </a:lnTo>
                  <a:lnTo>
                    <a:pt x="786" y="605"/>
                  </a:lnTo>
                  <a:lnTo>
                    <a:pt x="778" y="569"/>
                  </a:lnTo>
                  <a:lnTo>
                    <a:pt x="769" y="530"/>
                  </a:lnTo>
                  <a:lnTo>
                    <a:pt x="764" y="494"/>
                  </a:lnTo>
                  <a:lnTo>
                    <a:pt x="756" y="459"/>
                  </a:lnTo>
                  <a:lnTo>
                    <a:pt x="751" y="433"/>
                  </a:lnTo>
                  <a:lnTo>
                    <a:pt x="734" y="388"/>
                  </a:lnTo>
                  <a:lnTo>
                    <a:pt x="720" y="352"/>
                  </a:lnTo>
                  <a:lnTo>
                    <a:pt x="703" y="326"/>
                  </a:lnTo>
                  <a:lnTo>
                    <a:pt x="685" y="299"/>
                  </a:lnTo>
                  <a:lnTo>
                    <a:pt x="659" y="264"/>
                  </a:lnTo>
                  <a:lnTo>
                    <a:pt x="637" y="233"/>
                  </a:lnTo>
                  <a:lnTo>
                    <a:pt x="619" y="207"/>
                  </a:lnTo>
                  <a:lnTo>
                    <a:pt x="587" y="180"/>
                  </a:lnTo>
                  <a:lnTo>
                    <a:pt x="561" y="158"/>
                  </a:lnTo>
                  <a:lnTo>
                    <a:pt x="534" y="132"/>
                  </a:lnTo>
                  <a:lnTo>
                    <a:pt x="499" y="110"/>
                  </a:lnTo>
                  <a:lnTo>
                    <a:pt x="472" y="88"/>
                  </a:lnTo>
                  <a:lnTo>
                    <a:pt x="441" y="74"/>
                  </a:lnTo>
                  <a:lnTo>
                    <a:pt x="406" y="52"/>
                  </a:lnTo>
                  <a:lnTo>
                    <a:pt x="367" y="39"/>
                  </a:lnTo>
                  <a:lnTo>
                    <a:pt x="331" y="30"/>
                  </a:lnTo>
                  <a:lnTo>
                    <a:pt x="296" y="17"/>
                  </a:lnTo>
                  <a:lnTo>
                    <a:pt x="269" y="17"/>
                  </a:lnTo>
                  <a:lnTo>
                    <a:pt x="225" y="13"/>
                  </a:lnTo>
                  <a:lnTo>
                    <a:pt x="149" y="0"/>
                  </a:lnTo>
                  <a:lnTo>
                    <a:pt x="114" y="0"/>
                  </a:lnTo>
                  <a:lnTo>
                    <a:pt x="74" y="4"/>
                  </a:lnTo>
                  <a:lnTo>
                    <a:pt x="30" y="4"/>
                  </a:lnTo>
                  <a:lnTo>
                    <a:pt x="0" y="13"/>
                  </a:lnTo>
                  <a:lnTo>
                    <a:pt x="0" y="242"/>
                  </a:lnTo>
                  <a:lnTo>
                    <a:pt x="39" y="233"/>
                  </a:lnTo>
                  <a:lnTo>
                    <a:pt x="97" y="233"/>
                  </a:lnTo>
                  <a:lnTo>
                    <a:pt x="145" y="242"/>
                  </a:lnTo>
                  <a:lnTo>
                    <a:pt x="199" y="255"/>
                  </a:lnTo>
                  <a:lnTo>
                    <a:pt x="256" y="268"/>
                  </a:lnTo>
                  <a:lnTo>
                    <a:pt x="305" y="299"/>
                  </a:lnTo>
                  <a:lnTo>
                    <a:pt x="353" y="317"/>
                  </a:lnTo>
                  <a:lnTo>
                    <a:pt x="402" y="352"/>
                  </a:lnTo>
                  <a:lnTo>
                    <a:pt x="441" y="396"/>
                  </a:lnTo>
                  <a:lnTo>
                    <a:pt x="472" y="437"/>
                  </a:lnTo>
                  <a:lnTo>
                    <a:pt x="499" y="481"/>
                  </a:lnTo>
                  <a:lnTo>
                    <a:pt x="525" y="530"/>
                  </a:lnTo>
                  <a:lnTo>
                    <a:pt x="547" y="578"/>
                  </a:lnTo>
                  <a:lnTo>
                    <a:pt x="561" y="627"/>
                  </a:lnTo>
                  <a:lnTo>
                    <a:pt x="574" y="684"/>
                  </a:lnTo>
                  <a:lnTo>
                    <a:pt x="574" y="733"/>
                  </a:lnTo>
                  <a:lnTo>
                    <a:pt x="574" y="790"/>
                  </a:lnTo>
                  <a:lnTo>
                    <a:pt x="569" y="852"/>
                  </a:lnTo>
                  <a:lnTo>
                    <a:pt x="556" y="900"/>
                  </a:lnTo>
                  <a:lnTo>
                    <a:pt x="538" y="957"/>
                  </a:lnTo>
                  <a:lnTo>
                    <a:pt x="512" y="1006"/>
                  </a:lnTo>
                  <a:lnTo>
                    <a:pt x="486" y="1059"/>
                  </a:lnTo>
                  <a:lnTo>
                    <a:pt x="450" y="1116"/>
                  </a:lnTo>
                  <a:lnTo>
                    <a:pt x="415" y="1160"/>
                  </a:lnTo>
                  <a:lnTo>
                    <a:pt x="375" y="1200"/>
                  </a:lnTo>
                  <a:lnTo>
                    <a:pt x="327" y="1249"/>
                  </a:lnTo>
                  <a:lnTo>
                    <a:pt x="283" y="1272"/>
                  </a:lnTo>
                  <a:lnTo>
                    <a:pt x="234" y="1307"/>
                  </a:lnTo>
                  <a:lnTo>
                    <a:pt x="176" y="1329"/>
                  </a:lnTo>
                  <a:lnTo>
                    <a:pt x="123" y="1346"/>
                  </a:lnTo>
                  <a:lnTo>
                    <a:pt x="66" y="1369"/>
                  </a:lnTo>
                  <a:lnTo>
                    <a:pt x="13" y="1377"/>
                  </a:lnTo>
                  <a:lnTo>
                    <a:pt x="0" y="1377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3360" y="819000"/>
              <a:ext cx="294120" cy="582840"/>
            </a:xfrm>
            <a:custGeom>
              <a:avLst/>
              <a:gdLst/>
              <a:ahLst/>
              <a:rect l="0" t="0" r="r" b="b"/>
              <a:pathLst>
                <a:path w="817" h="1619">
                  <a:moveTo>
                    <a:pt x="817" y="229"/>
                  </a:moveTo>
                  <a:lnTo>
                    <a:pt x="817" y="0"/>
                  </a:lnTo>
                  <a:lnTo>
                    <a:pt x="738" y="13"/>
                  </a:lnTo>
                  <a:lnTo>
                    <a:pt x="659" y="30"/>
                  </a:lnTo>
                  <a:lnTo>
                    <a:pt x="623" y="48"/>
                  </a:lnTo>
                  <a:lnTo>
                    <a:pt x="587" y="61"/>
                  </a:lnTo>
                  <a:lnTo>
                    <a:pt x="547" y="83"/>
                  </a:lnTo>
                  <a:lnTo>
                    <a:pt x="512" y="101"/>
                  </a:lnTo>
                  <a:lnTo>
                    <a:pt x="477" y="123"/>
                  </a:lnTo>
                  <a:lnTo>
                    <a:pt x="441" y="149"/>
                  </a:lnTo>
                  <a:lnTo>
                    <a:pt x="406" y="167"/>
                  </a:lnTo>
                  <a:lnTo>
                    <a:pt x="371" y="194"/>
                  </a:lnTo>
                  <a:lnTo>
                    <a:pt x="336" y="220"/>
                  </a:lnTo>
                  <a:lnTo>
                    <a:pt x="309" y="255"/>
                  </a:lnTo>
                  <a:lnTo>
                    <a:pt x="278" y="286"/>
                  </a:lnTo>
                  <a:lnTo>
                    <a:pt x="252" y="313"/>
                  </a:lnTo>
                  <a:lnTo>
                    <a:pt x="225" y="348"/>
                  </a:lnTo>
                  <a:lnTo>
                    <a:pt x="189" y="388"/>
                  </a:lnTo>
                  <a:lnTo>
                    <a:pt x="136" y="458"/>
                  </a:lnTo>
                  <a:lnTo>
                    <a:pt x="101" y="537"/>
                  </a:lnTo>
                  <a:lnTo>
                    <a:pt x="66" y="612"/>
                  </a:lnTo>
                  <a:lnTo>
                    <a:pt x="39" y="696"/>
                  </a:lnTo>
                  <a:lnTo>
                    <a:pt x="17" y="776"/>
                  </a:lnTo>
                  <a:lnTo>
                    <a:pt x="4" y="847"/>
                  </a:lnTo>
                  <a:lnTo>
                    <a:pt x="0" y="931"/>
                  </a:lnTo>
                  <a:lnTo>
                    <a:pt x="4" y="966"/>
                  </a:lnTo>
                  <a:lnTo>
                    <a:pt x="4" y="1002"/>
                  </a:lnTo>
                  <a:lnTo>
                    <a:pt x="13" y="1041"/>
                  </a:lnTo>
                  <a:lnTo>
                    <a:pt x="17" y="1085"/>
                  </a:lnTo>
                  <a:lnTo>
                    <a:pt x="26" y="1112"/>
                  </a:lnTo>
                  <a:lnTo>
                    <a:pt x="30" y="1147"/>
                  </a:lnTo>
                  <a:lnTo>
                    <a:pt x="48" y="1191"/>
                  </a:lnTo>
                  <a:lnTo>
                    <a:pt x="61" y="1226"/>
                  </a:lnTo>
                  <a:lnTo>
                    <a:pt x="74" y="1253"/>
                  </a:lnTo>
                  <a:lnTo>
                    <a:pt x="97" y="1279"/>
                  </a:lnTo>
                  <a:lnTo>
                    <a:pt x="110" y="1315"/>
                  </a:lnTo>
                  <a:lnTo>
                    <a:pt x="132" y="1350"/>
                  </a:lnTo>
                  <a:lnTo>
                    <a:pt x="154" y="1376"/>
                  </a:lnTo>
                  <a:lnTo>
                    <a:pt x="171" y="1398"/>
                  </a:lnTo>
                  <a:lnTo>
                    <a:pt x="202" y="1429"/>
                  </a:lnTo>
                  <a:lnTo>
                    <a:pt x="239" y="1456"/>
                  </a:lnTo>
                  <a:lnTo>
                    <a:pt x="265" y="1482"/>
                  </a:lnTo>
                  <a:lnTo>
                    <a:pt x="292" y="1504"/>
                  </a:lnTo>
                  <a:lnTo>
                    <a:pt x="322" y="1517"/>
                  </a:lnTo>
                  <a:lnTo>
                    <a:pt x="358" y="1539"/>
                  </a:lnTo>
                  <a:lnTo>
                    <a:pt x="393" y="1553"/>
                  </a:lnTo>
                  <a:lnTo>
                    <a:pt x="428" y="1566"/>
                  </a:lnTo>
                  <a:lnTo>
                    <a:pt x="455" y="1584"/>
                  </a:lnTo>
                  <a:lnTo>
                    <a:pt x="499" y="1597"/>
                  </a:lnTo>
                  <a:lnTo>
                    <a:pt x="534" y="1597"/>
                  </a:lnTo>
                  <a:lnTo>
                    <a:pt x="574" y="1610"/>
                  </a:lnTo>
                  <a:lnTo>
                    <a:pt x="645" y="1619"/>
                  </a:lnTo>
                  <a:lnTo>
                    <a:pt x="689" y="1619"/>
                  </a:lnTo>
                  <a:lnTo>
                    <a:pt x="729" y="1619"/>
                  </a:lnTo>
                  <a:lnTo>
                    <a:pt x="764" y="1610"/>
                  </a:lnTo>
                  <a:lnTo>
                    <a:pt x="800" y="1601"/>
                  </a:lnTo>
                  <a:lnTo>
                    <a:pt x="817" y="1601"/>
                  </a:lnTo>
                  <a:lnTo>
                    <a:pt x="817" y="1363"/>
                  </a:lnTo>
                  <a:lnTo>
                    <a:pt x="782" y="1363"/>
                  </a:lnTo>
                  <a:lnTo>
                    <a:pt x="716" y="1363"/>
                  </a:lnTo>
                  <a:lnTo>
                    <a:pt x="659" y="1363"/>
                  </a:lnTo>
                  <a:lnTo>
                    <a:pt x="609" y="1350"/>
                  </a:lnTo>
                  <a:lnTo>
                    <a:pt x="552" y="1328"/>
                  </a:lnTo>
                  <a:lnTo>
                    <a:pt x="503" y="1310"/>
                  </a:lnTo>
                  <a:lnTo>
                    <a:pt x="455" y="1279"/>
                  </a:lnTo>
                  <a:lnTo>
                    <a:pt x="415" y="1244"/>
                  </a:lnTo>
                  <a:lnTo>
                    <a:pt x="371" y="1209"/>
                  </a:lnTo>
                  <a:lnTo>
                    <a:pt x="336" y="1160"/>
                  </a:lnTo>
                  <a:lnTo>
                    <a:pt x="300" y="1121"/>
                  </a:lnTo>
                  <a:lnTo>
                    <a:pt x="278" y="1076"/>
                  </a:lnTo>
                  <a:lnTo>
                    <a:pt x="261" y="1028"/>
                  </a:lnTo>
                  <a:lnTo>
                    <a:pt x="243" y="971"/>
                  </a:lnTo>
                  <a:lnTo>
                    <a:pt x="239" y="922"/>
                  </a:lnTo>
                  <a:lnTo>
                    <a:pt x="230" y="869"/>
                  </a:lnTo>
                  <a:lnTo>
                    <a:pt x="230" y="816"/>
                  </a:lnTo>
                  <a:lnTo>
                    <a:pt x="239" y="754"/>
                  </a:lnTo>
                  <a:lnTo>
                    <a:pt x="252" y="696"/>
                  </a:lnTo>
                  <a:lnTo>
                    <a:pt x="274" y="648"/>
                  </a:lnTo>
                  <a:lnTo>
                    <a:pt x="292" y="595"/>
                  </a:lnTo>
                  <a:lnTo>
                    <a:pt x="314" y="542"/>
                  </a:lnTo>
                  <a:lnTo>
                    <a:pt x="358" y="489"/>
                  </a:lnTo>
                  <a:lnTo>
                    <a:pt x="393" y="440"/>
                  </a:lnTo>
                  <a:lnTo>
                    <a:pt x="441" y="396"/>
                  </a:lnTo>
                  <a:lnTo>
                    <a:pt x="477" y="361"/>
                  </a:lnTo>
                  <a:lnTo>
                    <a:pt x="525" y="321"/>
                  </a:lnTo>
                  <a:lnTo>
                    <a:pt x="583" y="291"/>
                  </a:lnTo>
                  <a:lnTo>
                    <a:pt x="632" y="268"/>
                  </a:lnTo>
                  <a:lnTo>
                    <a:pt x="689" y="251"/>
                  </a:lnTo>
                  <a:lnTo>
                    <a:pt x="747" y="238"/>
                  </a:lnTo>
                  <a:lnTo>
                    <a:pt x="795" y="229"/>
                  </a:lnTo>
                  <a:lnTo>
                    <a:pt x="817" y="229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91240" y="617400"/>
            <a:ext cx="3076560" cy="87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48200" y="666720"/>
            <a:ext cx="13622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0960" y="1752480"/>
            <a:ext cx="9078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started work in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PAR specifies support for range extension and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decided early on not to specify the Distribution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beyond IEEE 802 MAC level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requires Network and Transport layer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specifies the services the Distribution System must pro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were a number of attempts to specify interoperability functions on the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erm IAPP was introduced in IEEE P802.11-94/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P802.11-95/188 by Michael Fischer proposed a limited Distribution System by introduction of the M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onet, Digital Ocean and Lucent Technologies provide an initial specification of the IA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al IAPP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0960" y="1676520"/>
            <a:ext cx="885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 upon specified 802.11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existing networks to serve as the Distribution System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isting 802 wir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Wireless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a wide range of Network transfer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MAC level Bridge based Data Link level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Router based Network layer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ow multi-segment I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intended to solve addressing issues for Network layer mo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for different network Management top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mechanisms to allow APs to communicate 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APP should be flexible and exten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proprietary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rchitectur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802.11 architecture is designed to allow diverse Distribution System implemen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S may be created from different technologies including but not limited to current 802.x wired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not constrained to either Data Link or Network 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addressing space can be separate from the addressing space used in the DS or integrated wired 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APP initiative focuses on a set of solutions representing a typic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s based on existing 802.x wired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Medium (DM) can be an existing LAN with stations 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802.11 and DM using the same MAC level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98320" y="1905120"/>
            <a:ext cx="9231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defines a communication mechanism between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llow for coordination between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change channel or hop seque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allows AP MAC Management entities to 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able a station to disassociate from the “Old A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redirect the Distribution System  filtering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transfer protocols will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whenever an IP address is present in the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2 Sub-Network Access Protocol (SN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simpler systems when no IP Address is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0960" y="5334120"/>
            <a:ext cx="8393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Medium can be built from exist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802.11 wireless 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40080" y="3597120"/>
            <a:ext cx="3957840" cy="1491120"/>
          </a:xfrm>
          <a:custGeom>
            <a:avLst/>
            <a:gdLst/>
            <a:ahLst/>
            <a:rect l="0" t="0" r="r" b="b"/>
            <a:pathLst>
              <a:path w="10994" h="4142">
                <a:moveTo>
                  <a:pt x="555" y="1398"/>
                </a:moveTo>
                <a:lnTo>
                  <a:pt x="1190" y="1187"/>
                </a:lnTo>
                <a:lnTo>
                  <a:pt x="1794" y="1054"/>
                </a:lnTo>
                <a:lnTo>
                  <a:pt x="2667" y="974"/>
                </a:lnTo>
                <a:lnTo>
                  <a:pt x="3011" y="921"/>
                </a:lnTo>
                <a:lnTo>
                  <a:pt x="3038" y="948"/>
                </a:lnTo>
                <a:lnTo>
                  <a:pt x="3091" y="948"/>
                </a:lnTo>
                <a:lnTo>
                  <a:pt x="3197" y="895"/>
                </a:lnTo>
                <a:lnTo>
                  <a:pt x="3276" y="895"/>
                </a:lnTo>
                <a:lnTo>
                  <a:pt x="3355" y="895"/>
                </a:lnTo>
                <a:lnTo>
                  <a:pt x="3408" y="868"/>
                </a:lnTo>
                <a:lnTo>
                  <a:pt x="3461" y="868"/>
                </a:lnTo>
                <a:lnTo>
                  <a:pt x="3514" y="868"/>
                </a:lnTo>
                <a:lnTo>
                  <a:pt x="3567" y="842"/>
                </a:lnTo>
                <a:lnTo>
                  <a:pt x="3620" y="842"/>
                </a:lnTo>
                <a:lnTo>
                  <a:pt x="3699" y="842"/>
                </a:lnTo>
                <a:lnTo>
                  <a:pt x="3752" y="842"/>
                </a:lnTo>
                <a:lnTo>
                  <a:pt x="3832" y="842"/>
                </a:lnTo>
                <a:lnTo>
                  <a:pt x="3911" y="868"/>
                </a:lnTo>
                <a:lnTo>
                  <a:pt x="3964" y="868"/>
                </a:lnTo>
                <a:lnTo>
                  <a:pt x="4017" y="895"/>
                </a:lnTo>
                <a:lnTo>
                  <a:pt x="4096" y="895"/>
                </a:lnTo>
                <a:lnTo>
                  <a:pt x="4176" y="895"/>
                </a:lnTo>
                <a:lnTo>
                  <a:pt x="4255" y="895"/>
                </a:lnTo>
                <a:lnTo>
                  <a:pt x="4334" y="895"/>
                </a:lnTo>
                <a:lnTo>
                  <a:pt x="4387" y="868"/>
                </a:lnTo>
                <a:lnTo>
                  <a:pt x="4493" y="762"/>
                </a:lnTo>
                <a:lnTo>
                  <a:pt x="4572" y="709"/>
                </a:lnTo>
                <a:lnTo>
                  <a:pt x="4652" y="630"/>
                </a:lnTo>
                <a:lnTo>
                  <a:pt x="4705" y="551"/>
                </a:lnTo>
                <a:lnTo>
                  <a:pt x="4784" y="471"/>
                </a:lnTo>
                <a:lnTo>
                  <a:pt x="4863" y="392"/>
                </a:lnTo>
                <a:lnTo>
                  <a:pt x="4943" y="392"/>
                </a:lnTo>
                <a:lnTo>
                  <a:pt x="4996" y="392"/>
                </a:lnTo>
                <a:lnTo>
                  <a:pt x="5071" y="392"/>
                </a:lnTo>
                <a:lnTo>
                  <a:pt x="5124" y="392"/>
                </a:lnTo>
                <a:lnTo>
                  <a:pt x="5177" y="418"/>
                </a:lnTo>
                <a:lnTo>
                  <a:pt x="5282" y="264"/>
                </a:lnTo>
                <a:lnTo>
                  <a:pt x="5494" y="264"/>
                </a:lnTo>
                <a:lnTo>
                  <a:pt x="5574" y="238"/>
                </a:lnTo>
                <a:lnTo>
                  <a:pt x="5680" y="317"/>
                </a:lnTo>
                <a:lnTo>
                  <a:pt x="5707" y="264"/>
                </a:lnTo>
                <a:lnTo>
                  <a:pt x="6024" y="105"/>
                </a:lnTo>
                <a:lnTo>
                  <a:pt x="6315" y="264"/>
                </a:lnTo>
                <a:lnTo>
                  <a:pt x="6421" y="238"/>
                </a:lnTo>
                <a:lnTo>
                  <a:pt x="6500" y="264"/>
                </a:lnTo>
                <a:lnTo>
                  <a:pt x="6659" y="238"/>
                </a:lnTo>
                <a:lnTo>
                  <a:pt x="6765" y="211"/>
                </a:lnTo>
                <a:lnTo>
                  <a:pt x="6871" y="291"/>
                </a:lnTo>
                <a:lnTo>
                  <a:pt x="6897" y="211"/>
                </a:lnTo>
                <a:lnTo>
                  <a:pt x="6897" y="132"/>
                </a:lnTo>
                <a:lnTo>
                  <a:pt x="6924" y="79"/>
                </a:lnTo>
                <a:lnTo>
                  <a:pt x="6950" y="26"/>
                </a:lnTo>
                <a:lnTo>
                  <a:pt x="7003" y="26"/>
                </a:lnTo>
                <a:lnTo>
                  <a:pt x="7056" y="0"/>
                </a:lnTo>
                <a:lnTo>
                  <a:pt x="7109" y="26"/>
                </a:lnTo>
                <a:lnTo>
                  <a:pt x="7162" y="26"/>
                </a:lnTo>
                <a:lnTo>
                  <a:pt x="7215" y="52"/>
                </a:lnTo>
                <a:lnTo>
                  <a:pt x="7294" y="79"/>
                </a:lnTo>
                <a:lnTo>
                  <a:pt x="7374" y="52"/>
                </a:lnTo>
                <a:lnTo>
                  <a:pt x="7638" y="52"/>
                </a:lnTo>
                <a:lnTo>
                  <a:pt x="7718" y="26"/>
                </a:lnTo>
                <a:lnTo>
                  <a:pt x="7770" y="26"/>
                </a:lnTo>
                <a:lnTo>
                  <a:pt x="7823" y="26"/>
                </a:lnTo>
                <a:lnTo>
                  <a:pt x="7876" y="26"/>
                </a:lnTo>
                <a:lnTo>
                  <a:pt x="7929" y="26"/>
                </a:lnTo>
                <a:lnTo>
                  <a:pt x="7982" y="79"/>
                </a:lnTo>
                <a:lnTo>
                  <a:pt x="8035" y="105"/>
                </a:lnTo>
                <a:lnTo>
                  <a:pt x="8061" y="158"/>
                </a:lnTo>
                <a:lnTo>
                  <a:pt x="8114" y="185"/>
                </a:lnTo>
                <a:lnTo>
                  <a:pt x="8167" y="185"/>
                </a:lnTo>
                <a:lnTo>
                  <a:pt x="8247" y="185"/>
                </a:lnTo>
                <a:lnTo>
                  <a:pt x="8511" y="185"/>
                </a:lnTo>
                <a:lnTo>
                  <a:pt x="8586" y="211"/>
                </a:lnTo>
                <a:lnTo>
                  <a:pt x="8692" y="238"/>
                </a:lnTo>
                <a:lnTo>
                  <a:pt x="8745" y="264"/>
                </a:lnTo>
                <a:lnTo>
                  <a:pt x="8798" y="291"/>
                </a:lnTo>
                <a:lnTo>
                  <a:pt x="8798" y="370"/>
                </a:lnTo>
                <a:lnTo>
                  <a:pt x="8798" y="445"/>
                </a:lnTo>
                <a:lnTo>
                  <a:pt x="8798" y="498"/>
                </a:lnTo>
                <a:lnTo>
                  <a:pt x="8798" y="577"/>
                </a:lnTo>
                <a:lnTo>
                  <a:pt x="8851" y="657"/>
                </a:lnTo>
                <a:lnTo>
                  <a:pt x="8851" y="736"/>
                </a:lnTo>
                <a:lnTo>
                  <a:pt x="8851" y="815"/>
                </a:lnTo>
                <a:lnTo>
                  <a:pt x="8877" y="868"/>
                </a:lnTo>
                <a:lnTo>
                  <a:pt x="8904" y="921"/>
                </a:lnTo>
                <a:lnTo>
                  <a:pt x="8904" y="1001"/>
                </a:lnTo>
                <a:lnTo>
                  <a:pt x="8904" y="1081"/>
                </a:lnTo>
                <a:lnTo>
                  <a:pt x="8904" y="1134"/>
                </a:lnTo>
                <a:lnTo>
                  <a:pt x="8957" y="1134"/>
                </a:lnTo>
                <a:lnTo>
                  <a:pt x="9274" y="1107"/>
                </a:lnTo>
                <a:lnTo>
                  <a:pt x="9539" y="1081"/>
                </a:lnTo>
                <a:lnTo>
                  <a:pt x="9803" y="1081"/>
                </a:lnTo>
                <a:lnTo>
                  <a:pt x="10068" y="1081"/>
                </a:lnTo>
                <a:lnTo>
                  <a:pt x="10121" y="1107"/>
                </a:lnTo>
                <a:lnTo>
                  <a:pt x="10147" y="1160"/>
                </a:lnTo>
                <a:lnTo>
                  <a:pt x="10200" y="1213"/>
                </a:lnTo>
                <a:lnTo>
                  <a:pt x="10438" y="1240"/>
                </a:lnTo>
                <a:lnTo>
                  <a:pt x="10676" y="1531"/>
                </a:lnTo>
                <a:lnTo>
                  <a:pt x="10888" y="1901"/>
                </a:lnTo>
                <a:lnTo>
                  <a:pt x="10994" y="2161"/>
                </a:lnTo>
                <a:lnTo>
                  <a:pt x="10967" y="2214"/>
                </a:lnTo>
                <a:lnTo>
                  <a:pt x="10967" y="2267"/>
                </a:lnTo>
                <a:lnTo>
                  <a:pt x="10941" y="2320"/>
                </a:lnTo>
                <a:lnTo>
                  <a:pt x="10915" y="2426"/>
                </a:lnTo>
                <a:lnTo>
                  <a:pt x="10915" y="2532"/>
                </a:lnTo>
                <a:lnTo>
                  <a:pt x="10915" y="2638"/>
                </a:lnTo>
                <a:lnTo>
                  <a:pt x="10915" y="2717"/>
                </a:lnTo>
                <a:lnTo>
                  <a:pt x="10915" y="2796"/>
                </a:lnTo>
                <a:lnTo>
                  <a:pt x="10915" y="2876"/>
                </a:lnTo>
                <a:lnTo>
                  <a:pt x="10835" y="3194"/>
                </a:lnTo>
                <a:lnTo>
                  <a:pt x="10756" y="3507"/>
                </a:lnTo>
                <a:lnTo>
                  <a:pt x="10676" y="3613"/>
                </a:lnTo>
                <a:lnTo>
                  <a:pt x="10597" y="3613"/>
                </a:lnTo>
                <a:lnTo>
                  <a:pt x="10597" y="3692"/>
                </a:lnTo>
                <a:lnTo>
                  <a:pt x="10544" y="3613"/>
                </a:lnTo>
                <a:lnTo>
                  <a:pt x="10544" y="3692"/>
                </a:lnTo>
                <a:lnTo>
                  <a:pt x="10571" y="3745"/>
                </a:lnTo>
                <a:lnTo>
                  <a:pt x="10518" y="3745"/>
                </a:lnTo>
                <a:lnTo>
                  <a:pt x="10438" y="3745"/>
                </a:lnTo>
                <a:lnTo>
                  <a:pt x="10359" y="3745"/>
                </a:lnTo>
                <a:lnTo>
                  <a:pt x="10227" y="3745"/>
                </a:lnTo>
                <a:lnTo>
                  <a:pt x="9909" y="3745"/>
                </a:lnTo>
                <a:lnTo>
                  <a:pt x="9592" y="3745"/>
                </a:lnTo>
                <a:lnTo>
                  <a:pt x="9274" y="3772"/>
                </a:lnTo>
                <a:lnTo>
                  <a:pt x="8957" y="3825"/>
                </a:lnTo>
                <a:lnTo>
                  <a:pt x="8851" y="3878"/>
                </a:lnTo>
                <a:lnTo>
                  <a:pt x="8798" y="3878"/>
                </a:lnTo>
                <a:lnTo>
                  <a:pt x="8692" y="3904"/>
                </a:lnTo>
                <a:lnTo>
                  <a:pt x="8586" y="3878"/>
                </a:lnTo>
                <a:lnTo>
                  <a:pt x="8533" y="3878"/>
                </a:lnTo>
                <a:lnTo>
                  <a:pt x="8432" y="3878"/>
                </a:lnTo>
                <a:lnTo>
                  <a:pt x="8326" y="3878"/>
                </a:lnTo>
                <a:lnTo>
                  <a:pt x="8273" y="3878"/>
                </a:lnTo>
                <a:lnTo>
                  <a:pt x="8247" y="3825"/>
                </a:lnTo>
                <a:lnTo>
                  <a:pt x="8167" y="3798"/>
                </a:lnTo>
                <a:lnTo>
                  <a:pt x="8088" y="3772"/>
                </a:lnTo>
                <a:lnTo>
                  <a:pt x="7903" y="3772"/>
                </a:lnTo>
                <a:lnTo>
                  <a:pt x="7770" y="3798"/>
                </a:lnTo>
                <a:lnTo>
                  <a:pt x="7718" y="3825"/>
                </a:lnTo>
                <a:lnTo>
                  <a:pt x="7718" y="3878"/>
                </a:lnTo>
                <a:lnTo>
                  <a:pt x="7718" y="3931"/>
                </a:lnTo>
                <a:lnTo>
                  <a:pt x="7718" y="3983"/>
                </a:lnTo>
                <a:lnTo>
                  <a:pt x="7665" y="3983"/>
                </a:lnTo>
                <a:lnTo>
                  <a:pt x="7585" y="3957"/>
                </a:lnTo>
                <a:lnTo>
                  <a:pt x="7347" y="3983"/>
                </a:lnTo>
                <a:lnTo>
                  <a:pt x="6765" y="3983"/>
                </a:lnTo>
                <a:lnTo>
                  <a:pt x="6209" y="4063"/>
                </a:lnTo>
                <a:lnTo>
                  <a:pt x="5839" y="3983"/>
                </a:lnTo>
                <a:lnTo>
                  <a:pt x="5627" y="4036"/>
                </a:lnTo>
                <a:lnTo>
                  <a:pt x="5494" y="4036"/>
                </a:lnTo>
                <a:lnTo>
                  <a:pt x="5521" y="4036"/>
                </a:lnTo>
                <a:lnTo>
                  <a:pt x="5548" y="4036"/>
                </a:lnTo>
                <a:lnTo>
                  <a:pt x="5415" y="4142"/>
                </a:lnTo>
                <a:lnTo>
                  <a:pt x="5362" y="4116"/>
                </a:lnTo>
                <a:lnTo>
                  <a:pt x="5229" y="4089"/>
                </a:lnTo>
                <a:lnTo>
                  <a:pt x="5097" y="4142"/>
                </a:lnTo>
                <a:lnTo>
                  <a:pt x="5044" y="4142"/>
                </a:lnTo>
                <a:lnTo>
                  <a:pt x="4943" y="4142"/>
                </a:lnTo>
                <a:lnTo>
                  <a:pt x="4784" y="4116"/>
                </a:lnTo>
                <a:lnTo>
                  <a:pt x="4599" y="4010"/>
                </a:lnTo>
                <a:lnTo>
                  <a:pt x="4334" y="3904"/>
                </a:lnTo>
                <a:lnTo>
                  <a:pt x="4228" y="3931"/>
                </a:lnTo>
                <a:lnTo>
                  <a:pt x="4228" y="3878"/>
                </a:lnTo>
                <a:lnTo>
                  <a:pt x="4149" y="3851"/>
                </a:lnTo>
                <a:lnTo>
                  <a:pt x="4070" y="3878"/>
                </a:lnTo>
                <a:lnTo>
                  <a:pt x="3805" y="3878"/>
                </a:lnTo>
                <a:lnTo>
                  <a:pt x="3488" y="3878"/>
                </a:lnTo>
                <a:lnTo>
                  <a:pt x="3223" y="3878"/>
                </a:lnTo>
                <a:lnTo>
                  <a:pt x="3117" y="3904"/>
                </a:lnTo>
                <a:lnTo>
                  <a:pt x="3011" y="3904"/>
                </a:lnTo>
                <a:lnTo>
                  <a:pt x="2958" y="3904"/>
                </a:lnTo>
                <a:lnTo>
                  <a:pt x="2826" y="3904"/>
                </a:lnTo>
                <a:lnTo>
                  <a:pt x="2800" y="3851"/>
                </a:lnTo>
                <a:lnTo>
                  <a:pt x="2800" y="3798"/>
                </a:lnTo>
                <a:lnTo>
                  <a:pt x="2800" y="3719"/>
                </a:lnTo>
                <a:lnTo>
                  <a:pt x="2509" y="3719"/>
                </a:lnTo>
                <a:lnTo>
                  <a:pt x="2191" y="3719"/>
                </a:lnTo>
                <a:lnTo>
                  <a:pt x="1927" y="3719"/>
                </a:lnTo>
                <a:lnTo>
                  <a:pt x="1662" y="3719"/>
                </a:lnTo>
                <a:lnTo>
                  <a:pt x="1556" y="3719"/>
                </a:lnTo>
                <a:lnTo>
                  <a:pt x="1455" y="3719"/>
                </a:lnTo>
                <a:lnTo>
                  <a:pt x="1402" y="3719"/>
                </a:lnTo>
                <a:lnTo>
                  <a:pt x="1349" y="3719"/>
                </a:lnTo>
                <a:lnTo>
                  <a:pt x="1296" y="3719"/>
                </a:lnTo>
                <a:lnTo>
                  <a:pt x="1243" y="3719"/>
                </a:lnTo>
                <a:lnTo>
                  <a:pt x="1243" y="3613"/>
                </a:lnTo>
                <a:lnTo>
                  <a:pt x="1243" y="3534"/>
                </a:lnTo>
                <a:lnTo>
                  <a:pt x="1217" y="3481"/>
                </a:lnTo>
                <a:lnTo>
                  <a:pt x="1217" y="3432"/>
                </a:lnTo>
                <a:lnTo>
                  <a:pt x="1243" y="3353"/>
                </a:lnTo>
                <a:lnTo>
                  <a:pt x="1270" y="3300"/>
                </a:lnTo>
                <a:lnTo>
                  <a:pt x="1164" y="3274"/>
                </a:lnTo>
                <a:lnTo>
                  <a:pt x="1217" y="3247"/>
                </a:lnTo>
                <a:lnTo>
                  <a:pt x="1164" y="3221"/>
                </a:lnTo>
                <a:lnTo>
                  <a:pt x="1296" y="3194"/>
                </a:lnTo>
                <a:lnTo>
                  <a:pt x="1217" y="3247"/>
                </a:lnTo>
                <a:lnTo>
                  <a:pt x="1217" y="3300"/>
                </a:lnTo>
                <a:lnTo>
                  <a:pt x="1217" y="3247"/>
                </a:lnTo>
                <a:lnTo>
                  <a:pt x="1243" y="3194"/>
                </a:lnTo>
                <a:lnTo>
                  <a:pt x="1111" y="3141"/>
                </a:lnTo>
                <a:lnTo>
                  <a:pt x="1031" y="3115"/>
                </a:lnTo>
                <a:lnTo>
                  <a:pt x="714" y="3087"/>
                </a:lnTo>
                <a:lnTo>
                  <a:pt x="396" y="3087"/>
                </a:lnTo>
                <a:lnTo>
                  <a:pt x="158" y="2929"/>
                </a:lnTo>
                <a:lnTo>
                  <a:pt x="79" y="2743"/>
                </a:lnTo>
                <a:lnTo>
                  <a:pt x="0" y="2611"/>
                </a:lnTo>
                <a:lnTo>
                  <a:pt x="105" y="2241"/>
                </a:lnTo>
                <a:lnTo>
                  <a:pt x="158" y="1976"/>
                </a:lnTo>
                <a:lnTo>
                  <a:pt x="185" y="1901"/>
                </a:lnTo>
                <a:lnTo>
                  <a:pt x="211" y="1848"/>
                </a:lnTo>
                <a:lnTo>
                  <a:pt x="211" y="1769"/>
                </a:lnTo>
                <a:lnTo>
                  <a:pt x="264" y="1716"/>
                </a:lnTo>
                <a:lnTo>
                  <a:pt x="264" y="1663"/>
                </a:lnTo>
                <a:lnTo>
                  <a:pt x="317" y="1637"/>
                </a:lnTo>
                <a:lnTo>
                  <a:pt x="370" y="1584"/>
                </a:lnTo>
                <a:lnTo>
                  <a:pt x="476" y="1557"/>
                </a:lnTo>
                <a:lnTo>
                  <a:pt x="529" y="1557"/>
                </a:lnTo>
                <a:lnTo>
                  <a:pt x="582" y="1557"/>
                </a:lnTo>
                <a:lnTo>
                  <a:pt x="608" y="1478"/>
                </a:lnTo>
                <a:lnTo>
                  <a:pt x="582" y="1425"/>
                </a:lnTo>
                <a:lnTo>
                  <a:pt x="555" y="1372"/>
                </a:lnTo>
                <a:lnTo>
                  <a:pt x="555" y="139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19320" y="3795840"/>
            <a:ext cx="533880" cy="989280"/>
          </a:xfrm>
          <a:custGeom>
            <a:avLst/>
            <a:gdLst/>
            <a:ahLst/>
            <a:rect l="0" t="0" r="r" b="b"/>
            <a:pathLst>
              <a:path fill="none" w="1483" h="2748">
                <a:moveTo>
                  <a:pt x="0" y="0"/>
                </a:moveTo>
                <a:lnTo>
                  <a:pt x="0" y="2748"/>
                </a:lnTo>
                <a:lnTo>
                  <a:pt x="1483" y="2748"/>
                </a:lnTo>
                <a:lnTo>
                  <a:pt x="1483" y="211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683320" y="1819440"/>
            <a:ext cx="2972160" cy="2062440"/>
            <a:chOff x="5683320" y="1819440"/>
            <a:chExt cx="2972160" cy="2062440"/>
          </a:xfrm>
        </p:grpSpPr>
        <p:sp>
          <p:nvSpPr>
            <p:cNvPr id="172" name=""/>
            <p:cNvSpPr/>
            <p:nvPr/>
          </p:nvSpPr>
          <p:spPr>
            <a:xfrm>
              <a:off x="7008840" y="3492360"/>
              <a:ext cx="83016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61320" y="3460680"/>
              <a:ext cx="83016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892920" y="3508200"/>
              <a:ext cx="9604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1 M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34080" y="1857240"/>
              <a:ext cx="2921400" cy="1911600"/>
            </a:xfrm>
            <a:custGeom>
              <a:avLst/>
              <a:gdLst/>
              <a:ahLst/>
              <a:rect l="0" t="0" r="r" b="b"/>
              <a:pathLst>
                <a:path w="8115" h="5310">
                  <a:moveTo>
                    <a:pt x="0" y="1261"/>
                  </a:moveTo>
                  <a:lnTo>
                    <a:pt x="0" y="0"/>
                  </a:lnTo>
                  <a:lnTo>
                    <a:pt x="8115" y="0"/>
                  </a:lnTo>
                  <a:lnTo>
                    <a:pt x="8115" y="5310"/>
                  </a:lnTo>
                  <a:lnTo>
                    <a:pt x="5835" y="5310"/>
                  </a:lnTo>
                  <a:lnTo>
                    <a:pt x="5835" y="1261"/>
                  </a:lnTo>
                  <a:lnTo>
                    <a:pt x="0" y="1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86560" y="1824120"/>
              <a:ext cx="2921400" cy="1913400"/>
            </a:xfrm>
            <a:custGeom>
              <a:avLst/>
              <a:gdLst/>
              <a:ahLst/>
              <a:rect l="0" t="0" r="r" b="b"/>
              <a:pathLst>
                <a:path w="8115" h="5315">
                  <a:moveTo>
                    <a:pt x="0" y="1265"/>
                  </a:moveTo>
                  <a:lnTo>
                    <a:pt x="0" y="0"/>
                  </a:lnTo>
                  <a:lnTo>
                    <a:pt x="8115" y="0"/>
                  </a:lnTo>
                  <a:lnTo>
                    <a:pt x="8115" y="5315"/>
                  </a:lnTo>
                  <a:lnTo>
                    <a:pt x="5835" y="5315"/>
                  </a:lnTo>
                  <a:lnTo>
                    <a:pt x="5835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6583320" y="2700360"/>
              <a:ext cx="309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9800" y="2093760"/>
              <a:ext cx="1376280" cy="19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222960" y="2066760"/>
              <a:ext cx="1030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 Handl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2490840"/>
              <a:ext cx="55728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49800" y="2459160"/>
              <a:ext cx="55548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086520" y="2506680"/>
              <a:ext cx="4795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2855880"/>
              <a:ext cx="557280" cy="371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9800" y="2822400"/>
              <a:ext cx="555480" cy="3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167520" y="2871720"/>
              <a:ext cx="316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16680" y="2490840"/>
              <a:ext cx="55548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70600" y="2459160"/>
              <a:ext cx="555480" cy="73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872400" y="2583000"/>
              <a:ext cx="54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6864480" y="2824200"/>
              <a:ext cx="5652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7719840" y="3230640"/>
              <a:ext cx="466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719840" y="3381480"/>
              <a:ext cx="925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7719840" y="3532320"/>
              <a:ext cx="671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83320" y="3436920"/>
              <a:ext cx="1257840" cy="444960"/>
              <a:chOff x="5683320" y="3436920"/>
              <a:chExt cx="1257840" cy="4449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86560" y="3463920"/>
                <a:ext cx="11872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91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54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99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6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91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37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818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278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72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184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626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086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51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97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41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7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32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78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23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9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13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57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03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83320" y="3494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83320" y="35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3320" y="3603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83320" y="365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3320" y="3713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83320" y="3765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83320" y="3821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833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912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34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89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43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99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52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08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62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182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276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816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37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91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468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02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56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11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65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215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3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295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9160" y="3789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69160" y="3736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69160" y="3681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869160" y="3627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69160" y="3571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69160" y="3517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69160" y="3468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691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5730840" y="3436920"/>
                <a:ext cx="11016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 network(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3800" y="3679920"/>
                <a:ext cx="5475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152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656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57920" y="367524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5640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5548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548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7848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6912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6912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6912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6912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6912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7848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4832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4840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4992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50000" y="385596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4864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1524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1524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152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26280" y="3646440"/>
                <a:ext cx="5475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691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0868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10400" y="364320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61032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0700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072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3096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2160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2160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2160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2160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21600" y="3824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3096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008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0232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24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024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007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6916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6916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691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34080" y="3679920"/>
                <a:ext cx="5493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7840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182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182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1812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1516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150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3876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940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940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940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940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2940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3876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0860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0868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020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102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03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7840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7840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7840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86560" y="3646440"/>
                <a:ext cx="55080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3088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707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706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706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9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756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9124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8332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8332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332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8332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833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9124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6108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26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626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627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642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3088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3088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3088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6326280" y="2279520"/>
              <a:ext cx="36504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1320" y="2279520"/>
              <a:ext cx="45576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235560" y="3191040"/>
              <a:ext cx="907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26280" y="3191040"/>
              <a:ext cx="10033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235560" y="3191040"/>
              <a:ext cx="911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47080" y="3191040"/>
              <a:ext cx="182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269040" y="1819440"/>
              <a:ext cx="18464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Poin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463920" y="4164120"/>
            <a:ext cx="635040" cy="2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462480" y="414504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22800" y="4379760"/>
            <a:ext cx="884160" cy="214200"/>
            <a:chOff x="3322800" y="4379760"/>
            <a:chExt cx="884160" cy="214200"/>
          </a:xfrm>
        </p:grpSpPr>
        <p:sp>
          <p:nvSpPr>
            <p:cNvPr id="355" name=""/>
            <p:cNvSpPr/>
            <p:nvPr/>
          </p:nvSpPr>
          <p:spPr>
            <a:xfrm>
              <a:off x="3387600" y="4390920"/>
              <a:ext cx="330120" cy="177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44800" y="4390920"/>
              <a:ext cx="330120" cy="177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3322800" y="437976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780000" y="437976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529160" y="4087800"/>
            <a:ext cx="33012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86360" y="4087800"/>
            <a:ext cx="33012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29160" y="3860640"/>
            <a:ext cx="782640" cy="2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03680" y="384192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10040" y="4556160"/>
            <a:ext cx="684720" cy="228960"/>
          </a:xfrm>
          <a:custGeom>
            <a:avLst/>
            <a:gdLst/>
            <a:ahLst/>
            <a:rect l="0" t="0" r="r" b="b"/>
            <a:pathLst>
              <a:path fill="none" w="1902" h="636">
                <a:moveTo>
                  <a:pt x="0" y="0"/>
                </a:moveTo>
                <a:lnTo>
                  <a:pt x="0" y="636"/>
                </a:lnTo>
                <a:lnTo>
                  <a:pt x="1902" y="636"/>
                </a:lnTo>
                <a:lnTo>
                  <a:pt x="1902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51600" y="3871800"/>
            <a:ext cx="760680" cy="913320"/>
          </a:xfrm>
          <a:custGeom>
            <a:avLst/>
            <a:gdLst/>
            <a:ahLst/>
            <a:rect l="0" t="0" r="r" b="b"/>
            <a:pathLst>
              <a:path fill="none" w="2113" h="2537">
                <a:moveTo>
                  <a:pt x="0" y="1901"/>
                </a:moveTo>
                <a:lnTo>
                  <a:pt x="0" y="2537"/>
                </a:lnTo>
                <a:lnTo>
                  <a:pt x="2113" y="2537"/>
                </a:lnTo>
                <a:lnTo>
                  <a:pt x="2113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14480" y="1819440"/>
            <a:ext cx="3035880" cy="2062440"/>
            <a:chOff x="1014480" y="1819440"/>
            <a:chExt cx="3035880" cy="2062440"/>
          </a:xfrm>
        </p:grpSpPr>
        <p:sp>
          <p:nvSpPr>
            <p:cNvPr id="366" name=""/>
            <p:cNvSpPr/>
            <p:nvPr/>
          </p:nvSpPr>
          <p:spPr>
            <a:xfrm>
              <a:off x="1117440" y="1857240"/>
              <a:ext cx="2921400" cy="1911600"/>
            </a:xfrm>
            <a:custGeom>
              <a:avLst/>
              <a:gdLst/>
              <a:ahLst/>
              <a:rect l="0" t="0" r="r" b="b"/>
              <a:pathLst>
                <a:path w="8115" h="5310">
                  <a:moveTo>
                    <a:pt x="8115" y="1261"/>
                  </a:moveTo>
                  <a:lnTo>
                    <a:pt x="8115" y="0"/>
                  </a:lnTo>
                  <a:lnTo>
                    <a:pt x="0" y="0"/>
                  </a:lnTo>
                  <a:lnTo>
                    <a:pt x="0" y="5310"/>
                  </a:lnTo>
                  <a:lnTo>
                    <a:pt x="2280" y="5310"/>
                  </a:lnTo>
                  <a:lnTo>
                    <a:pt x="2280" y="1261"/>
                  </a:lnTo>
                  <a:lnTo>
                    <a:pt x="8115" y="1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33560" y="3492360"/>
              <a:ext cx="83016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05120" y="3460680"/>
              <a:ext cx="83016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1868400" y="3508200"/>
              <a:ext cx="9604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1 M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89000" y="1824120"/>
              <a:ext cx="2921400" cy="1913400"/>
            </a:xfrm>
            <a:custGeom>
              <a:avLst/>
              <a:gdLst/>
              <a:ahLst/>
              <a:rect l="0" t="0" r="r" b="b"/>
              <a:pathLst>
                <a:path w="8115" h="5315">
                  <a:moveTo>
                    <a:pt x="8115" y="1265"/>
                  </a:moveTo>
                  <a:lnTo>
                    <a:pt x="8115" y="0"/>
                  </a:lnTo>
                  <a:lnTo>
                    <a:pt x="0" y="0"/>
                  </a:lnTo>
                  <a:lnTo>
                    <a:pt x="0" y="5315"/>
                  </a:lnTo>
                  <a:lnTo>
                    <a:pt x="2280" y="5315"/>
                  </a:lnTo>
                  <a:lnTo>
                    <a:pt x="2280" y="1265"/>
                  </a:lnTo>
                  <a:lnTo>
                    <a:pt x="8115" y="12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2798640" y="2700360"/>
              <a:ext cx="309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70160" y="2093760"/>
              <a:ext cx="1376280" cy="19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397240" y="2066760"/>
              <a:ext cx="1030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 Handl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19400" y="2490840"/>
              <a:ext cx="55728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90960" y="2459160"/>
              <a:ext cx="55548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056040" y="2506680"/>
              <a:ext cx="4795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19400" y="2855880"/>
              <a:ext cx="557280" cy="371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90960" y="2822400"/>
              <a:ext cx="555480" cy="3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146400" y="2871720"/>
              <a:ext cx="316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0400" y="2490840"/>
              <a:ext cx="55548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70160" y="2459160"/>
              <a:ext cx="555480" cy="73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2212920" y="2583000"/>
              <a:ext cx="54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2201760" y="2824200"/>
              <a:ext cx="5652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1452600" y="3230640"/>
              <a:ext cx="466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014480" y="3381480"/>
              <a:ext cx="925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1262160" y="3532320"/>
              <a:ext cx="671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05280" y="2279520"/>
              <a:ext cx="36504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49520" y="2279520"/>
              <a:ext cx="45576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70320" y="3191040"/>
              <a:ext cx="9036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2367000" y="3191040"/>
              <a:ext cx="10033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9520" y="3191040"/>
              <a:ext cx="91116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367000" y="3191040"/>
              <a:ext cx="182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1514520" y="1819440"/>
              <a:ext cx="18464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Poin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2792520" y="3436920"/>
              <a:ext cx="1257840" cy="444960"/>
              <a:chOff x="2792520" y="3436920"/>
              <a:chExt cx="1257840" cy="444960"/>
            </a:xfrm>
          </p:grpSpPr>
          <p:sp>
            <p:nvSpPr>
              <p:cNvPr id="395" name=""/>
              <p:cNvSpPr/>
              <p:nvPr/>
            </p:nvSpPr>
            <p:spPr>
              <a:xfrm>
                <a:off x="2795760" y="3463920"/>
                <a:ext cx="11872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783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963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08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54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98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45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89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635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79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25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70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16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591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051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49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95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399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859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30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76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22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670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30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92520" y="3494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92520" y="35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92520" y="3603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92520" y="365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92520" y="3713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92520" y="3765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92520" y="3821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925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00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432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98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52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006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60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61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701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25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796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354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3894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4448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4988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542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10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64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19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28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82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38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978360" y="3789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978360" y="3736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978360" y="3681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978360" y="3627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78360" y="3571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78360" y="3517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78360" y="3468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783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2841480" y="3436920"/>
                <a:ext cx="11016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 network(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1560" y="3679920"/>
                <a:ext cx="5493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244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654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656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6380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622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5622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8624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7652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47652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47652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47652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7652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48624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560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561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6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5776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574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2444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2444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0244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433680" y="3646440"/>
                <a:ext cx="5493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783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1788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178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18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147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146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43836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2900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42900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42900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2900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429000" y="3824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43836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082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100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1016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098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9099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7836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97836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9783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43280" y="3679920"/>
                <a:ext cx="5475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8616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3256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2596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258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2256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24280" y="367524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4796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3860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3860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3860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3860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3860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4796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17800" y="385596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1608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796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21804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3177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38616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8616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38616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95760" y="3646440"/>
                <a:ext cx="5493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33864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781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78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0780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9764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764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0044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9252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9252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9252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9252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925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0044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7028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71800" y="382428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700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701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716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3864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3864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3864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"/>
          <p:cNvSpPr txBox="1"/>
          <p:nvPr/>
        </p:nvSpPr>
        <p:spPr>
          <a:xfrm>
            <a:off x="4194000" y="475776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470480" y="4157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925880" y="4157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al IAPP Messag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0960" y="2819520"/>
            <a:ext cx="83930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col Heade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AP or UDP/IP protocol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#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Version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U-Typ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Specific P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* PDU elemen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U data element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 802.11 elemen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-I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 of element data field in oct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of the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s can be specifically addressed to one AP, or group addressed to all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22360" y="1722600"/>
            <a:ext cx="87742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IAPP protoco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Announc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acilitate AP awareness and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the formation of Wireless Distribu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Handov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tend the 802.11 Re-Association MAC management function across the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nnounc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Announce protoc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 other APs and/or network management functions that a new AP has become a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 other APs and/or network management functions of the continued operation of that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APs to communicate their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for network Management function to provide AP coord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PDU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ounce.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ounce.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centralized or distributed AP coordination, and allows autonomous operation in uncoordinated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a means for Wireless APs to “Register” with other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creation of a Wireless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 management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50960" y="3809880"/>
            <a:ext cx="83930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ologies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coordinated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ized A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A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for “Management level AP awaren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ed to configure wireless Distribu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t covered by 802.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474920" y="1666800"/>
            <a:ext cx="60339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Uncoordinated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t as a general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AP to identify itself and its operat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647800" y="3828960"/>
            <a:ext cx="2917800" cy="1467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2652840" y="5346720"/>
            <a:ext cx="28432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Uncoordinated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entralized A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750960" y="1905120"/>
            <a:ext cx="61070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.request generated by new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 manager will respond (with Master bit s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manager can query AP’s by sending Announce.req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“Response desired”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933480" y="3695760"/>
            <a:ext cx="3008160" cy="26557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6267600" y="2990880"/>
            <a:ext cx="3008160" cy="32958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289080" y="6300720"/>
            <a:ext cx="440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New AP announces to AP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927760" y="6321600"/>
            <a:ext cx="364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AP Manager query of all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istribute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750960" y="1905120"/>
            <a:ext cx="725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“Response desired” ena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APs send Announce.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cating its operational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can generate Announce.response messages periodically as an “Alive indicatio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800760" y="1838160"/>
            <a:ext cx="3008160" cy="39355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6613560" y="5956200"/>
            <a:ext cx="2960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Distribute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Handover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50960" y="1905120"/>
            <a:ext cx="8774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Handover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 the “old AP” that a station has associated with a new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release resources assigned to that station by the old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llow optional frame forwarding of buffered fram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discar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 filter tables of intermediate MAC layer Brid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using the “Mobile Station Source address” as the SA of the handover request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ed PDU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ver.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ver.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andover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50960" y="5562720"/>
            <a:ext cx="8393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ship between 802.11 reassociation and IAPP hand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127160" y="1773360"/>
            <a:ext cx="7331040" cy="36082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2498760" y="1765440"/>
            <a:ext cx="11160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851440" y="1765440"/>
            <a:ext cx="8953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I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DU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50960" y="1905120"/>
            <a:ext cx="89265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ld B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S-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e Statio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capability/Sta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 inter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Ku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dover Time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Ku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802.11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tory Dom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nter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I Company identif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edes block of proprietary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 el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llowing OUI Company ID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lement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0960" y="1905120"/>
            <a:ext cx="8926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 use per PDU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elements are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elements are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rietary elements are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 ignore elements they don’t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I Company ID precedes block of proprietary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vents Element ID confli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OUI, Element ID) tuple will be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50960" y="1905120"/>
            <a:ext cx="9002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provides the “missing link” in Wireless net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between multiple vendor AP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is compatible with IEEE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builds upon the 802.11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enables a multitude of AP management sche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support across Bridges and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is scalable for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 structure allows for migratable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rietary extensions are allow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to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74640" y="1752480"/>
            <a:ext cx="9229680" cy="45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the IAPP are solicited from all interested pa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 is maintained by Aironet and Lucent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versions are distributed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 Email 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ronet, Digital Ocean and Lucent Technologies agree to implement IAPP in their 802.11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 term:  Consensus of the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lot of interest to move forward with this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al to present it to 802.1 Technical plenary to see where it should be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this in November, to prevent impact on 802.11 Sponsor ba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uld be very useful as informative annex to 802.11, but not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0960" y="1905120"/>
            <a:ext cx="8697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Networks introduce new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is unbounded, but range is limi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d nodes can be 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is developing a Wireless LAN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is in final stage, expected to go to Sponsor Bal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defines MAC and PHY specifications, “Air Interface”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basic primitives to support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extends its coverage beyond the range of its PHY through a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connects multiple AP to form an 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Distribution System  is not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represents an interoperability issue at the system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4640" y="4876920"/>
            <a:ext cx="839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4640" y="4876920"/>
            <a:ext cx="86979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ge extension through use of a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74640" y="4876920"/>
            <a:ext cx="83930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ge extension through use of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P to AP protocol is not defined by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403880" y="2894040"/>
            <a:ext cx="46368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Missing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74640" y="5257800"/>
            <a:ext cx="839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 standard protocol for Access Point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17640" y="129708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Missing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74640" y="5257800"/>
            <a:ext cx="83930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 standard protocol for Access Point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 particular Distribution System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based on existing L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17640" y="129708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oals of this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0960" y="18288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the “missing link” for Wireless LAN systems interoper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mobility of end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e multivendor Distribu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d on existing network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specifying IAPP, the protocol between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onet , Digital Ocean and Lucent Technologies have developed an initial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published as an “open voluntary standard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olicit feedback by intereste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Vic Hayes</cp:lastModifiedBy>
  <cp:revision>0</cp:revision>
  <dc:subject>IEEE presentation</dc:subject>
  <dc:title>Inter Access Point Protocol</dc:title>
</cp:coreProperties>
</file>