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21376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D200B980-EF57-4119-B825-D105CDD5BE34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5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95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6-9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ltham,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ssion starts on Monday, May 6, 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doc.: IEEE P802.11-96/74 for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ue processing of D3 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nd WG Letter Ballot D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any multirat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panese call sign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C wish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ance and Spain Hop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Monday  | Tuesday |Wednesday|Thursday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802.11  |PH!PH!MAC|PH!PH!MAC|PH!PH!MAC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ADMIN  |DS!FH!   |DS!FH!   |DS!FH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MAC / PHY|  !  !   |..!..!   |.....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|  !  !   | PHY !   | PHY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PHY !MAC|PH!PH!MAC|  802.11 | 802.11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!   |DS!FH!   |MAC/PHY  |Repor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.....!   |  !  !   |.........|Outpu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   |  !  !   |PH!PH!MAC|   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   |  !  !   |DS!FH!   |Next mtng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OPT   |         |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IR   |         |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May 6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 Jolla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53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May 6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 from the Standing Committee on Regulator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stration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y 8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y 9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y 9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ltham, 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st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yth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 Tw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stin, T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uquerque, N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3rd Session of meetings of IEEE P802.11 Wireless Local Area Networks  Tentative Agenda</dc:title>
</cp:coreProperties>
</file>