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1360" y="57240"/>
            <a:ext cx="8724960" cy="6667560"/>
          </a:xfrm>
          <a:prstGeom prst="roundRect">
            <a:avLst/>
          </a:prstGeom>
          <a:noFill/>
          <a:ln w="38160">
            <a:solidFill>
              <a:srgbClr val="919191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31800" y="6408720"/>
            <a:ext cx="680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7905600" y="6362640"/>
            <a:ext cx="590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fld id="{1ABBE8EB-CE1B-40D5-A51C-645A396A3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 Specific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87440" y="400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Jan Boer, Chair DS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 WCND Ut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3733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ed for futur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00 signifies 802.11 compl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8560" y="1254240"/>
            <a:ext cx="50817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3505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number of octets to be transmitted in MP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frame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U CRC sy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8560" y="1254240"/>
            <a:ext cx="50817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380988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ITT CRC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s Signal, Service and Length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440" y="1258920"/>
            <a:ext cx="509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cram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41911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bits transmitted by the DSSS Phy are scra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hening the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blocking (Barker sequnce is asymetr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50840" y="1379520"/>
            <a:ext cx="70866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PSK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78280" y="1174680"/>
            <a:ext cx="2579760" cy="237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4000680"/>
            <a:ext cx="72230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QPSK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78280" y="1174680"/>
            <a:ext cx="2579760" cy="237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66680" y="3603600"/>
            <a:ext cx="72388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Spectrum M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859040"/>
            <a:ext cx="7156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5760" y="1523880"/>
            <a:ext cx="8621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Channel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ode 1: Energy above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ode 2: Carrier sens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ode 3: Carrier sense with energy above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detection function of TX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&gt; 100 mW: -8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&gt; 50mW  :  -76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&lt; = 50mW: -7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detect time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PLCP header --&gt; CCA busy for full (intended) duration of of frame as indicated by PLCP Length 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Specification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to Rx turnaround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to Tx turnaround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temperature r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1:     0  -  40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2:  -30  -  70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m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m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W/MH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Transmitted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level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above 1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DS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symbol is spreaded with a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r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power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65160" y="1992240"/>
            <a:ext cx="5214960" cy="206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13040" y="4573440"/>
            <a:ext cx="5054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Specification Summary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Center Frequency Tole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/- 25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Clock Frequency Tole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/- 25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On Ra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Down Ra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Carrier sup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modulation accu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se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0.08FER (1024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max input le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adjacent channel re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3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&gt; 30 MHz sepa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Transmit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5640" y="1371600"/>
            <a:ext cx="8056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Receiv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5680" y="1523880"/>
            <a:ext cx="8294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chip BARKER 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autocorrelation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equence allowed by F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gain 10.4 d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2917800"/>
            <a:ext cx="48736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dB coding g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interferers and noise (10 dB sup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time delay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 of ech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112920"/>
            <a:ext cx="4834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DSSS PHY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ISM band (FCC 15.2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and 2 Mb/s datarate (DBPSK and DQPSK mod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rate 1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ping rate 11 MHz with 11  chip Barker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channels in 2.4 to 2.4835 GHz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Frame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55560" y="1744560"/>
            <a:ext cx="7664400" cy="336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584360" y="5516640"/>
            <a:ext cx="5419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 and Header  always at 1Mb/s DBP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synchro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3429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 scrambled 1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 for o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ffset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5440" y="1251000"/>
            <a:ext cx="51483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Frame Delim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3352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 field (hF3A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8560" y="1258920"/>
            <a:ext cx="50817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3962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in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0A 1Mb/s DB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14  2Mb/s DQ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values reserved for future use (100 kb/s quant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8560" y="1251000"/>
            <a:ext cx="50817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 Boer</dc:creator>
  <dc:description/>
  <dc:language>en-US</dc:language>
  <cp:lastModifiedBy>Vic Hayes</cp:lastModifiedBy>
  <cp:revision>0</cp:revision>
  <dc:subject/>
  <dc:title>DSSS presentation</dc:title>
</cp:coreProperties>
</file>