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7924680" cy="6324480"/>
          </a:xfrm>
          <a:prstGeom prst="roundRect">
            <a:avLst/>
          </a:prstGeom>
          <a:noFill/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203480" y="6545160"/>
            <a:ext cx="35211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EEE 802.11 MAC report  Mar 1996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oc 96/5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070760" y="6545160"/>
            <a:ext cx="9540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avid Bag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Jan ‘96 MAC group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09680" y="1905120"/>
            <a:ext cx="45720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2895480"/>
            <a:ext cx="4572000" cy="1447920"/>
          </a:xfrm>
          <a:prstGeom prst="rect">
            <a:avLst/>
          </a:prstGeom>
          <a:solidFill>
            <a:srgbClr val="ffffff"/>
          </a:solidFill>
          <a:ln w="76320">
            <a:solidFill>
              <a:srgbClr val="618ffd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09680" y="4648320"/>
            <a:ext cx="45720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971800" y="3276720"/>
            <a:ext cx="2895480" cy="102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7200" spc="-1" strike="noStrike">
                <a:solidFill>
                  <a:srgbClr val="00279f"/>
                </a:solidFill>
                <a:latin typeface="Arial"/>
                <a:ea typeface="Arial"/>
              </a:rPr>
              <a:t>MA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743200" y="4724280"/>
            <a:ext cx="33526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098960" y="2109960"/>
            <a:ext cx="628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One comment (C#27) declined re deleting the fractal picture - author not present, ok reaction anticip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#57 declined - requested change based on Data frame assumption re WEP MIB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ll other comments either adopted or problem identified resolved with alternative solution requested by other review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approval vote: 12, 0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lenary Vote: 24,0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ll comments accep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ll edited into draft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or comments not exactly as author requested, author has agreed to del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approval vote: 15, 0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lenary Vote: 24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pprox 112 comments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#64 re cap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eparated overloaded essid field used for both ess-id and ibss-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Handled in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#68: Arch comment re FH impact on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losed in plenary wed - declined, 24, 2,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8 comments decl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#23,25: info elements word aligned in mgt 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ec: leave as is, no pad - wed eve dec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One author accepts resolution, the other was not available at time of reccomend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#48:  tolerance on duration field (maf) to compensate for FH bit stuff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uthor reaction not know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#78 suggests collapsing assoc and reassoc responses into single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#75 CFP dur remaining def proposed change - author cons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#60, 63, 65 WEP supported bits in CAP field, authors con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3 open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#72,74 supported rates - tired to multi rate comments as sub-su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#101: needs work to supply missing Challenge text element, will work on for M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#34 dependent on reference to C11 poriton of comment - clause 7 still needs text change if C11 recomendation is adop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approval vote: 17, 0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lenary Vote: 26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ll Comments proc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ments declin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WEP capability bits commnets declined, commentors all accept re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ments refer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One request for editorial text refered to commentor and edi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BIt order picture in WEP PDU diagram, info is uniquely specified, but an additinoal picture here would be convin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ll other comments accep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8 text edi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approval vote: 17, 0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lenary Vote: 25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pprox 133 comments proc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Open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bout 29 comments not looked at y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#21: multi-cast reliability from Jan (multiple comm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#37,38 can one proces multiple msdu’s on xmit at sam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# 102, 103: remove PS-Poll/data/ack frame sequence com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eferred com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#9: multi-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ependent on evening M-R group outc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ccep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#6   : frag bcasst or not?  rec = not to fragment. comment accep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#simultain msdus 6 -&gt;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FP duration and CF-end - exact changes declined, alternative text used instead - O’lapping BSSs CFPs may be coordin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WMIN became dynam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approval vote: 7, 0,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lenary Vote:13 ,8,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w min fallback mo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motion 12: moved to adopt dynamic mech per text in edited sec6.do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: 12, 5,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ssuming this flys in plenary, need text in C11 to match, if not fly need to back out both C9 and C11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 for if prev motion (mac motion 12) not adopted in plenary, then do this: adopt static value on per phy basis the FH = 15, DS=31, IR=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: 16, 0,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18, 3,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ll processed, all accepted, draft edi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approval vote: 18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lenary Vote: 26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Jan ‘96 for Mar ‘96 mt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90720" y="129528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e had one goal - Process D3 LB comments and forward D3.1 for sponsor ball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e didn’t make it, but we made a lot of prog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ll comments proc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0 Accep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Open com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lause 7 C#35:    when valid to change MIB entr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#15: re bcast reliability &amp; 96/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#17: re randomization of beacons at TB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bcast reliability C# 14,44,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6 re multi-rate 4=TT 67,92,100,102, 98,  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#43, 42 re clairification of PSP - must get, or can get data from 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7 Declin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# 111, 115, 120 re rename of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#26: delete ACK timeout attrib - expected to be moot by C#138 in clause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efer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#67, 91, 92: re multi-rate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approval vote: 7,0,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lenary Vote: 24, 0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eneral &amp; Ann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128 com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huge portion handled by Plenary motion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pprox 28 other com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Open Com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at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open as 802.11 has not heard from Apple re RTS/C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ulti-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epends on results of Wed eve M-R gro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Other comments open as not looked at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 few technical comments re 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ost editorial in nature that Editors need to look at (comments from IEEE editor et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approval vote: N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990720" y="68580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jor anticipated contirbutions for M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90720" y="18288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imon: PICS updated to match D3.1 (96/1R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IF: updated annex state machine to match D3.1 (96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group will send out a request for all mac members to tell us if they believe we have made a net gain in satisfaction with the D3.1 work (i.e. an informal confirmation ballot) - this wil be done via email (MAC chair to ema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oals for May 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720" y="129528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plete processing D3 LB com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group repor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at’s all for now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n case c9 fails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ecover C9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d: to adopt all the reccomndations from the MAC group re clause 9 except for those from C#78 from C9 table (Dynamic CWmi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lenary Vote:27,0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sc Su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ov, Jan MAC minutes ap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This Week’s Work Summa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2286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D3 MAC Clauses LB sta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90720" y="838080"/>
            <a:ext cx="716292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  #cmts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 1: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 2: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 3: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 4: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 5: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59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 6: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23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 7: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119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 8: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17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 9: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168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 10: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7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 11: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117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Gen &amp; anx:1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ll comments accep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ll resolutions edited into draft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approval vote: 12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lenary Vote: 23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ll comments accep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ll resolutions edited into draft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approval vote: 12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lenary Vote: 24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One editorial comment referred to editors for style correction (c# 4 resolution in blue in fi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ll other resolutions edited into draft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approval vote: 12, 0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lenary Vote: 24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ll comments accep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ll resolutions edited into draft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approval vote: 14, 0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lenary Vote: 25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id Bagby</dc:creator>
  <dc:description/>
  <dc:language>en-US</dc:language>
  <cp:lastModifiedBy>Vic Hayes</cp:lastModifiedBy>
  <cp:revision>0</cp:revision>
  <dc:subject/>
  <dc:title>November '94 MAC group agenda</dc:title>
</cp:coreProperties>
</file>