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CC4C7-FE5E-45DE-A594-DFEFA592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5600" y="63626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fld id="{0293562D-B8D5-426F-AC54-F41ECFDB5E8A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144792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 PHY of the 802.11 Wireless LAN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33526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to IEEE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1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ez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_PDU Form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neating data octets into serial stream, LSB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: the data is XORed with periodic 127 bit LFSR sequence generated by a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erial bit stream into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1 Mbit/s, each bit is converted into 2FSK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Mbit/s, each 2 bits are encoded into 4FSK symbol using Gra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larity indication symbol is inserted in front of each 32 symbol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3 symbol block is either inverted or not, as to maintain lower cumulative DC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 is important in PLL-based transmi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applied just to PLCP_PDU, not to PLC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performed by a bitwise XOR with LFSR sequence with 127 bit period, with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method is used for scrambling and descramb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5840" y="4146480"/>
            <a:ext cx="7616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 to Symbol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bit (with 2GFSK) or 2 bits with (4GFSK) are mapped to a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bits/symbol Gray coded mapping is used, as customary with multilevel mod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GFSK and 4GFSK have same RMS frequency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89280" y="3852720"/>
            <a:ext cx="5365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ia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C offset control is instrumental in reducing "baseline wander" in PLL based implementations (problem similar to transformer coupling in wired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ty indication symbol is added in front of  each 32 symbol block - "0" for 2GFSK, "00" for 4GFSK (the symbol with most negative frequency 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 of DC offset contribution of the 33 symbol block is compared to sign of previous accumulated DC offset; if same sign, the block is inverted (frequency deviation reversed at each symb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eceive side, the polarity of the first (indication) symbol is tested- if positive, next 32 symbols are inve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amp Up and Ramp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ual Ramp Up and Ramp Down are required to reduce the splatter (spikes) in adjacent channels at start and ending of the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8 microseconds of the PLCP idle pattern and 8 microseconds following the last symbol of the PLCP_PDU are allocated to gradual increase and decrease of transm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al ramp time is dictated by adjacent channel interference specifications, and is not specified directly in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Environment - Multipath Fa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7960" y="1487520"/>
            <a:ext cx="578952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5800" y="407664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ropagation paths, interfering with each other, create a frequency selective f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des are correlated at adjacent frequencies and get decorrelated after few megahertz in an indoo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Req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opping sequences derived by modulo 79 frequency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s from same set collide 3 times on average, 5 times worst case, over a hopping pattern cycle, including hits and adjacent channel h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throughput continues to increase up to about 15 collocated networks, at high load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SS Transmitter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ounded to +/-110 KHz in order to maintain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accu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crossing instants accuracy - &lt;+/- 1/8 symbol (at 2G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requency accuracy - 60 KHz (25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rate - 1 MHz +/- 50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 Time- transmitter has to settle within 224 microseconds to within 60 KHz off nominal center frequency af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Frequency Hop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one of the variants of Spread Spectrum- a technique which enables coexistence of multiple networks (or other devices) in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recognizes Frequency Hopping as one of the techniques withstanding “fairness” requirements for unlicensed operation in the ISM b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requency Hopping PHY uses 79 nonoverlapping frequency channels with 1 MHz channel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enables operation of up to 26 collocated networks, enabling therefore high aggregat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resistant to multipath fading through the inherent frequency diversity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Performance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me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Mb/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5 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2 Mhz 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3 Mhz or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odulation 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- 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is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ckoff Slot width for FHSS PHY is 50 microseconds. The CCA should detect a signal which started up to 16 microseconds before end of the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5 dBm f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during 0101 pattern within 20 microseconds with 90%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requirements for F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America (CFR47, Parts 15.247, 15.205, 15.20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MHz bandwidth (at -20 dB re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75 hopping channels, pseudorandom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transmit power and 4 W EIRP (including anten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 (ETS 300-328, ETS 300-33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2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00 mW E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(RCR STD-33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71-249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1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 PHY vs.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hopping channels in North America and Europe; pseudorandom hopping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hopping channels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power; devices capable of more than 100 mW have to support at least one power level not exceeding 10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ar, field proven, low cost technology - 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hannel operation -transmit signal shaping to reduce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tes - medium use optimization by taking advantage of short-range/good-propagation scenarios to increa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82880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haped FSK (GFSK) a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Z data is filtered with BT=0.5 low-pass Gaussian filter (500 KHz bandwidth at 3 dB) and then FM modulates a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evel GFS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level 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5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 operation mandatory; 2 Mbit/sec-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production of interoperable lower-rate/lower-cost and higher-rate/higher-co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400068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whitened by a synchronous scrambler and formatted to limit DC offset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7315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 starts with 80 bits of 0101 sync pattern,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presence of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antenna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quire symbol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s 16 bit Start Frame Delimiter (S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is 0000 1100 1011 1101 (left bit transmitted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rovides symbol-level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designed to optimize autocorrelation properties in conjunction with the 0101 pattern in front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bala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32 bit PLCP header consists of PLW (PLCP_PDU Length Word), PSF (PLCP Signaling Field) and 16 bit HEC (Header Error Ch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W (PLCP_PDU Length Word) is 12 bit field indicating the length of PLCP_PDU in octets, including the 32 bit CRC at the PLCP_PDU end, in the range 0 .. 4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F (PLCP Signaling Field) is 4 bit field, of which currently 3 are reserved and the fourth is used to signal the PLCP_PDU data rate (1 or 2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 is a 16 bit CRC with CCITT generator polynomial G(x)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CP header is always transmitted at 1 Mbit/s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