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A97B6-89A2-4B98-81A4-7DC2A4143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74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9160" y="2174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073160"/>
            <a:ext cx="7754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869240" y="649440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44E8E99-1CF4-4757-8C6D-A011AA07B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4960" y="531720"/>
            <a:ext cx="723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362720" y="233280"/>
            <a:ext cx="1004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March 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55480" y="648504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618ffd"/>
                </a:solidFill>
                <a:latin typeface="Arial"/>
                <a:ea typeface="Arial"/>
              </a:rPr>
              <a:t>802.11 Archite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72280" y="1252440"/>
            <a:ext cx="325116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Configurations -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49160" y="2863800"/>
            <a:ext cx="5651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“Basic Service Set”,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”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cover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67720" y="2185920"/>
            <a:ext cx="56844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754760" y="221940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983360" y="1969920"/>
            <a:ext cx="136800" cy="228600"/>
            <a:chOff x="7983360" y="1969920"/>
            <a:chExt cx="136800" cy="228600"/>
          </a:xfrm>
        </p:grpSpPr>
        <p:sp>
          <p:nvSpPr>
            <p:cNvPr id="121" name=""/>
            <p:cNvSpPr/>
            <p:nvPr/>
          </p:nvSpPr>
          <p:spPr>
            <a:xfrm>
              <a:off x="8051760" y="1969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3360" y="196992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051760" y="196992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7832880" y="235584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2889360"/>
            <a:ext cx="56988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99160" y="1633680"/>
            <a:ext cx="56844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988320" y="28940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6560" y="16286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16920" y="2674800"/>
            <a:ext cx="134640" cy="227160"/>
            <a:chOff x="7216920" y="2674800"/>
            <a:chExt cx="134640" cy="227160"/>
          </a:xfrm>
        </p:grpSpPr>
        <p:sp>
          <p:nvSpPr>
            <p:cNvPr id="130" name=""/>
            <p:cNvSpPr/>
            <p:nvPr/>
          </p:nvSpPr>
          <p:spPr>
            <a:xfrm>
              <a:off x="7283520" y="267480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16920" y="2674800"/>
              <a:ext cx="6660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283520" y="2674800"/>
              <a:ext cx="6804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815160" y="1417680"/>
            <a:ext cx="136440" cy="228600"/>
            <a:chOff x="6815160" y="1417680"/>
            <a:chExt cx="136440" cy="228600"/>
          </a:xfrm>
        </p:grpSpPr>
        <p:sp>
          <p:nvSpPr>
            <p:cNvPr id="134" name=""/>
            <p:cNvSpPr/>
            <p:nvPr/>
          </p:nvSpPr>
          <p:spPr>
            <a:xfrm>
              <a:off x="6883560" y="1417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15160" y="1417680"/>
              <a:ext cx="6840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83560" y="1417680"/>
              <a:ext cx="6804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7072200" y="304632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62880" y="180036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84840" y="2241720"/>
            <a:ext cx="1650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Configurations -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77800" y="4432320"/>
            <a:ext cx="7893000" cy="18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Points an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r>
              <a:rPr b="1" i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s Multiple Cells via Access Points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form a singl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s wireless cover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51240" y="1832040"/>
            <a:ext cx="5321520" cy="1332360"/>
          </a:xfrm>
          <a:custGeom>
            <a:avLst/>
            <a:gdLst/>
            <a:ahLst/>
            <a:rect l="0" t="0" r="r" b="b"/>
            <a:pathLst>
              <a:path w="14782" h="3701">
                <a:moveTo>
                  <a:pt x="1750" y="423"/>
                </a:moveTo>
                <a:lnTo>
                  <a:pt x="899" y="555"/>
                </a:lnTo>
                <a:lnTo>
                  <a:pt x="211" y="846"/>
                </a:lnTo>
                <a:lnTo>
                  <a:pt x="211" y="1240"/>
                </a:lnTo>
                <a:lnTo>
                  <a:pt x="0" y="1557"/>
                </a:lnTo>
                <a:lnTo>
                  <a:pt x="22" y="2007"/>
                </a:lnTo>
                <a:lnTo>
                  <a:pt x="379" y="2324"/>
                </a:lnTo>
                <a:lnTo>
                  <a:pt x="877" y="2351"/>
                </a:lnTo>
                <a:lnTo>
                  <a:pt x="1089" y="2404"/>
                </a:lnTo>
                <a:lnTo>
                  <a:pt x="1349" y="2828"/>
                </a:lnTo>
                <a:lnTo>
                  <a:pt x="1609" y="3119"/>
                </a:lnTo>
                <a:lnTo>
                  <a:pt x="2129" y="3278"/>
                </a:lnTo>
                <a:lnTo>
                  <a:pt x="2438" y="3278"/>
                </a:lnTo>
                <a:lnTo>
                  <a:pt x="2795" y="3066"/>
                </a:lnTo>
                <a:lnTo>
                  <a:pt x="3077" y="3040"/>
                </a:lnTo>
                <a:lnTo>
                  <a:pt x="5450" y="3066"/>
                </a:lnTo>
                <a:lnTo>
                  <a:pt x="5754" y="3331"/>
                </a:lnTo>
                <a:lnTo>
                  <a:pt x="5900" y="3595"/>
                </a:lnTo>
                <a:lnTo>
                  <a:pt x="6160" y="3675"/>
                </a:lnTo>
                <a:lnTo>
                  <a:pt x="6372" y="3701"/>
                </a:lnTo>
                <a:lnTo>
                  <a:pt x="6940" y="3648"/>
                </a:lnTo>
                <a:lnTo>
                  <a:pt x="7271" y="3437"/>
                </a:lnTo>
                <a:lnTo>
                  <a:pt x="7488" y="3251"/>
                </a:lnTo>
                <a:lnTo>
                  <a:pt x="7722" y="3066"/>
                </a:lnTo>
                <a:lnTo>
                  <a:pt x="7938" y="2987"/>
                </a:lnTo>
                <a:lnTo>
                  <a:pt x="8741" y="2908"/>
                </a:lnTo>
                <a:lnTo>
                  <a:pt x="8886" y="2960"/>
                </a:lnTo>
                <a:lnTo>
                  <a:pt x="9049" y="3066"/>
                </a:lnTo>
                <a:lnTo>
                  <a:pt x="11633" y="3093"/>
                </a:lnTo>
                <a:lnTo>
                  <a:pt x="12701" y="2960"/>
                </a:lnTo>
                <a:lnTo>
                  <a:pt x="12912" y="2828"/>
                </a:lnTo>
                <a:lnTo>
                  <a:pt x="13102" y="2642"/>
                </a:lnTo>
                <a:lnTo>
                  <a:pt x="13313" y="2563"/>
                </a:lnTo>
                <a:lnTo>
                  <a:pt x="13644" y="2536"/>
                </a:lnTo>
                <a:lnTo>
                  <a:pt x="14050" y="2536"/>
                </a:lnTo>
                <a:lnTo>
                  <a:pt x="14500" y="2563"/>
                </a:lnTo>
                <a:lnTo>
                  <a:pt x="14760" y="2007"/>
                </a:lnTo>
                <a:lnTo>
                  <a:pt x="14782" y="1006"/>
                </a:lnTo>
                <a:lnTo>
                  <a:pt x="14548" y="740"/>
                </a:lnTo>
                <a:lnTo>
                  <a:pt x="13931" y="502"/>
                </a:lnTo>
                <a:lnTo>
                  <a:pt x="13600" y="423"/>
                </a:lnTo>
                <a:lnTo>
                  <a:pt x="13053" y="423"/>
                </a:lnTo>
                <a:lnTo>
                  <a:pt x="12793" y="555"/>
                </a:lnTo>
                <a:lnTo>
                  <a:pt x="12462" y="608"/>
                </a:lnTo>
                <a:lnTo>
                  <a:pt x="12105" y="661"/>
                </a:lnTo>
                <a:lnTo>
                  <a:pt x="11655" y="608"/>
                </a:lnTo>
                <a:lnTo>
                  <a:pt x="10778" y="291"/>
                </a:lnTo>
                <a:lnTo>
                  <a:pt x="10068" y="158"/>
                </a:lnTo>
                <a:lnTo>
                  <a:pt x="9570" y="52"/>
                </a:lnTo>
                <a:lnTo>
                  <a:pt x="8767" y="26"/>
                </a:lnTo>
                <a:lnTo>
                  <a:pt x="8220" y="26"/>
                </a:lnTo>
                <a:lnTo>
                  <a:pt x="7700" y="132"/>
                </a:lnTo>
                <a:lnTo>
                  <a:pt x="6962" y="185"/>
                </a:lnTo>
                <a:lnTo>
                  <a:pt x="6372" y="211"/>
                </a:lnTo>
                <a:lnTo>
                  <a:pt x="5992" y="264"/>
                </a:lnTo>
                <a:lnTo>
                  <a:pt x="4691" y="291"/>
                </a:lnTo>
                <a:lnTo>
                  <a:pt x="4074" y="211"/>
                </a:lnTo>
                <a:lnTo>
                  <a:pt x="3457" y="105"/>
                </a:lnTo>
                <a:lnTo>
                  <a:pt x="3104" y="52"/>
                </a:lnTo>
                <a:lnTo>
                  <a:pt x="2866" y="26"/>
                </a:lnTo>
                <a:lnTo>
                  <a:pt x="2676" y="0"/>
                </a:lnTo>
                <a:lnTo>
                  <a:pt x="2226" y="0"/>
                </a:lnTo>
                <a:lnTo>
                  <a:pt x="2085" y="26"/>
                </a:lnTo>
                <a:lnTo>
                  <a:pt x="1940" y="52"/>
                </a:lnTo>
                <a:lnTo>
                  <a:pt x="1869" y="52"/>
                </a:lnTo>
                <a:lnTo>
                  <a:pt x="1777" y="132"/>
                </a:lnTo>
                <a:lnTo>
                  <a:pt x="1750" y="423"/>
                </a:lnTo>
                <a:close/>
              </a:path>
            </a:pathLst>
          </a:custGeom>
          <a:solidFill>
            <a:srgbClr val="ffff72"/>
          </a:solidFill>
          <a:ln w="12600">
            <a:solidFill>
              <a:srgbClr val="ffff7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6680" y="3646440"/>
            <a:ext cx="568440" cy="4064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4103640"/>
            <a:ext cx="568440" cy="4046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46760" y="2808360"/>
            <a:ext cx="704880" cy="406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78360" y="4103640"/>
            <a:ext cx="568440" cy="404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3798720"/>
            <a:ext cx="568440" cy="406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63720" y="367992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99040" y="41162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765760" y="41162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26400" y="38228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5120" y="2747880"/>
            <a:ext cx="2943360" cy="18381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36960" y="2738520"/>
            <a:ext cx="2944800" cy="18381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425840" y="3887640"/>
            <a:ext cx="136800" cy="228600"/>
            <a:chOff x="4425840" y="3887640"/>
            <a:chExt cx="136800" cy="228600"/>
          </a:xfrm>
        </p:grpSpPr>
        <p:sp>
          <p:nvSpPr>
            <p:cNvPr id="157" name=""/>
            <p:cNvSpPr/>
            <p:nvPr/>
          </p:nvSpPr>
          <p:spPr>
            <a:xfrm>
              <a:off x="4494240" y="3887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2584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49424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994360" y="3887640"/>
            <a:ext cx="136440" cy="228600"/>
            <a:chOff x="5994360" y="3887640"/>
            <a:chExt cx="136440" cy="228600"/>
          </a:xfrm>
        </p:grpSpPr>
        <p:sp>
          <p:nvSpPr>
            <p:cNvPr id="161" name=""/>
            <p:cNvSpPr/>
            <p:nvPr/>
          </p:nvSpPr>
          <p:spPr>
            <a:xfrm>
              <a:off x="6062760" y="3887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436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62760" y="3887640"/>
              <a:ext cx="6804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55000" y="3583080"/>
            <a:ext cx="136440" cy="228600"/>
            <a:chOff x="7155000" y="3583080"/>
            <a:chExt cx="136440" cy="228600"/>
          </a:xfrm>
        </p:grpSpPr>
        <p:sp>
          <p:nvSpPr>
            <p:cNvPr id="165" name=""/>
            <p:cNvSpPr/>
            <p:nvPr/>
          </p:nvSpPr>
          <p:spPr>
            <a:xfrm>
              <a:off x="7223040" y="3583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55000" y="3583080"/>
              <a:ext cx="6804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23040" y="3583080"/>
              <a:ext cx="6840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48120" y="3201840"/>
            <a:ext cx="273240" cy="381240"/>
          </a:xfrm>
          <a:custGeom>
            <a:avLst/>
            <a:gdLst/>
            <a:ahLst/>
            <a:rect l="0" t="0" r="r" b="b"/>
            <a:pathLst>
              <a:path fill="none" w="759" h="1059">
                <a:moveTo>
                  <a:pt x="0" y="0"/>
                </a:moveTo>
                <a:lnTo>
                  <a:pt x="0" y="1059"/>
                </a:lnTo>
                <a:lnTo>
                  <a:pt x="569" y="1059"/>
                </a:lnTo>
                <a:lnTo>
                  <a:pt x="569" y="423"/>
                </a:lnTo>
                <a:lnTo>
                  <a:pt x="569" y="847"/>
                </a:lnTo>
                <a:lnTo>
                  <a:pt x="759" y="423"/>
                </a:lnTo>
                <a:lnTo>
                  <a:pt x="569" y="847"/>
                </a:lnTo>
                <a:lnTo>
                  <a:pt x="380" y="4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3201840"/>
            <a:ext cx="273240" cy="381240"/>
          </a:xfrm>
          <a:custGeom>
            <a:avLst/>
            <a:gdLst/>
            <a:ahLst/>
            <a:rect l="0" t="0" r="r" b="b"/>
            <a:pathLst>
              <a:path fill="none" w="759" h="1059">
                <a:moveTo>
                  <a:pt x="0" y="0"/>
                </a:moveTo>
                <a:lnTo>
                  <a:pt x="0" y="1059"/>
                </a:lnTo>
                <a:lnTo>
                  <a:pt x="569" y="1059"/>
                </a:lnTo>
                <a:lnTo>
                  <a:pt x="569" y="423"/>
                </a:lnTo>
                <a:lnTo>
                  <a:pt x="569" y="847"/>
                </a:lnTo>
                <a:lnTo>
                  <a:pt x="759" y="423"/>
                </a:lnTo>
                <a:lnTo>
                  <a:pt x="569" y="847"/>
                </a:lnTo>
                <a:lnTo>
                  <a:pt x="380" y="4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67040" y="380376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09920" y="426888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02200" y="4268880"/>
            <a:ext cx="361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53120" y="3975120"/>
            <a:ext cx="361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78320" y="4192560"/>
            <a:ext cx="6159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S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557680" y="3603600"/>
            <a:ext cx="608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S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72280" y="1660680"/>
            <a:ext cx="1125720" cy="267120"/>
          </a:xfrm>
          <a:custGeom>
            <a:avLst/>
            <a:gdLst/>
            <a:ahLst/>
            <a:rect l="0" t="0" r="r" b="b"/>
            <a:pathLst>
              <a:path fill="none" w="3127" h="742">
                <a:moveTo>
                  <a:pt x="0" y="742"/>
                </a:moveTo>
                <a:lnTo>
                  <a:pt x="352" y="0"/>
                </a:lnTo>
                <a:lnTo>
                  <a:pt x="3127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18240" y="1190520"/>
            <a:ext cx="500040" cy="272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450800"/>
            <a:ext cx="0" cy="2001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95680" y="2808360"/>
            <a:ext cx="704880" cy="4064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89360" y="2957400"/>
            <a:ext cx="293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54440" y="2824200"/>
            <a:ext cx="387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87880" y="2814480"/>
            <a:ext cx="387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39000" y="2976480"/>
            <a:ext cx="285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81880" y="1214280"/>
            <a:ext cx="582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27440" y="2160720"/>
            <a:ext cx="27687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03480" y="3430440"/>
            <a:ext cx="136440" cy="228600"/>
            <a:chOff x="3003480" y="3430440"/>
            <a:chExt cx="136440" cy="228600"/>
          </a:xfrm>
        </p:grpSpPr>
        <p:sp>
          <p:nvSpPr>
            <p:cNvPr id="187" name=""/>
            <p:cNvSpPr/>
            <p:nvPr/>
          </p:nvSpPr>
          <p:spPr>
            <a:xfrm>
              <a:off x="3071880" y="34304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3480" y="34304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071880" y="3430440"/>
              <a:ext cx="6804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Distribu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interconnect wireless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BSS connected together form an ESS, Extended Servic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mobile stations to access fix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part of 802.11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be bridged IEEE LANs, wireless, other network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Servic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ces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select an AP and “associate”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roa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synchronization (beaco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typically (but not always) flows through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communic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Defines the Airwaves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irwaves interface between stations (including that between station and AP) is standar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and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exposed MAC/PHY interfac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exposed interface to Distribu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DS servic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ls of Distribution System not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MSDU Data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d to LLC (2304 octet 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point coordin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dentiality, authentication,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ing, joining, 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and Infrastructure configur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BSS has a unique 48 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SS has a variable length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 with collis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-level acknowled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for RTS/CTS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 no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DU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”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Functionality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aming support within an 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cans for APs, association handsh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may power themselve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buffering, distributed approach for I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support of “Wired Equivalent Privacy” (W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handshak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HY Lay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hree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Hop Spre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 GHz band, 1 and 2 Mbps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GFSK, 4GF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over 79 channels (North Amer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Sequence Spre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 GHz band, 1 and 2 Mbps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PSK, D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 chip Barker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band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use infr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nd 2 Mbps transmission, 16-PPM and 4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What is unique about wire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479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erence an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varies over spac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with “unwanted” 802.11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with non-802 devices (unlicensed spectrum, microwave ov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connectivity cannot be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node”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international 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edium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228680"/>
            <a:ext cx="7543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Uniqueness of Wirel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tion in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y usage: requires 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nt “seamless”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hys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lapping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channel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 with different “Medium Sense”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allow overlap of multiple networks in the same area and channe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be “Robust for Interferen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wave, other non-802.11 interfer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echanisms to deal with “Hidden No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Time Bound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rchitectur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MAC supporting multipl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ly Frequency Hopping, Direct Sequence and Infrared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7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” (ad hoc) and “Infrastructu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7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/CA (collision avoidance) with optional “point coordi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65520" y="251460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04800" y="220968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4800" y="419112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00640" y="220968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504800" y="51055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626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667720" y="20574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87720" y="2163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7720" y="40687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87720" y="49831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6720" y="40687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10400" y="275904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10400" y="458784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6712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19400" y="4648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1940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65240" y="2481120"/>
            <a:ext cx="1714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438624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30520" y="530064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05200" y="2340000"/>
            <a:ext cx="19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81520" y="432108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77080" y="367344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66760" y="129528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2000" y="129528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5960" y="295596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2280" y="478476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61800" y="4191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143000"/>
            <a:ext cx="777240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access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Layer Management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Layer Convergence Protocol (PL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-specific, supports common PHY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Clear Channel Assessment signal (carrier se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Architecture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Medium Dependent Sublayer (P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ulation an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Lay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MI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s with both MAC Management and PH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Ennis</dc:creator>
  <dc:description/>
  <dc:language>en-US</dc:language>
  <cp:lastModifiedBy>Vic Hayes</cp:lastModifiedBy>
  <cp:revision>0</cp:revision>
  <dc:subject/>
  <dc:title>802.11 Architecture</dc:title>
</cp:coreProperties>
</file>