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2DE261-8F35-4452-B407-704D59689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4920" y="6545160"/>
            <a:ext cx="3521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MAC report  May 199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oc 96/8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070760" y="6545160"/>
            <a:ext cx="954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vid Bag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y ‘96 MAC group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1905120"/>
            <a:ext cx="45720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2895480"/>
            <a:ext cx="4572000" cy="144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18ffd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648320"/>
            <a:ext cx="457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71800" y="3276720"/>
            <a:ext cx="2895480" cy="102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00279f"/>
                </a:solidFill>
                <a:latin typeface="Arial"/>
                <a:ea typeface="Arial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43200" y="4724280"/>
            <a:ext cx="3352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100400" y="211140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6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7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st comments Adopted in Mar/96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st handled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etails to follow in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7: C#101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eeded work to supply missing Challenge text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one - only a reference correction needed so correction was editorial not technical - author agrees - comment closed with author con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8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9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st comments adopted Mar/96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30-40 comments processed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etails to follow in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02, 10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S poll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decline 102, 103 withdrawn, text added to clarify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accept - only send CTS if nav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0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20, 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1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back off after xmit, rec=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0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collapse 2 overlapping sub section text re directed MP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2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8, 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delete some text from 9.2.8 (explanat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2,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8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oals for May 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2952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had one goal - Process D3 LB comments and prepare D4.0 for sponsor bal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made it. (99.846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contradiction fixed re CF ack vs null data f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2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clarify sentence re PCF issuing of some fam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1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adding word to 9.2.5.2 re when use backoff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6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 - C#10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rame exchg sequences doc 96/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adopt 96/76 as amended by MF and discussion - revised paper provided by JZ to  for edit into clause 9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7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8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: C14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 resetting NAV con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0, 1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8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, C#: 126, 1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rifies PCF operation re getting on medium - requires sensing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B change for DTIM default value. from 5 to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: c#: 133, 134, 135, 130, 113 Back off and R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9.2.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rror recov responsibility of initiating sta of fame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ocs error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rifies retry limits and cou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9: 139, 1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ime Out Stu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CK and CTS subclauses added para to deal  how time out is detected, distinguishes different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stly wording impr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20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 - C#154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rags in order (not MSDUs in or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 = ac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20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10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Mar/96 plen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sc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r MAC minutes appro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ust wait for Quorum in Ju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11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st handled in Mar 96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mainder processed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etails to fol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11: C#43, 4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 clarification of PSP - must get, vs can get data from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opened in Mar plenary - swapped 42/43 so that 42 is 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hanges clause 11.2.1.4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0,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11 C#17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 randomization of beacons at TB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change 11.1.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 re C#17: 13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ross Clause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C/MC reli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9: C#21: multi-cast reliability from Jan (multiple com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cast reliability Clause 11 C# 14,44,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 to adopt 96/15 and 96/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3, 0,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Plenary Vote: 4, 7,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Comments still open - not cl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ulti-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7: C#72,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9: C#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1: c#67,91,92,100,1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neral c#1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 to accept 96/79R1 + change to encoding of supported rates, and incorporate into draft, and close related LB comments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ulti-rate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Amended to be as above “except for the portion of 96/79R1 which pertains to clause 14 and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 on amended motion: 16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 and Annex 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st handled in Mar 96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mainder processed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etails to fo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 C#1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plicit that CF frames not used outside Cf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ccepted D3.1 statement added to 9.3.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1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 C#121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nable to process - refers to previous letter ballot comment with out any specific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ails comment instru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osed - we looked, no action requested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u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u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his Week’s work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ork was don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General &amp; Ann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 C#122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nimally conformant network statement per PAR requ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 add def to clause 3 and ref in P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oposal: to add in clause 3 (defs)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 minimally conformant IEEE P802.11 network is one in which there are at least two Stations in a single BSA which are conformant with P802.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1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5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 C#123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nnection, connectionless, voice service (VH) no action requested in com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ccepted without action and cl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ction requested (none) accep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un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2, 0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: Editorial com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07 thru 111, 114, 115, 120, 125, 126, 128 ed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ditors will process for D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: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neral C#127 k vs. K - Fixed in D3.1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osed unan in Ma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3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: Pat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neral c#2:dissatisfaction with Patent due diligence / procedur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refer to Vic to answer re procedure part and for contact to Ap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motion: to close w/o taking action (mover says intent is to not take action wrt to draft text) on basis that comment is not technical in n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5, 1,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Work 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rom here on in report the comment tables (rev 7) have not yet been updated at time of report to reflect thurs morn actions - this needs to result in rev 8 of tables for ma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nnex: State mac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neral c#113 - state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to close with “we have a volunteer to update the annex” - comment author accepts re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5, 1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te machines update 96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we adopt what MF has today for informative annex update and completed updates to be made avail to editors before D4.0 is publis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2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2, 1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ICS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neral c#s: 3 thru 9, 104, 105, 106, 112 - PICs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3, 4 are edito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3 accepted, 4 ed - ed’s get, 5 fixed in text, 6 fixed i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7- done, 8 same as 7, 9 accepted. text rewri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04 missing refs to clause 5 &amp; 6 - accepted - text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05 accepted by mar 96 motion 8, 106 ac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12 accept - text not drafted yet. needs sec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oved: to accept recs for PICs comments, PICs text done so far, and remainder of PICs text will be given to editors in time for D4.0 cre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1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3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SN doc for MI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6/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o accept 96/89 as ASN MIB code and insert into a normative annex, any discrepancy between ASN code and this week’s work is considered editorial and editors will make the new annex consistent, also a statement will be added to annex that Annex takes precedence over other clauses in case of confli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0, 1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1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7 C#34 TBTT and Next D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to decline comment on basis that comment is new functionality and does not have complete proposed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9,2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1, 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7 # 35 when can change MI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decline comment and close comment with “you may change any MIB attribute whenever the std allows it - the operational wisdom of such action should be considered before doing s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1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5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ultiple MSDUs 96/91R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o adopt text in 96/91R1 except for the 2nd to last paragraph of the submission beginning with the word ‘the station shall insure that there is no group-addressed…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6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7, 1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IFS tole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7: C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that we insert into 9.2.3.1 “an 802.11 implementation shall not cause SIFS to vary from the nominal value by more than +/- 10% of aSlotTime for the PHY in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6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6/90 MSDU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2 Service classes, one ordered strictly, the other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6/92 MSDU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intain order at service interface instead of actual media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iscussion (re)ordering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adopt 96/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9, 4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2, 3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he last motio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we incorporate the 2nd to last paragraph of 96/91r1 into draft 4.0 with the addition of the words “of strictly ordered service class” after “outstanding MSDU or MMPDU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9, 0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3, 1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oals for pre-July 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90720" y="12952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orward D4.0 for Sponsor 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anticipate that the July mtg will be boring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group 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at’s all for now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2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3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4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5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agby</dc:creator>
  <dc:description/>
  <dc:language>en-US</dc:language>
  <cp:lastModifiedBy>Vic Hayes</cp:lastModifiedBy>
  <cp:revision>0</cp:revision>
  <dc:subject/>
  <dc:title>November '94 MAC group agenda</dc:title>
</cp:coreProperties>
</file>