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06DAADF4-44EB-49AB-BE6A-437FE2CDF0B2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6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8-12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schede, the Nether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July 8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-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risburg, 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in, T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uquerque, N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D4 letter ballo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panese call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ly comments on NPRM 96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Exec     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     Comm. 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  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  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 |IR! opt!opt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 |  !MAC !PHY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 8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 Jolla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ltham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 8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4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 8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tiny of Draft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tiny of Reg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Jul 10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6th Session of meetings of IEEE P802.11 Wireless Local Area Networks  Tentative Agenda</dc:title>
</cp:coreProperties>
</file>