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2AAE00-3485-4FF2-9C48-4B13889B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D257BA7-06FF-43E0-91CB-4513D6C6C59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couver, BC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LMSC (Sponsor)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comments to Letter Ballot 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 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atent Pol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ched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MSC (Sponsor) ballot on draft D5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SO/IEC JTC1/SC6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TU-R Working party 8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 for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ointment of 802.11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ation of Comment to LB on CD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Nov 13 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