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EA6DF6-FCB9-4BA0-99A2-5F97AF689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010160B-2CC9-41A1-9939-103551DE8AAC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ncouver, BC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LMSC (Sponsor)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 comments to Letter Ballot 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 8802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Exec     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Comm. 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|IR! opt!opt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!MAC !PHY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Patent Pol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chede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MSC (Sponsor) ballot on draft D5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SO/IEC JTC1/SC6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TU-R Working party 8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les for Reg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ointment of 802.11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ation of Comment to LB on CD8802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Nov 13 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6th Session of meetings of IEEE P802.11 Wireless Local Area Networks  Tentative Agenda</dc:title>
</cp:coreProperties>
</file>