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40280CE-DD77-4410-A86C-87A2CB652D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39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49"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rch 10-14,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Irvine, Californi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rch 10, 15: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10-14 - Irvine Marriott,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29-30 - potential meeting to review ballot results</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ay be a tele-conference</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pic>
        <p:nvPicPr>
          <p:cNvPr id="98" name="" descr=""/>
          <p:cNvPicPr/>
          <p:nvPr/>
        </p:nvPicPr>
        <p:blipFill>
          <a:blip r:embed="rId1"/>
          <a:stretch/>
        </p:blipFill>
        <p:spPr>
          <a:xfrm>
            <a:off x="1805040" y="1219320"/>
            <a:ext cx="5524560" cy="2355840"/>
          </a:xfrm>
          <a:prstGeom prst="rect">
            <a:avLst/>
          </a:prstGeom>
          <a:ln w="0">
            <a:noFill/>
          </a:ln>
        </p:spPr>
      </p:pic>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resolve all comments on the Sponsor Ballot on D5.0</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documents for Sponsor Recirculation ballot</a:t>
            </a:r>
            <a:endParaRPr b="0" lang="en-US" sz="28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D5.3 / D6.1</a:t>
            </a:r>
            <a:endParaRPr b="0" lang="en-US" sz="2400" spc="-1" strike="noStrike">
              <a:solidFill>
                <a:srgbClr val="000000"/>
              </a:solidFill>
              <a:latin typeface="Arial"/>
            </a:endParaRPr>
          </a:p>
          <a:p>
            <a:pPr lvl="1" marL="1131840" indent="-5144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resolved no commets (if any)</a:t>
            </a:r>
            <a:endParaRPr b="0" lang="en-US" sz="24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prepare the documents for future work in the High Speed Study Group</a:t>
            </a:r>
            <a:endParaRPr b="0" lang="en-US" sz="2800" spc="-1" strike="noStrike">
              <a:solidFill>
                <a:srgbClr val="000000"/>
              </a:solidFill>
              <a:latin typeface="Arial"/>
            </a:endParaRPr>
          </a:p>
          <a:p>
            <a:pPr marL="503280" indent="-5032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pic>
        <p:nvPicPr>
          <p:cNvPr id="117" name="" descr=""/>
          <p:cNvPicPr/>
          <p:nvPr/>
        </p:nvPicPr>
        <p:blipFill>
          <a:blip r:embed="rId1"/>
          <a:stretch/>
        </p:blipFill>
        <p:spPr>
          <a:xfrm>
            <a:off x="2620800" y="1219320"/>
            <a:ext cx="3882960" cy="2343240"/>
          </a:xfrm>
          <a:prstGeom prst="rect">
            <a:avLst/>
          </a:prstGeom>
          <a:ln w="0">
            <a:noFill/>
          </a:ln>
        </p:spPr>
      </p:pic>
      <p:sp>
        <p:nvSpPr>
          <p:cNvPr id="118"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0"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2"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4"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7"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8"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9"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7"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8"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1"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4"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6"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olution |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 New draft |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drft !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Res  !Study|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new  !Group|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ancouver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6/14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lm Bay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0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0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porval of the draft standard for submission to Sponsor Recirculation ballo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uture work in the High Speed 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