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057400"/>
            <a:ext cx="7772400" cy="1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of IR 10Mbps Communication Spec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EEE 802.1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39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ly Developed &amp; Proposed by: SWC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T Cann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ed by: Masa Hirayama, L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22860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Application on the current MA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9320" y="2057400"/>
            <a:ext cx="655308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Rate:          more/less than 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Area:      within the radius of 5m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area reflection on the ce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ly under the Access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tion Angle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’ (with the hight  of 2.5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&amp; PHY:    applicable on the current MAC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djustment function to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ed on the current P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DMI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09480" y="7621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of the adjusted P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981080"/>
            <a:ext cx="67816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PHY with 4 and 16PP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modem circuit is fairly complicated, and the current  PHY with 16PPM may not cope with the higher transfer rate imposing heavy burden on LED and optica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of adjusted PHY for DMI Mod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pplication of Bi-Phase Modulation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DMI approach and better LED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se Wave Comparison in IR Mod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9760" y="1827360"/>
            <a:ext cx="7327800" cy="2862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190440" y="182736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90440" y="266544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90440" y="350352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90440" y="434196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409760" y="502776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    1     1     1      0     0     0     0     1     1     1     1     0 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800" y="30492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 of LED 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82880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IR 4-16PPM Mod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0Mbps Data Transfer, the minimum Puls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ty Ratio is 1/1 to 1/6 for 4PPM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1 to 1/30 for 16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DMI Mod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0Mbps Data Transfer, the maximum an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pulse width are 50ns and 100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Synchlonized Ex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Optical Circuit with the Averaged Pul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er Response Capacity on 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62120" y="1066680"/>
            <a:ext cx="769608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ability / Applicability in the Future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2438280"/>
            <a:ext cx="762012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able Application to the higher Transfer 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I Modulation is easily applicable to 10, 25 to100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ing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ily applicable to CSMA/CD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Stable/Fixed and/or Portable/Mobi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914400"/>
            <a:ext cx="86853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” Construction for the DMI Modul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:       Preamble                                24b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F:       Flag                                          8b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:       Address                                    8b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:      Identification Address              8b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:       Reserve                                     8b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C: Cyclic Redundancy Check      16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19320" y="2209680"/>
            <a:ext cx="6553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07920" y="2584440"/>
            <a:ext cx="1994040" cy="69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889360" y="2584440"/>
            <a:ext cx="698400" cy="69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75160" y="2584440"/>
            <a:ext cx="698400" cy="69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60960" y="2584440"/>
            <a:ext cx="698400" cy="69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946760" y="2584440"/>
            <a:ext cx="698400" cy="69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632560" y="2584440"/>
            <a:ext cx="1384200" cy="69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2680" y="3276720"/>
            <a:ext cx="531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2080" y="3276720"/>
            <a:ext cx="988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2080" y="2590920"/>
            <a:ext cx="988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147080" y="2705040"/>
            <a:ext cx="1492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 net dat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680" y="3048120"/>
            <a:ext cx="6400800" cy="232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: Establishing  Compatibility with the cur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: Adding Adjustment Function and Header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urrent 4 &amp; 16PPM  PHY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I Mod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53352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Outl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09480" y="2362320"/>
            <a:ext cx="71629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Application to the current 802.11 MA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Mbps and higher in the near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Adjustment of the current PH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ble on the higher transfer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520" y="914400"/>
            <a:ext cx="784872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s to be considered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recondition that the current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o be applicable on 10-25-100Mb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Proposal that the current 4PPM-PHY or 16PPM-PHY is to be adjusted for DMI Mod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MI: Differential Mark Inver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Connection Con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312408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828800" y="3581280"/>
            <a:ext cx="175248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800600" y="3429000"/>
            <a:ext cx="22096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Mod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MI Mod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010280" y="358128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7240" y="4114800"/>
            <a:ext cx="1141560" cy="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83080" y="4114800"/>
            <a:ext cx="1217520" cy="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12080" y="4114800"/>
            <a:ext cx="1369800" cy="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129528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of the  new DMI Mod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66680" y="3200400"/>
            <a:ext cx="67057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Rate:           less than 1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Area:       within the radius of 1m with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pot reflection on the ce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tion Angle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&amp; PHY:     adjusted MAC &amp; PHY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ting of the Access Points on the cei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2760" y="2540160"/>
            <a:ext cx="8115480" cy="2768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25680" y="4878360"/>
            <a:ext cx="305280" cy="153720"/>
          </a:xfrm>
          <a:custGeom>
            <a:avLst/>
            <a:gdLst/>
            <a:ahLst/>
            <a:rect l="0" t="0" r="r" b="b"/>
            <a:pathLst>
              <a:path w="848" h="427">
                <a:moveTo>
                  <a:pt x="424" y="427"/>
                </a:moveTo>
                <a:lnTo>
                  <a:pt x="848" y="427"/>
                </a:lnTo>
                <a:lnTo>
                  <a:pt x="848" y="427"/>
                </a:lnTo>
                <a:cubicBezTo>
                  <a:pt x="848" y="426"/>
                  <a:pt x="848" y="425"/>
                  <a:pt x="848" y="424"/>
                </a:cubicBezTo>
                <a:cubicBezTo>
                  <a:pt x="848" y="350"/>
                  <a:pt x="828" y="277"/>
                  <a:pt x="791" y="212"/>
                </a:cubicBezTo>
                <a:cubicBezTo>
                  <a:pt x="754" y="148"/>
                  <a:pt x="700" y="95"/>
                  <a:pt x="636" y="57"/>
                </a:cubicBezTo>
                <a:cubicBezTo>
                  <a:pt x="572" y="20"/>
                  <a:pt x="498" y="0"/>
                  <a:pt x="424" y="0"/>
                </a:cubicBezTo>
                <a:cubicBezTo>
                  <a:pt x="350" y="0"/>
                  <a:pt x="276" y="20"/>
                  <a:pt x="212" y="57"/>
                </a:cubicBezTo>
                <a:cubicBezTo>
                  <a:pt x="148" y="95"/>
                  <a:pt x="94" y="148"/>
                  <a:pt x="57" y="212"/>
                </a:cubicBezTo>
                <a:cubicBezTo>
                  <a:pt x="20" y="276"/>
                  <a:pt x="0" y="348"/>
                  <a:pt x="0" y="422"/>
                </a:cubicBezTo>
                <a:lnTo>
                  <a:pt x="424" y="42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16240" y="4878360"/>
            <a:ext cx="305280" cy="153720"/>
          </a:xfrm>
          <a:custGeom>
            <a:avLst/>
            <a:gdLst/>
            <a:ahLst/>
            <a:rect l="0" t="0" r="r" b="b"/>
            <a:pathLst>
              <a:path w="848" h="427">
                <a:moveTo>
                  <a:pt x="424" y="427"/>
                </a:moveTo>
                <a:lnTo>
                  <a:pt x="848" y="427"/>
                </a:lnTo>
                <a:lnTo>
                  <a:pt x="848" y="427"/>
                </a:lnTo>
                <a:cubicBezTo>
                  <a:pt x="848" y="426"/>
                  <a:pt x="848" y="425"/>
                  <a:pt x="848" y="424"/>
                </a:cubicBezTo>
                <a:cubicBezTo>
                  <a:pt x="848" y="350"/>
                  <a:pt x="828" y="277"/>
                  <a:pt x="791" y="212"/>
                </a:cubicBezTo>
                <a:cubicBezTo>
                  <a:pt x="754" y="148"/>
                  <a:pt x="700" y="95"/>
                  <a:pt x="636" y="57"/>
                </a:cubicBezTo>
                <a:cubicBezTo>
                  <a:pt x="572" y="20"/>
                  <a:pt x="498" y="0"/>
                  <a:pt x="424" y="0"/>
                </a:cubicBezTo>
                <a:cubicBezTo>
                  <a:pt x="350" y="0"/>
                  <a:pt x="276" y="20"/>
                  <a:pt x="212" y="57"/>
                </a:cubicBezTo>
                <a:cubicBezTo>
                  <a:pt x="148" y="95"/>
                  <a:pt x="94" y="148"/>
                  <a:pt x="57" y="212"/>
                </a:cubicBezTo>
                <a:cubicBezTo>
                  <a:pt x="20" y="276"/>
                  <a:pt x="0" y="348"/>
                  <a:pt x="0" y="422"/>
                </a:cubicBezTo>
                <a:lnTo>
                  <a:pt x="424" y="42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59240" y="4878360"/>
            <a:ext cx="305280" cy="153720"/>
          </a:xfrm>
          <a:custGeom>
            <a:avLst/>
            <a:gdLst/>
            <a:ahLst/>
            <a:rect l="0" t="0" r="r" b="b"/>
            <a:pathLst>
              <a:path w="848" h="427">
                <a:moveTo>
                  <a:pt x="424" y="427"/>
                </a:moveTo>
                <a:lnTo>
                  <a:pt x="848" y="427"/>
                </a:lnTo>
                <a:lnTo>
                  <a:pt x="848" y="427"/>
                </a:lnTo>
                <a:cubicBezTo>
                  <a:pt x="848" y="426"/>
                  <a:pt x="848" y="425"/>
                  <a:pt x="848" y="424"/>
                </a:cubicBezTo>
                <a:cubicBezTo>
                  <a:pt x="848" y="350"/>
                  <a:pt x="828" y="277"/>
                  <a:pt x="791" y="212"/>
                </a:cubicBezTo>
                <a:cubicBezTo>
                  <a:pt x="754" y="148"/>
                  <a:pt x="700" y="95"/>
                  <a:pt x="636" y="57"/>
                </a:cubicBezTo>
                <a:cubicBezTo>
                  <a:pt x="572" y="20"/>
                  <a:pt x="498" y="0"/>
                  <a:pt x="424" y="0"/>
                </a:cubicBezTo>
                <a:cubicBezTo>
                  <a:pt x="350" y="0"/>
                  <a:pt x="276" y="20"/>
                  <a:pt x="212" y="57"/>
                </a:cubicBezTo>
                <a:cubicBezTo>
                  <a:pt x="148" y="95"/>
                  <a:pt x="94" y="148"/>
                  <a:pt x="57" y="212"/>
                </a:cubicBezTo>
                <a:cubicBezTo>
                  <a:pt x="20" y="276"/>
                  <a:pt x="0" y="348"/>
                  <a:pt x="0" y="422"/>
                </a:cubicBezTo>
                <a:lnTo>
                  <a:pt x="424" y="42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47920" y="53341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038480" y="53341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181480" y="53341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09680" y="25909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172200" y="266688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677960" y="3354480"/>
            <a:ext cx="912960" cy="1522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487840" y="3354480"/>
            <a:ext cx="1065240" cy="1522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44840" y="3354480"/>
            <a:ext cx="2132280" cy="152244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744640" y="3354480"/>
            <a:ext cx="1446480" cy="15224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09480" y="3808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Energy Calculation from the Access Poi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33720" y="1104840"/>
            <a:ext cx="4565520" cy="3422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85800" y="3675240"/>
            <a:ext cx="723888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=40(mW) x 24=960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=25pi x 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7.85 x 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D-square is 1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d=Pap/So=0.96/(7.85 x 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1.22 x 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Pmin=700nW=0.7 x 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of IR Communication 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Area Ceiling Reflec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430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0640" y="6246720"/>
            <a:ext cx="457560" cy="152640"/>
          </a:xfrm>
          <a:custGeom>
            <a:avLst/>
            <a:gdLst/>
            <a:ahLst/>
            <a:rect l="0" t="0" r="r" b="b"/>
            <a:pathLst>
              <a:path w="1271" h="424">
                <a:moveTo>
                  <a:pt x="0" y="0"/>
                </a:moveTo>
                <a:lnTo>
                  <a:pt x="381" y="424"/>
                </a:lnTo>
                <a:lnTo>
                  <a:pt x="889" y="424"/>
                </a:lnTo>
                <a:lnTo>
                  <a:pt x="12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30320" y="6399360"/>
            <a:ext cx="7618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96800" y="1446120"/>
            <a:ext cx="826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67360" y="6246720"/>
            <a:ext cx="457560" cy="152640"/>
          </a:xfrm>
          <a:custGeom>
            <a:avLst/>
            <a:gdLst/>
            <a:ahLst/>
            <a:rect l="0" t="0" r="r" b="b"/>
            <a:pathLst>
              <a:path w="1271" h="424">
                <a:moveTo>
                  <a:pt x="0" y="0"/>
                </a:moveTo>
                <a:lnTo>
                  <a:pt x="380" y="424"/>
                </a:lnTo>
                <a:lnTo>
                  <a:pt x="890" y="424"/>
                </a:lnTo>
                <a:lnTo>
                  <a:pt x="12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96160" y="6246720"/>
            <a:ext cx="457560" cy="152640"/>
          </a:xfrm>
          <a:custGeom>
            <a:avLst/>
            <a:gdLst/>
            <a:ahLst/>
            <a:rect l="0" t="0" r="r" b="b"/>
            <a:pathLst>
              <a:path w="1271" h="424">
                <a:moveTo>
                  <a:pt x="0" y="0"/>
                </a:moveTo>
                <a:lnTo>
                  <a:pt x="381" y="424"/>
                </a:lnTo>
                <a:lnTo>
                  <a:pt x="890" y="424"/>
                </a:lnTo>
                <a:lnTo>
                  <a:pt x="127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1447920"/>
            <a:ext cx="7849080" cy="4648680"/>
          </a:xfrm>
          <a:custGeom>
            <a:avLst/>
            <a:gdLst/>
            <a:ahLst/>
            <a:rect l="0" t="0" r="r" b="b"/>
            <a:pathLst>
              <a:path w="21803" h="12913">
                <a:moveTo>
                  <a:pt x="0" y="0"/>
                </a:moveTo>
                <a:lnTo>
                  <a:pt x="0" y="9949"/>
                </a:lnTo>
                <a:lnTo>
                  <a:pt x="3352" y="12913"/>
                </a:lnTo>
                <a:lnTo>
                  <a:pt x="3775" y="12913"/>
                </a:lnTo>
                <a:lnTo>
                  <a:pt x="7966" y="9101"/>
                </a:lnTo>
                <a:lnTo>
                  <a:pt x="12368" y="12913"/>
                </a:lnTo>
                <a:lnTo>
                  <a:pt x="12787" y="12913"/>
                </a:lnTo>
                <a:lnTo>
                  <a:pt x="15094" y="10796"/>
                </a:lnTo>
                <a:lnTo>
                  <a:pt x="17401" y="12913"/>
                </a:lnTo>
                <a:lnTo>
                  <a:pt x="17820" y="12913"/>
                </a:lnTo>
                <a:lnTo>
                  <a:pt x="21803" y="9313"/>
                </a:lnTo>
                <a:lnTo>
                  <a:pt x="21803" y="0"/>
                </a:lnTo>
                <a:lnTo>
                  <a:pt x="21799" y="5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39800" y="6019920"/>
            <a:ext cx="762480" cy="233280"/>
            <a:chOff x="1639800" y="6019920"/>
            <a:chExt cx="762480" cy="233280"/>
          </a:xfrm>
        </p:grpSpPr>
        <p:sp>
          <p:nvSpPr>
            <p:cNvPr id="83" name=""/>
            <p:cNvSpPr/>
            <p:nvPr/>
          </p:nvSpPr>
          <p:spPr>
            <a:xfrm>
              <a:off x="1640160" y="6019920"/>
              <a:ext cx="762120" cy="233280"/>
            </a:xfrm>
            <a:custGeom>
              <a:avLst/>
              <a:gdLst/>
              <a:ahLst/>
              <a:rect l="0" t="0" r="r" b="b"/>
              <a:pathLst>
                <a:path w="2117" h="648">
                  <a:moveTo>
                    <a:pt x="1057" y="648"/>
                  </a:moveTo>
                  <a:lnTo>
                    <a:pt x="2117" y="648"/>
                  </a:lnTo>
                  <a:lnTo>
                    <a:pt x="2117" y="648"/>
                  </a:lnTo>
                  <a:cubicBezTo>
                    <a:pt x="2117" y="644"/>
                    <a:pt x="2117" y="641"/>
                    <a:pt x="2117" y="637"/>
                  </a:cubicBezTo>
                  <a:cubicBezTo>
                    <a:pt x="2117" y="525"/>
                    <a:pt x="2068" y="415"/>
                    <a:pt x="1975" y="318"/>
                  </a:cubicBezTo>
                  <a:cubicBezTo>
                    <a:pt x="1882" y="222"/>
                    <a:pt x="1749" y="141"/>
                    <a:pt x="1588" y="85"/>
                  </a:cubicBezTo>
                  <a:cubicBezTo>
                    <a:pt x="1427" y="29"/>
                    <a:pt x="1244" y="0"/>
                    <a:pt x="1058" y="0"/>
                  </a:cubicBezTo>
                  <a:cubicBezTo>
                    <a:pt x="873" y="0"/>
                    <a:pt x="690" y="29"/>
                    <a:pt x="529" y="85"/>
                  </a:cubicBezTo>
                  <a:cubicBezTo>
                    <a:pt x="368" y="141"/>
                    <a:pt x="235" y="222"/>
                    <a:pt x="142" y="318"/>
                  </a:cubicBezTo>
                  <a:cubicBezTo>
                    <a:pt x="52" y="412"/>
                    <a:pt x="3" y="518"/>
                    <a:pt x="0" y="626"/>
                  </a:cubicBezTo>
                  <a:lnTo>
                    <a:pt x="1057" y="6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39800" y="624672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916520" y="6019920"/>
            <a:ext cx="762480" cy="233280"/>
            <a:chOff x="4916520" y="6019920"/>
            <a:chExt cx="762480" cy="233280"/>
          </a:xfrm>
        </p:grpSpPr>
        <p:sp>
          <p:nvSpPr>
            <p:cNvPr id="86" name=""/>
            <p:cNvSpPr/>
            <p:nvPr/>
          </p:nvSpPr>
          <p:spPr>
            <a:xfrm>
              <a:off x="4916880" y="6019920"/>
              <a:ext cx="762120" cy="233280"/>
            </a:xfrm>
            <a:custGeom>
              <a:avLst/>
              <a:gdLst/>
              <a:ahLst/>
              <a:rect l="0" t="0" r="r" b="b"/>
              <a:pathLst>
                <a:path w="2117" h="648">
                  <a:moveTo>
                    <a:pt x="1057" y="648"/>
                  </a:moveTo>
                  <a:lnTo>
                    <a:pt x="2117" y="648"/>
                  </a:lnTo>
                  <a:lnTo>
                    <a:pt x="2117" y="648"/>
                  </a:lnTo>
                  <a:cubicBezTo>
                    <a:pt x="2117" y="644"/>
                    <a:pt x="2117" y="641"/>
                    <a:pt x="2117" y="637"/>
                  </a:cubicBezTo>
                  <a:cubicBezTo>
                    <a:pt x="2117" y="525"/>
                    <a:pt x="2068" y="415"/>
                    <a:pt x="1975" y="318"/>
                  </a:cubicBezTo>
                  <a:cubicBezTo>
                    <a:pt x="1882" y="222"/>
                    <a:pt x="1749" y="141"/>
                    <a:pt x="1588" y="85"/>
                  </a:cubicBezTo>
                  <a:cubicBezTo>
                    <a:pt x="1427" y="29"/>
                    <a:pt x="1244" y="0"/>
                    <a:pt x="1058" y="0"/>
                  </a:cubicBezTo>
                  <a:cubicBezTo>
                    <a:pt x="873" y="0"/>
                    <a:pt x="690" y="29"/>
                    <a:pt x="529" y="85"/>
                  </a:cubicBezTo>
                  <a:cubicBezTo>
                    <a:pt x="368" y="141"/>
                    <a:pt x="235" y="222"/>
                    <a:pt x="142" y="318"/>
                  </a:cubicBezTo>
                  <a:cubicBezTo>
                    <a:pt x="52" y="412"/>
                    <a:pt x="3" y="518"/>
                    <a:pt x="0" y="626"/>
                  </a:cubicBezTo>
                  <a:lnTo>
                    <a:pt x="1057" y="6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16520" y="6246720"/>
              <a:ext cx="760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745320" y="6019920"/>
            <a:ext cx="762480" cy="233280"/>
            <a:chOff x="6745320" y="6019920"/>
            <a:chExt cx="762480" cy="233280"/>
          </a:xfrm>
        </p:grpSpPr>
        <p:sp>
          <p:nvSpPr>
            <p:cNvPr id="89" name=""/>
            <p:cNvSpPr/>
            <p:nvPr/>
          </p:nvSpPr>
          <p:spPr>
            <a:xfrm>
              <a:off x="6745680" y="6019920"/>
              <a:ext cx="762120" cy="233280"/>
            </a:xfrm>
            <a:custGeom>
              <a:avLst/>
              <a:gdLst/>
              <a:ahLst/>
              <a:rect l="0" t="0" r="r" b="b"/>
              <a:pathLst>
                <a:path w="2117" h="648">
                  <a:moveTo>
                    <a:pt x="1057" y="648"/>
                  </a:moveTo>
                  <a:lnTo>
                    <a:pt x="2117" y="648"/>
                  </a:lnTo>
                  <a:lnTo>
                    <a:pt x="2117" y="648"/>
                  </a:lnTo>
                  <a:cubicBezTo>
                    <a:pt x="2117" y="644"/>
                    <a:pt x="2117" y="640"/>
                    <a:pt x="2117" y="636"/>
                  </a:cubicBezTo>
                  <a:cubicBezTo>
                    <a:pt x="2117" y="525"/>
                    <a:pt x="2068" y="415"/>
                    <a:pt x="1975" y="318"/>
                  </a:cubicBezTo>
                  <a:cubicBezTo>
                    <a:pt x="1882" y="222"/>
                    <a:pt x="1749" y="141"/>
                    <a:pt x="1588" y="86"/>
                  </a:cubicBezTo>
                  <a:cubicBezTo>
                    <a:pt x="1427" y="30"/>
                    <a:pt x="1244" y="0"/>
                    <a:pt x="1058" y="0"/>
                  </a:cubicBezTo>
                  <a:cubicBezTo>
                    <a:pt x="873" y="0"/>
                    <a:pt x="690" y="30"/>
                    <a:pt x="529" y="86"/>
                  </a:cubicBezTo>
                  <a:cubicBezTo>
                    <a:pt x="368" y="141"/>
                    <a:pt x="235" y="222"/>
                    <a:pt x="142" y="318"/>
                  </a:cubicBezTo>
                  <a:cubicBezTo>
                    <a:pt x="52" y="412"/>
                    <a:pt x="3" y="517"/>
                    <a:pt x="0" y="625"/>
                  </a:cubicBezTo>
                  <a:lnTo>
                    <a:pt x="1057" y="64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45320" y="6246720"/>
              <a:ext cx="760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 flipV="1">
            <a:off x="2021040" y="1447920"/>
            <a:ext cx="1598400" cy="4570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21240" y="1447920"/>
            <a:ext cx="1598400" cy="4570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021040" y="1447920"/>
            <a:ext cx="2589120" cy="4570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11600" y="1447920"/>
            <a:ext cx="2436840" cy="4570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97400" y="1447920"/>
            <a:ext cx="836640" cy="4570200"/>
          </a:xfrm>
          <a:prstGeom prst="line">
            <a:avLst/>
          </a:prstGeom>
          <a:ln w="25560">
            <a:solidFill>
              <a:srgbClr val="000000"/>
            </a:solidFill>
            <a:custDash>
              <a:ds d="198592" sp="198592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35840" y="1447920"/>
            <a:ext cx="988920" cy="4570200"/>
          </a:xfrm>
          <a:prstGeom prst="line">
            <a:avLst/>
          </a:prstGeom>
          <a:ln w="25560">
            <a:solidFill>
              <a:srgbClr val="000000"/>
            </a:solidFill>
            <a:custDash>
              <a:ds d="198592" sp="198592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173320" y="1447920"/>
            <a:ext cx="5103720" cy="45702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1792440" y="1447920"/>
            <a:ext cx="5180040" cy="45702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14600" y="594216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419720" y="594216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543800" y="5942160"/>
            <a:ext cx="380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5460840" cy="41022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Energy Calcu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724280" y="76320"/>
            <a:ext cx="426708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ax=960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=25pai x 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=(So/3-5x5x1.73/2 x 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x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(26.18-21.65) x 2 x 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9.06 x 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s=(Pmax) x Ss/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960(mW) x 0.1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10(m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d square is 1c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d=0.11/So=1.4 x 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40n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ine, Richard .H.</cp:lastModifiedBy>
  <cp:revision>0</cp:revision>
  <dc:subject/>
  <dc:title>Proposal of IR 10Mbps Communication Spec. to IEEE 802.11 </dc:title>
</cp:coreProperties>
</file>