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3FE658-1CEA-46BC-9F7C-E407A414A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8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chanism that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s the parameters of connection or informs the nomad of loss of parameter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the nomad transfers from one communications system to another. This hand-off may occur within a network, between networks, or between different types of network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chanism that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ks nomads and their applianc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ncluded in this need is a requirement to track the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ity of capabilities and servic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quired by the nom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re is a need to uniquely address all appliances used by the nomad and to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operating characteristics of these applianc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ppliance characteristics, devices, and their services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9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chanism to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if communications for a nomad needs to be delivere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mmediately or if the communications can be spooled or deferred. Further, if the nomad is to receive the communication, the mechanism needs to determine the appropriate destination device and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 in which to send the comm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chanism to provide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&amp; efficient routin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 that data can be routed effectively to the noma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chanism to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ly identify nomads and their devic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cluding the need to allow anonymous identities.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Ids (anonymous provision), Device Ids (minimum identification requi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2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network services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track and support the current context of the nomad's activiti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cluding the nomad's default or dominant contex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and privacy needs should be supported in the nomadic environment, or the nomad must be informed if required protection mechanisms are not availabl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It is important that the implementation of security features is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ed to the capabilities of the network and the applianc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.g., a low bandwidth network with a battery-powered applianc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chanism to allow the nomad or application to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he communications service most appropriate for the function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be carried ou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for establishing, validating, and enforcing various persona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required. This capability enables billing, quality of service, call filtering, etc., to be determined based on perso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chanism to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 contingencies for the unavailability or non-validity of service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quired by the nomad's persona, application, or servic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7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mechanism for a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-to-logical network mapping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he nomad and the NII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6320" y="6400800"/>
            <a:ext cx="8839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79"/>
              </a:spcBef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sored by American National Standards Inst. (ANSI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5680" y="76320"/>
            <a:ext cx="4334040" cy="2057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600200" y="2666880"/>
            <a:ext cx="68580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SP - Identifying GII Standards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7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r 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8600" y="914400"/>
            <a:ext cx="8610480" cy="49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ck Hayden - Director, Information Infrastructur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. 212-642-4920 or Email: chayden@ansi.or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r B. Lefkin -Program Manager, Information Infrastructu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. 212-642-4979 or Email: plefkin@ans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rican National Standards Institute (AN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West 42nd Str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York, NY  100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: 212-642-4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212-398-00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ansi.org/iisp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584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57240"/>
            <a:ext cx="777240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ISP 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7621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and accelerate the cross-industry coordination of national and global voluntary standards for the deployment of the information infrastruc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SP is a coordinating and facilitating function to bring all players to the table to identify GII standards requirements or needs ("gaps" in existing standard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SP was established by ANSI in mid-1994 to ensure the rapid deployment of the NII/G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te sector initiative - Support and involvement of govern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584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ISP Particip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" y="1066680"/>
            <a:ext cx="868680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I and Non-ANSI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Developers, Industry Associations, Consortia, Architecture Groups, Companies, and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-Industry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, Telecommunications, Software, Cable, Cellular, Satellite, Broadcast, and Entertainment industries are all represented in II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 fund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ees from the participating organiz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8584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704880"/>
            <a:ext cx="7772400" cy="10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SP Participants</a:t>
            </a:r>
            <a:br>
              <a:rPr sz="44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66680" y="1295280"/>
            <a:ext cx="3886200" cy="510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ritech Corpo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 Incorpor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e Computer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&amp;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lc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ble Television Labs,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q Computer Corpo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search Associates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Equipment Corpo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icsson Corpor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ance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wlett-Packard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uston Associ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M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ectual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257800" y="1219320"/>
            <a:ext cx="3200400" cy="47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aton Consul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Tec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I Communications Cor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orola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t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mens A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b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s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erox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320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7632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SP Participants</a:t>
            </a:r>
            <a:br>
              <a:rPr sz="4400"/>
            </a:b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rgan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1143000"/>
            <a:ext cx="335268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I HI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 X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C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MI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SS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Clearance Ctr, In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C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RI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505320" y="1143000"/>
            <a:ext cx="53341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WOS                              T1 - Telecommunic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FES                                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LSG                               TSA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T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TC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 Americ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orm Code Counc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ID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B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U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I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W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T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/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U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pen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U - Applied Research Labora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8584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SP Participants</a:t>
            </a:r>
            <a:br>
              <a:rPr sz="44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overnment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143000" y="1371600"/>
            <a:ext cx="73152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 - Defense Information Systems A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A - Environmental Protection Ag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 - Federal Communications Commis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S - National Communications Syst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ST - National Inst. of Stds. &amp;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A Lewis Research Cen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SA - National Security Ag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 Army CECOM Res. Dev. and Eng. Ct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S. Department of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8584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143000" y="461880"/>
            <a:ext cx="6419880" cy="630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Standards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to Application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to Device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Computer (User)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to Device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to Network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(Industry) A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ic Publis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igent Transpor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adic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320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adicity Standards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86 - Nomadicity: Hand-Off Mechan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87 - Nomadicity: Person / Device Lo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88 - Nomadicity: Device Coord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89 - Nomadicity: Communications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90 - Nomadicity: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91 - Nomadicity: Unique and Anonymous I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92 - Nomadicity: Context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93 - Nomadicity: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94 - Nomadicity: Dynamic Service Allo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95 - Nomadicity: Persona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96 - Nomadicity: Exception Han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#97 - Nomadicity: Logical Network / Infrastructure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3320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7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997 IISP Cale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66680" y="144792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30-31, 1997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Key Bridge Marriot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tel - Arlington,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5 - 26, 199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Embassy Suites Hotel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xandria,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e 18 - 19, 199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Embassy Suites Hotel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xandria,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 20 - 21, 199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Embassy Suites Hotel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xandria, 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5 - 6, 199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Embassy Suites Hotel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exandria,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5840" y="594360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orge Fishel</dc:creator>
  <dc:description/>
  <dc:language>en-US</dc:language>
  <cp:lastModifiedBy>George Fishel</cp:lastModifiedBy>
  <cp:revision>0</cp:revision>
  <dc:subject/>
  <dc:title>IISP - Identifying GII Standards Requirements</dc:title>
</cp:coreProperties>
</file>