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bmp" ContentType="image/bmp"/>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0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0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A424915-0556-4468-A311-ECA7229704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371600" y="768240"/>
            <a:ext cx="5029200" cy="3767400"/>
          </a:xfrm>
          <a:prstGeom prst="rect">
            <a:avLst/>
          </a:prstGeom>
          <a:ln w="0">
            <a:noFill/>
          </a:ln>
        </p:spPr>
      </p:sp>
      <p:sp>
        <p:nvSpPr>
          <p:cNvPr id="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Stations announce changes in power management modes in acknowledged frame exchan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canning can be done while station is believed to be in power saving mode, without risk of losing messag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d to Nomadicity Need #89 - Communications Manageme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371600" y="768240"/>
            <a:ext cx="5029200" cy="3767400"/>
          </a:xfrm>
          <a:prstGeom prst="rect">
            <a:avLst/>
          </a:prstGeom>
          <a:ln w="0">
            <a:noFill/>
          </a:ln>
        </p:spPr>
      </p:sp>
      <p:sp>
        <p:nvSpPr>
          <p:cNvPr id="1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MIB attributes control how many retries are attempted before giving 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cknowledgments remove dependence on long time-outs to detect frame lo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4 Dynamic Service Allocation and #96 Exception Handling</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Link encryption provides “wired equivalent” privac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3 Secur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371600" y="768240"/>
            <a:ext cx="5029200" cy="3767400"/>
          </a:xfrm>
          <a:prstGeom prst="rect">
            <a:avLst/>
          </a:prstGeom>
          <a:ln w="0">
            <a:noFill/>
          </a:ln>
        </p:spPr>
      </p:sp>
      <p:sp>
        <p:nvSpPr>
          <p:cNvPr id="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Open system authentication will always respond with a successful authentica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hared key authentication exchanges a challenge text encrypted with the (supposedly) shared key.  The text is encrypted using the normal link encryption mechanism.  If each side is able to decrypt the challenge text, the authentication is successful.</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91 - Unique &amp; Anonymous Ids and #93 - Secur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371600" y="768240"/>
            <a:ext cx="5029200" cy="3767400"/>
          </a:xfrm>
          <a:prstGeom prst="rect">
            <a:avLst/>
          </a:prstGeom>
          <a:ln w="0">
            <a:noFill/>
          </a:ln>
        </p:spPr>
      </p:sp>
      <p:sp>
        <p:nvSpPr>
          <p:cNvPr id="154"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spcAft>
                <a:spcPts val="118587"/>
              </a:spcAft>
              <a:buNone/>
            </a:pPr>
            <a:r>
              <a:rPr b="0" lang="en-US" sz="1200" spc="-1" strike="noStrike">
                <a:solidFill>
                  <a:srgbClr val="000000"/>
                </a:solidFill>
                <a:latin typeface="Times New Roman"/>
                <a:ea typeface="Times New Roman"/>
              </a:rPr>
              <a:t>Information exchanged includes</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Liste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urrent AP Addres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quest Frame Body</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and</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tatus Cod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ssociation ID (A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spcAft>
                <a:spcPts val="118587"/>
              </a:spcAft>
              <a:buNone/>
            </a:pPr>
            <a:r>
              <a:rPr b="1" lang="en-US" sz="1200" spc="-1" strike="noStrike">
                <a:solidFill>
                  <a:srgbClr val="000000"/>
                </a:solidFill>
                <a:latin typeface="Arial"/>
                <a:ea typeface="Arial"/>
              </a:rPr>
              <a:t>Reassociation Response Frame Bod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 #86 - Handoff Mechanism, #88 - Device Coordination, and #90 - Rerout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371600" y="768240"/>
            <a:ext cx="5029200" cy="3767400"/>
          </a:xfrm>
          <a:prstGeom prst="rect">
            <a:avLst/>
          </a:prstGeom>
          <a:ln w="0">
            <a:noFill/>
          </a:ln>
        </p:spPr>
      </p:sp>
      <p:sp>
        <p:nvSpPr>
          <p:cNvPr id="156" name="PlaceHolder 2"/>
          <p:cNvSpPr>
            <a:spLocks noGrp="1"/>
          </p:cNvSpPr>
          <p:nvPr>
            <p:ph type="body"/>
          </p:nvPr>
        </p:nvSpPr>
        <p:spPr>
          <a:xfrm>
            <a:off x="777240" y="4773240"/>
            <a:ext cx="6217920" cy="36000000"/>
          </a:xfrm>
          <a:prstGeom prst="rect">
            <a:avLst/>
          </a:prstGeom>
          <a:noFill/>
          <a:ln w="0">
            <a:noFill/>
          </a:ln>
        </p:spPr>
        <p:txBody>
          <a:bodyPr lIns="0" rIns="0" tIns="0" bIns="0" anchor="t">
            <a:noAutofit/>
          </a:bodyPr>
          <a:p>
            <a:pPr indent="0">
              <a:lnSpc>
                <a:spcPct val="75000"/>
              </a:lnSpc>
              <a:spcBef>
                <a:spcPts val="118587"/>
              </a:spcBef>
              <a:buNone/>
            </a:pPr>
            <a:r>
              <a:rPr b="0" lang="en-US" sz="1200" spc="-1" strike="noStrike">
                <a:solidFill>
                  <a:srgbClr val="000000"/>
                </a:solidFill>
                <a:latin typeface="Times New Roman"/>
                <a:ea typeface="Times New Roman"/>
              </a:rPr>
              <a:t>Passive scanning conserves power (transmitter is not used) at the expense of slowing the scanning process.  Station goes to a channel and listens for Beacon or Probe Response frames for a period of time,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Active scanning completes the scanning process more quickly at the expense of greater power use.  Station goes to a channel, transmits a Probe Request frame and processes subsequent Probe Response frames, then moves to another channel.</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The information in Probe Response and Beacon frames, includes </a:t>
            </a:r>
            <a:endParaRPr b="0" lang="en-US" sz="1200" spc="-1" strike="noStrike">
              <a:solidFill>
                <a:srgbClr val="000000"/>
              </a:solidFill>
              <a:latin typeface="Arial"/>
            </a:endParaRPr>
          </a:p>
          <a:p>
            <a:pPr indent="0" algn="ctr">
              <a:lnSpc>
                <a:spcPct val="75000"/>
              </a:lnSpc>
              <a:spcBef>
                <a:spcPts val="118587"/>
              </a:spcBef>
              <a:buNone/>
            </a:pPr>
            <a:r>
              <a:rPr b="1" lang="en-US" sz="1200" spc="-1" strike="noStrike">
                <a:solidFill>
                  <a:srgbClr val="000000"/>
                </a:solidFill>
                <a:latin typeface="Arial"/>
                <a:ea typeface="Arial"/>
              </a:rPr>
              <a:t>Order</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Information</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imestamp</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eacon Interva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pability Inform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SID</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pported Rates</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H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2</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F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3</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gn="ctr">
              <a:lnSpc>
                <a:spcPct val="75000"/>
              </a:lnSpc>
              <a:spcBef>
                <a:spcPts val="118587"/>
              </a:spcBef>
              <a:buNone/>
            </a:pPr>
            <a:r>
              <a:rPr b="0" lang="en-US" sz="1200" spc="-1" strike="noStrike">
                <a:solidFill>
                  <a:srgbClr val="000000"/>
                </a:solidFill>
                <a:latin typeface="Times New Roman"/>
                <a:ea typeface="Times New Roman"/>
              </a:rPr>
              <a:t>9</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BSS Parameter Set</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a:p>
            <a:pPr indent="0">
              <a:lnSpc>
                <a:spcPct val="75000"/>
              </a:lnSpc>
              <a:spcBef>
                <a:spcPts val="118587"/>
              </a:spcBef>
              <a:buNone/>
            </a:pPr>
            <a:r>
              <a:rPr b="0" lang="en-US" sz="1200" spc="-1" strike="noStrike">
                <a:solidFill>
                  <a:srgbClr val="000000"/>
                </a:solidFill>
                <a:latin typeface="Times New Roman"/>
                <a:ea typeface="Times New Roman"/>
              </a:rPr>
              <a:t>Related to Nomadicity Needs #86 - Handoff Mechanism, #87 - Person - Device Location, and #90 - Rerouting.</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75000"/>
              </a:lnSpc>
              <a:spcBef>
                <a:spcPts val="118587"/>
              </a:spcBef>
              <a:buNone/>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371600" y="768240"/>
            <a:ext cx="5029200" cy="3767400"/>
          </a:xfrm>
          <a:prstGeom prst="rect">
            <a:avLst/>
          </a:prstGeom>
          <a:ln w="0">
            <a:noFill/>
          </a:ln>
        </p:spPr>
      </p:sp>
      <p:sp>
        <p:nvSpPr>
          <p:cNvPr id="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assive loss” of association when moving out of range of current association is signaled by increasing frame error rates and frame failure rates.</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active loss” results from receipt of disassociat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uccess or failure of an attempted association is signal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ailure is time-out based or from fail code in associate respon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uccess is based on receipt of associate response fram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Relates to Nomadicity Needs #94 - Dynamic Service Allocation, and #96 - Exception Hand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219240" y="1622520"/>
            <a:ext cx="8799480" cy="5043600"/>
            <a:chOff x="219240" y="1622520"/>
            <a:chExt cx="8799480" cy="5043600"/>
          </a:xfrm>
        </p:grpSpPr>
        <p:grpSp>
          <p:nvGrpSpPr>
            <p:cNvPr id="2" name=""/>
            <p:cNvGrpSpPr/>
            <p:nvPr/>
          </p:nvGrpSpPr>
          <p:grpSpPr>
            <a:xfrm>
              <a:off x="219240" y="1622520"/>
              <a:ext cx="8304480" cy="149400"/>
              <a:chOff x="219240" y="1622520"/>
              <a:chExt cx="8304480" cy="149400"/>
            </a:xfrm>
          </p:grpSpPr>
          <p:sp>
            <p:nvSpPr>
              <p:cNvPr id="3" name=""/>
              <p:cNvSpPr/>
              <p:nvPr/>
            </p:nvSpPr>
            <p:spPr>
              <a:xfrm>
                <a:off x="219240" y="16383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 name=""/>
              <p:cNvSpPr/>
              <p:nvPr/>
            </p:nvSpPr>
            <p:spPr>
              <a:xfrm>
                <a:off x="236520" y="16225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5" name=""/>
            <p:cNvGrpSpPr/>
            <p:nvPr/>
          </p:nvGrpSpPr>
          <p:grpSpPr>
            <a:xfrm>
              <a:off x="8408880" y="5317200"/>
              <a:ext cx="609840" cy="1348920"/>
              <a:chOff x="8408880" y="5317200"/>
              <a:chExt cx="609840" cy="1348920"/>
            </a:xfrm>
          </p:grpSpPr>
          <p:grpSp>
            <p:nvGrpSpPr>
              <p:cNvPr id="6" name=""/>
              <p:cNvGrpSpPr/>
              <p:nvPr/>
            </p:nvGrpSpPr>
            <p:grpSpPr>
              <a:xfrm>
                <a:off x="8415360" y="5334480"/>
                <a:ext cx="603360" cy="1331640"/>
                <a:chOff x="8415360" y="5334480"/>
                <a:chExt cx="603360" cy="1331640"/>
              </a:xfrm>
            </p:grpSpPr>
            <p:sp>
              <p:nvSpPr>
                <p:cNvPr id="7" name=""/>
                <p:cNvSpPr/>
                <p:nvPr/>
              </p:nvSpPr>
              <p:spPr>
                <a:xfrm>
                  <a:off x="8415360" y="566244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 name=""/>
                <p:cNvSpPr/>
                <p:nvPr/>
              </p:nvSpPr>
              <p:spPr>
                <a:xfrm>
                  <a:off x="8572680" y="5334480"/>
                  <a:ext cx="167400" cy="308520"/>
                </a:xfrm>
                <a:custGeom>
                  <a:avLst/>
                  <a:gdLst/>
                  <a:ahLst/>
                  <a:rect l="0" t="0" r="r" b="b"/>
                  <a:pathLst>
                    <a:path w="465" h="857">
                      <a:moveTo>
                        <a:pt x="16" y="383"/>
                      </a:moveTo>
                      <a:lnTo>
                        <a:pt x="16" y="383"/>
                      </a:lnTo>
                      <a:cubicBezTo>
                        <a:pt x="16" y="384"/>
                        <a:pt x="16" y="385"/>
                        <a:pt x="16" y="386"/>
                      </a:cubicBezTo>
                      <a:cubicBezTo>
                        <a:pt x="1" y="461"/>
                        <a:pt x="-3" y="536"/>
                        <a:pt x="3" y="605"/>
                      </a:cubicBezTo>
                      <a:cubicBezTo>
                        <a:pt x="10" y="673"/>
                        <a:pt x="27" y="732"/>
                        <a:pt x="52" y="776"/>
                      </a:cubicBezTo>
                      <a:cubicBezTo>
                        <a:pt x="78" y="820"/>
                        <a:pt x="112" y="847"/>
                        <a:pt x="150" y="854"/>
                      </a:cubicBezTo>
                      <a:cubicBezTo>
                        <a:pt x="188" y="862"/>
                        <a:pt x="230" y="849"/>
                        <a:pt x="270" y="818"/>
                      </a:cubicBezTo>
                      <a:cubicBezTo>
                        <a:pt x="310" y="787"/>
                        <a:pt x="348" y="739"/>
                        <a:pt x="380" y="678"/>
                      </a:cubicBezTo>
                      <a:cubicBezTo>
                        <a:pt x="411" y="617"/>
                        <a:pt x="435" y="547"/>
                        <a:pt x="450" y="473"/>
                      </a:cubicBezTo>
                      <a:lnTo>
                        <a:pt x="450" y="473"/>
                      </a:lnTo>
                      <a:cubicBezTo>
                        <a:pt x="450" y="472"/>
                        <a:pt x="450" y="471"/>
                        <a:pt x="450" y="470"/>
                      </a:cubicBezTo>
                      <a:cubicBezTo>
                        <a:pt x="465" y="395"/>
                        <a:pt x="469" y="320"/>
                        <a:pt x="463" y="251"/>
                      </a:cubicBezTo>
                      <a:cubicBezTo>
                        <a:pt x="456" y="183"/>
                        <a:pt x="439" y="124"/>
                        <a:pt x="414" y="80"/>
                      </a:cubicBezTo>
                      <a:cubicBezTo>
                        <a:pt x="388" y="36"/>
                        <a:pt x="354" y="9"/>
                        <a:pt x="316" y="2"/>
                      </a:cubicBezTo>
                      <a:cubicBezTo>
                        <a:pt x="278" y="-6"/>
                        <a:pt x="236" y="7"/>
                        <a:pt x="196" y="38"/>
                      </a:cubicBezTo>
                      <a:cubicBezTo>
                        <a:pt x="156" y="69"/>
                        <a:pt x="118" y="117"/>
                        <a:pt x="86" y="178"/>
                      </a:cubicBezTo>
                      <a:cubicBezTo>
                        <a:pt x="55" y="239"/>
                        <a:pt x="31" y="309"/>
                        <a:pt x="16" y="383"/>
                      </a:cubicBez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 name=""/>
                <p:cNvSpPr/>
                <p:nvPr/>
              </p:nvSpPr>
              <p:spPr>
                <a:xfrm>
                  <a:off x="8753400" y="544824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 name=""/>
                <p:cNvSpPr/>
                <p:nvPr/>
              </p:nvSpPr>
              <p:spPr>
                <a:xfrm>
                  <a:off x="8829720" y="556560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8943840" y="578160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 name=""/>
                <p:cNvSpPr/>
                <p:nvPr/>
              </p:nvSpPr>
              <p:spPr>
                <a:xfrm>
                  <a:off x="8888400" y="568332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3" name=""/>
              <p:cNvGrpSpPr/>
              <p:nvPr/>
            </p:nvGrpSpPr>
            <p:grpSpPr>
              <a:xfrm>
                <a:off x="8408880" y="5317200"/>
                <a:ext cx="603720" cy="1331640"/>
                <a:chOff x="8408880" y="5317200"/>
                <a:chExt cx="603720" cy="1331640"/>
              </a:xfrm>
            </p:grpSpPr>
            <p:sp>
              <p:nvSpPr>
                <p:cNvPr id="14" name=""/>
                <p:cNvSpPr/>
                <p:nvPr/>
              </p:nvSpPr>
              <p:spPr>
                <a:xfrm>
                  <a:off x="8408880" y="5645160"/>
                  <a:ext cx="535320" cy="1003680"/>
                </a:xfrm>
                <a:custGeom>
                  <a:avLst/>
                  <a:gdLst/>
                  <a:ahLst/>
                  <a:rect l="0" t="0" r="r" b="b"/>
                  <a:pathLst>
                    <a:path w="1487" h="2788">
                      <a:moveTo>
                        <a:pt x="396" y="1628"/>
                      </a:moveTo>
                      <a:lnTo>
                        <a:pt x="489" y="1416"/>
                      </a:lnTo>
                      <a:lnTo>
                        <a:pt x="396" y="1059"/>
                      </a:lnTo>
                      <a:lnTo>
                        <a:pt x="282" y="838"/>
                      </a:lnTo>
                      <a:lnTo>
                        <a:pt x="238" y="582"/>
                      </a:lnTo>
                      <a:lnTo>
                        <a:pt x="251" y="423"/>
                      </a:lnTo>
                      <a:lnTo>
                        <a:pt x="277" y="330"/>
                      </a:lnTo>
                      <a:lnTo>
                        <a:pt x="326" y="185"/>
                      </a:lnTo>
                      <a:lnTo>
                        <a:pt x="489" y="79"/>
                      </a:lnTo>
                      <a:lnTo>
                        <a:pt x="652" y="0"/>
                      </a:lnTo>
                      <a:lnTo>
                        <a:pt x="794" y="0"/>
                      </a:lnTo>
                      <a:lnTo>
                        <a:pt x="931" y="48"/>
                      </a:lnTo>
                      <a:lnTo>
                        <a:pt x="1024" y="185"/>
                      </a:lnTo>
                      <a:lnTo>
                        <a:pt x="1072" y="282"/>
                      </a:lnTo>
                      <a:lnTo>
                        <a:pt x="1209" y="418"/>
                      </a:lnTo>
                      <a:lnTo>
                        <a:pt x="1301" y="560"/>
                      </a:lnTo>
                      <a:lnTo>
                        <a:pt x="1442" y="696"/>
                      </a:lnTo>
                      <a:lnTo>
                        <a:pt x="1487" y="838"/>
                      </a:lnTo>
                      <a:lnTo>
                        <a:pt x="1487" y="975"/>
                      </a:lnTo>
                      <a:lnTo>
                        <a:pt x="1442" y="1072"/>
                      </a:lnTo>
                      <a:lnTo>
                        <a:pt x="1394" y="1209"/>
                      </a:lnTo>
                      <a:lnTo>
                        <a:pt x="1301" y="1350"/>
                      </a:lnTo>
                      <a:lnTo>
                        <a:pt x="1209" y="1487"/>
                      </a:lnTo>
                      <a:lnTo>
                        <a:pt x="1072" y="1579"/>
                      </a:lnTo>
                      <a:lnTo>
                        <a:pt x="1024" y="1720"/>
                      </a:lnTo>
                      <a:lnTo>
                        <a:pt x="931" y="1857"/>
                      </a:lnTo>
                      <a:lnTo>
                        <a:pt x="838" y="1954"/>
                      </a:lnTo>
                      <a:lnTo>
                        <a:pt x="794" y="2140"/>
                      </a:lnTo>
                      <a:lnTo>
                        <a:pt x="746" y="2277"/>
                      </a:lnTo>
                      <a:lnTo>
                        <a:pt x="696" y="2418"/>
                      </a:lnTo>
                      <a:lnTo>
                        <a:pt x="604" y="2555"/>
                      </a:lnTo>
                      <a:lnTo>
                        <a:pt x="418" y="2696"/>
                      </a:lnTo>
                      <a:lnTo>
                        <a:pt x="282" y="2788"/>
                      </a:lnTo>
                      <a:lnTo>
                        <a:pt x="141" y="2744"/>
                      </a:lnTo>
                      <a:lnTo>
                        <a:pt x="48" y="2647"/>
                      </a:lnTo>
                      <a:lnTo>
                        <a:pt x="0" y="2594"/>
                      </a:lnTo>
                      <a:lnTo>
                        <a:pt x="0" y="2449"/>
                      </a:lnTo>
                      <a:lnTo>
                        <a:pt x="13" y="2290"/>
                      </a:lnTo>
                      <a:lnTo>
                        <a:pt x="66" y="2131"/>
                      </a:lnTo>
                      <a:lnTo>
                        <a:pt x="105" y="1985"/>
                      </a:lnTo>
                      <a:lnTo>
                        <a:pt x="291" y="1800"/>
                      </a:lnTo>
                      <a:lnTo>
                        <a:pt x="396" y="1628"/>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8566200" y="5317200"/>
                  <a:ext cx="166680" cy="307800"/>
                </a:xfrm>
                <a:custGeom>
                  <a:avLst/>
                  <a:gdLst/>
                  <a:ahLst/>
                  <a:rect l="0" t="0" r="r" b="b"/>
                  <a:pathLst>
                    <a:path w="463" h="855">
                      <a:moveTo>
                        <a:pt x="16" y="382"/>
                      </a:moveTo>
                      <a:lnTo>
                        <a:pt x="16" y="382"/>
                      </a:lnTo>
                      <a:cubicBezTo>
                        <a:pt x="16" y="383"/>
                        <a:pt x="16" y="384"/>
                        <a:pt x="15" y="385"/>
                      </a:cubicBezTo>
                      <a:cubicBezTo>
                        <a:pt x="1" y="460"/>
                        <a:pt x="-3" y="535"/>
                        <a:pt x="3" y="603"/>
                      </a:cubicBezTo>
                      <a:cubicBezTo>
                        <a:pt x="10" y="672"/>
                        <a:pt x="26" y="731"/>
                        <a:pt x="52" y="774"/>
                      </a:cubicBezTo>
                      <a:cubicBezTo>
                        <a:pt x="78" y="818"/>
                        <a:pt x="111" y="845"/>
                        <a:pt x="149" y="852"/>
                      </a:cubicBezTo>
                      <a:cubicBezTo>
                        <a:pt x="187" y="860"/>
                        <a:pt x="229" y="847"/>
                        <a:pt x="269" y="816"/>
                      </a:cubicBezTo>
                      <a:cubicBezTo>
                        <a:pt x="309" y="785"/>
                        <a:pt x="347" y="737"/>
                        <a:pt x="378" y="676"/>
                      </a:cubicBezTo>
                      <a:cubicBezTo>
                        <a:pt x="409" y="616"/>
                        <a:pt x="433" y="546"/>
                        <a:pt x="448" y="472"/>
                      </a:cubicBezTo>
                      <a:lnTo>
                        <a:pt x="448" y="472"/>
                      </a:lnTo>
                      <a:cubicBezTo>
                        <a:pt x="448" y="471"/>
                        <a:pt x="448" y="470"/>
                        <a:pt x="449" y="469"/>
                      </a:cubicBezTo>
                      <a:cubicBezTo>
                        <a:pt x="463" y="394"/>
                        <a:pt x="467" y="319"/>
                        <a:pt x="461" y="251"/>
                      </a:cubicBezTo>
                      <a:cubicBezTo>
                        <a:pt x="454" y="182"/>
                        <a:pt x="438" y="123"/>
                        <a:pt x="412" y="80"/>
                      </a:cubicBezTo>
                      <a:cubicBezTo>
                        <a:pt x="386" y="36"/>
                        <a:pt x="353" y="9"/>
                        <a:pt x="315" y="2"/>
                      </a:cubicBezTo>
                      <a:cubicBezTo>
                        <a:pt x="277" y="-6"/>
                        <a:pt x="235" y="7"/>
                        <a:pt x="195" y="38"/>
                      </a:cubicBezTo>
                      <a:cubicBezTo>
                        <a:pt x="155" y="69"/>
                        <a:pt x="117" y="117"/>
                        <a:pt x="86" y="178"/>
                      </a:cubicBezTo>
                      <a:cubicBezTo>
                        <a:pt x="55" y="238"/>
                        <a:pt x="31" y="308"/>
                        <a:pt x="16" y="382"/>
                      </a:cubicBez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8747280" y="5430960"/>
                  <a:ext cx="84600" cy="213120"/>
                </a:xfrm>
                <a:custGeom>
                  <a:avLst/>
                  <a:gdLst/>
                  <a:ahLst/>
                  <a:rect l="0" t="0" r="r" b="b"/>
                  <a:pathLst>
                    <a:path w="235" h="592">
                      <a:moveTo>
                        <a:pt x="26" y="49"/>
                      </a:moveTo>
                      <a:lnTo>
                        <a:pt x="13" y="166"/>
                      </a:lnTo>
                      <a:lnTo>
                        <a:pt x="0" y="282"/>
                      </a:lnTo>
                      <a:lnTo>
                        <a:pt x="0" y="382"/>
                      </a:lnTo>
                      <a:lnTo>
                        <a:pt x="26" y="482"/>
                      </a:lnTo>
                      <a:lnTo>
                        <a:pt x="115" y="592"/>
                      </a:lnTo>
                      <a:lnTo>
                        <a:pt x="200" y="510"/>
                      </a:lnTo>
                      <a:lnTo>
                        <a:pt x="235" y="299"/>
                      </a:lnTo>
                      <a:lnTo>
                        <a:pt x="222" y="177"/>
                      </a:lnTo>
                      <a:lnTo>
                        <a:pt x="187" y="82"/>
                      </a:lnTo>
                      <a:lnTo>
                        <a:pt x="89" y="0"/>
                      </a:lnTo>
                      <a:lnTo>
                        <a:pt x="26" y="49"/>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8823240" y="5548320"/>
                  <a:ext cx="90720" cy="168480"/>
                </a:xfrm>
                <a:custGeom>
                  <a:avLst/>
                  <a:gdLst/>
                  <a:ahLst/>
                  <a:rect l="0" t="0" r="r" b="b"/>
                  <a:pathLst>
                    <a:path w="252" h="468">
                      <a:moveTo>
                        <a:pt x="83" y="26"/>
                      </a:moveTo>
                      <a:lnTo>
                        <a:pt x="48" y="114"/>
                      </a:lnTo>
                      <a:lnTo>
                        <a:pt x="17" y="202"/>
                      </a:lnTo>
                      <a:lnTo>
                        <a:pt x="0" y="278"/>
                      </a:lnTo>
                      <a:lnTo>
                        <a:pt x="8" y="362"/>
                      </a:lnTo>
                      <a:lnTo>
                        <a:pt x="79" y="468"/>
                      </a:lnTo>
                      <a:lnTo>
                        <a:pt x="172" y="419"/>
                      </a:lnTo>
                      <a:lnTo>
                        <a:pt x="243" y="265"/>
                      </a:lnTo>
                      <a:lnTo>
                        <a:pt x="252" y="163"/>
                      </a:lnTo>
                      <a:lnTo>
                        <a:pt x="234" y="83"/>
                      </a:lnTo>
                      <a:lnTo>
                        <a:pt x="150" y="0"/>
                      </a:lnTo>
                      <a:lnTo>
                        <a:pt x="83" y="26"/>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8937720" y="5764320"/>
                  <a:ext cx="74880" cy="130680"/>
                </a:xfrm>
                <a:custGeom>
                  <a:avLst/>
                  <a:gdLst/>
                  <a:ahLst/>
                  <a:rect l="0" t="0" r="r" b="b"/>
                  <a:pathLst>
                    <a:path w="208" h="363">
                      <a:moveTo>
                        <a:pt x="69" y="20"/>
                      </a:moveTo>
                      <a:lnTo>
                        <a:pt x="39" y="88"/>
                      </a:lnTo>
                      <a:lnTo>
                        <a:pt x="14" y="157"/>
                      </a:lnTo>
                      <a:lnTo>
                        <a:pt x="0" y="215"/>
                      </a:lnTo>
                      <a:lnTo>
                        <a:pt x="7" y="281"/>
                      </a:lnTo>
                      <a:lnTo>
                        <a:pt x="65" y="363"/>
                      </a:lnTo>
                      <a:lnTo>
                        <a:pt x="142" y="326"/>
                      </a:lnTo>
                      <a:lnTo>
                        <a:pt x="200" y="205"/>
                      </a:lnTo>
                      <a:lnTo>
                        <a:pt x="208" y="127"/>
                      </a:lnTo>
                      <a:lnTo>
                        <a:pt x="193" y="64"/>
                      </a:lnTo>
                      <a:lnTo>
                        <a:pt x="124" y="0"/>
                      </a:lnTo>
                      <a:lnTo>
                        <a:pt x="69" y="20"/>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8881920" y="5665680"/>
                  <a:ext cx="87840" cy="146520"/>
                </a:xfrm>
                <a:custGeom>
                  <a:avLst/>
                  <a:gdLst/>
                  <a:ahLst/>
                  <a:rect l="0" t="0" r="r" b="b"/>
                  <a:pathLst>
                    <a:path w="244" h="407">
                      <a:moveTo>
                        <a:pt x="81" y="22"/>
                      </a:moveTo>
                      <a:lnTo>
                        <a:pt x="46" y="99"/>
                      </a:lnTo>
                      <a:lnTo>
                        <a:pt x="17" y="177"/>
                      </a:lnTo>
                      <a:lnTo>
                        <a:pt x="0" y="242"/>
                      </a:lnTo>
                      <a:lnTo>
                        <a:pt x="8" y="315"/>
                      </a:lnTo>
                      <a:lnTo>
                        <a:pt x="77" y="407"/>
                      </a:lnTo>
                      <a:lnTo>
                        <a:pt x="166" y="365"/>
                      </a:lnTo>
                      <a:lnTo>
                        <a:pt x="236" y="230"/>
                      </a:lnTo>
                      <a:lnTo>
                        <a:pt x="244" y="142"/>
                      </a:lnTo>
                      <a:lnTo>
                        <a:pt x="227" y="72"/>
                      </a:lnTo>
                      <a:lnTo>
                        <a:pt x="145" y="0"/>
                      </a:lnTo>
                      <a:lnTo>
                        <a:pt x="81" y="2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9" name=""/>
          <p:cNvGrpSpPr/>
          <p:nvPr/>
        </p:nvGrpSpPr>
        <p:grpSpPr>
          <a:xfrm>
            <a:off x="244440" y="3316320"/>
            <a:ext cx="8304840" cy="149400"/>
            <a:chOff x="244440" y="3316320"/>
            <a:chExt cx="8304840" cy="149400"/>
          </a:xfrm>
        </p:grpSpPr>
        <p:sp>
          <p:nvSpPr>
            <p:cNvPr id="60" name=""/>
            <p:cNvSpPr/>
            <p:nvPr/>
          </p:nvSpPr>
          <p:spPr>
            <a:xfrm>
              <a:off x="244440" y="333216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f8f8f8">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262080" y="3316320"/>
              <a:ext cx="8287200" cy="133560"/>
            </a:xfrm>
            <a:custGeom>
              <a:avLst/>
              <a:gdLst/>
              <a:ahLst/>
              <a:rect l="0" t="0" r="r" b="b"/>
              <a:pathLst>
                <a:path w="23020" h="371">
                  <a:moveTo>
                    <a:pt x="0" y="112"/>
                  </a:moveTo>
                  <a:lnTo>
                    <a:pt x="415" y="74"/>
                  </a:lnTo>
                  <a:lnTo>
                    <a:pt x="555" y="38"/>
                  </a:lnTo>
                  <a:lnTo>
                    <a:pt x="739" y="38"/>
                  </a:lnTo>
                  <a:lnTo>
                    <a:pt x="874" y="38"/>
                  </a:lnTo>
                  <a:lnTo>
                    <a:pt x="1058" y="38"/>
                  </a:lnTo>
                  <a:lnTo>
                    <a:pt x="1430" y="38"/>
                  </a:lnTo>
                  <a:lnTo>
                    <a:pt x="1566" y="74"/>
                  </a:lnTo>
                  <a:lnTo>
                    <a:pt x="1706" y="74"/>
                  </a:lnTo>
                  <a:lnTo>
                    <a:pt x="1889" y="112"/>
                  </a:lnTo>
                  <a:lnTo>
                    <a:pt x="2025" y="148"/>
                  </a:lnTo>
                  <a:lnTo>
                    <a:pt x="2165" y="148"/>
                  </a:lnTo>
                  <a:lnTo>
                    <a:pt x="2532" y="148"/>
                  </a:lnTo>
                  <a:lnTo>
                    <a:pt x="2716" y="148"/>
                  </a:lnTo>
                  <a:lnTo>
                    <a:pt x="2900" y="148"/>
                  </a:lnTo>
                  <a:lnTo>
                    <a:pt x="3224" y="148"/>
                  </a:lnTo>
                  <a:lnTo>
                    <a:pt x="3499" y="148"/>
                  </a:lnTo>
                  <a:lnTo>
                    <a:pt x="3775" y="148"/>
                  </a:lnTo>
                  <a:lnTo>
                    <a:pt x="4050" y="148"/>
                  </a:lnTo>
                  <a:lnTo>
                    <a:pt x="4190" y="148"/>
                  </a:lnTo>
                  <a:lnTo>
                    <a:pt x="4514" y="112"/>
                  </a:lnTo>
                  <a:lnTo>
                    <a:pt x="4698" y="74"/>
                  </a:lnTo>
                  <a:lnTo>
                    <a:pt x="4881" y="0"/>
                  </a:lnTo>
                  <a:lnTo>
                    <a:pt x="5017" y="0"/>
                  </a:lnTo>
                  <a:lnTo>
                    <a:pt x="5157" y="0"/>
                  </a:lnTo>
                  <a:lnTo>
                    <a:pt x="5433" y="0"/>
                  </a:lnTo>
                  <a:lnTo>
                    <a:pt x="5616" y="38"/>
                  </a:lnTo>
                  <a:lnTo>
                    <a:pt x="5893" y="38"/>
                  </a:lnTo>
                  <a:lnTo>
                    <a:pt x="6169" y="38"/>
                  </a:lnTo>
                  <a:lnTo>
                    <a:pt x="6265" y="74"/>
                  </a:lnTo>
                  <a:lnTo>
                    <a:pt x="6540" y="74"/>
                  </a:lnTo>
                  <a:lnTo>
                    <a:pt x="6816" y="112"/>
                  </a:lnTo>
                  <a:lnTo>
                    <a:pt x="7092" y="112"/>
                  </a:lnTo>
                  <a:lnTo>
                    <a:pt x="7275" y="112"/>
                  </a:lnTo>
                  <a:lnTo>
                    <a:pt x="7459" y="112"/>
                  </a:lnTo>
                  <a:lnTo>
                    <a:pt x="7643" y="112"/>
                  </a:lnTo>
                  <a:lnTo>
                    <a:pt x="7827" y="112"/>
                  </a:lnTo>
                  <a:lnTo>
                    <a:pt x="8010" y="74"/>
                  </a:lnTo>
                  <a:lnTo>
                    <a:pt x="8382" y="74"/>
                  </a:lnTo>
                  <a:lnTo>
                    <a:pt x="8750" y="112"/>
                  </a:lnTo>
                  <a:lnTo>
                    <a:pt x="9025" y="112"/>
                  </a:lnTo>
                  <a:lnTo>
                    <a:pt x="9301" y="112"/>
                  </a:lnTo>
                  <a:lnTo>
                    <a:pt x="9576" y="112"/>
                  </a:lnTo>
                  <a:lnTo>
                    <a:pt x="9852" y="112"/>
                  </a:lnTo>
                  <a:lnTo>
                    <a:pt x="9992" y="112"/>
                  </a:lnTo>
                  <a:lnTo>
                    <a:pt x="10176" y="112"/>
                  </a:lnTo>
                  <a:lnTo>
                    <a:pt x="10543" y="112"/>
                  </a:lnTo>
                  <a:lnTo>
                    <a:pt x="10867" y="112"/>
                  </a:lnTo>
                  <a:lnTo>
                    <a:pt x="11051" y="112"/>
                  </a:lnTo>
                  <a:lnTo>
                    <a:pt x="11234" y="112"/>
                  </a:lnTo>
                  <a:lnTo>
                    <a:pt x="11418" y="112"/>
                  </a:lnTo>
                  <a:lnTo>
                    <a:pt x="11694" y="112"/>
                  </a:lnTo>
                  <a:lnTo>
                    <a:pt x="11877" y="112"/>
                  </a:lnTo>
                  <a:lnTo>
                    <a:pt x="12017" y="112"/>
                  </a:lnTo>
                  <a:lnTo>
                    <a:pt x="12157" y="112"/>
                  </a:lnTo>
                  <a:lnTo>
                    <a:pt x="12433" y="112"/>
                  </a:lnTo>
                  <a:lnTo>
                    <a:pt x="12708" y="112"/>
                  </a:lnTo>
                  <a:lnTo>
                    <a:pt x="13076" y="112"/>
                  </a:lnTo>
                  <a:lnTo>
                    <a:pt x="13260" y="148"/>
                  </a:lnTo>
                  <a:lnTo>
                    <a:pt x="13400" y="148"/>
                  </a:lnTo>
                  <a:lnTo>
                    <a:pt x="13535" y="148"/>
                  </a:lnTo>
                  <a:lnTo>
                    <a:pt x="13675" y="262"/>
                  </a:lnTo>
                  <a:lnTo>
                    <a:pt x="13811" y="371"/>
                  </a:lnTo>
                  <a:lnTo>
                    <a:pt x="13903" y="262"/>
                  </a:lnTo>
                  <a:lnTo>
                    <a:pt x="14183" y="297"/>
                  </a:lnTo>
                  <a:lnTo>
                    <a:pt x="14318" y="297"/>
                  </a:lnTo>
                  <a:lnTo>
                    <a:pt x="14502" y="262"/>
                  </a:lnTo>
                  <a:lnTo>
                    <a:pt x="14642" y="223"/>
                  </a:lnTo>
                  <a:lnTo>
                    <a:pt x="14778" y="223"/>
                  </a:lnTo>
                  <a:lnTo>
                    <a:pt x="15149" y="223"/>
                  </a:lnTo>
                  <a:lnTo>
                    <a:pt x="15609" y="223"/>
                  </a:lnTo>
                  <a:lnTo>
                    <a:pt x="16068" y="223"/>
                  </a:lnTo>
                  <a:lnTo>
                    <a:pt x="16344" y="223"/>
                  </a:lnTo>
                  <a:lnTo>
                    <a:pt x="16619" y="187"/>
                  </a:lnTo>
                  <a:lnTo>
                    <a:pt x="16803" y="148"/>
                  </a:lnTo>
                  <a:lnTo>
                    <a:pt x="16899" y="112"/>
                  </a:lnTo>
                  <a:lnTo>
                    <a:pt x="17035" y="74"/>
                  </a:lnTo>
                  <a:lnTo>
                    <a:pt x="17175" y="38"/>
                  </a:lnTo>
                  <a:lnTo>
                    <a:pt x="17451" y="38"/>
                  </a:lnTo>
                  <a:lnTo>
                    <a:pt x="17587" y="38"/>
                  </a:lnTo>
                  <a:lnTo>
                    <a:pt x="17959" y="38"/>
                  </a:lnTo>
                  <a:lnTo>
                    <a:pt x="18326" y="38"/>
                  </a:lnTo>
                  <a:lnTo>
                    <a:pt x="18462" y="38"/>
                  </a:lnTo>
                  <a:lnTo>
                    <a:pt x="18646" y="38"/>
                  </a:lnTo>
                  <a:lnTo>
                    <a:pt x="19018" y="38"/>
                  </a:lnTo>
                  <a:lnTo>
                    <a:pt x="19293" y="38"/>
                  </a:lnTo>
                  <a:lnTo>
                    <a:pt x="19429" y="112"/>
                  </a:lnTo>
                  <a:lnTo>
                    <a:pt x="19569" y="148"/>
                  </a:lnTo>
                  <a:lnTo>
                    <a:pt x="19752" y="148"/>
                  </a:lnTo>
                  <a:lnTo>
                    <a:pt x="20120" y="148"/>
                  </a:lnTo>
                  <a:lnTo>
                    <a:pt x="20396" y="148"/>
                  </a:lnTo>
                  <a:lnTo>
                    <a:pt x="20671" y="148"/>
                  </a:lnTo>
                  <a:lnTo>
                    <a:pt x="20767" y="148"/>
                  </a:lnTo>
                  <a:lnTo>
                    <a:pt x="20951" y="148"/>
                  </a:lnTo>
                  <a:lnTo>
                    <a:pt x="21135" y="148"/>
                  </a:lnTo>
                  <a:lnTo>
                    <a:pt x="21319" y="148"/>
                  </a:lnTo>
                  <a:lnTo>
                    <a:pt x="21594" y="148"/>
                  </a:lnTo>
                  <a:lnTo>
                    <a:pt x="21734" y="148"/>
                  </a:lnTo>
                  <a:lnTo>
                    <a:pt x="22053" y="148"/>
                  </a:lnTo>
                  <a:lnTo>
                    <a:pt x="22377" y="148"/>
                  </a:lnTo>
                  <a:lnTo>
                    <a:pt x="22701" y="148"/>
                  </a:lnTo>
                  <a:lnTo>
                    <a:pt x="22837" y="148"/>
                  </a:lnTo>
                  <a:lnTo>
                    <a:pt x="23020" y="223"/>
                  </a:lnTo>
                  <a:lnTo>
                    <a:pt x="22928" y="336"/>
                  </a:lnTo>
                  <a:lnTo>
                    <a:pt x="22561" y="336"/>
                  </a:lnTo>
                  <a:lnTo>
                    <a:pt x="22421" y="336"/>
                  </a:lnTo>
                  <a:lnTo>
                    <a:pt x="22053" y="297"/>
                  </a:lnTo>
                  <a:lnTo>
                    <a:pt x="21778" y="297"/>
                  </a:lnTo>
                  <a:lnTo>
                    <a:pt x="21638" y="297"/>
                  </a:lnTo>
                  <a:lnTo>
                    <a:pt x="21454" y="297"/>
                  </a:lnTo>
                  <a:lnTo>
                    <a:pt x="21135" y="297"/>
                  </a:lnTo>
                  <a:lnTo>
                    <a:pt x="20811" y="297"/>
                  </a:lnTo>
                  <a:lnTo>
                    <a:pt x="20671" y="297"/>
                  </a:lnTo>
                  <a:lnTo>
                    <a:pt x="20396" y="297"/>
                  </a:lnTo>
                  <a:lnTo>
                    <a:pt x="20212" y="297"/>
                  </a:lnTo>
                  <a:lnTo>
                    <a:pt x="19844" y="336"/>
                  </a:lnTo>
                  <a:lnTo>
                    <a:pt x="19704" y="371"/>
                  </a:lnTo>
                  <a:lnTo>
                    <a:pt x="19521" y="371"/>
                  </a:lnTo>
                  <a:lnTo>
                    <a:pt x="19385" y="371"/>
                  </a:lnTo>
                  <a:lnTo>
                    <a:pt x="19018" y="371"/>
                  </a:lnTo>
                  <a:lnTo>
                    <a:pt x="18738" y="371"/>
                  </a:lnTo>
                  <a:lnTo>
                    <a:pt x="18602" y="371"/>
                  </a:lnTo>
                  <a:lnTo>
                    <a:pt x="18143" y="336"/>
                  </a:lnTo>
                  <a:lnTo>
                    <a:pt x="17771" y="336"/>
                  </a:lnTo>
                  <a:lnTo>
                    <a:pt x="17403" y="297"/>
                  </a:lnTo>
                  <a:lnTo>
                    <a:pt x="17127" y="262"/>
                  </a:lnTo>
                  <a:lnTo>
                    <a:pt x="16991" y="262"/>
                  </a:lnTo>
                  <a:lnTo>
                    <a:pt x="16851" y="262"/>
                  </a:lnTo>
                  <a:lnTo>
                    <a:pt x="16711" y="262"/>
                  </a:lnTo>
                  <a:lnTo>
                    <a:pt x="16576" y="262"/>
                  </a:lnTo>
                  <a:lnTo>
                    <a:pt x="16208" y="262"/>
                  </a:lnTo>
                  <a:lnTo>
                    <a:pt x="15933" y="262"/>
                  </a:lnTo>
                  <a:lnTo>
                    <a:pt x="15653" y="262"/>
                  </a:lnTo>
                  <a:lnTo>
                    <a:pt x="15517" y="262"/>
                  </a:lnTo>
                  <a:lnTo>
                    <a:pt x="15377" y="336"/>
                  </a:lnTo>
                  <a:lnTo>
                    <a:pt x="15241" y="336"/>
                  </a:lnTo>
                  <a:lnTo>
                    <a:pt x="14966" y="371"/>
                  </a:lnTo>
                  <a:lnTo>
                    <a:pt x="14642" y="371"/>
                  </a:lnTo>
                  <a:lnTo>
                    <a:pt x="14275" y="371"/>
                  </a:lnTo>
                  <a:lnTo>
                    <a:pt x="14135" y="371"/>
                  </a:lnTo>
                  <a:lnTo>
                    <a:pt x="13767" y="371"/>
                  </a:lnTo>
                  <a:lnTo>
                    <a:pt x="13492" y="371"/>
                  </a:lnTo>
                  <a:lnTo>
                    <a:pt x="13352" y="371"/>
                  </a:lnTo>
                  <a:lnTo>
                    <a:pt x="12984" y="336"/>
                  </a:lnTo>
                  <a:lnTo>
                    <a:pt x="12617" y="336"/>
                  </a:lnTo>
                  <a:lnTo>
                    <a:pt x="12341" y="336"/>
                  </a:lnTo>
                  <a:lnTo>
                    <a:pt x="11969" y="336"/>
                  </a:lnTo>
                  <a:lnTo>
                    <a:pt x="11694" y="371"/>
                  </a:lnTo>
                  <a:lnTo>
                    <a:pt x="11418" y="371"/>
                  </a:lnTo>
                  <a:lnTo>
                    <a:pt x="11051" y="371"/>
                  </a:lnTo>
                  <a:lnTo>
                    <a:pt x="10911" y="336"/>
                  </a:lnTo>
                  <a:lnTo>
                    <a:pt x="10727" y="336"/>
                  </a:lnTo>
                  <a:lnTo>
                    <a:pt x="10407" y="336"/>
                  </a:lnTo>
                  <a:lnTo>
                    <a:pt x="10224" y="336"/>
                  </a:lnTo>
                  <a:lnTo>
                    <a:pt x="9944" y="336"/>
                  </a:lnTo>
                  <a:lnTo>
                    <a:pt x="9668" y="336"/>
                  </a:lnTo>
                  <a:lnTo>
                    <a:pt x="9484" y="336"/>
                  </a:lnTo>
                  <a:lnTo>
                    <a:pt x="9209" y="336"/>
                  </a:lnTo>
                  <a:lnTo>
                    <a:pt x="9069" y="297"/>
                  </a:lnTo>
                  <a:lnTo>
                    <a:pt x="8885" y="262"/>
                  </a:lnTo>
                  <a:lnTo>
                    <a:pt x="8701" y="262"/>
                  </a:lnTo>
                  <a:lnTo>
                    <a:pt x="8334" y="262"/>
                  </a:lnTo>
                  <a:lnTo>
                    <a:pt x="8198" y="262"/>
                  </a:lnTo>
                  <a:lnTo>
                    <a:pt x="8102" y="297"/>
                  </a:lnTo>
                  <a:lnTo>
                    <a:pt x="7827" y="336"/>
                  </a:lnTo>
                  <a:lnTo>
                    <a:pt x="7691" y="371"/>
                  </a:lnTo>
                  <a:lnTo>
                    <a:pt x="7323" y="336"/>
                  </a:lnTo>
                  <a:lnTo>
                    <a:pt x="7183" y="336"/>
                  </a:lnTo>
                  <a:lnTo>
                    <a:pt x="6816" y="371"/>
                  </a:lnTo>
                  <a:lnTo>
                    <a:pt x="6676" y="371"/>
                  </a:lnTo>
                  <a:lnTo>
                    <a:pt x="6540" y="371"/>
                  </a:lnTo>
                  <a:lnTo>
                    <a:pt x="6400" y="262"/>
                  </a:lnTo>
                  <a:lnTo>
                    <a:pt x="6217" y="223"/>
                  </a:lnTo>
                  <a:lnTo>
                    <a:pt x="5893" y="223"/>
                  </a:lnTo>
                  <a:lnTo>
                    <a:pt x="5708" y="262"/>
                  </a:lnTo>
                  <a:lnTo>
                    <a:pt x="5341" y="262"/>
                  </a:lnTo>
                  <a:lnTo>
                    <a:pt x="4973" y="297"/>
                  </a:lnTo>
                  <a:lnTo>
                    <a:pt x="4514" y="297"/>
                  </a:lnTo>
                  <a:lnTo>
                    <a:pt x="4234" y="297"/>
                  </a:lnTo>
                  <a:lnTo>
                    <a:pt x="3867" y="297"/>
                  </a:lnTo>
                  <a:lnTo>
                    <a:pt x="3731" y="297"/>
                  </a:lnTo>
                  <a:lnTo>
                    <a:pt x="3364" y="336"/>
                  </a:lnTo>
                  <a:lnTo>
                    <a:pt x="3084" y="336"/>
                  </a:lnTo>
                  <a:lnTo>
                    <a:pt x="2948" y="262"/>
                  </a:lnTo>
                  <a:lnTo>
                    <a:pt x="2808" y="187"/>
                  </a:lnTo>
                  <a:lnTo>
                    <a:pt x="2672" y="187"/>
                  </a:lnTo>
                  <a:lnTo>
                    <a:pt x="2397" y="187"/>
                  </a:lnTo>
                  <a:lnTo>
                    <a:pt x="2300" y="187"/>
                  </a:lnTo>
                  <a:lnTo>
                    <a:pt x="2165" y="223"/>
                  </a:lnTo>
                  <a:lnTo>
                    <a:pt x="2025" y="223"/>
                  </a:lnTo>
                  <a:lnTo>
                    <a:pt x="1889" y="223"/>
                  </a:lnTo>
                  <a:lnTo>
                    <a:pt x="1430" y="223"/>
                  </a:lnTo>
                  <a:lnTo>
                    <a:pt x="1290" y="223"/>
                  </a:lnTo>
                  <a:lnTo>
                    <a:pt x="1106" y="223"/>
                  </a:lnTo>
                  <a:lnTo>
                    <a:pt x="966" y="223"/>
                  </a:lnTo>
                  <a:lnTo>
                    <a:pt x="599" y="223"/>
                  </a:lnTo>
                  <a:lnTo>
                    <a:pt x="231" y="223"/>
                  </a:lnTo>
                  <a:lnTo>
                    <a:pt x="0" y="112"/>
                  </a:lnTo>
                  <a:close/>
                </a:path>
              </a:pathLst>
            </a:custGeom>
            <a:solidFill>
              <a:srgbClr val="393939">
                <a:alpha val="50000"/>
              </a:srgbClr>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85800" y="1371600"/>
            <a:ext cx="7772400" cy="20574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upport for Nomadicity</a:t>
            </a:r>
            <a:br>
              <a:rPr sz="4400"/>
            </a:br>
            <a:r>
              <a:rPr b="0" lang="en-US" sz="4400" spc="-1" strike="noStrike">
                <a:solidFill>
                  <a:srgbClr val="000000"/>
                </a:solidFill>
                <a:latin typeface="Times New Roman"/>
                <a:ea typeface="Times New Roman"/>
              </a:rPr>
              <a:t>with</a:t>
            </a:r>
            <a:br>
              <a:rPr sz="4400"/>
            </a:br>
            <a:r>
              <a:rPr b="0" lang="en-US" sz="4400" spc="-1" strike="noStrike">
                <a:solidFill>
                  <a:srgbClr val="000000"/>
                </a:solidFill>
                <a:latin typeface="Times New Roman"/>
                <a:ea typeface="Times New Roman"/>
              </a:rPr>
              <a:t>IEEE 802.11</a:t>
            </a:r>
            <a:endParaRPr b="0" lang="en-US" sz="4400" spc="-1" strike="noStrike">
              <a:solidFill>
                <a:srgbClr val="000000"/>
              </a:solidFill>
              <a:latin typeface="Arial"/>
            </a:endParaRPr>
          </a:p>
        </p:txBody>
      </p:sp>
      <p:sp>
        <p:nvSpPr>
          <p:cNvPr id="107" name=""/>
          <p:cNvSpPr txBox="1"/>
          <p:nvPr/>
        </p:nvSpPr>
        <p:spPr>
          <a:xfrm>
            <a:off x="1219320" y="3886200"/>
            <a:ext cx="6705720" cy="228600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George Fishel, AMP, Inc.</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and</a:t>
            </a:r>
            <a:endParaRPr b="0" lang="en-US" sz="3200" spc="-1" strike="noStrike">
              <a:solidFill>
                <a:srgbClr val="000000"/>
              </a:solidFill>
              <a:latin typeface="Arial"/>
            </a:endParaRPr>
          </a:p>
          <a:p>
            <a:pPr algn="ctr">
              <a:lnSpc>
                <a:spcPct val="100000"/>
              </a:lnSpc>
              <a:spcBef>
                <a:spcPts val="479"/>
              </a:spcBef>
            </a:pPr>
            <a:r>
              <a:rPr b="0" lang="en-US" sz="3200" spc="-1" strike="noStrike">
                <a:solidFill>
                  <a:srgbClr val="000000"/>
                </a:solidFill>
                <a:latin typeface="Times New Roman"/>
                <a:ea typeface="Times New Roman"/>
              </a:rPr>
              <a:t>Bob O’Hara, Informed Technology, In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Power management</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operate in either Active or Power Saving modes</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mode: receiver is always 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ower Saving mode: receiver may be turned off for arbitrary lengths of time</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tations buffer traffic for other stations in Power Saving mo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09480" y="457200"/>
            <a:ext cx="7772400" cy="1143000"/>
          </a:xfrm>
          <a:prstGeom prst="rect">
            <a:avLst/>
          </a:prstGeom>
          <a:noFill/>
          <a:ln w="0">
            <a:noFill/>
          </a:ln>
        </p:spPr>
        <p:txBody>
          <a:bodyPr lIns="0" rIns="0" tIns="0" bIns="0" anchor="t">
            <a:noAutofit/>
          </a:bodyPr>
          <a:p>
            <a:pPr>
              <a:lnSpc>
                <a:spcPct val="100000"/>
              </a:lnSpc>
            </a:pPr>
            <a:r>
              <a:rPr b="1" lang="en-US" sz="4000" spc="-1" strike="noStrike">
                <a:solidFill>
                  <a:srgbClr val="ff9933"/>
                </a:solidFill>
                <a:latin typeface="Times New Roman"/>
                <a:ea typeface="Times New Roman"/>
              </a:rPr>
              <a:t>Wireless LAN Standards</a:t>
            </a:r>
            <a:endParaRPr b="0" lang="en-US" sz="4000" spc="-1" strike="noStrike">
              <a:solidFill>
                <a:srgbClr val="000000"/>
              </a:solidFill>
              <a:latin typeface="Arial"/>
            </a:endParaRPr>
          </a:p>
        </p:txBody>
      </p:sp>
      <p:sp>
        <p:nvSpPr>
          <p:cNvPr id="109" name=""/>
          <p:cNvSpPr txBox="1"/>
          <p:nvPr/>
        </p:nvSpPr>
        <p:spPr>
          <a:xfrm>
            <a:off x="1370160" y="2133720"/>
            <a:ext cx="6859440" cy="4114800"/>
          </a:xfrm>
          <a:prstGeom prst="rect">
            <a:avLst/>
          </a:prstGeom>
          <a:noFill/>
          <a:ln w="0">
            <a:noFill/>
          </a:ln>
        </p:spPr>
        <p:txBody>
          <a:bodyPr lIns="0" rIns="0" tIns="0" bIns="0" anchor="t">
            <a:noAutofit/>
          </a:bodyPr>
          <a:p>
            <a:pPr marL="343080" indent="-34308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EEE 802.11 Standard is currently being developed will be released end 1997. Will work in conjunction with standard Ethernet.</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Direct Sequence</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Spread Spectrum Frequency Hopping</a:t>
            </a:r>
            <a:endParaRPr b="0" lang="en-US" sz="2400" spc="-1" strike="noStrike">
              <a:solidFill>
                <a:srgbClr val="000000"/>
              </a:solidFill>
              <a:latin typeface="Arial"/>
            </a:endParaRPr>
          </a:p>
          <a:p>
            <a:pPr lvl="2" marL="1143000" indent="-228600">
              <a:lnSpc>
                <a:spcPct val="85000"/>
              </a:lnSpc>
              <a:spcBef>
                <a:spcPts val="1080"/>
              </a:spcBef>
              <a:buClr>
                <a:srgbClr val="ff9900"/>
              </a:buClr>
              <a:buSzPct val="80000"/>
              <a:buFont typeface="Wingdings"/>
              <a:buChar char=""/>
            </a:pPr>
            <a:r>
              <a:rPr b="1" lang="en-US" sz="2400" spc="-1" strike="noStrike">
                <a:solidFill>
                  <a:srgbClr val="000000"/>
                </a:solidFill>
                <a:latin typeface="Times New Roman"/>
                <a:ea typeface="Times New Roman"/>
              </a:rPr>
              <a:t>1 And 2 MB/s Transfer Rate at 2.4 Ghz</a:t>
            </a:r>
            <a:endParaRPr b="0" lang="en-US" sz="2400" spc="-1" strike="noStrike">
              <a:solidFill>
                <a:srgbClr val="000000"/>
              </a:solidFill>
              <a:latin typeface="Arial"/>
            </a:endParaRPr>
          </a:p>
          <a:p>
            <a:pPr lvl="1" marL="743040" indent="-285840">
              <a:lnSpc>
                <a:spcPct val="90000"/>
              </a:lnSpc>
              <a:spcBef>
                <a:spcPts val="839"/>
              </a:spcBef>
              <a:buClr>
                <a:srgbClr val="ff9900"/>
              </a:buClr>
              <a:buSzPct val="70000"/>
              <a:buFont typeface="Wingdings"/>
              <a:buChar char=""/>
            </a:pPr>
            <a:r>
              <a:rPr b="1" lang="en-US" sz="2400" spc="-1" strike="noStrike">
                <a:solidFill>
                  <a:srgbClr val="000000"/>
                </a:solidFill>
                <a:latin typeface="Times New Roman"/>
                <a:ea typeface="Times New Roman"/>
              </a:rPr>
              <a:t>Infrared</a:t>
            </a:r>
            <a:r>
              <a:rPr b="1"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19000" y="549360"/>
            <a:ext cx="6419880" cy="762120"/>
          </a:xfrm>
          <a:prstGeom prst="rect">
            <a:avLst/>
          </a:prstGeom>
          <a:noFill/>
          <a:ln w="0">
            <a:noFill/>
          </a:ln>
        </p:spPr>
        <p:txBody>
          <a:bodyPr lIns="0" rIns="0" tIns="0" bIns="0" anchor="t">
            <a:noAutofit/>
          </a:bodyPr>
          <a:p>
            <a:pPr>
              <a:lnSpc>
                <a:spcPct val="100000"/>
              </a:lnSpc>
            </a:pPr>
            <a:r>
              <a:rPr b="0" lang="en-US" sz="4400" spc="-1" strike="noStrike">
                <a:solidFill>
                  <a:srgbClr val="ff9933"/>
                </a:solidFill>
                <a:latin typeface="Times New Roman"/>
                <a:ea typeface="Times New Roman"/>
              </a:rPr>
              <a:t>Nomadicity IEEE 802.11</a:t>
            </a:r>
            <a:endParaRPr b="0" lang="en-US" sz="4400" spc="-1" strike="noStrike">
              <a:solidFill>
                <a:srgbClr val="000000"/>
              </a:solidFill>
              <a:latin typeface="Arial"/>
            </a:endParaRPr>
          </a:p>
        </p:txBody>
      </p:sp>
      <p:sp>
        <p:nvSpPr>
          <p:cNvPr id="111" name=""/>
          <p:cNvSpPr/>
          <p:nvPr/>
        </p:nvSpPr>
        <p:spPr>
          <a:xfrm>
            <a:off x="2990880" y="1495440"/>
            <a:ext cx="2895480" cy="45720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6039000" y="301932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695600" y="3095640"/>
            <a:ext cx="1523880" cy="609480"/>
          </a:xfrm>
          <a:prstGeom prst="rect">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457360" y="3705120"/>
            <a:ext cx="0" cy="60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335320" y="430848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6851520" y="362916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6742080" y="4238640"/>
            <a:ext cx="228600" cy="228600"/>
          </a:xfrm>
          <a:prstGeom prst="ellipse">
            <a:avLst/>
          </a:prstGeom>
          <a:solidFill>
            <a:srgbClr val="cc99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txBox="1"/>
          <p:nvPr/>
        </p:nvSpPr>
        <p:spPr>
          <a:xfrm>
            <a:off x="2225520" y="319896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19" name=""/>
          <p:cNvSpPr txBox="1"/>
          <p:nvPr/>
        </p:nvSpPr>
        <p:spPr>
          <a:xfrm>
            <a:off x="6620040" y="3135240"/>
            <a:ext cx="476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P</a:t>
            </a:r>
            <a:endParaRPr b="0" lang="en-US" sz="1800" spc="-1" strike="noStrike">
              <a:solidFill>
                <a:srgbClr val="000000"/>
              </a:solidFill>
              <a:latin typeface="Arial"/>
            </a:endParaRPr>
          </a:p>
        </p:txBody>
      </p:sp>
      <p:sp>
        <p:nvSpPr>
          <p:cNvPr id="120" name=""/>
          <p:cNvSpPr txBox="1"/>
          <p:nvPr/>
        </p:nvSpPr>
        <p:spPr>
          <a:xfrm>
            <a:off x="3457440" y="1538280"/>
            <a:ext cx="1996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Ethernet Network</a:t>
            </a:r>
            <a:endParaRPr b="0" lang="en-US" sz="2000" spc="-1" strike="noStrike">
              <a:solidFill>
                <a:srgbClr val="000000"/>
              </a:solidFill>
              <a:latin typeface="Arial"/>
            </a:endParaRPr>
          </a:p>
        </p:txBody>
      </p:sp>
      <p:sp>
        <p:nvSpPr>
          <p:cNvPr id="121" name=""/>
          <p:cNvSpPr/>
          <p:nvPr/>
        </p:nvSpPr>
        <p:spPr>
          <a:xfrm flipH="1">
            <a:off x="2470320" y="1952640"/>
            <a:ext cx="1460160" cy="11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149800" y="1952640"/>
            <a:ext cx="1663920" cy="10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pic>
        <p:nvPicPr>
          <p:cNvPr id="123" name="" descr=""/>
          <p:cNvPicPr/>
          <p:nvPr/>
        </p:nvPicPr>
        <p:blipFill>
          <a:blip r:embed="rId1"/>
          <a:stretch/>
        </p:blipFill>
        <p:spPr>
          <a:xfrm>
            <a:off x="4135320" y="5008680"/>
            <a:ext cx="988920" cy="1228680"/>
          </a:xfrm>
          <a:prstGeom prst="rect">
            <a:avLst/>
          </a:prstGeom>
          <a:ln w="0">
            <a:noFill/>
          </a:ln>
        </p:spPr>
      </p:pic>
      <p:sp>
        <p:nvSpPr>
          <p:cNvPr id="124" name=""/>
          <p:cNvSpPr txBox="1"/>
          <p:nvPr/>
        </p:nvSpPr>
        <p:spPr>
          <a:xfrm>
            <a:off x="3693960" y="6299280"/>
            <a:ext cx="16588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Nomadic User</a:t>
            </a:r>
            <a:endParaRPr b="0" lang="en-US" sz="2000" spc="-1" strike="noStrike">
              <a:solidFill>
                <a:srgbClr val="000000"/>
              </a:solidFill>
              <a:latin typeface="Arial"/>
            </a:endParaRPr>
          </a:p>
        </p:txBody>
      </p:sp>
      <p:sp>
        <p:nvSpPr>
          <p:cNvPr id="125" name=""/>
          <p:cNvSpPr txBox="1"/>
          <p:nvPr/>
        </p:nvSpPr>
        <p:spPr>
          <a:xfrm>
            <a:off x="693720" y="5396040"/>
            <a:ext cx="2122560" cy="9460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Vmax &lt; 3m/s</a:t>
            </a:r>
            <a:endParaRPr b="0" lang="en-US" sz="2800" spc="-1" strike="noStrike">
              <a:solidFill>
                <a:srgbClr val="000000"/>
              </a:solidFill>
              <a:latin typeface="Arial"/>
            </a:endParaRPr>
          </a:p>
          <a:p>
            <a:pPr>
              <a:lnSpc>
                <a:spcPct val="100000"/>
              </a:lnSpc>
            </a:pPr>
            <a:r>
              <a:rPr b="0" lang="en-US" sz="2800" spc="-1" strike="noStrike">
                <a:solidFill>
                  <a:srgbClr val="000000"/>
                </a:solidFill>
                <a:latin typeface="Times New Roman"/>
                <a:ea typeface="Times New Roman"/>
              </a:rPr>
              <a:t>(&lt; 10 MPH)</a:t>
            </a:r>
            <a:endParaRPr b="0" lang="en-US" sz="2800" spc="-1" strike="noStrike">
              <a:solidFill>
                <a:srgbClr val="000000"/>
              </a:solidFill>
              <a:latin typeface="Arial"/>
            </a:endParaRPr>
          </a:p>
        </p:txBody>
      </p:sp>
      <p:grpSp>
        <p:nvGrpSpPr>
          <p:cNvPr id="126" name=""/>
          <p:cNvGrpSpPr/>
          <p:nvPr/>
        </p:nvGrpSpPr>
        <p:grpSpPr>
          <a:xfrm>
            <a:off x="2612880" y="4532040"/>
            <a:ext cx="1282320" cy="1467000"/>
            <a:chOff x="2612880" y="4532040"/>
            <a:chExt cx="1282320" cy="1467000"/>
          </a:xfrm>
        </p:grpSpPr>
        <p:sp>
          <p:nvSpPr>
            <p:cNvPr id="127" name=""/>
            <p:cNvSpPr/>
            <p:nvPr/>
          </p:nvSpPr>
          <p:spPr>
            <a:xfrm>
              <a:off x="2612880" y="4532040"/>
              <a:ext cx="357840" cy="509040"/>
            </a:xfrm>
            <a:custGeom>
              <a:avLst/>
              <a:gdLst/>
              <a:ahLst/>
              <a:rect l="0" t="0" r="r" b="b"/>
              <a:pathLst>
                <a:path fill="none" w="994" h="1414">
                  <a:moveTo>
                    <a:pt x="274" y="552"/>
                  </a:moveTo>
                  <a:lnTo>
                    <a:pt x="0" y="1414"/>
                  </a:lnTo>
                  <a:lnTo>
                    <a:pt x="0" y="1414"/>
                  </a:lnTo>
                  <a:cubicBezTo>
                    <a:pt x="113" y="1386"/>
                    <a:pt x="236" y="1321"/>
                    <a:pt x="358" y="1225"/>
                  </a:cubicBezTo>
                  <a:cubicBezTo>
                    <a:pt x="484" y="1126"/>
                    <a:pt x="603" y="998"/>
                    <a:pt x="705" y="853"/>
                  </a:cubicBezTo>
                  <a:cubicBezTo>
                    <a:pt x="806" y="708"/>
                    <a:pt x="886" y="552"/>
                    <a:pt x="936" y="401"/>
                  </a:cubicBezTo>
                  <a:cubicBezTo>
                    <a:pt x="984" y="254"/>
                    <a:pt x="1003" y="116"/>
                    <a:pt x="991"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2818440" y="4682160"/>
              <a:ext cx="529200" cy="803160"/>
            </a:xfrm>
            <a:custGeom>
              <a:avLst/>
              <a:gdLst/>
              <a:ahLst/>
              <a:rect l="0" t="0" r="r" b="b"/>
              <a:pathLst>
                <a:path fill="none" w="1470" h="2231">
                  <a:moveTo>
                    <a:pt x="148" y="790"/>
                  </a:moveTo>
                  <a:lnTo>
                    <a:pt x="0" y="2231"/>
                  </a:lnTo>
                  <a:lnTo>
                    <a:pt x="0" y="2231"/>
                  </a:lnTo>
                  <a:cubicBezTo>
                    <a:pt x="176" y="2198"/>
                    <a:pt x="353" y="2126"/>
                    <a:pt x="523" y="2020"/>
                  </a:cubicBezTo>
                  <a:cubicBezTo>
                    <a:pt x="745" y="1882"/>
                    <a:pt x="947" y="1689"/>
                    <a:pt x="1107" y="1461"/>
                  </a:cubicBezTo>
                  <a:cubicBezTo>
                    <a:pt x="1266" y="1232"/>
                    <a:pt x="1379" y="977"/>
                    <a:pt x="1433" y="721"/>
                  </a:cubicBezTo>
                  <a:cubicBezTo>
                    <a:pt x="1488" y="465"/>
                    <a:pt x="1482" y="216"/>
                    <a:pt x="1416"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3052800" y="4713480"/>
              <a:ext cx="842400" cy="1285560"/>
            </a:xfrm>
            <a:custGeom>
              <a:avLst/>
              <a:gdLst/>
              <a:ahLst/>
              <a:rect l="0" t="0" r="r" b="b"/>
              <a:pathLst>
                <a:path fill="none" w="2340" h="3571">
                  <a:moveTo>
                    <a:pt x="383" y="1356"/>
                  </a:moveTo>
                  <a:lnTo>
                    <a:pt x="0" y="3571"/>
                  </a:lnTo>
                  <a:lnTo>
                    <a:pt x="0" y="3571"/>
                  </a:lnTo>
                  <a:cubicBezTo>
                    <a:pt x="256" y="3499"/>
                    <a:pt x="519" y="3369"/>
                    <a:pt x="775" y="3188"/>
                  </a:cubicBezTo>
                  <a:cubicBezTo>
                    <a:pt x="1111" y="2950"/>
                    <a:pt x="1424" y="2631"/>
                    <a:pt x="1681" y="2264"/>
                  </a:cubicBezTo>
                  <a:cubicBezTo>
                    <a:pt x="1938" y="1897"/>
                    <a:pt x="2130" y="1495"/>
                    <a:pt x="2239" y="1097"/>
                  </a:cubicBezTo>
                  <a:cubicBezTo>
                    <a:pt x="2347" y="700"/>
                    <a:pt x="2369" y="321"/>
                    <a:pt x="230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0" name=""/>
          <p:cNvGrpSpPr/>
          <p:nvPr/>
        </p:nvGrpSpPr>
        <p:grpSpPr>
          <a:xfrm>
            <a:off x="5420880" y="4481280"/>
            <a:ext cx="1281960" cy="1467000"/>
            <a:chOff x="5420880" y="4481280"/>
            <a:chExt cx="1281960" cy="1467000"/>
          </a:xfrm>
        </p:grpSpPr>
        <p:sp>
          <p:nvSpPr>
            <p:cNvPr id="131" name=""/>
            <p:cNvSpPr/>
            <p:nvPr/>
          </p:nvSpPr>
          <p:spPr>
            <a:xfrm>
              <a:off x="6345000" y="4481280"/>
              <a:ext cx="357840" cy="509040"/>
            </a:xfrm>
            <a:custGeom>
              <a:avLst/>
              <a:gdLst/>
              <a:ahLst/>
              <a:rect l="0" t="0" r="r" b="b"/>
              <a:pathLst>
                <a:path fill="none" w="994" h="1414">
                  <a:moveTo>
                    <a:pt x="720" y="552"/>
                  </a:moveTo>
                  <a:lnTo>
                    <a:pt x="3" y="0"/>
                  </a:lnTo>
                  <a:lnTo>
                    <a:pt x="3" y="0"/>
                  </a:lnTo>
                  <a:cubicBezTo>
                    <a:pt x="-9" y="116"/>
                    <a:pt x="10" y="254"/>
                    <a:pt x="58" y="401"/>
                  </a:cubicBezTo>
                  <a:cubicBezTo>
                    <a:pt x="108" y="552"/>
                    <a:pt x="188" y="708"/>
                    <a:pt x="289" y="853"/>
                  </a:cubicBezTo>
                  <a:cubicBezTo>
                    <a:pt x="391" y="998"/>
                    <a:pt x="510" y="1126"/>
                    <a:pt x="636" y="1225"/>
                  </a:cubicBezTo>
                  <a:cubicBezTo>
                    <a:pt x="758" y="1321"/>
                    <a:pt x="881" y="1386"/>
                    <a:pt x="994" y="1414"/>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5968440" y="4631400"/>
              <a:ext cx="529200" cy="803160"/>
            </a:xfrm>
            <a:custGeom>
              <a:avLst/>
              <a:gdLst/>
              <a:ahLst/>
              <a:rect l="0" t="0" r="r" b="b"/>
              <a:pathLst>
                <a:path fill="none" w="1470" h="2231">
                  <a:moveTo>
                    <a:pt x="1322" y="790"/>
                  </a:moveTo>
                  <a:lnTo>
                    <a:pt x="54" y="0"/>
                  </a:lnTo>
                  <a:lnTo>
                    <a:pt x="54" y="0"/>
                  </a:lnTo>
                  <a:cubicBezTo>
                    <a:pt x="-12" y="216"/>
                    <a:pt x="-18" y="465"/>
                    <a:pt x="37" y="721"/>
                  </a:cubicBezTo>
                  <a:cubicBezTo>
                    <a:pt x="91" y="977"/>
                    <a:pt x="204" y="1232"/>
                    <a:pt x="363" y="1461"/>
                  </a:cubicBezTo>
                  <a:cubicBezTo>
                    <a:pt x="523" y="1689"/>
                    <a:pt x="725" y="1882"/>
                    <a:pt x="947" y="2020"/>
                  </a:cubicBezTo>
                  <a:cubicBezTo>
                    <a:pt x="1117" y="2126"/>
                    <a:pt x="1294" y="2198"/>
                    <a:pt x="1470" y="223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5420880" y="4662720"/>
              <a:ext cx="842400" cy="1285560"/>
            </a:xfrm>
            <a:custGeom>
              <a:avLst/>
              <a:gdLst/>
              <a:ahLst/>
              <a:rect l="0" t="0" r="r" b="b"/>
              <a:pathLst>
                <a:path fill="none" w="2340" h="3571">
                  <a:moveTo>
                    <a:pt x="1956" y="1356"/>
                  </a:moveTo>
                  <a:lnTo>
                    <a:pt x="39" y="0"/>
                  </a:lnTo>
                  <a:lnTo>
                    <a:pt x="39" y="0"/>
                  </a:lnTo>
                  <a:cubicBezTo>
                    <a:pt x="-29" y="321"/>
                    <a:pt x="-8" y="700"/>
                    <a:pt x="100" y="1097"/>
                  </a:cubicBezTo>
                  <a:cubicBezTo>
                    <a:pt x="209" y="1494"/>
                    <a:pt x="401" y="1897"/>
                    <a:pt x="658" y="2264"/>
                  </a:cubicBezTo>
                  <a:cubicBezTo>
                    <a:pt x="915" y="2631"/>
                    <a:pt x="1228" y="2950"/>
                    <a:pt x="1564" y="3188"/>
                  </a:cubicBezTo>
                  <a:cubicBezTo>
                    <a:pt x="1820" y="3369"/>
                    <a:pt x="2084" y="3499"/>
                    <a:pt x="2340" y="3571"/>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4" name=""/>
          <p:cNvSpPr txBox="1"/>
          <p:nvPr/>
        </p:nvSpPr>
        <p:spPr>
          <a:xfrm>
            <a:off x="3224160" y="3168720"/>
            <a:ext cx="2843280" cy="39672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100 to 200 meters appr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Services of 802.11</a:t>
            </a:r>
            <a:endParaRPr b="0" lang="en-US" sz="4400" spc="-1" strike="noStrike">
              <a:solidFill>
                <a:srgbClr val="000000"/>
              </a:solidFill>
              <a:latin typeface="Arial"/>
            </a:endParaRPr>
          </a:p>
        </p:txBody>
      </p:sp>
      <p:sp>
        <p:nvSpPr>
          <p:cNvPr id="13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Data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rror control</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ink encryption</a:t>
            </a:r>
            <a:endParaRPr b="0" lang="en-US" sz="2800" spc="-1" strike="noStrike">
              <a:solidFill>
                <a:srgbClr val="000000"/>
              </a:solidFill>
              <a:latin typeface="Arial"/>
            </a:endParaRPr>
          </a:p>
          <a:p>
            <a:pPr marL="343080" indent="-343080">
              <a:lnSpc>
                <a:spcPct val="80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MAC Management Services</a:t>
            </a:r>
            <a:endParaRPr b="0" lang="en-US" sz="32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plicit authent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associ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stributed discovery</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Change notification</a:t>
            </a:r>
            <a:endParaRPr b="0" lang="en-US" sz="2800" spc="-1" strike="noStrike">
              <a:solidFill>
                <a:srgbClr val="000000"/>
              </a:solidFill>
              <a:latin typeface="Arial"/>
            </a:endParaRPr>
          </a:p>
          <a:p>
            <a:pPr lvl="1" marL="743040" indent="-285840">
              <a:lnSpc>
                <a:spcPct val="8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Power manag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Data Services</a:t>
            </a:r>
            <a:endParaRPr b="0" lang="en-US" sz="4400" spc="-1" strike="noStrike">
              <a:solidFill>
                <a:srgbClr val="000000"/>
              </a:solidFill>
              <a:latin typeface="Arial"/>
            </a:endParaRPr>
          </a:p>
        </p:txBody>
      </p:sp>
      <p:sp>
        <p:nvSpPr>
          <p:cNvPr id="138"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rror control</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etry failed transmissions in the MAC</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irect acknowledgment of receipt</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Duplicate frame detection and removal</a:t>
            </a:r>
            <a:endParaRPr b="0" lang="en-US" sz="2800" spc="-1" strike="noStrike">
              <a:solidFill>
                <a:srgbClr val="000000"/>
              </a:solidFill>
              <a:latin typeface="Arial"/>
            </a:endParaRPr>
          </a:p>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Link encryp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C4 encryption algorithm with 40-bit key and 24-bit 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0"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Explicit authent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uthentication required prior to being able to access data services</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currently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Open System”, i.e., none</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Shared Key”</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xtendible to additional mech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2"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associ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Mobile station requests association</a:t>
            </a:r>
            <a:endParaRPr b="0" lang="en-US" sz="28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cludes capability and rate information and location of last assoc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4"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Distributed discovery</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wo mechanisms provided</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assive scanning</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Active scanning</a:t>
            </a:r>
            <a:endParaRPr b="0" lang="en-US" sz="24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formation is acquired that allows other stations to be found in time-frequency 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20840" y="334800"/>
            <a:ext cx="7772400" cy="1143000"/>
          </a:xfrm>
          <a:prstGeom prst="rect">
            <a:avLst/>
          </a:prstGeom>
          <a:noFill/>
          <a:ln w="0">
            <a:noFill/>
          </a:ln>
        </p:spPr>
        <p:txBody>
          <a:bodyPr lIns="0" rIns="0" tIns="0" bIns="0" anchor="t">
            <a:noAutofit/>
          </a:bodyPr>
          <a:p>
            <a:pPr>
              <a:lnSpc>
                <a:spcPct val="100000"/>
              </a:lnSpc>
            </a:pPr>
            <a:r>
              <a:rPr b="0" lang="en-US" sz="4400" spc="-1" strike="noStrike">
                <a:solidFill>
                  <a:srgbClr val="000000"/>
                </a:solidFill>
                <a:latin typeface="Times New Roman"/>
                <a:ea typeface="Times New Roman"/>
              </a:rPr>
              <a:t>MAC Management Services</a:t>
            </a:r>
            <a:endParaRPr b="0" lang="en-US" sz="4400" spc="-1" strike="noStrike">
              <a:solidFill>
                <a:srgbClr val="000000"/>
              </a:solidFill>
              <a:latin typeface="Arial"/>
            </a:endParaRPr>
          </a:p>
        </p:txBody>
      </p:sp>
      <p:sp>
        <p:nvSpPr>
          <p:cNvPr id="146" name=""/>
          <p:cNvSpPr txBox="1"/>
          <p:nvPr/>
        </p:nvSpPr>
        <p:spPr>
          <a:xfrm>
            <a:off x="450720" y="2066760"/>
            <a:ext cx="7772400" cy="4114800"/>
          </a:xfrm>
          <a:prstGeom prst="rect">
            <a:avLst/>
          </a:prstGeom>
          <a:noFill/>
          <a:ln w="0">
            <a:noFill/>
          </a:ln>
        </p:spPr>
        <p:txBody>
          <a:bodyPr lIns="0" rIns="0" tIns="0" bIns="0" anchor="t">
            <a:noAutofit/>
          </a:bodyPr>
          <a:p>
            <a:pPr marL="343080" indent="-343080">
              <a:lnSpc>
                <a:spcPct val="75000"/>
              </a:lnSpc>
              <a:spcBef>
                <a:spcPts val="479"/>
              </a:spcBef>
              <a:buClr>
                <a:srgbClr val="000000"/>
              </a:buClr>
              <a:buSzPct val="50000"/>
              <a:buFont typeface="Monotype Sorts"/>
              <a:buChar char=""/>
            </a:pPr>
            <a:r>
              <a:rPr b="0" lang="en-US" sz="3200" spc="-1" strike="noStrike">
                <a:solidFill>
                  <a:srgbClr val="000000"/>
                </a:solidFill>
                <a:latin typeface="Times New Roman"/>
                <a:ea typeface="Times New Roman"/>
              </a:rPr>
              <a:t>Change notification</a:t>
            </a:r>
            <a:endParaRPr b="0" lang="en-US" sz="3200" spc="-1" strike="noStrike">
              <a:solidFill>
                <a:srgbClr val="000000"/>
              </a:solidFill>
              <a:latin typeface="Arial"/>
            </a:endParaRPr>
          </a:p>
          <a:p>
            <a:pPr lvl="1" marL="743040" indent="-285840">
              <a:lnSpc>
                <a:spcPct val="75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Service indications are provided when</a:t>
            </a:r>
            <a:endParaRPr b="0" lang="en-US" sz="28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os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establishing an association</a:t>
            </a:r>
            <a:endParaRPr b="0" lang="en-US" sz="2400" spc="-1" strike="noStrike">
              <a:solidFill>
                <a:srgbClr val="000000"/>
              </a:solidFill>
              <a:latin typeface="Arial"/>
            </a:endParaRPr>
          </a:p>
          <a:p>
            <a:pPr lvl="2" marL="1143000" indent="-228600">
              <a:lnSpc>
                <a:spcPct val="75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failing to establish and assoc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ob O'Hara</dc:creator>
  <dc:description/>
  <dc:language>en-US</dc:language>
  <cp:lastModifiedBy>Bob O'Hara</cp:lastModifiedBy>
  <cp:revision>0</cp:revision>
  <dc:subject/>
  <dc:title>Support for Nomadicity with IEEE 802.11</dc:title>
</cp:coreProperties>
</file>