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457200"/>
            <a:ext cx="8305920" cy="5867280"/>
          </a:xfrm>
          <a:prstGeom prst="roundRect">
            <a:avLst/>
          </a:prstGeom>
          <a:noFill/>
          <a:ln w="25560">
            <a:solidFill>
              <a:srgbClr val="ff33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676520"/>
            <a:ext cx="8001000" cy="0"/>
          </a:xfrm>
          <a:prstGeom prst="line">
            <a:avLst/>
          </a:prstGeom>
          <a:ln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304920"/>
            <a:ext cx="838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12760" y="22320"/>
            <a:ext cx="73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765840" y="22320"/>
            <a:ext cx="211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7/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4008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89080" y="6423120"/>
            <a:ext cx="2425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the BRA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1752480"/>
            <a:ext cx="777240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VERVIEW OF THE BRAN PROJEC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680" y="3733920"/>
            <a:ext cx="6324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143000" indent="-22860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an Boer, Lucent Technologies, July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N - 802.11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ETSI-BRAN and IEEE develop standards for wireless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rates 20-40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 GHz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vestigate possibilities for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N - 802.11 convergence cont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y is convergenc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TSI is standard development for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5GHz equipment in Europe must conform to ETSI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(.11) is intended to be world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 not (mutually) accepted by ETSI and IEEE will be exluded from certain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ldwide standards will catalyze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sible convergence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common Radio PHY, based on same physical characteristics, suitable for adoption by standardization b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eliminate differences in certification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benefits such as scale and produ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provide a common basis for world-wide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operation could extent to include MAC/D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N / IEEE802.11 li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rtain 802.11 members attend B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lps to put cooperation int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 Boer attends both BRAN and IEEE802.11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ointed by BRAN &gt; IEEE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vailable as IEEE &gt; BRAN lia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TSI BRAN Initiative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created in March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rges ETSI’s HIPERLAN expertise (RES 10) and Fixed Access expertise (TM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verages ACTS R&amp;D programmes (e.g. Magic WAND, MEDIAN, SAMB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ventional RLL and Narrowband Fixed Access are ex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 support  of the ETSI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4300"/>
                </a:solidFill>
                <a:latin typeface="Arial"/>
                <a:ea typeface="Arial"/>
              </a:rPr>
              <a:t>The BRAN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cifications for Broadband Radio Fixed Access and Cordless Premises Acces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25 Mb/s to 155 Mb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om “50 m to 15 km”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r data rates from “16K to 16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e Network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S, (B)-ISDDN, ATM, Frame Relay, TCP/IP supported via interworking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4300"/>
                </a:solidFill>
                <a:latin typeface="Arial"/>
                <a:ea typeface="Arial"/>
              </a:rPr>
              <a:t>The HIPERLAN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042920" y="1922400"/>
            <a:ext cx="6730920" cy="3189240"/>
            <a:chOff x="1042920" y="1922400"/>
            <a:chExt cx="6730920" cy="3189240"/>
          </a:xfrm>
        </p:grpSpPr>
        <p:sp>
          <p:nvSpPr>
            <p:cNvPr id="54" name=""/>
            <p:cNvSpPr/>
            <p:nvPr/>
          </p:nvSpPr>
          <p:spPr>
            <a:xfrm>
              <a:off x="2736720" y="1922400"/>
              <a:ext cx="1654200" cy="318132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111720" y="1922400"/>
              <a:ext cx="1662120" cy="318132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42920" y="1922400"/>
              <a:ext cx="1663560" cy="318132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2774880" y="3035160"/>
              <a:ext cx="160668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AT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2774880" y="3300480"/>
              <a:ext cx="114948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L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86040" y="3968640"/>
              <a:ext cx="1573200" cy="10126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832120" y="4046400"/>
              <a:ext cx="144792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832120" y="4287960"/>
              <a:ext cx="14349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2946240" y="4533840"/>
              <a:ext cx="133020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+ Mb/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97120" y="384660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2240" y="2897280"/>
              <a:ext cx="1568520" cy="9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1117440" y="3003480"/>
              <a:ext cx="1568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117440" y="3268800"/>
              <a:ext cx="10731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00160" y="3952800"/>
              <a:ext cx="1569960" cy="1057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1149480" y="4030560"/>
              <a:ext cx="1414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L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1225440" y="4272120"/>
              <a:ext cx="12128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171440" y="4518000"/>
              <a:ext cx="1330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+ Mb/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92160" y="383076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1224000" y="1952640"/>
              <a:ext cx="1352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1436760" y="2220840"/>
              <a:ext cx="907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2909880" y="1952640"/>
              <a:ext cx="13525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117960" y="2220840"/>
              <a:ext cx="9079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6199200" y="3068640"/>
              <a:ext cx="13701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IC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6199200" y="3309840"/>
              <a:ext cx="99684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L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1680" y="3997440"/>
              <a:ext cx="1573200" cy="10000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6165720" y="4064040"/>
              <a:ext cx="13701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IC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6165720" y="4303800"/>
              <a:ext cx="15303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230880" y="4551480"/>
              <a:ext cx="144288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 + Mb/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988320" y="3859200"/>
              <a:ext cx="0" cy="117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6259680" y="1968480"/>
              <a:ext cx="13525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6467400" y="2238480"/>
              <a:ext cx="9079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7920" y="1930320"/>
              <a:ext cx="1643040" cy="318132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29360" y="3854520"/>
              <a:ext cx="0" cy="114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50040" bIns="50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59320" y="3989520"/>
              <a:ext cx="1552680" cy="101268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576680" y="4064040"/>
              <a:ext cx="13017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4500720" y="4303800"/>
              <a:ext cx="144288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4562640" y="4551480"/>
              <a:ext cx="133020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 + Mb/se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6160" y="3059280"/>
              <a:ext cx="1386000" cy="71136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637160" y="3040200"/>
              <a:ext cx="13017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637160" y="3281400"/>
              <a:ext cx="884160" cy="3366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L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29160" y="1968480"/>
              <a:ext cx="13525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PER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4807080" y="2238480"/>
              <a:ext cx="907920" cy="36684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371600" y="2514600"/>
              <a:ext cx="1066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  <a:ea typeface="Arial"/>
                </a:rPr>
                <a:t>5 G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724280" y="2514600"/>
              <a:ext cx="1066680" cy="457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  <a:ea typeface="Arial"/>
                </a:rPr>
                <a:t>5 G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124080" y="2514600"/>
              <a:ext cx="1066680" cy="457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  <a:ea typeface="Arial"/>
                </a:rPr>
                <a:t>5 G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6324480" y="2514600"/>
              <a:ext cx="1219320" cy="457200"/>
            </a:xfrm>
            <a:prstGeom prst="rect">
              <a:avLst/>
            </a:prstGeom>
            <a:solidFill>
              <a:srgbClr val="fde3ba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  <a:ea typeface="Arial"/>
                </a:rPr>
                <a:t>17 GH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93960" y="2905200"/>
              <a:ext cx="1557360" cy="93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70480" y="2908440"/>
              <a:ext cx="1528920" cy="952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72200" y="2908440"/>
              <a:ext cx="1549440" cy="949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feren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0120" y="1771560"/>
            <a:ext cx="7891560" cy="3475080"/>
            <a:chOff x="600120" y="1771560"/>
            <a:chExt cx="7891560" cy="3475080"/>
          </a:xfrm>
        </p:grpSpPr>
        <p:sp>
          <p:nvSpPr>
            <p:cNvPr id="105" name=""/>
            <p:cNvSpPr/>
            <p:nvPr/>
          </p:nvSpPr>
          <p:spPr>
            <a:xfrm>
              <a:off x="1647720" y="2341440"/>
              <a:ext cx="828720" cy="159696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77000" y="2319480"/>
              <a:ext cx="1038240" cy="158580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600120" y="1771560"/>
              <a:ext cx="7891560" cy="347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4300"/>
                </a:solidFill>
                <a:latin typeface="Arial"/>
                <a:ea typeface="Arial"/>
              </a:rPr>
              <a:t>BRAN Organ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1200" y="1676520"/>
            <a:ext cx="777240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Grou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&amp;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Grou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trum and Regulatory Mat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Grou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Network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ing Grou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working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aisons with ATMForum, IEEE, ITU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4300"/>
                </a:solidFill>
                <a:latin typeface="Arial"/>
                <a:ea typeface="Arial"/>
              </a:rPr>
              <a:t>Work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04880" y="1600200"/>
            <a:ext cx="777240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chnical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and Architectures - W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band Technology Inventory - WG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ctober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adio Access Network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d on T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set of functional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rvic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rtifica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480" y="762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1f4300"/>
                </a:solidFill>
                <a:latin typeface="Arial"/>
                <a:ea typeface="Arial"/>
              </a:rPr>
              <a:t>Work Programme -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81200" y="18288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working Specifications - WG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er Co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for ATM  - in cooperation with ATM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ne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ctrum and Regulatory Matters - WG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rget is world-wide allocations for licensed and unlicen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ooperation with CEPT, WRC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AN meeting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WG3 working on technology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+/- 30 paper wer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DM (o.a. Magic Wa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carrier (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mp (Thomps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/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les van Leusden</dc:creator>
  <dc:description/>
  <dc:language>en-US</dc:language>
  <cp:lastModifiedBy>Jules van Leusden</cp:lastModifiedBy>
  <cp:revision>0</cp:revision>
  <dc:subject/>
  <dc:title>No Slide Title</dc:title>
</cp:coreProperties>
</file>