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763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r" pos="777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7/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33520" y="64771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ctr" pos="3944880"/>
                <a:tab algn="r" pos="7891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5730993C-8133-44BD-B3F5-3794132B0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Kawaguchi, Symbo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3808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9480" y="1523880"/>
            <a:ext cx="7924680" cy="133560"/>
            <a:chOff x="609480" y="1523880"/>
            <a:chExt cx="7924680" cy="133560"/>
          </a:xfrm>
        </p:grpSpPr>
        <p:sp>
          <p:nvSpPr>
            <p:cNvPr id="6" name=""/>
            <p:cNvSpPr/>
            <p:nvPr/>
          </p:nvSpPr>
          <p:spPr>
            <a:xfrm>
              <a:off x="609480" y="1523880"/>
              <a:ext cx="7924680" cy="6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dfc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623960"/>
              <a:ext cx="7924680" cy="33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5ab7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Access Method and Physica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Agenda for September Interim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802.11 PHY Sub-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0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 Kawagu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Technologie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45 Hamilton 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 Jose, CA.  95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(408)369-26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 (408)369-27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DeanK@psd.symbo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im Meeting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676520"/>
            <a:ext cx="7772400" cy="42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ptember 8 - 12 interim meeting will be PHY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GHz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HS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ill follow up on proposal to have a joint meeting with ETSI BRAN in London at the Radio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ir of BRAN (Jan Kruys) has a positive reaction and will work with the ETSI organization to attempt to make it happ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volunteer to set up hotel and meeting rooms near to the Radio Agency - Simon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U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ronto hosted by Aironet on September 15 -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Interim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- 9:45:  Joint PHY coordinatio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2, 1-3:  TG A (5 GHz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:15 - 6:15: TG B (2.4 GHz H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- 12:00:  TG A (5 GHz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00 - 5:00: TG B (2.4 GHz H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00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- Joint IEEE/ETSI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 - 12:00: TG A (5 GHz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:00 - 5:00: TG B (2.4 GHz HS PH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457200"/>
            <a:ext cx="792468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Agenda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ETSI/IEEE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of join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term goals for IEEE/ETSI collaboration in 5.2 GHz wireless standar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PHY, different M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802.11 MAC devices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/BRAN positions on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dissemination, decision 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Joint Meeting Agenda (cont,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 and types of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and interference robus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vs connect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drop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MAC/PHY Mode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0" y="5105520"/>
            <a:ext cx="2438280" cy="533520"/>
          </a:xfrm>
          <a:prstGeom prst="rect">
            <a:avLst/>
          </a:prstGeom>
          <a:noFill/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1960" y="516564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P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65320" y="41911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94320" y="4191120"/>
            <a:ext cx="1981080" cy="4572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604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6040" y="4876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8504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84840" y="487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25800" y="4243320"/>
            <a:ext cx="1930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554800" y="4243320"/>
            <a:ext cx="194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79520" y="2971800"/>
            <a:ext cx="2590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94320" y="2971800"/>
            <a:ext cx="2590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748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896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68600" y="3138480"/>
            <a:ext cx="1933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859360" y="3138480"/>
            <a:ext cx="1971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79520" y="2316240"/>
            <a:ext cx="2590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oriented 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494320" y="2057400"/>
            <a:ext cx="266688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connectionless and connection oriente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800" y="403848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72960" y="429732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2960" y="3154320"/>
            <a:ext cx="853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anK</dc:creator>
  <dc:description/>
  <dc:language>en-US</dc:language>
  <cp:lastModifiedBy>DeanK</cp:lastModifiedBy>
  <cp:revision>0</cp:revision>
  <dc:subject/>
  <dc:title>IEEE 802.11 Wireless Access Method and Physical Specification</dc:title>
</cp:coreProperties>
</file>