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6FD937-A3E3-4EE3-9FF5-A98DA9B57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2560" cy="685656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1828800"/>
            <a:ext cx="9066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09480"/>
            <a:ext cx="7772400" cy="13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2nd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 (PH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2590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Agend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ptember 8-12,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ondon,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September 8, 8: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Attend common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609480"/>
            <a:ext cx="80010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Introduction of IEEE P802.11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Schedule for new PHY  in 5 GHz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Long term goals for IEEE/ETSI collaboration in 5.2 GHz wireless standard development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 Common PHY, different 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2 Allow 802.11 MAC devices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Technical Requirement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1 Data rates and types of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2 Multipath and interference robus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 Connection vs 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4 Packet drop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Technical proposal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Modulation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Introduction of ETSI Project BRAN and its most important rules (1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Schedules (5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Technical Requirements (1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1 Data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2 Mobility level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3 ATM service classes to be sup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4 Fixed ATM access requirements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TG a / ETSI project BRAN WG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Technical proposals seminar (60 minu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 Channel models, modulation &amp; coding issues and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2 MAC issues &amp;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60948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IEEE P802.11 officers / ETSI project BRAN Project Management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ems for the meeting with the PMC (10 minut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1 positions on co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2 ground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dissemination,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ture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10-14 - Queen Elizabeth, Montreal, PQ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9-13 - Hyatt Regency Irvine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6-10 - Hyatt Regency La Jolla, San Diego, CA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9-13 - Hyatt Regency, Albuquerque, NM, Ple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ch 8-12 - Hyatt Regency Town Lake, Austin, TX, ple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uly 5-9 - Queen Elizabeth Hotel, Montreal, PQ, Plenary (contract not signed y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8-12 - Hyatt Regency Kauai, Koloa, HI, plenary (contract not yet sign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all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tart the work of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cooperation between IEEE P802.11 and ETSI project B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stablish a strong liaison between TG a and ETSI project BRAN WG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gh schedule of mee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int meeting of TG a and TG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nnou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Organisation of sub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Any Other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Adjourn for TG a and TG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a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8 Submi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suggest we sent a call for papers to everybody. It will accelerate our progress if authors can circulate the actual papers or presentations in advanc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 Prepare for BRAN/802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0 Next meeting Goals/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 Election of secretary and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 Agenda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 Revise / Finalize 5 criteria  PAR requ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 Project Schedule and major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G b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 Meetings and process to develop dra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7 Technical Discussions/ Brainsto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1 PHY baseline (key parameters and  require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2 rates, sensitivity, multipath/PER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3 MAC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4 Evaluation and rating criteria for submitted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TG b agenda</dc:title>
</cp:coreProperties>
</file>