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31800" y="6408720"/>
            <a:ext cx="184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6C69EC5F-A252-4E16-8139-F4837D5D2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219320"/>
            <a:ext cx="7772400" cy="134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DOCUMENT</a:t>
            </a:r>
            <a:br>
              <a:rPr sz="18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-NII BAND CHANNELIZATION AND THE WINFORUM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for the Joint ETSI/BRAN and IEEE 802.11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8-12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THE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 the Objectives and Scope of the WINForum Sharing Rules Development Committee (SRD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the SRDC Fixed Channelization Proposal for the U-NII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Part 15 Restricted Band Rules Effect on Out-of-Ban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WINForum U-NII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and Scope of the SR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U-NII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 with Regulatory Bodies to Set Rules for Use of th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Spectrum Sharing Rules for the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Channelization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-NII Band Should Support Signaling Rates of 20 to 25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d Bandwidth Potential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Range of Potential Application Signaling Rat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Channel Spacing Required Because of Wide Signaling Rate Range and Mixed Bandwidth In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Technical Discussion of Mixed Bandwidth Problem in Appendix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Recommends Fixed Frequency Ass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 Restricted Band Ru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and Peak EIRP Specified by the Part 15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wer Spectral Density is Derived From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ome current interpretations which are still being inves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Edge PSD 15-16 dB More Severe Than HIPERLAN Requirements for the U-NII Middl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ificant Guard Band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Guard Band 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Intermodulation Distortion on Widening Transmitte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Given in Appendix B of the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liminar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Intraband Channel Isolation Specs (30 dB PSD Adjacent 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to 1.3 Channels Widths of Guard Band Needed to Satisfy Restricted band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Study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Reconsideration Pet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making not fin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DC working closely with NTIA to resolv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issues addressed in reconsideration 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important 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ower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measurement of power spectral den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enied: total power permitted 6-10 dB lower than limits spec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Jan Boer</cp:lastModifiedBy>
  <cp:revision>0</cp:revision>
  <dc:subject/>
  <dc:title>DS report</dc:title>
</cp:coreProperties>
</file>