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1193760" cy="457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136440" y="98280"/>
            <a:ext cx="140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ptember 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0480" y="6499080"/>
            <a:ext cx="105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866960" y="1333440"/>
            <a:ext cx="6311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4440" y="584280"/>
            <a:ext cx="93409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36560" y="1143000"/>
            <a:ext cx="873432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808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to be consider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600200" y="2362320"/>
            <a:ext cx="7170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Frequency error sensitivity (A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Clock re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Preambl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 Guard interval (multipath del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774720"/>
            <a:ext cx="3316320" cy="40176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68880" y="812880"/>
            <a:ext cx="1424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8920" y="1808280"/>
            <a:ext cx="6213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alize high data rate (    20Mbit/s) wireless LAN mode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30320" y="3454560"/>
            <a:ext cx="7647120" cy="25462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952800"/>
            <a:ext cx="2452680" cy="18558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43440" y="4718160"/>
            <a:ext cx="1944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antenna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6240" y="3952800"/>
            <a:ext cx="2452680" cy="18558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63520" y="4583160"/>
            <a:ext cx="1843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 circuit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52560" y="4927680"/>
            <a:ext cx="235116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(trade-off with performanc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53360" y="3952800"/>
            <a:ext cx="2452680" cy="185580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626160" y="4143240"/>
            <a:ext cx="2163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FDM modul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75640" y="4851360"/>
            <a:ext cx="1587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dware siz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588000" y="5176800"/>
            <a:ext cx="2185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716280" y="2765520"/>
            <a:ext cx="821160" cy="192600"/>
            <a:chOff x="3716280" y="2765520"/>
            <a:chExt cx="821160" cy="192600"/>
          </a:xfrm>
        </p:grpSpPr>
        <p:sp>
          <p:nvSpPr>
            <p:cNvPr id="61" name=""/>
            <p:cNvSpPr/>
            <p:nvPr/>
          </p:nvSpPr>
          <p:spPr>
            <a:xfrm>
              <a:off x="4268880" y="2765520"/>
              <a:ext cx="268560" cy="192600"/>
            </a:xfrm>
            <a:custGeom>
              <a:avLst/>
              <a:gdLst/>
              <a:ahLst/>
              <a:rect l="0" t="0" r="r" b="b"/>
              <a:pathLst>
                <a:path w="746" h="535">
                  <a:moveTo>
                    <a:pt x="746" y="265"/>
                  </a:moveTo>
                  <a:lnTo>
                    <a:pt x="0" y="535"/>
                  </a:lnTo>
                  <a:lnTo>
                    <a:pt x="264" y="265"/>
                  </a:lnTo>
                  <a:lnTo>
                    <a:pt x="0" y="0"/>
                  </a:lnTo>
                  <a:lnTo>
                    <a:pt x="746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16280" y="2860560"/>
              <a:ext cx="64764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713040" y="2478240"/>
            <a:ext cx="68904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23960" y="2689200"/>
            <a:ext cx="1917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er symbol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70280" y="2689200"/>
            <a:ext cx="3760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r degradation by multipath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09840" y="3321000"/>
            <a:ext cx="3105000" cy="30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09840" y="3300480"/>
            <a:ext cx="3083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Multipath countermea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08040" y="4143240"/>
            <a:ext cx="11113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qualiz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19400" y="4143240"/>
            <a:ext cx="1808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ctor anten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905280" y="1770120"/>
            <a:ext cx="133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86200" y="1846440"/>
            <a:ext cx="133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028960" y="5334120"/>
            <a:ext cx="207720" cy="207720"/>
            <a:chOff x="2028960" y="5334120"/>
            <a:chExt cx="207720" cy="207720"/>
          </a:xfrm>
        </p:grpSpPr>
        <p:sp>
          <p:nvSpPr>
            <p:cNvPr id="73" name=""/>
            <p:cNvSpPr/>
            <p:nvPr/>
          </p:nvSpPr>
          <p:spPr>
            <a:xfrm>
              <a:off x="2030400" y="5334120"/>
              <a:ext cx="206280" cy="2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28960" y="5334120"/>
              <a:ext cx="207720" cy="207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46680" y="5315040"/>
            <a:ext cx="208080" cy="204840"/>
            <a:chOff x="4846680" y="5315040"/>
            <a:chExt cx="208080" cy="204840"/>
          </a:xfrm>
        </p:grpSpPr>
        <p:sp>
          <p:nvSpPr>
            <p:cNvPr id="76" name=""/>
            <p:cNvSpPr/>
            <p:nvPr/>
          </p:nvSpPr>
          <p:spPr>
            <a:xfrm>
              <a:off x="4848120" y="5315040"/>
              <a:ext cx="206640" cy="2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846680" y="5315040"/>
              <a:ext cx="206280" cy="204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4080" y="177840"/>
            <a:ext cx="773424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8280" y="360360"/>
            <a:ext cx="90043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38360" y="1422360"/>
            <a:ext cx="68706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8320" y="749160"/>
            <a:ext cx="8029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92240" y="431640"/>
            <a:ext cx="783288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8280" y="514440"/>
            <a:ext cx="9001080" cy="55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8769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IEEE P802.11-97/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5920" y="431640"/>
            <a:ext cx="956304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sato Mizoguchi</dc:creator>
  <dc:description/>
  <dc:language>en-US</dc:language>
  <cp:lastModifiedBy>Masato Mizoguchi</cp:lastModifiedBy>
  <cp:revision>0</cp:revision>
  <dc:subject>for IEEE 802.11 ('97.7)</dc:subject>
  <dc:title>Evaluation Items for PHY</dc:title>
</cp:coreProperties>
</file>