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40EBCD4-9123-49CD-8B9F-967532ECFB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768240"/>
            <a:ext cx="5029200" cy="3767400"/>
          </a:xfrm>
          <a:prstGeom prst="rect">
            <a:avLst/>
          </a:prstGeom>
          <a:ln w="0">
            <a:noFill/>
          </a:ln>
        </p:spPr>
      </p:sp>
      <p:sp>
        <p:nvSpPr>
          <p:cNvPr id="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768240"/>
            <a:ext cx="5029200" cy="3767400"/>
          </a:xfrm>
          <a:prstGeom prst="rect">
            <a:avLst/>
          </a:prstGeom>
          <a:ln w="0">
            <a:noFill/>
          </a:ln>
        </p:spPr>
      </p:sp>
      <p:sp>
        <p:nvSpPr>
          <p:cNvPr id="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768240"/>
            <a:ext cx="5029200" cy="3767400"/>
          </a:xfrm>
          <a:prstGeom prst="rect">
            <a:avLst/>
          </a:prstGeom>
          <a:ln w="0">
            <a:noFill/>
          </a:ln>
        </p:spPr>
      </p:sp>
      <p:sp>
        <p:nvSpPr>
          <p:cNvPr id="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768240"/>
            <a:ext cx="5029200" cy="3767400"/>
          </a:xfrm>
          <a:prstGeom prst="rect">
            <a:avLst/>
          </a:prstGeom>
          <a:ln w="0">
            <a:noFill/>
          </a:ln>
        </p:spPr>
      </p:sp>
      <p:sp>
        <p:nvSpPr>
          <p:cNvPr id="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3rd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November 10-14,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ontreal, PQ, CA</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Nov 10,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7</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10-14 - Queen Elizabeth, Montreal, PQ,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anuary ? TBD Intermec scouting for Everett, WA</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May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ug/Sept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8</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62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1219320"/>
            <a:ext cx="7772400" cy="510876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PAR processing</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pproval for 802.1 standard(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Gb PAR, input from other group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and presentation of Technical Submiss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riteria and requirements</a:t>
            </a:r>
            <a:r>
              <a:rPr b="1"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Multipath (Channel Model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ompatibility/Co- Existenc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Evaluation proces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Ga HIPERLAN type 1 tutorial Tue afternoo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Ga Attend Mon eve tutorial of HIPERLAN to 802</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Schedule confirmation</a:t>
            </a:r>
            <a:endParaRPr b="0" lang="en-US" sz="2800" spc="-1" strike="noStrike">
              <a:solidFill>
                <a:srgbClr val="000000"/>
              </a:solidFill>
              <a:latin typeface="Arial"/>
            </a:endParaRPr>
          </a:p>
          <a:p>
            <a:pPr marL="503280" indent="-503280">
              <a:lnSpc>
                <a:spcPct val="100000"/>
              </a:lnSpc>
              <a:spcBef>
                <a:spcPts val="479"/>
              </a:spcBef>
            </a:pPr>
            <a:r>
              <a:rPr b="1"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7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 PHY   |           |     !Techn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Model  |   TGb     |TGb  !Plen  |     TGb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ing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 Plenary  |           |Full 802.11 |     Tga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incl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HIPERL t 1 |    TGa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tutorial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TGb?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Tutorial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HIPERLAN t 1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9"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4"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4: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ui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72</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Standards Board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letter ballo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from the meeting with the FCC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1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7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R for 2.4 GHz work</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7.1 802.1 PAR 97/101</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2.4 GHz PAR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PAR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