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2560" cy="6856560"/>
          </a:xfrm>
          <a:prstGeom prst="roundRect">
            <a:avLst/>
          </a:prstGeom>
          <a:noFill/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5013360" y="6599160"/>
            <a:ext cx="318924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presentation to IEEE 802, 11/97, </a:t>
            </a:r>
            <a:fld id="{A438CA87-D129-40A6-9E78-FE243A8DC0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703440" y="2286000"/>
            <a:ext cx="773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MAC Overview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IEEE 8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36680" y="3886200"/>
            <a:ext cx="6470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 Phipps, Symbio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cp@symbionics.co.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78272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139760" y="1219320"/>
            <a:ext cx="68644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of security features is optio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is based on encryption with a secret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ode may have 3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key index is sent “in the clea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data is encrypt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ryption algorithm is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only one algorith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distribution mechanism is not specifi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78272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Sav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95360" y="1066680"/>
            <a:ext cx="842004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of power saving features is option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Saving Node (p-sa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ertises when it will wake to receive individual (point-to-point)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dvertised pattern is the Individual Pattern (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includes regular wake and sleep phas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Supporting Node (p-suppor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ays transmission to p-saver until the next wake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ertises when it will send group (point-to-multipoint)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dvertised pattern is the Group Pattern (G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 includes regular wake and sleep phases that p-savers can fol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-supporter ensures that group data is sent during wake phase of the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8272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558800" y="1219320"/>
            <a:ext cx="602604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saving / supporting capabil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radio chann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erved loa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SI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name and identifi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rd HIPERL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te that this list is not exhaustiv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1468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Topology Mainten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97040" y="1447920"/>
            <a:ext cx="75502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ing and Receiving He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s announce their presence with regular “Hello” PD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tual existence is derived from sending and receiving Hello PD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s who determine “mutual existence” become Neighbou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oding He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 PDUs include information about Neighb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oding a received Hello PDU gives information about my neighbour’s neighb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Hop” 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8272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Radio Hop Net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84240" y="5524560"/>
            <a:ext cx="7175520" cy="10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extends beyond one radio 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 extended using “forwarder”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70120" y="1444680"/>
            <a:ext cx="7227720" cy="36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78272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12193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ation of forwarding features is op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wa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HIPERLAN may extend over a range greater than one radio 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may be relayed over multiple radio hops via forwar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ology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ology is maintained over the whole HIPER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oint relays are forwarding nodes chosen to ensure multicast coverage of 2 hops with the minimum number of trans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node computes the best next hop on the route to the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se of a routing table is similar to IP routing, but the genreation of the routing table is done automatically by the HIPERLAN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52440" y="277920"/>
            <a:ext cx="8369280" cy="7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802.11 MAC Comparis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62160" y="1260360"/>
            <a:ext cx="6595920" cy="52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1468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Service 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84240" y="1219320"/>
            <a:ext cx="71755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definition is based on ISO 15 802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 higher layer the HIPERLAN MAC service interface looks very much like an “ordinary” MAC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48 bit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lity of Service (Q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Priority (0 or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SDU Lifetime (in milli-seco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71468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990720"/>
            <a:ext cx="8077320" cy="266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nodes are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er-to-peer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central controller, or “hub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ode may bridge to a wired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s as an “access poin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does not have any other “special” functions just because it is a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65240" y="4202280"/>
            <a:ext cx="504684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1468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d MAC Architec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984240" y="914400"/>
            <a:ext cx="71755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like 802.11 there is no centralised PC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only has a few channels available and so different systems may have to share the same channel “fairl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oS can be supported in non-centralised ma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bridge to a wired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dges learn the location of MAC entities and copy data from input to output port if appropri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MAC layer and wired MAC layer can bridge data between them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can be used for broadband radio access to an infrastructur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ccess Po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P) has no other special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functions are distrib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: Channel Access Control, Power Saving, Generating lookup confirm PD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1468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Different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19040" y="5261040"/>
            <a:ext cx="8305920" cy="12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HIPERLANs may occupy the same channel and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iation is by HIPERLAN identifier (and na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33640" y="1438200"/>
            <a:ext cx="502920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71468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04920" y="1181160"/>
            <a:ext cx="853452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differen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differentiate logical groups of nodes (HIPERLANs)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ring, the HIPERLA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umber, the HIPERLAN ident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to identifier mapping should not c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 to the 802.11 concept of a Basic Service Set (BSS) or an Extended Service Set (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belong to a HIPERLAN if you have the same name and identifi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PERLAN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ing node sends Lookup P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f the established nodes sends a Confirm PDU including the HIPERLAN name and ident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ilar to 802.11 probe and prob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78272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Service Pro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0948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ue of packets is NOT necessarily a FI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selected for transmission based on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ority determin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dual life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cted number of radio 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st priority packets jump to the front of the queu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rter lifetime means higher priority means less queuin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QoS can be supported for a mixture of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nel Access Control (CA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pts MAC packets for transmission, with priority as a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C covered by another presentat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78272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Service Pro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84240" y="4716360"/>
            <a:ext cx="7175520" cy="16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pping MAC QoS to MAC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Generate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Order by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Select head of queue for C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17480" y="1066680"/>
            <a:ext cx="771048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06600" y="228600"/>
            <a:ext cx="79311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Layer Error Control and Filt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2193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is discarded once a good acknowledgement (ACK) is receiv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cast and broadcast packets are not acknowled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 when lifetime expir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 Fi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plicates may occur in radio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ause of missing 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cast may be relayed by more than one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filters on destination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 also checks source sequence number for dupl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eter D Ransome</dc:creator>
  <dc:description/>
  <dc:language>en-US</dc:language>
  <cp:lastModifiedBy>Peter D Ransome</cp:lastModifiedBy>
  <cp:revision>0</cp:revision>
  <dc:subject>HIPERLAN and 802.11</dc:subject>
  <dc:title>HIPERLAN MAC Overview For IEEE 802</dc:title>
</cp:coreProperties>
</file>