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2560" cy="6856560"/>
          </a:xfrm>
          <a:prstGeom prst="round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013360" y="6599160"/>
            <a:ext cx="31892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presentation to IEEE 802, 11/97, </a:t>
            </a:r>
            <a:fld id="{7B34B3DE-262B-421E-A561-10F5B36A2C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609480" y="6475320"/>
            <a:ext cx="4411800" cy="336600"/>
            <a:chOff x="609480" y="6475320"/>
            <a:chExt cx="4411800" cy="336600"/>
          </a:xfrm>
        </p:grpSpPr>
        <p:sp>
          <p:nvSpPr>
            <p:cNvPr id="4" name=""/>
            <p:cNvSpPr txBox="1"/>
            <p:nvPr/>
          </p:nvSpPr>
          <p:spPr>
            <a:xfrm>
              <a:off x="1585800" y="6475320"/>
              <a:ext cx="34354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Hv BT"/>
                  <a:ea typeface="Futura Hv BT"/>
                </a:rPr>
                <a:t>THE TECHNOLOGY PARTNERSHI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6643800"/>
              <a:ext cx="914400" cy="0"/>
            </a:xfrm>
            <a:prstGeom prst="line">
              <a:avLst/>
            </a:prstGeom>
            <a:ln w="127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53360" rIns="153360" tIns="-108360" bIns="-10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304920" y="320760"/>
            <a:ext cx="1219320" cy="82872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9907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1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23 Mbps Wireless LAN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compatible wit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roject 802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80880" y="43434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er Ransome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r@techprt.co.uk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chnology Partn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ry Taylor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t@techprt.co.u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 Phipps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cp@symbionics.co.uk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io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447920" y="228600"/>
            <a:ext cx="6934320" cy="10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1 PC-card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duct persp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43000" y="1638360"/>
            <a:ext cx="68580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nna array syst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smatic card ex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band HIPERLAN/U-N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GHz RF: SiGe or GaAs front-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: integrated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ters: current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m: integrated digital state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 controller: hardware and micro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-card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581960" y="3619440"/>
            <a:ext cx="733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315280" y="2895480"/>
            <a:ext cx="0" cy="723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163000" y="2971800"/>
            <a:ext cx="152280" cy="171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8334360" y="2952720"/>
            <a:ext cx="133200" cy="190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581960" y="2562120"/>
            <a:ext cx="552240" cy="723960"/>
            <a:chOff x="7581960" y="2562120"/>
            <a:chExt cx="552240" cy="723960"/>
          </a:xfrm>
        </p:grpSpPr>
        <p:sp>
          <p:nvSpPr>
            <p:cNvPr id="114" name=""/>
            <p:cNvSpPr/>
            <p:nvPr/>
          </p:nvSpPr>
          <p:spPr>
            <a:xfrm>
              <a:off x="7581960" y="3286080"/>
              <a:ext cx="399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981920" y="2562120"/>
              <a:ext cx="0" cy="723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829640" y="2638440"/>
              <a:ext cx="152280" cy="171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8001000" y="2619360"/>
              <a:ext cx="133200" cy="19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172040" y="4010040"/>
            <a:ext cx="3238560" cy="9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47920" y="228600"/>
            <a:ext cx="6934320" cy="10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l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72040" y="3286080"/>
            <a:ext cx="321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52600" y="2381400"/>
            <a:ext cx="1619280" cy="255276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76400" y="3105000"/>
            <a:ext cx="1295280" cy="1123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3105000"/>
            <a:ext cx="1295280" cy="112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3029040"/>
            <a:ext cx="11430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5880" y="3733920"/>
            <a:ext cx="11430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91520" y="2971800"/>
            <a:ext cx="495360" cy="131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886880" y="4000680"/>
            <a:ext cx="733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8620200" y="3276720"/>
            <a:ext cx="0" cy="723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467560" y="3352680"/>
            <a:ext cx="152640" cy="171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639280" y="3333600"/>
            <a:ext cx="133200" cy="190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118200" y="3090960"/>
            <a:ext cx="1015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Calligr BT"/>
                <a:ea typeface="ZapfCalligr BT"/>
              </a:rPr>
              <a:t>TX 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108840" y="3795840"/>
            <a:ext cx="1028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Calligr BT"/>
                <a:ea typeface="ZapfCalligr BT"/>
              </a:rPr>
              <a:t>RX 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84680" y="3214800"/>
            <a:ext cx="108576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Calligr BT"/>
                <a:ea typeface="ZapfCalligr BT"/>
              </a:rPr>
              <a:t>Mo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Calligr BT"/>
                <a:ea typeface="ZapfCalligr BT"/>
              </a:rPr>
              <a:t>A/D, D/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Calligr BT"/>
                <a:ea typeface="ZapfCalligr BT"/>
              </a:rPr>
              <a:t>C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863800" y="3338640"/>
            <a:ext cx="13143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Calligr BT"/>
                <a:ea typeface="ZapfCalligr BT"/>
              </a:rPr>
              <a:t>HIPER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Calligr BT"/>
                <a:ea typeface="ZapfCalligr BT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78040" y="3357720"/>
            <a:ext cx="10731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Calligr BT"/>
                <a:ea typeface="ZapfCalligr BT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Calligr BT"/>
                <a:ea typeface="ZapfCalligr BT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43240" y="3352680"/>
            <a:ext cx="371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181240" y="3133800"/>
            <a:ext cx="162000" cy="981000"/>
            <a:chOff x="2181240" y="3133800"/>
            <a:chExt cx="162000" cy="981000"/>
          </a:xfrm>
        </p:grpSpPr>
        <p:sp>
          <p:nvSpPr>
            <p:cNvPr id="138" name=""/>
            <p:cNvSpPr/>
            <p:nvPr/>
          </p:nvSpPr>
          <p:spPr>
            <a:xfrm flipV="1">
              <a:off x="2181240" y="3133800"/>
              <a:ext cx="162000" cy="49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343240" y="3133800"/>
              <a:ext cx="0" cy="218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2181240" y="3619440"/>
              <a:ext cx="162000" cy="495360"/>
              <a:chOff x="2181240" y="3619440"/>
              <a:chExt cx="162000" cy="495360"/>
            </a:xfrm>
          </p:grpSpPr>
          <p:sp>
            <p:nvSpPr>
              <p:cNvPr id="141" name=""/>
              <p:cNvSpPr/>
              <p:nvPr/>
            </p:nvSpPr>
            <p:spPr>
              <a:xfrm>
                <a:off x="2181240" y="3619440"/>
                <a:ext cx="162000" cy="495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2343240" y="3895560"/>
                <a:ext cx="0" cy="219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2714760" y="3143160"/>
            <a:ext cx="161640" cy="981000"/>
            <a:chOff x="2714760" y="3143160"/>
            <a:chExt cx="161640" cy="981000"/>
          </a:xfrm>
        </p:grpSpPr>
        <p:sp>
          <p:nvSpPr>
            <p:cNvPr id="144" name=""/>
            <p:cNvSpPr/>
            <p:nvPr/>
          </p:nvSpPr>
          <p:spPr>
            <a:xfrm flipH="1" flipV="1">
              <a:off x="2714760" y="3143160"/>
              <a:ext cx="161640" cy="49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14760" y="3143160"/>
              <a:ext cx="0" cy="219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2714760" y="3629160"/>
              <a:ext cx="161640" cy="495000"/>
              <a:chOff x="2714760" y="3629160"/>
              <a:chExt cx="161640" cy="495000"/>
            </a:xfrm>
          </p:grpSpPr>
          <p:sp>
            <p:nvSpPr>
              <p:cNvPr id="147" name=""/>
              <p:cNvSpPr/>
              <p:nvPr/>
            </p:nvSpPr>
            <p:spPr>
              <a:xfrm flipH="1">
                <a:off x="2714760" y="3629160"/>
                <a:ext cx="161640" cy="49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2714760" y="3905280"/>
                <a:ext cx="0" cy="21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>
            <a:off x="2352600" y="3905280"/>
            <a:ext cx="371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07960" y="5135400"/>
            <a:ext cx="1673280" cy="104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ZapfCalligr BT"/>
                <a:ea typeface="ZapfCalligr BT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ZapfCalligr BT"/>
                <a:ea typeface="ZapfCalligr BT"/>
              </a:rPr>
              <a:t>Protocol St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114720" y="5288040"/>
            <a:ext cx="7635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ZapfCalligr BT"/>
                <a:ea typeface="ZapfCalligr BT"/>
              </a:rPr>
              <a:t>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13400" y="5268960"/>
            <a:ext cx="1285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ZapfCalligr BT"/>
                <a:ea typeface="ZapfCalligr BT"/>
              </a:rPr>
              <a:t>CAC/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262560" y="5268960"/>
            <a:ext cx="692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ZapfCalligr BT"/>
                <a:ea typeface="ZapfCalligr BT"/>
              </a:rPr>
              <a:t>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343640" y="5268960"/>
            <a:ext cx="6620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7404120" y="3490920"/>
            <a:ext cx="476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Calligr BT"/>
                <a:ea typeface="ZapfCalligr BT"/>
              </a:rPr>
              <a:t>S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2193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HIPERLAN 1 meet WLAN nee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definition based on ISO 15 802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stical approximation to time-bound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ers”, “Power-savers”, “Power-saver supporters”, Ultra-low duty cycle allowable, lowest power (unequalised receiver) mode for monitoring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-ho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loyment, with centralised operation allowable as merely one special c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ly efficient, equitable priority and contention resolution on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-n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-card implementation, $120 BO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1430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does HIPERLAN 1 offer the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1523880"/>
            <a:ext cx="7772400" cy="42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 now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 specification published October 1996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SI ETS 300 65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ormance testing specification (radio &amp; protocol)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SI ETS 300 83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tsi.f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iant products expected during 1998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447920" y="228600"/>
            <a:ext cx="6934320" cy="10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such a high performance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62080" y="838080"/>
            <a:ext cx="6819840" cy="51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ivery at MAC SAP is 19 Mbp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this is shared between network sta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not just high bit-rate that’s needed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also low latency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ow delay varia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and satisfaction of user requirements rais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ence with wired 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” for multimedia, colour and movemen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uture is broadb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rend is to decentralis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-h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twork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IPERLAN 1 Channel Access Control Sub-l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ry Tayl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chnology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44 1763 2626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t@techprt.co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2952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inder : IEEE 802.11 Channel A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43080" y="11811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en Before Talk protoco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Data Transfer Serv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Control Functions defined (DCF &amp; PC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nowledged Unicast, un-Acknowledged Multicast trans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preemptive hieracrchical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priority levels defined via Inter-Frame Spa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FS, PIFS, DIFS, EI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ary transfer functions enumerated for many specific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 Segmentation, Virtual busy, Contention Free etc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nential, slotted backoff after coll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CAC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66760" y="144792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s MAC facilities over the shared HIPERLAN chann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ority Access Scheme - EY-NPM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erarchical Independence of Prioriti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ion Resolution within Priority 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d &amp; Channel Free access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Permissio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Channel A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260440" y="927000"/>
            <a:ext cx="5372280" cy="57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447920" y="2286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Transfer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257480" y="1447920"/>
            <a:ext cx="6629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hannel Access Mechanism in 3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orit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ss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dden Elimin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coded in Low Bitrate &amp; High Bitrat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28880" y="1295280"/>
            <a:ext cx="7086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to HIPERLAN, what is it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IPERLAN 1 MA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IPERLAN 1 CAC (Channel Access Control)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ossible link between the 802.11 MAC and the HIPERLAN 1 PHY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IPERLAN 1 PHY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447920" y="2286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ention Re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3520" y="182880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11 defines an exponentially increasing slotted backoff mechanis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defines an exponetial probability distribution for the extension stage of the priority assertion signal, followed by a linear probability distribution function for the yield stage. (Designed for  3.5% residual collision rate.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contention resolution algorithm is part of the access mechanis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06668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Channel Permission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33520" y="163836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spectrum divided into 5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15 - 5.25 GHz, 3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25 - 5.30 GHz 2 Channel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frequency channels are available at national discre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needed to prevent illegal transmiss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Permission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447920" y="2286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29528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CAC Service provides the transfer service to the HIPERLAN MA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ority and contention resolution coded into a single active sig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CAC and 802.11 MAC Transfer Services share much in com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pre-emptive hierarchically independent pri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’d unicast and un-Ack’d multicast transmiss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s in Contention Resolutio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 back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probabilistic signalling in LBT access mechanis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IPERLAN 1 PHY l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er Ran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chnology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44 1763 2626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r@techprt.co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rum: USA and Eu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76320" y="144792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-NII b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15 GHz to 5.25 GHz, 50 mW PEP, less than 2.5 mW/MHz, +6dBi ant. 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25 GHz to 5.35 GHz, 250 mW PEP, less than 12.5 mW/MHz, +6dBi ant 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725 GHz to 5.825 GHz, 1W PEP, less than 50 mW/MHz, +6dBi ant. ga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1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15 GHz to 5.25 GHz throughout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25 GHz to 5,3 GHz extensions on national 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ed transmit power, 1W EIRPEP in both bands, HIPERLAN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1 in U-NII (from Tx in-band spectrum aspect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W EIRPEP device is ille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mW EIRPEP device (class B) legal if rebanded to 5.7 GHz U-N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mW device legal throughout U-N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295280" y="2286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channels &amp; mod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295280"/>
            <a:ext cx="7772400" cy="448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channels spaced at 23.5294 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 band-edges left to allow simple Tx filter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llular spectrum sharing model does not a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s will share spectrum equitabl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rate and low-rate modulation specifi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carrier high-rate mod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MSK, BT=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.5294 Msymbol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ant envelope: cheaper, more efficient Tx 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equalisation as if a linear sc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447920" y="2286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bit-rate modu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19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itial content of all HIPERLAN 1 burs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K at 1/16 of full data r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ted at full power (hence higher spectral density than for high-rate modulatio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ower saving in the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ries length and destination address informa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e received without equ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447920" y="2286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 bit-rate recepti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1219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alization of high rate signa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nna diversity and directivity is possible at 5.2 GHz in PC-card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provides a long training seq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nna selection can be performed during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er can balance speed of training, antenna complexity,  equaliz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tery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bit-rate header provides information without receiver equ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-saving modes are sup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power is reasonable for a usable coverage 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ant envelope transmit modulation means less backoff in transmit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1 burst duration is limi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mbulant motion, the channel can be considered as s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bol clock is tightly constrained to RF carr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ce receivers need only track the carrier, and not retrain during bur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447920" y="2286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-existence with IEEE 802.11 H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19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-existence raises the possibility of hybrid W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-NII band includes HIPERLAN 1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ed products and users for 802.11 and HIPERLAN 1 alig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1 Tx power level is above U-NII limits for some devices, though class A (10 mW) is 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1 band occupancy protocol is know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-NII sharing rules not yet settl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447920" y="2286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ility with IEEE 802.11 H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2952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uld provide “world-”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1 standard is complete and available in 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1 MAC services align to IEEE/ISO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tain 802.11 MAC services are unavailable in HIPERLAN 1, and vice 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219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ireless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facilities must we have from a WLAN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facilities would we like from a WLAN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HIPERLAN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oes HIPERLAN 1 give us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such a high performance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447920" y="228600"/>
            <a:ext cx="6934320" cy="10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1 PHY derivativ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ble as IEEE 802.11 H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75248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1 fits data rate goal of 802.11 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-NII band includes HIPERLAN 1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1 MAC services are comprehensiv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??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 topic for discussion in 802.11 PHY group mee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treal, 11/11/9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he eleventh hour?, actually the afternoon s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for the b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ireles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82880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gence of communications and computing into a single devi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st overall network system cost in certain scenario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 option for certain last drops on wired L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untethered work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MUST we get from a WL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219320" y="800280"/>
            <a:ext cx="6705720" cy="54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data delivery (&amp; close approximation to IEEE 802.x facilitie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table multiple acc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able level of secur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ighbourhood discov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able battery lif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mmodation of the wireless medium issu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ould we like from a WLA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28880" y="1447920"/>
            <a:ext cx="7238880" cy="468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priority system (for time-bounded service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ability of uncoordinated deployment, and non-centralised oper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ability of ambulant us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ny implementation, compatible with PDA/HP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or extreme power-saving no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ap units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228600"/>
            <a:ext cx="7772400" cy="10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HIPERLAN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Igh PERformance Radio LA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95360" y="1447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I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WLAN, 5 GHz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ublished European Standard: MAC and PH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(the subject of this session)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II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-ATM, 5 GHz, 1999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III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less remote access, WLL?, 1999?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or17 GHz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IV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y high rate wireless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rastructure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5 Mbps ATM, 200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543800" y="1447920"/>
            <a:ext cx="1523880" cy="9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447920" y="2286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LAN product introdu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130400" y="5638680"/>
            <a:ext cx="7175520" cy="1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63480" y="5824440"/>
            <a:ext cx="870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 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130400" y="565776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606760" y="5824440"/>
            <a:ext cx="870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 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959200" y="565776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435560" y="5824440"/>
            <a:ext cx="870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 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788000" y="565776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64360" y="5824440"/>
            <a:ext cx="870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 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16800" y="565776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130400" y="200016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17360" y="4338720"/>
            <a:ext cx="93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17360" y="3195720"/>
            <a:ext cx="311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44440" y="3195720"/>
            <a:ext cx="806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5840" y="1824120"/>
            <a:ext cx="43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70000" y="1824120"/>
            <a:ext cx="806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73400" y="3860640"/>
            <a:ext cx="2514600" cy="685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822400" y="3919680"/>
            <a:ext cx="7048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E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343320" y="3919680"/>
            <a:ext cx="946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02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025800" y="4148280"/>
            <a:ext cx="1060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8440" y="5481720"/>
            <a:ext cx="67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0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23800" y="5481720"/>
            <a:ext cx="552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4546440"/>
            <a:ext cx="1600200" cy="1028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463760" y="4782960"/>
            <a:ext cx="1301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rie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349280" y="5011560"/>
            <a:ext cx="654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817640" y="5011560"/>
            <a:ext cx="1060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1447920"/>
            <a:ext cx="1523880" cy="990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946840" y="1671480"/>
            <a:ext cx="1327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PER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242120" y="1747800"/>
            <a:ext cx="184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86520" y="1900080"/>
            <a:ext cx="1060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63760" y="2603520"/>
            <a:ext cx="4127400" cy="901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765680" y="2662200"/>
            <a:ext cx="1301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rie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33960" y="2662200"/>
            <a:ext cx="184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105440" y="2890800"/>
            <a:ext cx="12510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M/U-N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259240" y="2890800"/>
            <a:ext cx="1060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15920" y="56577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36520" y="5765760"/>
            <a:ext cx="25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15920" y="45147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15920" y="33717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15920" y="2000160"/>
            <a:ext cx="114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8292960" y="5657760"/>
            <a:ext cx="0" cy="114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635960" y="5824440"/>
            <a:ext cx="1252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 200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763040" y="1709640"/>
            <a:ext cx="1339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02.11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447920" y="228600"/>
            <a:ext cx="6934320" cy="10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does HIPERLAN 1 give me?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ser perspectiv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52388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it R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.5294 Mbit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 Cover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m typ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t-in Mo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 type II forma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lking Speed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ope-wide legal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be USA too in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Fixed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lapping HIPERLANs permit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Frequency Planning, no user lic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vity to Wired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hernet, Token Ring, 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ter D Ransome</dc:creator>
  <dc:description/>
  <dc:language>en-US</dc:language>
  <cp:lastModifiedBy>Peter D Ransome</cp:lastModifiedBy>
  <cp:revision>0</cp:revision>
  <dc:subject>HIPERLAN and 802.11</dc:subject>
  <dc:title>HIPERLAN 1:  the 23 Mbps Wireless LAN  How compatible with IEEE Project 802?</dc:title>
</cp:coreProperties>
</file>