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56A1377-7D08-4568-BA34-0389F9AB06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371600" y="768240"/>
            <a:ext cx="5029200" cy="3767400"/>
          </a:xfrm>
          <a:prstGeom prst="rect">
            <a:avLst/>
          </a:prstGeom>
          <a:ln w="0">
            <a:noFill/>
          </a:ln>
        </p:spPr>
      </p:sp>
      <p:sp>
        <p:nvSpPr>
          <p:cNvPr id="4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371600" y="768240"/>
            <a:ext cx="5029200" cy="3767400"/>
          </a:xfrm>
          <a:prstGeom prst="rect">
            <a:avLst/>
          </a:prstGeom>
          <a:ln w="0">
            <a:noFill/>
          </a:ln>
        </p:spPr>
      </p:sp>
      <p:sp>
        <p:nvSpPr>
          <p:cNvPr id="5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371600" y="768240"/>
            <a:ext cx="5029200" cy="3767400"/>
          </a:xfrm>
          <a:prstGeom prst="rect">
            <a:avLst/>
          </a:prstGeom>
          <a:ln w="0">
            <a:noFill/>
          </a:ln>
        </p:spPr>
      </p:sp>
      <p:sp>
        <p:nvSpPr>
          <p:cNvPr id="5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371600" y="768240"/>
            <a:ext cx="5029200" cy="3767400"/>
          </a:xfrm>
          <a:prstGeom prst="rect">
            <a:avLst/>
          </a:prstGeom>
          <a:ln w="0">
            <a:noFill/>
          </a:ln>
        </p:spPr>
      </p:sp>
      <p:sp>
        <p:nvSpPr>
          <p:cNvPr id="5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371600" y="768240"/>
            <a:ext cx="5029200" cy="3767400"/>
          </a:xfrm>
          <a:prstGeom prst="rect">
            <a:avLst/>
          </a:prstGeom>
          <a:ln w="0">
            <a:noFill/>
          </a:ln>
        </p:spPr>
      </p:sp>
      <p:sp>
        <p:nvSpPr>
          <p:cNvPr id="5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371600" y="768240"/>
            <a:ext cx="5029200" cy="3767400"/>
          </a:xfrm>
          <a:prstGeom prst="rect">
            <a:avLst/>
          </a:prstGeom>
          <a:ln w="0">
            <a:noFill/>
          </a:ln>
        </p:spPr>
      </p:sp>
      <p:sp>
        <p:nvSpPr>
          <p:cNvPr id="5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was not difficul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uses an absolute phase reference.  The PLCP preamble is BPSK and as such, will provide a 180 degree phase ambiguity.  By using the last bit out of the modulator prior to the PDU as a phase reference, we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Deviations are due to demodulator performance.  Generally, the SNR of the 1 Mbps preamble and header is so high that the acquisition is usually perfec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urves show the theory for 1 bit and for 1, 100, and 1000 symbols.  The measured performance shows the data for 100 and 1000 symbols.  </a:t>
            </a:r>
            <a:br>
              <a:rPr sz="1200"/>
            </a:b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802.11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1.5 times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may lock up on a sidelobe.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CW jammer test run at IF over a few points to verify that our analysis was correct.  The results follow the analysis reasonable well and show that the technique will pass the FCC's tests for CW jamming.  We also scanned a fixed level CW signal at 12 dB PG. over the whole band and found no frequencies where the modem was especially susceptible to CW jamming.  This result indicates that the full radio should have no problem in passing the FCC's test for P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ull radio test is on going as we speak.</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 with</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ngle antenna, no diversit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results show probability of a missed packe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100 trials per poin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Packet length 200 symbol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bit A/D , carrier and chip loops activ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3 pole Butterworth SA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Dual antennas, completely independent samples, best antenna chosen (an ideal cas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modem to achieve given performance in the face of frequency dynamics which might relate to motion was tested by FM modulating one of the local oscillators of the radio.  The performance indicates that the modulation can be tracked through fairly large disturbances and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371600" y="768240"/>
            <a:ext cx="5029200" cy="3767400"/>
          </a:xfrm>
          <a:prstGeom prst="rect">
            <a:avLst/>
          </a:prstGeom>
          <a:ln w="0">
            <a:noFill/>
          </a:ln>
        </p:spPr>
      </p:sp>
      <p:sp>
        <p:nvSpPr>
          <p:cNvPr id="5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371600" y="768240"/>
            <a:ext cx="5029200" cy="3767400"/>
          </a:xfrm>
          <a:prstGeom prst="rect">
            <a:avLst/>
          </a:prstGeom>
          <a:ln w="0">
            <a:noFill/>
          </a:ln>
        </p:spPr>
      </p:sp>
      <p:sp>
        <p:nvSpPr>
          <p:cNvPr id="5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high rate waveform allows up to 33 Mbps total throughput in the ISM band in (3) 11 Mbps channels.  A wideband system would have fewer channels and therefore less overall throughpu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the waveform has the same spectrum properties as the existing DS waveform, its interference to FH systems gets less because of shorter time on the ai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inimal increase in complexity of the high rate system does not alter the size of the hardware, so it will fit into a PCMCIA package.   The proposed waveform can work with either short or long preambles.  The long preambles currently implemented allows backwards compatibility and time for antenna diversity and for equalizers or channels estimators to initializ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veform has the same AM component as the current waveform, and requires only 5 dB of power amplifier backoff to achieve its spectral mask.  PPM waveforms require more backoff.</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AC protocol is unaffected by this techniqu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371600" y="768240"/>
            <a:ext cx="5029200" cy="3767400"/>
          </a:xfrm>
          <a:prstGeom prst="rect">
            <a:avLst/>
          </a:prstGeom>
          <a:ln w="0">
            <a:noFill/>
          </a:ln>
        </p:spPr>
      </p:sp>
      <p:sp>
        <p:nvSpPr>
          <p:cNvPr id="5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waveform can work without the need for a channel estimator or equalizer for those channels such as office buildings and homes where the delay spread is small.  This makes for the lowest cost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re improved performance or longer delay spread is needed, a simple channel estimator and cross sub channel interference suppressor can be added with a nominal increase in baseband processing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robust performance is needed, a complex channel corrector capability can be added without changing the basic radiated waveform or pream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Keeping the channel distortion correction in the receiver allows the system designer to choose only the degree of performance needed for the jo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371600" y="768240"/>
            <a:ext cx="5029200" cy="3767400"/>
          </a:xfrm>
          <a:prstGeom prst="rect">
            <a:avLst/>
          </a:prstGeom>
          <a:ln w="0">
            <a:noFill/>
          </a:ln>
        </p:spPr>
      </p:sp>
      <p:sp>
        <p:nvSpPr>
          <p:cNvPr id="5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The measured performance in a typical radio implementation has shown about -85 dBm sensitivity for 2% P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174600"/>
            <a:ext cx="76899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144</a:t>
            </a:r>
            <a:endParaRPr b="0" lang="en-US" sz="1400" spc="-1" strike="noStrike">
              <a:solidFill>
                <a:srgbClr val="000000"/>
              </a:solidFill>
              <a:latin typeface="Arial"/>
            </a:endParaRPr>
          </a:p>
        </p:txBody>
      </p:sp>
      <p:sp>
        <p:nvSpPr>
          <p:cNvPr id="2" name=""/>
          <p:cNvSpPr/>
          <p:nvPr/>
        </p:nvSpPr>
        <p:spPr>
          <a:xfrm>
            <a:off x="838080" y="457200"/>
            <a:ext cx="7467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34824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txBox="1"/>
          <p:nvPr/>
        </p:nvSpPr>
        <p:spPr>
          <a:xfrm>
            <a:off x="6765840" y="6348240"/>
            <a:ext cx="1741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arl Andren, Harris Corp</a:t>
            </a:r>
            <a:endParaRPr b="0" lang="en-US" sz="1200" spc="-1" strike="noStrike">
              <a:solidFill>
                <a:srgbClr val="000000"/>
              </a:solidFill>
              <a:latin typeface="Arial"/>
            </a:endParaRPr>
          </a:p>
        </p:txBody>
      </p:sp>
      <p:sp>
        <p:nvSpPr>
          <p:cNvPr id="5" name=""/>
          <p:cNvSpPr/>
          <p:nvPr/>
        </p:nvSpPr>
        <p:spPr>
          <a:xfrm>
            <a:off x="685800" y="632448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ictures of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9" name=""/>
          <p:cNvSpPr txBox="1"/>
          <p:nvPr/>
        </p:nvSpPr>
        <p:spPr>
          <a:xfrm>
            <a:off x="1203480" y="5157720"/>
            <a:ext cx="67928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hese tests show achieved transmission rates for 512 byte packets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and are all in the 50-100 ft range.. No/Yes refers to rotation of the rad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63"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4"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6"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68"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69"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1"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2"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74"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75"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79"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80"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2"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84"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85"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86"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87"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88"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90"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91"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2"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93"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96"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02"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03"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04"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05"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08"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11"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3"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5"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MOK Modulation Approach</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24"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25"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properties</a:t>
            </a:r>
            <a:endParaRPr b="0" lang="en-US" sz="4400" spc="-1" strike="noStrike">
              <a:solidFill>
                <a:srgbClr val="000000"/>
              </a:solidFill>
              <a:latin typeface="Arial"/>
            </a:endParaRPr>
          </a:p>
        </p:txBody>
      </p:sp>
      <p:sp>
        <p:nvSpPr>
          <p:cNvPr id="4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 baseband processing circui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33"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3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36"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3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40"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4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43"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44"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4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4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4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4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5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txBox="1"/>
          <p:nvPr/>
        </p:nvSpPr>
        <p:spPr>
          <a:xfrm>
            <a:off x="239076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5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57"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5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6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6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6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MOK Modulation Approach</a:t>
            </a:r>
            <a:br>
              <a:rPr sz="4400"/>
            </a:br>
            <a:r>
              <a:rPr b="0" lang="en-US" sz="4400" spc="-1" strike="noStrike">
                <a:solidFill>
                  <a:srgbClr val="063de8"/>
                </a:solidFill>
                <a:latin typeface="Times New Roman"/>
                <a:ea typeface="Times New Roman"/>
              </a:rPr>
              <a:t>for 5.5 MBps</a:t>
            </a:r>
            <a:endParaRPr b="0" lang="en-US" sz="4400" spc="-1" strike="noStrike">
              <a:solidFill>
                <a:srgbClr val="000000"/>
              </a:solidFill>
              <a:latin typeface="Arial"/>
            </a:endParaRPr>
          </a:p>
        </p:txBody>
      </p:sp>
      <p:sp>
        <p:nvSpPr>
          <p:cNvPr id="46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5.5 MBps properties</a:t>
            </a:r>
            <a:endParaRPr b="0" lang="en-US" sz="4400" spc="-1" strike="noStrike">
              <a:solidFill>
                <a:srgbClr val="000000"/>
              </a:solidFill>
              <a:latin typeface="Arial"/>
            </a:endParaRPr>
          </a:p>
        </p:txBody>
      </p:sp>
      <p:sp>
        <p:nvSpPr>
          <p:cNvPr id="4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ore rugged than QPSK due to absence of I/Q cross sub channel interfer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73"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475"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477"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47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609480" y="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481" name="" descr=""/>
          <p:cNvPicPr/>
          <p:nvPr/>
        </p:nvPicPr>
        <p:blipFill>
          <a:blip r:embed="rId1"/>
          <a:stretch/>
        </p:blipFill>
        <p:spPr>
          <a:xfrm>
            <a:off x="347760" y="76320"/>
            <a:ext cx="8451720" cy="6477120"/>
          </a:xfrm>
          <a:prstGeom prst="rect">
            <a:avLst/>
          </a:prstGeom>
          <a:ln w="0">
            <a:noFill/>
          </a:ln>
        </p:spPr>
      </p:pic>
      <p:sp>
        <p:nvSpPr>
          <p:cNvPr id="482" name=""/>
          <p:cNvSpPr/>
          <p:nvPr/>
        </p:nvSpPr>
        <p:spPr>
          <a:xfrm>
            <a:off x="1752480" y="3276720"/>
            <a:ext cx="5181840" cy="0"/>
          </a:xfrm>
          <a:prstGeom prst="line">
            <a:avLst/>
          </a:prstGeom>
          <a:ln w="38160">
            <a:solidFill>
              <a:srgbClr val="ff0033"/>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out Diversity</a:t>
            </a:r>
            <a:endParaRPr b="0" lang="en-US" sz="3200" spc="-1" strike="noStrike">
              <a:solidFill>
                <a:srgbClr val="000000"/>
              </a:solidFill>
              <a:latin typeface="Arial"/>
            </a:endParaRPr>
          </a:p>
        </p:txBody>
      </p:sp>
      <p:pic>
        <p:nvPicPr>
          <p:cNvPr id="484" name="" descr=""/>
          <p:cNvPicPr/>
          <p:nvPr/>
        </p:nvPicPr>
        <p:blipFill>
          <a:blip r:embed="rId1"/>
          <a:stretch/>
        </p:blipFill>
        <p:spPr>
          <a:xfrm>
            <a:off x="641520" y="1154160"/>
            <a:ext cx="8091360" cy="467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762120" y="152280"/>
            <a:ext cx="777240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br>
              <a:rPr sz="3200"/>
            </a:br>
            <a:r>
              <a:rPr b="0" lang="en-US" sz="3200" spc="-1" strike="noStrike">
                <a:solidFill>
                  <a:srgbClr val="000000"/>
                </a:solidFill>
                <a:latin typeface="Times New Roman"/>
                <a:ea typeface="Times New Roman"/>
              </a:rPr>
              <a:t>with Optimal Diversity</a:t>
            </a:r>
            <a:endParaRPr b="0" lang="en-US" sz="3200" spc="-1" strike="noStrike">
              <a:solidFill>
                <a:srgbClr val="000000"/>
              </a:solidFill>
              <a:latin typeface="Arial"/>
            </a:endParaRPr>
          </a:p>
        </p:txBody>
      </p:sp>
      <p:pic>
        <p:nvPicPr>
          <p:cNvPr id="486" name="" descr=""/>
          <p:cNvPicPr/>
          <p:nvPr/>
        </p:nvPicPr>
        <p:blipFill>
          <a:blip r:embed="rId1"/>
          <a:stretch/>
        </p:blipFill>
        <p:spPr>
          <a:xfrm>
            <a:off x="704880" y="1093680"/>
            <a:ext cx="8142120" cy="5041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requency disturbance tolerance</a:t>
            </a:r>
            <a:endParaRPr b="0" lang="en-US" sz="4400" spc="-1" strike="noStrike">
              <a:solidFill>
                <a:srgbClr val="000000"/>
              </a:solidFill>
              <a:latin typeface="Arial"/>
            </a:endParaRPr>
          </a:p>
        </p:txBody>
      </p:sp>
      <p:sp>
        <p:nvSpPr>
          <p:cNvPr id="4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modem to break loc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10-5 B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8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 kHz</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M deviation at 1kHz to cause packet erro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gt;400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5.5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0 k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 Mbp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0 k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ike signal jamming</a:t>
            </a:r>
            <a:endParaRPr b="0" lang="en-US" sz="4400" spc="-1" strike="noStrike">
              <a:solidFill>
                <a:srgbClr val="000000"/>
              </a:solidFill>
              <a:latin typeface="Arial"/>
            </a:endParaRPr>
          </a:p>
        </p:txBody>
      </p:sp>
      <p:sp>
        <p:nvSpPr>
          <p:cNvPr id="4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for S/J that causes 5% PER are:</a:t>
            </a:r>
            <a:endParaRPr b="0" lang="en-US" sz="2000" spc="-1" strike="noStrike">
              <a:solidFill>
                <a:srgbClr val="000000"/>
              </a:solidFill>
              <a:latin typeface="Arial"/>
            </a:endParaRPr>
          </a:p>
        </p:txBody>
      </p:sp>
      <p:pic>
        <p:nvPicPr>
          <p:cNvPr id="491" name="" descr=""/>
          <p:cNvPicPr/>
          <p:nvPr/>
        </p:nvPicPr>
        <p:blipFill>
          <a:blip r:embed="rId1"/>
          <a:stretch/>
        </p:blipFill>
        <p:spPr>
          <a:xfrm>
            <a:off x="1622520" y="2743200"/>
            <a:ext cx="6006960" cy="342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possibili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st with no post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tter with simple cross channel estimator and corre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very good performance with lots of process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ll the above with the same wavefor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operability</a:t>
            </a:r>
            <a:endParaRPr b="0" lang="en-US" sz="4400" spc="-1" strike="noStrike">
              <a:solidFill>
                <a:srgbClr val="000000"/>
              </a:solidFill>
              <a:latin typeface="Arial"/>
            </a:endParaRPr>
          </a:p>
        </p:txBody>
      </p:sp>
      <p:sp>
        <p:nvSpPr>
          <p:cNvPr id="4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committee decides to ignore compatibility, short headers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need a somewhat longer header than the shortest possible for maximum throughp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762120" y="685800"/>
            <a:ext cx="1458720" cy="625680"/>
            <a:chOff x="762120" y="685800"/>
            <a:chExt cx="1458720" cy="625680"/>
          </a:xfrm>
        </p:grpSpPr>
        <p:grpSp>
          <p:nvGrpSpPr>
            <p:cNvPr id="55" name=""/>
            <p:cNvGrpSpPr/>
            <p:nvPr/>
          </p:nvGrpSpPr>
          <p:grpSpPr>
            <a:xfrm>
              <a:off x="914400" y="762120"/>
              <a:ext cx="1219320" cy="228600"/>
              <a:chOff x="914400" y="762120"/>
              <a:chExt cx="1219320" cy="228600"/>
            </a:xfrm>
          </p:grpSpPr>
          <p:sp>
            <p:nvSpPr>
              <p:cNvPr id="5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394240" y="152280"/>
            <a:ext cx="3063960" cy="1235160"/>
            <a:chOff x="5394240" y="152280"/>
            <a:chExt cx="3063960" cy="1235160"/>
          </a:xfrm>
        </p:grpSpPr>
        <p:sp>
          <p:nvSpPr>
            <p:cNvPr id="7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867280" y="304920"/>
              <a:ext cx="609840" cy="761760"/>
              <a:chOff x="5867280" y="304920"/>
              <a:chExt cx="609840" cy="761760"/>
            </a:xfrm>
          </p:grpSpPr>
          <p:grpSp>
            <p:nvGrpSpPr>
              <p:cNvPr id="73" name=""/>
              <p:cNvGrpSpPr/>
              <p:nvPr/>
            </p:nvGrpSpPr>
            <p:grpSpPr>
              <a:xfrm>
                <a:off x="5867280" y="304920"/>
                <a:ext cx="609840" cy="75960"/>
                <a:chOff x="5867280" y="304920"/>
                <a:chExt cx="609840" cy="75960"/>
              </a:xfrm>
            </p:grpSpPr>
            <p:sp>
              <p:nvSpPr>
                <p:cNvPr id="7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7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867280" y="533520"/>
                <a:ext cx="609840" cy="75960"/>
                <a:chOff x="5867280" y="533520"/>
                <a:chExt cx="609840" cy="75960"/>
              </a:xfrm>
            </p:grpSpPr>
            <p:sp>
              <p:nvSpPr>
                <p:cNvPr id="7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867280" y="762120"/>
                <a:ext cx="609840" cy="75960"/>
                <a:chOff x="5867280" y="762120"/>
                <a:chExt cx="609840" cy="75960"/>
              </a:xfrm>
            </p:grpSpPr>
            <p:sp>
              <p:nvSpPr>
                <p:cNvPr id="8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8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90" name=""/>
              <p:cNvGrpSpPr/>
              <p:nvPr/>
            </p:nvGrpSpPr>
            <p:grpSpPr>
              <a:xfrm>
                <a:off x="5867280" y="990720"/>
                <a:ext cx="609840" cy="75960"/>
                <a:chOff x="5867280" y="990720"/>
                <a:chExt cx="609840" cy="75960"/>
              </a:xfrm>
            </p:grpSpPr>
            <p:sp>
              <p:nvSpPr>
                <p:cNvPr id="9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94" name=""/>
            <p:cNvGrpSpPr/>
            <p:nvPr/>
          </p:nvGrpSpPr>
          <p:grpSpPr>
            <a:xfrm>
              <a:off x="7315200" y="304920"/>
              <a:ext cx="609480" cy="75960"/>
              <a:chOff x="7315200" y="304920"/>
              <a:chExt cx="609480" cy="75960"/>
            </a:xfrm>
          </p:grpSpPr>
          <p:grpSp>
            <p:nvGrpSpPr>
              <p:cNvPr id="95" name=""/>
              <p:cNvGrpSpPr/>
              <p:nvPr/>
            </p:nvGrpSpPr>
            <p:grpSpPr>
              <a:xfrm>
                <a:off x="7315200" y="304920"/>
                <a:ext cx="304920" cy="75960"/>
                <a:chOff x="7315200" y="304920"/>
                <a:chExt cx="304920" cy="75960"/>
              </a:xfrm>
            </p:grpSpPr>
            <p:sp>
              <p:nvSpPr>
                <p:cNvPr id="9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03" name=""/>
              <p:cNvGrpSpPr/>
              <p:nvPr/>
            </p:nvGrpSpPr>
            <p:grpSpPr>
              <a:xfrm>
                <a:off x="7620120" y="304920"/>
                <a:ext cx="304560" cy="75960"/>
                <a:chOff x="7620120" y="304920"/>
                <a:chExt cx="304560" cy="75960"/>
              </a:xfrm>
            </p:grpSpPr>
            <p:sp>
              <p:nvSpPr>
                <p:cNvPr id="10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0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15200" y="533520"/>
              <a:ext cx="609480" cy="75960"/>
              <a:chOff x="7315200" y="533520"/>
              <a:chExt cx="609480" cy="75960"/>
            </a:xfrm>
          </p:grpSpPr>
          <p:grpSp>
            <p:nvGrpSpPr>
              <p:cNvPr id="110" name=""/>
              <p:cNvGrpSpPr/>
              <p:nvPr/>
            </p:nvGrpSpPr>
            <p:grpSpPr>
              <a:xfrm>
                <a:off x="7315200" y="533520"/>
                <a:ext cx="304920" cy="75960"/>
                <a:chOff x="7315200" y="533520"/>
                <a:chExt cx="304920" cy="75960"/>
              </a:xfrm>
            </p:grpSpPr>
            <p:sp>
              <p:nvSpPr>
                <p:cNvPr id="11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18" name=""/>
              <p:cNvGrpSpPr/>
              <p:nvPr/>
            </p:nvGrpSpPr>
            <p:grpSpPr>
              <a:xfrm>
                <a:off x="7620120" y="533520"/>
                <a:ext cx="304560" cy="75960"/>
                <a:chOff x="7620120" y="533520"/>
                <a:chExt cx="304560" cy="75960"/>
              </a:xfrm>
            </p:grpSpPr>
            <p:sp>
              <p:nvSpPr>
                <p:cNvPr id="11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25" name=""/>
            <p:cNvGrpSpPr/>
            <p:nvPr/>
          </p:nvGrpSpPr>
          <p:grpSpPr>
            <a:xfrm>
              <a:off x="7315200" y="762120"/>
              <a:ext cx="609480" cy="75960"/>
              <a:chOff x="7315200" y="762120"/>
              <a:chExt cx="609480" cy="75960"/>
            </a:xfrm>
          </p:grpSpPr>
          <p:grpSp>
            <p:nvGrpSpPr>
              <p:cNvPr id="126" name=""/>
              <p:cNvGrpSpPr/>
              <p:nvPr/>
            </p:nvGrpSpPr>
            <p:grpSpPr>
              <a:xfrm>
                <a:off x="7620120" y="762120"/>
                <a:ext cx="304560" cy="75960"/>
                <a:chOff x="7620120" y="762120"/>
                <a:chExt cx="304560" cy="75960"/>
              </a:xfrm>
            </p:grpSpPr>
            <p:sp>
              <p:nvSpPr>
                <p:cNvPr id="12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4" name=""/>
              <p:cNvGrpSpPr/>
              <p:nvPr/>
            </p:nvGrpSpPr>
            <p:grpSpPr>
              <a:xfrm>
                <a:off x="7315200" y="762120"/>
                <a:ext cx="304920" cy="75960"/>
                <a:chOff x="7315200" y="762120"/>
                <a:chExt cx="304920" cy="75960"/>
              </a:xfrm>
            </p:grpSpPr>
            <p:sp>
              <p:nvSpPr>
                <p:cNvPr id="13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3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1" name=""/>
            <p:cNvGrpSpPr/>
            <p:nvPr/>
          </p:nvGrpSpPr>
          <p:grpSpPr>
            <a:xfrm>
              <a:off x="7315200" y="990720"/>
              <a:ext cx="609480" cy="75960"/>
              <a:chOff x="7315200" y="990720"/>
              <a:chExt cx="609480" cy="75960"/>
            </a:xfrm>
          </p:grpSpPr>
          <p:grpSp>
            <p:nvGrpSpPr>
              <p:cNvPr id="142" name=""/>
              <p:cNvGrpSpPr/>
              <p:nvPr/>
            </p:nvGrpSpPr>
            <p:grpSpPr>
              <a:xfrm>
                <a:off x="7620120" y="990720"/>
                <a:ext cx="304560" cy="75960"/>
                <a:chOff x="7620120" y="990720"/>
                <a:chExt cx="304560" cy="75960"/>
              </a:xfrm>
            </p:grpSpPr>
            <p:sp>
              <p:nvSpPr>
                <p:cNvPr id="14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0" name=""/>
              <p:cNvGrpSpPr/>
              <p:nvPr/>
            </p:nvGrpSpPr>
            <p:grpSpPr>
              <a:xfrm>
                <a:off x="7315200" y="990720"/>
                <a:ext cx="304920" cy="75960"/>
                <a:chOff x="7315200" y="990720"/>
                <a:chExt cx="304920" cy="75960"/>
              </a:xfrm>
            </p:grpSpPr>
            <p:sp>
              <p:nvSpPr>
                <p:cNvPr id="15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165" name=""/>
          <p:cNvGrpSpPr/>
          <p:nvPr/>
        </p:nvGrpSpPr>
        <p:grpSpPr>
          <a:xfrm>
            <a:off x="3048120" y="-228600"/>
            <a:ext cx="1676520" cy="1616040"/>
            <a:chOff x="3048120" y="-228600"/>
            <a:chExt cx="1676520" cy="1616040"/>
          </a:xfrm>
        </p:grpSpPr>
        <p:sp>
          <p:nvSpPr>
            <p:cNvPr id="16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191120" y="-228600"/>
              <a:ext cx="305280" cy="686160"/>
            </a:xfrm>
            <a:custGeom>
              <a:avLst/>
              <a:gdLst/>
              <a:ahLst/>
              <a:rect l="0" t="0" r="r" b="b"/>
              <a:pathLst>
                <a:path fill="none" w="848" h="1906">
                  <a:moveTo>
                    <a:pt x="0"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276720" y="-22860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4956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581280" y="68580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31240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4038480" y="68580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174" name=""/>
          <p:cNvGrpSpPr/>
          <p:nvPr/>
        </p:nvGrpSpPr>
        <p:grpSpPr>
          <a:xfrm>
            <a:off x="669960" y="1143000"/>
            <a:ext cx="7869240" cy="5104080"/>
            <a:chOff x="669960" y="1143000"/>
            <a:chExt cx="7869240" cy="5104080"/>
          </a:xfrm>
        </p:grpSpPr>
        <p:sp>
          <p:nvSpPr>
            <p:cNvPr id="17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200400" y="2362320"/>
              <a:ext cx="1218960" cy="228600"/>
              <a:chOff x="3200400" y="2362320"/>
              <a:chExt cx="1218960" cy="228600"/>
            </a:xfrm>
          </p:grpSpPr>
          <p:sp>
            <p:nvSpPr>
              <p:cNvPr id="17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410080" y="2286000"/>
              <a:ext cx="914400" cy="228600"/>
              <a:chOff x="5410080" y="2286000"/>
              <a:chExt cx="914400" cy="228600"/>
            </a:xfrm>
          </p:grpSpPr>
          <p:grpSp>
            <p:nvGrpSpPr>
              <p:cNvPr id="180" name=""/>
              <p:cNvGrpSpPr/>
              <p:nvPr/>
            </p:nvGrpSpPr>
            <p:grpSpPr>
              <a:xfrm>
                <a:off x="5410080" y="2286000"/>
                <a:ext cx="457200" cy="228600"/>
                <a:chOff x="5410080" y="2286000"/>
                <a:chExt cx="457200" cy="228600"/>
              </a:xfrm>
            </p:grpSpPr>
            <p:sp>
              <p:nvSpPr>
                <p:cNvPr id="18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67280" y="2286000"/>
                <a:ext cx="457200" cy="228600"/>
                <a:chOff x="5867280" y="2286000"/>
                <a:chExt cx="457200" cy="228600"/>
              </a:xfrm>
            </p:grpSpPr>
            <p:sp>
              <p:nvSpPr>
                <p:cNvPr id="18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67480" y="2286000"/>
              <a:ext cx="914760" cy="228600"/>
              <a:chOff x="7467480" y="2286000"/>
              <a:chExt cx="914760" cy="228600"/>
            </a:xfrm>
          </p:grpSpPr>
          <p:grpSp>
            <p:nvGrpSpPr>
              <p:cNvPr id="187" name=""/>
              <p:cNvGrpSpPr/>
              <p:nvPr/>
            </p:nvGrpSpPr>
            <p:grpSpPr>
              <a:xfrm>
                <a:off x="7467480" y="2286000"/>
                <a:ext cx="457560" cy="228600"/>
                <a:chOff x="7467480" y="2286000"/>
                <a:chExt cx="457560" cy="228600"/>
              </a:xfrm>
            </p:grpSpPr>
            <p:grpSp>
              <p:nvGrpSpPr>
                <p:cNvPr id="188" name=""/>
                <p:cNvGrpSpPr/>
                <p:nvPr/>
              </p:nvGrpSpPr>
              <p:grpSpPr>
                <a:xfrm>
                  <a:off x="7467480" y="2286000"/>
                  <a:ext cx="228960" cy="228600"/>
                  <a:chOff x="7467480" y="2286000"/>
                  <a:chExt cx="228960" cy="228600"/>
                </a:xfrm>
              </p:grpSpPr>
              <p:sp>
                <p:nvSpPr>
                  <p:cNvPr id="18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96080" y="2286000"/>
                  <a:ext cx="228960" cy="228600"/>
                  <a:chOff x="7696080" y="2286000"/>
                  <a:chExt cx="228960" cy="228600"/>
                </a:xfrm>
              </p:grpSpPr>
              <p:sp>
                <p:nvSpPr>
                  <p:cNvPr id="19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924680" y="2286000"/>
                <a:ext cx="457560" cy="228600"/>
                <a:chOff x="7924680" y="2286000"/>
                <a:chExt cx="457560" cy="228600"/>
              </a:xfrm>
            </p:grpSpPr>
            <p:grpSp>
              <p:nvGrpSpPr>
                <p:cNvPr id="195" name=""/>
                <p:cNvGrpSpPr/>
                <p:nvPr/>
              </p:nvGrpSpPr>
              <p:grpSpPr>
                <a:xfrm>
                  <a:off x="7924680" y="2286000"/>
                  <a:ext cx="228960" cy="228600"/>
                  <a:chOff x="7924680" y="2286000"/>
                  <a:chExt cx="228960" cy="228600"/>
                </a:xfrm>
              </p:grpSpPr>
              <p:sp>
                <p:nvSpPr>
                  <p:cNvPr id="19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53280" y="2286000"/>
                  <a:ext cx="228960" cy="228600"/>
                  <a:chOff x="8153280" y="2286000"/>
                  <a:chExt cx="228960" cy="228600"/>
                </a:xfrm>
              </p:grpSpPr>
              <p:sp>
                <p:nvSpPr>
                  <p:cNvPr id="19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219320" y="3809880"/>
              <a:ext cx="1143000" cy="228600"/>
              <a:chOff x="1219320" y="3809880"/>
              <a:chExt cx="1143000" cy="228600"/>
            </a:xfrm>
          </p:grpSpPr>
          <p:sp>
            <p:nvSpPr>
              <p:cNvPr id="20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76720" y="3733920"/>
              <a:ext cx="1143000" cy="228600"/>
              <a:chOff x="3276720" y="3733920"/>
              <a:chExt cx="1143000" cy="228600"/>
            </a:xfrm>
          </p:grpSpPr>
          <p:sp>
            <p:nvSpPr>
              <p:cNvPr id="21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76720" y="4038480"/>
              <a:ext cx="1143000" cy="228600"/>
              <a:chOff x="3276720" y="4038480"/>
              <a:chExt cx="1143000" cy="228600"/>
            </a:xfrm>
          </p:grpSpPr>
          <p:sp>
            <p:nvSpPr>
              <p:cNvPr id="22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69960" y="149400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67480" y="4114800"/>
              <a:ext cx="914760" cy="228600"/>
              <a:chOff x="7467480" y="4114800"/>
              <a:chExt cx="914760" cy="228600"/>
            </a:xfrm>
          </p:grpSpPr>
          <p:grpSp>
            <p:nvGrpSpPr>
              <p:cNvPr id="272" name=""/>
              <p:cNvGrpSpPr/>
              <p:nvPr/>
            </p:nvGrpSpPr>
            <p:grpSpPr>
              <a:xfrm>
                <a:off x="7467480" y="4114800"/>
                <a:ext cx="457560" cy="228600"/>
                <a:chOff x="7467480" y="4114800"/>
                <a:chExt cx="457560" cy="228600"/>
              </a:xfrm>
            </p:grpSpPr>
            <p:grpSp>
              <p:nvGrpSpPr>
                <p:cNvPr id="273" name=""/>
                <p:cNvGrpSpPr/>
                <p:nvPr/>
              </p:nvGrpSpPr>
              <p:grpSpPr>
                <a:xfrm>
                  <a:off x="7467480" y="4114800"/>
                  <a:ext cx="228960" cy="228600"/>
                  <a:chOff x="7467480" y="4114800"/>
                  <a:chExt cx="228960" cy="228600"/>
                </a:xfrm>
              </p:grpSpPr>
              <p:sp>
                <p:nvSpPr>
                  <p:cNvPr id="27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96080" y="4114800"/>
                  <a:ext cx="228960" cy="228600"/>
                  <a:chOff x="7696080" y="4114800"/>
                  <a:chExt cx="228960" cy="228600"/>
                </a:xfrm>
              </p:grpSpPr>
              <p:sp>
                <p:nvSpPr>
                  <p:cNvPr id="27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924680" y="4114800"/>
                <a:ext cx="457560" cy="228600"/>
                <a:chOff x="7924680" y="4114800"/>
                <a:chExt cx="457560" cy="228600"/>
              </a:xfrm>
            </p:grpSpPr>
            <p:grpSp>
              <p:nvGrpSpPr>
                <p:cNvPr id="280" name=""/>
                <p:cNvGrpSpPr/>
                <p:nvPr/>
              </p:nvGrpSpPr>
              <p:grpSpPr>
                <a:xfrm>
                  <a:off x="7924680" y="4114800"/>
                  <a:ext cx="228960" cy="228600"/>
                  <a:chOff x="7924680" y="4114800"/>
                  <a:chExt cx="228960" cy="228600"/>
                </a:xfrm>
              </p:grpSpPr>
              <p:sp>
                <p:nvSpPr>
                  <p:cNvPr id="28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53280" y="4114800"/>
                  <a:ext cx="228960" cy="228600"/>
                  <a:chOff x="8153280" y="4114800"/>
                  <a:chExt cx="228960" cy="228600"/>
                </a:xfrm>
              </p:grpSpPr>
              <p:sp>
                <p:nvSpPr>
                  <p:cNvPr id="28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69280" y="3657600"/>
              <a:ext cx="914400" cy="228600"/>
              <a:chOff x="7469280" y="3657600"/>
              <a:chExt cx="914400" cy="228600"/>
            </a:xfrm>
          </p:grpSpPr>
          <p:grpSp>
            <p:nvGrpSpPr>
              <p:cNvPr id="287" name=""/>
              <p:cNvGrpSpPr/>
              <p:nvPr/>
            </p:nvGrpSpPr>
            <p:grpSpPr>
              <a:xfrm>
                <a:off x="7469280" y="3657600"/>
                <a:ext cx="457200" cy="228600"/>
                <a:chOff x="7469280" y="3657600"/>
                <a:chExt cx="457200" cy="228600"/>
              </a:xfrm>
            </p:grpSpPr>
            <p:grpSp>
              <p:nvGrpSpPr>
                <p:cNvPr id="288" name=""/>
                <p:cNvGrpSpPr/>
                <p:nvPr/>
              </p:nvGrpSpPr>
              <p:grpSpPr>
                <a:xfrm>
                  <a:off x="7469280" y="3657600"/>
                  <a:ext cx="228600" cy="228600"/>
                  <a:chOff x="7469280" y="3657600"/>
                  <a:chExt cx="228600" cy="228600"/>
                </a:xfrm>
              </p:grpSpPr>
              <p:sp>
                <p:nvSpPr>
                  <p:cNvPr id="28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97880" y="3657600"/>
                  <a:ext cx="228600" cy="228600"/>
                  <a:chOff x="7697880" y="3657600"/>
                  <a:chExt cx="228600" cy="228600"/>
                </a:xfrm>
              </p:grpSpPr>
              <p:sp>
                <p:nvSpPr>
                  <p:cNvPr id="29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926480" y="3657600"/>
                <a:ext cx="457200" cy="228600"/>
                <a:chOff x="7926480" y="3657600"/>
                <a:chExt cx="457200" cy="228600"/>
              </a:xfrm>
            </p:grpSpPr>
            <p:grpSp>
              <p:nvGrpSpPr>
                <p:cNvPr id="295" name=""/>
                <p:cNvGrpSpPr/>
                <p:nvPr/>
              </p:nvGrpSpPr>
              <p:grpSpPr>
                <a:xfrm>
                  <a:off x="7926480" y="3657600"/>
                  <a:ext cx="228600" cy="228600"/>
                  <a:chOff x="7926480" y="3657600"/>
                  <a:chExt cx="228600" cy="228600"/>
                </a:xfrm>
              </p:grpSpPr>
              <p:sp>
                <p:nvSpPr>
                  <p:cNvPr id="29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55080" y="3657600"/>
                  <a:ext cx="228600" cy="228600"/>
                  <a:chOff x="8155080" y="3657600"/>
                  <a:chExt cx="228600" cy="228600"/>
                </a:xfrm>
              </p:grpSpPr>
              <p:sp>
                <p:nvSpPr>
                  <p:cNvPr id="29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335560" y="3886200"/>
              <a:ext cx="914760" cy="228600"/>
              <a:chOff x="5335560" y="3886200"/>
              <a:chExt cx="914760" cy="228600"/>
            </a:xfrm>
          </p:grpSpPr>
          <p:grpSp>
            <p:nvGrpSpPr>
              <p:cNvPr id="302" name=""/>
              <p:cNvGrpSpPr/>
              <p:nvPr/>
            </p:nvGrpSpPr>
            <p:grpSpPr>
              <a:xfrm>
                <a:off x="5335560" y="3886200"/>
                <a:ext cx="457560" cy="228600"/>
                <a:chOff x="5335560" y="3886200"/>
                <a:chExt cx="457560" cy="228600"/>
              </a:xfrm>
            </p:grpSpPr>
            <p:grpSp>
              <p:nvGrpSpPr>
                <p:cNvPr id="303" name=""/>
                <p:cNvGrpSpPr/>
                <p:nvPr/>
              </p:nvGrpSpPr>
              <p:grpSpPr>
                <a:xfrm>
                  <a:off x="5335560" y="3886200"/>
                  <a:ext cx="228960" cy="228600"/>
                  <a:chOff x="5335560" y="3886200"/>
                  <a:chExt cx="228960" cy="228600"/>
                </a:xfrm>
              </p:grpSpPr>
              <p:sp>
                <p:nvSpPr>
                  <p:cNvPr id="30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64160" y="3886200"/>
                  <a:ext cx="228960" cy="228600"/>
                  <a:chOff x="5564160" y="3886200"/>
                  <a:chExt cx="228960" cy="228600"/>
                </a:xfrm>
              </p:grpSpPr>
              <p:sp>
                <p:nvSpPr>
                  <p:cNvPr id="30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92760" y="3886200"/>
                <a:ext cx="457560" cy="228600"/>
                <a:chOff x="5792760" y="3886200"/>
                <a:chExt cx="457560" cy="228600"/>
              </a:xfrm>
            </p:grpSpPr>
            <p:grpSp>
              <p:nvGrpSpPr>
                <p:cNvPr id="310" name=""/>
                <p:cNvGrpSpPr/>
                <p:nvPr/>
              </p:nvGrpSpPr>
              <p:grpSpPr>
                <a:xfrm>
                  <a:off x="5792760" y="3886200"/>
                  <a:ext cx="228960" cy="228600"/>
                  <a:chOff x="5792760" y="3886200"/>
                  <a:chExt cx="228960" cy="228600"/>
                </a:xfrm>
              </p:grpSpPr>
              <p:sp>
                <p:nvSpPr>
                  <p:cNvPr id="31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6021360" y="3886200"/>
                  <a:ext cx="228960" cy="228600"/>
                  <a:chOff x="6021360" y="3886200"/>
                  <a:chExt cx="228960" cy="228600"/>
                </a:xfrm>
              </p:grpSpPr>
              <p:sp>
                <p:nvSpPr>
                  <p:cNvPr id="31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1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2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Variations</a:t>
            </a:r>
            <a:endParaRPr b="0" lang="en-US" sz="4400" spc="-1" strike="noStrike">
              <a:solidFill>
                <a:srgbClr val="000000"/>
              </a:solidFill>
              <a:latin typeface="Arial"/>
            </a:endParaRPr>
          </a:p>
        </p:txBody>
      </p:sp>
      <p:sp>
        <p:nvSpPr>
          <p:cNvPr id="4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al research is underway on variations to the chosen sequences for better multipath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the 8 chips per symbol is a problem, higher numbers of chips per symbol are possible at some compromise in the data rate or spread rat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63de8"/>
                </a:solidFill>
                <a:latin typeface="Times New Roman"/>
                <a:ea typeface="Times New Roman"/>
              </a:rPr>
              <a:t>Harris High Rate 802.11 Features</a:t>
            </a:r>
            <a:endParaRPr b="0" lang="en-US" sz="3200" spc="-1" strike="noStrike">
              <a:solidFill>
                <a:srgbClr val="000000"/>
              </a:solidFill>
              <a:latin typeface="Arial"/>
            </a:endParaRPr>
          </a:p>
        </p:txBody>
      </p:sp>
      <p:sp>
        <p:nvSpPr>
          <p:cNvPr id="335" name=""/>
          <p:cNvSpPr txBox="1"/>
          <p:nvPr/>
        </p:nvSpPr>
        <p:spPr>
          <a:xfrm>
            <a:off x="533520" y="15429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approach allows a total raw system throughput of 33 MBps in the band versus 20 MBps for 32 MCps MSK and 6 for the existing 802.11 2 MBp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interference with FH and DS by using less bandwidth and shorter packe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complexity; can work without equalizer or channel estimator (but can use them for more greater delay spread since it has enough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re Features</a:t>
            </a:r>
            <a:endParaRPr b="0" lang="en-US" sz="4400" spc="-1" strike="noStrike">
              <a:solidFill>
                <a:srgbClr val="000000"/>
              </a:solidFill>
              <a:latin typeface="Arial"/>
            </a:endParaRPr>
          </a:p>
        </p:txBody>
      </p:sp>
      <p:sp>
        <p:nvSpPr>
          <p:cNvPr id="3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power amplifier backoff than PP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ss bandwidth than 16 chips per 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e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MAC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2781360" y="3949560"/>
            <a:ext cx="304920" cy="6732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3695760" y="3962520"/>
            <a:ext cx="304920" cy="6602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4610160" y="3746520"/>
            <a:ext cx="304920" cy="8683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a:off x="5753160" y="3149640"/>
            <a:ext cx="304920" cy="150336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a:off x="2286000" y="4648320"/>
            <a:ext cx="5003640" cy="4827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2222640"/>
            <a:ext cx="419040" cy="27306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 name=""/>
          <p:cNvSpPr txBox="1"/>
          <p:nvPr/>
        </p:nvSpPr>
        <p:spPr>
          <a:xfrm>
            <a:off x="2063880" y="2216160"/>
            <a:ext cx="517680" cy="2647800"/>
          </a:xfrm>
          <a:prstGeom prst="rect">
            <a:avLst/>
          </a:prstGeom>
          <a:noFill/>
          <a:ln w="0">
            <a:noFill/>
          </a:ln>
        </p:spPr>
        <p:txBody>
          <a:bodyPr lIns="0" rIns="0" tIns="0" bIns="0" anchor="t">
            <a:noAutofit/>
          </a:bodyPr>
          <a:p>
            <a:pPr>
              <a:lnSpc>
                <a:spcPct val="120000"/>
              </a:lnSpc>
            </a:pPr>
            <a:r>
              <a:rPr b="1" lang="en-US" sz="1400" spc="-1" strike="noStrike">
                <a:solidFill>
                  <a:srgbClr val="000000"/>
                </a:solidFill>
                <a:latin typeface="Arial"/>
                <a:ea typeface="Arial"/>
              </a:rPr>
              <a:t>4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3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2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1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345" name=""/>
          <p:cNvSpPr txBox="1"/>
          <p:nvPr/>
        </p:nvSpPr>
        <p:spPr>
          <a:xfrm>
            <a:off x="2525760" y="4635360"/>
            <a:ext cx="427500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02.11         11Mbp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Mbps                   11Mbp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1-2Mbps       No Eq.           Eq 100nsec             Eq 200nsec</a:t>
            </a:r>
            <a:endParaRPr b="0" lang="en-US" sz="1200" spc="-1" strike="noStrike">
              <a:solidFill>
                <a:srgbClr val="000000"/>
              </a:solidFill>
              <a:latin typeface="Arial"/>
            </a:endParaRPr>
          </a:p>
        </p:txBody>
      </p:sp>
      <p:sp>
        <p:nvSpPr>
          <p:cNvPr id="346" name=""/>
          <p:cNvSpPr txBox="1"/>
          <p:nvPr/>
        </p:nvSpPr>
        <p:spPr>
          <a:xfrm>
            <a:off x="2346480" y="1828800"/>
            <a:ext cx="42260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 Penalty Vs (Multipath)Delay Spread Mitigation</a:t>
            </a:r>
            <a:endParaRPr b="0" lang="en-US" sz="1400" spc="-1" strike="noStrike">
              <a:solidFill>
                <a:srgbClr val="000000"/>
              </a:solidFill>
              <a:latin typeface="Arial"/>
            </a:endParaRPr>
          </a:p>
        </p:txBody>
      </p:sp>
      <p:sp>
        <p:nvSpPr>
          <p:cNvPr id="347" name=""/>
          <p:cNvSpPr txBox="1"/>
          <p:nvPr/>
        </p:nvSpPr>
        <p:spPr>
          <a:xfrm>
            <a:off x="487440" y="3084480"/>
            <a:ext cx="149868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enalty</a:t>
            </a:r>
            <a:endParaRPr b="0" lang="en-US" sz="1400" spc="-1" strike="noStrike">
              <a:solidFill>
                <a:srgbClr val="000000"/>
              </a:solidFill>
              <a:latin typeface="Arial"/>
            </a:endParaRPr>
          </a:p>
        </p:txBody>
      </p:sp>
      <p:sp>
        <p:nvSpPr>
          <p:cNvPr id="348" name=""/>
          <p:cNvSpPr/>
          <p:nvPr/>
        </p:nvSpPr>
        <p:spPr>
          <a:xfrm>
            <a:off x="514440" y="1295280"/>
            <a:ext cx="7257960" cy="4114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Performance</a:t>
            </a:r>
            <a:endParaRPr b="0" lang="en-US" sz="4400" spc="-1" strike="noStrike">
              <a:solidFill>
                <a:srgbClr val="000000"/>
              </a:solidFill>
              <a:latin typeface="Arial"/>
            </a:endParaRPr>
          </a:p>
        </p:txBody>
      </p:sp>
      <p:sp>
        <p:nvSpPr>
          <p:cNvPr id="3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s proven -85 dBm sensitivity for 2% PER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pass FCC CW jamming test with margi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CC allows SNR to be defined as Es/N0</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easured 2 dB of margin on CW jammer tes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nge demonstrated to over 100 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ange Testing</a:t>
            </a:r>
            <a:endParaRPr b="0" lang="en-US" sz="4400" spc="-1" strike="noStrike">
              <a:solidFill>
                <a:srgbClr val="000000"/>
              </a:solidFill>
              <a:latin typeface="Arial"/>
            </a:endParaRPr>
          </a:p>
        </p:txBody>
      </p:sp>
      <p:sp>
        <p:nvSpPr>
          <p:cNvPr id="3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ris has implemented the technique in an integrated circuit and demonstrated that in a typical radio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nce a suitable MAC is not available we tested the radio with a substitute controller that allows BER and PER testing in the actual environment and the lab.</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tested the PER performance in our facility in Palm B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floor plan of the test are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