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8280" y="6095880"/>
            <a:ext cx="762480" cy="610200"/>
            <a:chOff x="2438280" y="6095880"/>
            <a:chExt cx="762480" cy="610200"/>
          </a:xfrm>
        </p:grpSpPr>
        <p:sp>
          <p:nvSpPr>
            <p:cNvPr id="2" name=""/>
            <p:cNvSpPr/>
            <p:nvPr/>
          </p:nvSpPr>
          <p:spPr>
            <a:xfrm>
              <a:off x="2438280" y="630720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1059" y="327"/>
                  </a:moveTo>
                  <a:lnTo>
                    <a:pt x="0" y="1108"/>
                  </a:lnTo>
                  <a:lnTo>
                    <a:pt x="1059" y="0"/>
                  </a:lnTo>
                  <a:lnTo>
                    <a:pt x="1059" y="3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819520" y="6095880"/>
              <a:ext cx="381240" cy="398880"/>
            </a:xfrm>
            <a:custGeom>
              <a:avLst/>
              <a:gdLst/>
              <a:ahLst/>
              <a:rect l="0" t="0" r="r" b="b"/>
              <a:pathLst>
                <a:path w="1059" h="1108">
                  <a:moveTo>
                    <a:pt x="0" y="781"/>
                  </a:moveTo>
                  <a:lnTo>
                    <a:pt x="1059" y="0"/>
                  </a:lnTo>
                  <a:lnTo>
                    <a:pt x="0" y="1108"/>
                  </a:lnTo>
                  <a:lnTo>
                    <a:pt x="0" y="78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"/>
          <p:cNvSpPr/>
          <p:nvPr/>
        </p:nvSpPr>
        <p:spPr>
          <a:xfrm>
            <a:off x="687240" y="533520"/>
            <a:ext cx="77709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9480" y="228600"/>
            <a:ext cx="7942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c: IEEE P802.11-97/145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40600" y="627696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958080" y="6307200"/>
            <a:ext cx="15476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/12/97,  Page </a:t>
            </a:r>
            <a:fld id="{0CDE5E8B-224B-42D3-81EF-8BEE66616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895480"/>
            <a:ext cx="7772400" cy="40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ulse Position Modulation</a:t>
            </a:r>
            <a:br>
              <a:rPr sz="18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-PPM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5 GHz High-Speed PHY</a:t>
            </a:r>
            <a:br>
              <a:rPr sz="2400"/>
            </a:br>
            <a:br>
              <a:rPr sz="24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to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1800"/>
            </a:br>
            <a:br>
              <a:rPr sz="18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br>
              <a:rPr sz="1200"/>
            </a:br>
            <a:br>
              <a:rPr sz="1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za Ahy</a:t>
            </a:r>
            <a:br>
              <a:rPr sz="2000"/>
            </a:b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,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Products:  1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da Products:  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R-based produ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6320" y="1487520"/>
            <a:ext cx="74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meets the modulation method criteria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robus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Radio LANs have been demonstrated as 10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low-cost IR LANs have been demonstrated as 4 &amp; 16 Mbps produ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ould potentially co-exist with IEEE 802.11 low-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378160" y="17524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Product Fea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High-Speed PHY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nomin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ize System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00360" y="1752480"/>
            <a:ext cx="6657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R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Transmiters (compared to OFDM, QPSK &amp;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efficient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 moderate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channel good bandwidth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hardware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2360" y="504828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90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86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431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383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95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0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48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43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81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368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007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9592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817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769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3400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29560" y="487836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7560" y="5315040"/>
            <a:ext cx="255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793960" y="531504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92360" y="5619600"/>
            <a:ext cx="1103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793960" y="5619600"/>
            <a:ext cx="4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92360" y="5924520"/>
            <a:ext cx="4237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93960" y="592452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38640" y="4524480"/>
            <a:ext cx="117144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48000" y="516240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Symbol Detection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-induced ISI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asure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se-alarm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-slo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Communication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(Rayleigh envelo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sive (Delay spre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selelctive F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var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over Multipath, Dispersiv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195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st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F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signal conditioning &amp; processing of the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systems feasible with very simpl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bps L-PPM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449440" y="198108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-order L-PPM candidates (16-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is NOT the question: Low-cost implmentation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simple receivers ar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-likelihood Estimation (MLSE) Recivers could be too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&amp;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&amp; L-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448000" y="1981080"/>
            <a:ext cx="577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efficient power transmission is 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ISM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LAN 10 Mbps, 5.8 GHz FCC-approved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ktop solutions: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ptop solutions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PPM for U-NII b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RadioLAN U-NII produc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ff</dc:creator>
  <dc:description/>
  <dc:language>en-US</dc:language>
  <cp:lastModifiedBy>Staff</cp:lastModifiedBy>
  <cp:revision>0</cp:revision>
  <dc:subject/>
  <dc:title>No Slide Title</dc:title>
</cp:coreProperties>
</file>