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438280" y="6095880"/>
            <a:ext cx="762480" cy="610200"/>
            <a:chOff x="2438280" y="6095880"/>
            <a:chExt cx="762480" cy="610200"/>
          </a:xfrm>
        </p:grpSpPr>
        <p:sp>
          <p:nvSpPr>
            <p:cNvPr id="2" name=""/>
            <p:cNvSpPr/>
            <p:nvPr/>
          </p:nvSpPr>
          <p:spPr>
            <a:xfrm>
              <a:off x="2438280" y="6307200"/>
              <a:ext cx="381240" cy="398880"/>
            </a:xfrm>
            <a:custGeom>
              <a:avLst/>
              <a:gdLst/>
              <a:ahLst/>
              <a:rect l="0" t="0" r="r" b="b"/>
              <a:pathLst>
                <a:path w="1059" h="1108">
                  <a:moveTo>
                    <a:pt x="1059" y="327"/>
                  </a:moveTo>
                  <a:lnTo>
                    <a:pt x="0" y="1108"/>
                  </a:lnTo>
                  <a:lnTo>
                    <a:pt x="1059" y="0"/>
                  </a:lnTo>
                  <a:lnTo>
                    <a:pt x="1059" y="32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819520" y="6095880"/>
              <a:ext cx="381240" cy="398880"/>
            </a:xfrm>
            <a:custGeom>
              <a:avLst/>
              <a:gdLst/>
              <a:ahLst/>
              <a:rect l="0" t="0" r="r" b="b"/>
              <a:pathLst>
                <a:path w="1059" h="1108">
                  <a:moveTo>
                    <a:pt x="0" y="781"/>
                  </a:moveTo>
                  <a:lnTo>
                    <a:pt x="1059" y="0"/>
                  </a:lnTo>
                  <a:lnTo>
                    <a:pt x="0" y="1108"/>
                  </a:lnTo>
                  <a:lnTo>
                    <a:pt x="0" y="78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687240" y="533520"/>
            <a:ext cx="777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609480" y="228600"/>
            <a:ext cx="7897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99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Doc: IEEE P802.11-97/1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40600" y="6276960"/>
            <a:ext cx="184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6958080" y="6307200"/>
            <a:ext cx="15476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/12/97,  Page </a:t>
            </a:r>
            <a:fld id="{AE2C6645-070E-4C55-BAAD-0B9E0C22F4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895480"/>
            <a:ext cx="7772400" cy="40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ulse Position Modulation</a:t>
            </a:r>
            <a:br>
              <a:rPr sz="1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-PPM)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for 5 GHz High-Speed PHY</a:t>
            </a:r>
            <a:br>
              <a:rPr sz="2400"/>
            </a:br>
            <a:br>
              <a:rPr sz="24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ted to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</a:t>
            </a:r>
            <a:br>
              <a:rPr sz="1800"/>
            </a:b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br>
              <a:rPr sz="1200"/>
            </a:br>
            <a:br>
              <a:rPr sz="1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a Ahy</a:t>
            </a:r>
            <a:br>
              <a:rPr sz="2000"/>
            </a:b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LAN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Product Fea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LAN Products:  1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da Products:  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IR-based produ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76320" y="1487520"/>
            <a:ext cx="74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meets the modulation method criteria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-robus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effic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Radio LANs have been demonstrated as 10 Mbps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low-cost IR LANs have been demonstrated as 4 &amp; 16 Mbps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could potentially co-exist with IEEE 802.11 low-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378160" y="17524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 High-Speed PHY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Symbol Detection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oor Communication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over Multipath, Dispersiv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 L-PPM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&amp; L-P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Product Fea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 High-Speed PHY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 nominal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 fall-back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ness against multi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C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ize System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800360" y="1752480"/>
            <a:ext cx="665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t R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Transmiters (compared to OFDM, QPSK &amp;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t 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 moderate bandwidth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-channel good bandwidth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hardware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2360" y="5048280"/>
            <a:ext cx="423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861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431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383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957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09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4800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435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481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368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007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959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817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769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3400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295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7560" y="5315040"/>
            <a:ext cx="255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793960" y="531504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92360" y="5619600"/>
            <a:ext cx="1103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93960" y="5619600"/>
            <a:ext cx="4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92360" y="5924520"/>
            <a:ext cx="42372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793960" y="592452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38640" y="4524480"/>
            <a:ext cx="117144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48000" y="516240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Symbol Detection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-induced ISI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sure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-alarm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ong-slot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oor Communication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(Rayleigh envelo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ersive (Delay spre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selelctive F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-var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over Multipath, Dispersive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distor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F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signal conditioning &amp; processing of the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 systems feasible with very simple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 L-PPM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449440" y="1981080"/>
            <a:ext cx="5400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-order L-PPM candidates (16-PP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is NOT the question: Low-cost implmentation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optimal simple receivers are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-likelihood Estimation (MLSE) Recivers could be too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&amp; Frame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&amp; L-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448000" y="1981080"/>
            <a:ext cx="577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efficient power transmission is a p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for ISM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LAN 10 Mbps, 5.8 GHz FCC-approved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ktop solutions: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mber 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ptop solution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for U-NII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-approved RadioLAN U-NII product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aff</dc:creator>
  <dc:description/>
  <dc:language>en-US</dc:language>
  <cp:lastModifiedBy>Staff</cp:lastModifiedBy>
  <cp:revision>0</cp:revision>
  <dc:subject/>
  <dc:title>No Slide Title</dc:title>
</cp:coreProperties>
</file>