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76320"/>
            <a:ext cx="8077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r" pos="7772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,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1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3520" y="6477120"/>
            <a:ext cx="8077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8DA2EF25-64D7-46CB-B5FC-CEC5AB9FA9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Kawaguchi, Symbol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47712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3808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09480" y="1523880"/>
            <a:ext cx="7924680" cy="133560"/>
            <a:chOff x="609480" y="1523880"/>
            <a:chExt cx="7924680" cy="133560"/>
          </a:xfrm>
        </p:grpSpPr>
        <p:sp>
          <p:nvSpPr>
            <p:cNvPr id="6" name=""/>
            <p:cNvSpPr/>
            <p:nvPr/>
          </p:nvSpPr>
          <p:spPr>
            <a:xfrm>
              <a:off x="609480" y="1523880"/>
              <a:ext cx="7924680" cy="65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dfca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80" y="1623960"/>
              <a:ext cx="7924680" cy="33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95ab7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DS/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2.4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0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n Kawa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45 Hamilton 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 Jose, CA.  951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(408)369-26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 (408)369-27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 DeanK@psd.symbo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DS/GFSK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/GFSK addresses ke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both FH and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non hopping modes, hopping based on FH PHY sequ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in ISM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FSK is most bandwidth efficient of binary modulations (1.1 * chip r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over 8 channels in 5 Mbps mode, 4 in 10 Mbps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obus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capture effect of FSK + DS spre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sensitivity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bps mode same as 1 Mbps FH, 10 Mbps 3 dB wo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peed preamble for interoperability, high speed for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possible with fast acquisition of GF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and need for architectur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-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amplitude, more efficient power 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Speed PHY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ccinct summary of the proposed high speed DS PHY is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:  4 bits/symbol and 8 chips/symbol bi-orthogonal Walsh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:  Binary GFSK with deviation h=0.7; 1.5 dB pre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: 1.25 Msym/sec (5 Mbps) and 2.5 Msym/sec (10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s: 10 Mcps and 20 M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widths: 11 MHz and 22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ization: 8 channels w/10 MHz spacing, 4 channels with 20 MHz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 Spreading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S spreading formats used by Harris and Micrilor uses simple yet effective bi-orthogonal Walsh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8 chips per symbol used by Harris is more bandwidth efficient which is crucial to satisfy the interference fighting channelization mention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4 bits/8 chips per symbol used at 1.25 (or 1.375) Msps and at 2.5 Msps would produce 5 and 10 Mbps at a chipping rate 10 and 20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44520" y="4686120"/>
            <a:ext cx="66549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ping and interoperability with 1&amp;2 Mbps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pping can be synchronized to interoperate with the 1 and 2 Mbps FH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9480" y="2421000"/>
            <a:ext cx="73850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FH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preamble using FH 1 Mbps with rate switch syn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mode for max throughput and operation in HS capable units only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Symbo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S preamble is ­16 µs including time for diversity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mode, CCA on all 1 MHz channels in wideband channel possible at reduced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ensitivity on 1 MHz channel associated on with digita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many architectural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FSK system has been the lowest cost due to the simplicity, inherent robustness, and use of nonlinear componen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many options and design optimizations which will allow manufacturers to optimize for various applications and price/performance tradeof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implementation with parallel demod, subband tuning for 1 MHz channel requires only additional gates in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SAW for full selectivity performance 1/2 Mbps only mode, tune synthesizer to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DS RF and IF chip sets may also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 - Walsh codes and binary GFSK on wireless is probably not patentable any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anK</dc:creator>
  <dc:description/>
  <dc:language>en-US</dc:language>
  <cp:lastModifiedBy>DeanK</cp:lastModifiedBy>
  <cp:revision>0</cp:revision>
  <dc:subject/>
  <dc:title>IEEE 802.11 Wireless Access Method and Physical Specification</dc:title>
</cp:coreProperties>
</file>