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C5D705-9D9F-4F3C-A6B9-1764F2324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XlXr XoXSXVXbXN"/>
                <a:ea typeface="XlXr XoXSXVXbX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1722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37160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Considerations for Implementation of Adaptive 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95280" y="39625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. Hurne and D. D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en Bridge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51400" y="2754360"/>
            <a:ext cx="405000" cy="1351440"/>
          </a:xfrm>
          <a:custGeom>
            <a:avLst/>
            <a:gdLst/>
            <a:ahLst/>
            <a:rect l="0" t="0" r="r" b="b"/>
            <a:pathLst>
              <a:path w="1125" h="3754">
                <a:moveTo>
                  <a:pt x="0" y="3754"/>
                </a:moveTo>
                <a:lnTo>
                  <a:pt x="1125" y="3754"/>
                </a:lnTo>
                <a:lnTo>
                  <a:pt x="1125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65440" y="332280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32320" y="33955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08400" y="344484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8040" y="418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25960" y="416736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91040" y="423864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8040" y="344484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125960" y="34243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110120" y="349740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6040" y="283680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8040" y="297180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25960" y="295272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10120" y="302436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11720" y="283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332320" y="2862360"/>
            <a:ext cx="12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184800" y="2768760"/>
            <a:ext cx="324360" cy="1351440"/>
          </a:xfrm>
          <a:custGeom>
            <a:avLst/>
            <a:gdLst/>
            <a:ahLst/>
            <a:rect l="0" t="0" r="r" b="b"/>
            <a:pathLst>
              <a:path w="901" h="3754">
                <a:moveTo>
                  <a:pt x="0" y="3754"/>
                </a:moveTo>
                <a:lnTo>
                  <a:pt x="901" y="3754"/>
                </a:lnTo>
                <a:lnTo>
                  <a:pt x="901" y="0"/>
                </a:lnTo>
                <a:lnTo>
                  <a:pt x="0" y="0"/>
                </a:lnTo>
                <a:lnTo>
                  <a:pt x="0" y="375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162840" y="31939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84600" y="383220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9"/>
                </a:moveTo>
                <a:lnTo>
                  <a:pt x="4" y="27"/>
                </a:lnTo>
                <a:lnTo>
                  <a:pt x="22" y="13"/>
                </a:lnTo>
                <a:lnTo>
                  <a:pt x="39" y="0"/>
                </a:lnTo>
                <a:lnTo>
                  <a:pt x="71" y="0"/>
                </a:lnTo>
                <a:lnTo>
                  <a:pt x="89" y="13"/>
                </a:lnTo>
                <a:lnTo>
                  <a:pt x="106" y="27"/>
                </a:lnTo>
                <a:lnTo>
                  <a:pt x="111" y="49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84600" y="37717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84600" y="390384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08800" y="329256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4524480"/>
            <a:ext cx="405000" cy="1349640"/>
          </a:xfrm>
          <a:custGeom>
            <a:avLst/>
            <a:gdLst/>
            <a:ahLst/>
            <a:rect l="0" t="0" r="r" b="b"/>
            <a:pathLst>
              <a:path w="1125" h="3749">
                <a:moveTo>
                  <a:pt x="0" y="3749"/>
                </a:moveTo>
                <a:lnTo>
                  <a:pt x="1125" y="3749"/>
                </a:lnTo>
                <a:lnTo>
                  <a:pt x="1125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5440" y="507852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32320" y="514980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08400" y="5199120"/>
            <a:ext cx="2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6040" y="580536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8040" y="594036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125960" y="592128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91040" y="5994360"/>
            <a:ext cx="92880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11720" y="580536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6040" y="506412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118040" y="5199120"/>
            <a:ext cx="972000" cy="201960"/>
          </a:xfrm>
          <a:custGeom>
            <a:avLst/>
            <a:gdLst/>
            <a:ahLst/>
            <a:rect l="0" t="0" r="r" b="b"/>
            <a:pathLst>
              <a:path w="2700" h="561">
                <a:moveTo>
                  <a:pt x="0" y="561"/>
                </a:moveTo>
                <a:lnTo>
                  <a:pt x="2700" y="561"/>
                </a:lnTo>
                <a:lnTo>
                  <a:pt x="270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125960" y="518004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110120" y="525132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2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11720" y="50626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6040" y="4591080"/>
            <a:ext cx="1255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18040" y="4726080"/>
            <a:ext cx="972000" cy="203400"/>
          </a:xfrm>
          <a:custGeom>
            <a:avLst/>
            <a:gdLst/>
            <a:ahLst/>
            <a:rect l="0" t="0" r="r" b="b"/>
            <a:pathLst>
              <a:path w="2700" h="565">
                <a:moveTo>
                  <a:pt x="0" y="565"/>
                </a:moveTo>
                <a:lnTo>
                  <a:pt x="2700" y="565"/>
                </a:lnTo>
                <a:lnTo>
                  <a:pt x="2700" y="0"/>
                </a:lnTo>
                <a:lnTo>
                  <a:pt x="0" y="0"/>
                </a:lnTo>
                <a:lnTo>
                  <a:pt x="0" y="56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5960" y="4707000"/>
            <a:ext cx="8683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AUGMENTED BARKER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110120" y="4778280"/>
            <a:ext cx="89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GENERATOR; CODE #1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11720" y="4591080"/>
            <a:ext cx="120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84800" y="4524480"/>
            <a:ext cx="324360" cy="1349640"/>
          </a:xfrm>
          <a:custGeom>
            <a:avLst/>
            <a:gdLst/>
            <a:ahLst/>
            <a:rect l="0" t="0" r="r" b="b"/>
            <a:pathLst>
              <a:path w="901" h="3749">
                <a:moveTo>
                  <a:pt x="0" y="3749"/>
                </a:moveTo>
                <a:lnTo>
                  <a:pt x="901" y="3749"/>
                </a:lnTo>
                <a:lnTo>
                  <a:pt x="901" y="0"/>
                </a:lnTo>
                <a:lnTo>
                  <a:pt x="0" y="0"/>
                </a:lnTo>
                <a:lnTo>
                  <a:pt x="0" y="374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162840" y="5024520"/>
            <a:ext cx="32544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SU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4600" y="55879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2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2"/>
                </a:lnTo>
                <a:lnTo>
                  <a:pt x="111" y="45"/>
                </a:lnTo>
                <a:lnTo>
                  <a:pt x="106" y="67"/>
                </a:lnTo>
                <a:lnTo>
                  <a:pt x="89" y="81"/>
                </a:lnTo>
                <a:lnTo>
                  <a:pt x="71" y="94"/>
                </a:lnTo>
                <a:lnTo>
                  <a:pt x="39" y="94"/>
                </a:lnTo>
                <a:lnTo>
                  <a:pt x="22" y="81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84600" y="551988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67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67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84600" y="5654520"/>
            <a:ext cx="39960" cy="33840"/>
          </a:xfrm>
          <a:custGeom>
            <a:avLst/>
            <a:gdLst/>
            <a:ahLst/>
            <a:rect l="0" t="0" r="r" b="b"/>
            <a:pathLst>
              <a:path w="111" h="94">
                <a:moveTo>
                  <a:pt x="0" y="45"/>
                </a:moveTo>
                <a:lnTo>
                  <a:pt x="4" y="27"/>
                </a:lnTo>
                <a:lnTo>
                  <a:pt x="22" y="8"/>
                </a:lnTo>
                <a:lnTo>
                  <a:pt x="39" y="0"/>
                </a:lnTo>
                <a:lnTo>
                  <a:pt x="71" y="0"/>
                </a:lnTo>
                <a:lnTo>
                  <a:pt x="89" y="8"/>
                </a:lnTo>
                <a:lnTo>
                  <a:pt x="106" y="27"/>
                </a:lnTo>
                <a:lnTo>
                  <a:pt x="111" y="45"/>
                </a:lnTo>
                <a:lnTo>
                  <a:pt x="106" y="72"/>
                </a:lnTo>
                <a:lnTo>
                  <a:pt x="89" y="85"/>
                </a:lnTo>
                <a:lnTo>
                  <a:pt x="71" y="94"/>
                </a:lnTo>
                <a:lnTo>
                  <a:pt x="39" y="94"/>
                </a:lnTo>
                <a:lnTo>
                  <a:pt x="22" y="85"/>
                </a:lnTo>
                <a:lnTo>
                  <a:pt x="4" y="72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08800" y="51228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03400" y="3309840"/>
            <a:ext cx="405000" cy="2024280"/>
          </a:xfrm>
          <a:custGeom>
            <a:avLst/>
            <a:gdLst/>
            <a:ahLst/>
            <a:rect l="0" t="0" r="r" b="b"/>
            <a:pathLst>
              <a:path w="1125" h="5623">
                <a:moveTo>
                  <a:pt x="0" y="5623"/>
                </a:moveTo>
                <a:lnTo>
                  <a:pt x="1125" y="5623"/>
                </a:lnTo>
                <a:lnTo>
                  <a:pt x="1125" y="0"/>
                </a:lnTo>
                <a:lnTo>
                  <a:pt x="0" y="0"/>
                </a:lnTo>
                <a:lnTo>
                  <a:pt x="0" y="562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917800" y="4200480"/>
            <a:ext cx="35388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884320" y="4272120"/>
            <a:ext cx="412920" cy="1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DEM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0760" y="4321080"/>
            <a:ext cx="24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030400" y="4222800"/>
            <a:ext cx="5349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 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710400" y="3181320"/>
            <a:ext cx="73656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I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83400" y="5011560"/>
            <a:ext cx="7812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Q - DATA OU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high data rate system packet (except MPDU) or present IEEE 802.11 same as present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 for new high data rate system MPDU is illustrated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92560" y="2822400"/>
            <a:ext cx="1097280" cy="390600"/>
            <a:chOff x="5092560" y="2822400"/>
            <a:chExt cx="1097280" cy="390600"/>
          </a:xfrm>
        </p:grpSpPr>
        <p:grpSp>
          <p:nvGrpSpPr>
            <p:cNvPr id="151" name=""/>
            <p:cNvGrpSpPr/>
            <p:nvPr/>
          </p:nvGrpSpPr>
          <p:grpSpPr>
            <a:xfrm>
              <a:off x="5257800" y="2822400"/>
              <a:ext cx="168480" cy="82800"/>
              <a:chOff x="5257800" y="2822400"/>
              <a:chExt cx="168480" cy="82800"/>
            </a:xfrm>
          </p:grpSpPr>
          <p:sp>
            <p:nvSpPr>
              <p:cNvPr id="152" name=""/>
              <p:cNvSpPr/>
              <p:nvPr/>
            </p:nvSpPr>
            <p:spPr>
              <a:xfrm>
                <a:off x="5294160" y="2822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57800" y="2822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5092560" y="2892600"/>
              <a:ext cx="211320" cy="182880"/>
              <a:chOff x="5092560" y="2892600"/>
              <a:chExt cx="211320" cy="182880"/>
            </a:xfrm>
          </p:grpSpPr>
          <p:sp>
            <p:nvSpPr>
              <p:cNvPr id="155" name=""/>
              <p:cNvSpPr/>
              <p:nvPr/>
            </p:nvSpPr>
            <p:spPr>
              <a:xfrm>
                <a:off x="5199120" y="2894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92560" y="2892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5457960" y="2863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77080" y="2844720"/>
              <a:ext cx="168480" cy="82800"/>
              <a:chOff x="5977080" y="2844720"/>
              <a:chExt cx="168480" cy="82800"/>
            </a:xfrm>
          </p:grpSpPr>
          <p:sp>
            <p:nvSpPr>
              <p:cNvPr id="159" name=""/>
              <p:cNvSpPr/>
              <p:nvPr/>
            </p:nvSpPr>
            <p:spPr>
              <a:xfrm>
                <a:off x="6013440" y="2844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7080" y="2844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5786280" y="2909880"/>
              <a:ext cx="243000" cy="186120"/>
              <a:chOff x="5786280" y="2909880"/>
              <a:chExt cx="243000" cy="186120"/>
            </a:xfrm>
          </p:grpSpPr>
          <p:sp>
            <p:nvSpPr>
              <p:cNvPr id="162" name=""/>
              <p:cNvSpPr/>
              <p:nvPr/>
            </p:nvSpPr>
            <p:spPr>
              <a:xfrm>
                <a:off x="5908680" y="2911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6280" y="2909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5425920" y="2990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396040" y="2968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145200" y="2882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92560" y="3341520"/>
            <a:ext cx="1097280" cy="390600"/>
            <a:chOff x="5092560" y="3341520"/>
            <a:chExt cx="1097280" cy="390600"/>
          </a:xfrm>
        </p:grpSpPr>
        <p:grpSp>
          <p:nvGrpSpPr>
            <p:cNvPr id="168" name=""/>
            <p:cNvGrpSpPr/>
            <p:nvPr/>
          </p:nvGrpSpPr>
          <p:grpSpPr>
            <a:xfrm>
              <a:off x="5257800" y="3341520"/>
              <a:ext cx="168480" cy="82800"/>
              <a:chOff x="5257800" y="3341520"/>
              <a:chExt cx="168480" cy="82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294160" y="3341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7800" y="3341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5092560" y="3411360"/>
              <a:ext cx="211320" cy="182880"/>
              <a:chOff x="5092560" y="3411360"/>
              <a:chExt cx="211320" cy="182880"/>
            </a:xfrm>
          </p:grpSpPr>
          <p:sp>
            <p:nvSpPr>
              <p:cNvPr id="172" name=""/>
              <p:cNvSpPr/>
              <p:nvPr/>
            </p:nvSpPr>
            <p:spPr>
              <a:xfrm>
                <a:off x="5199120" y="341316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92560" y="341136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457960" y="338292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5977080" y="3363840"/>
              <a:ext cx="168480" cy="82800"/>
              <a:chOff x="5977080" y="3363840"/>
              <a:chExt cx="168480" cy="82800"/>
            </a:xfrm>
          </p:grpSpPr>
          <p:sp>
            <p:nvSpPr>
              <p:cNvPr id="176" name=""/>
              <p:cNvSpPr/>
              <p:nvPr/>
            </p:nvSpPr>
            <p:spPr>
              <a:xfrm>
                <a:off x="6013440" y="33638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977080" y="33638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786280" y="3429000"/>
              <a:ext cx="243000" cy="186120"/>
              <a:chOff x="5786280" y="3429000"/>
              <a:chExt cx="243000" cy="186120"/>
            </a:xfrm>
          </p:grpSpPr>
          <p:sp>
            <p:nvSpPr>
              <p:cNvPr id="179" name=""/>
              <p:cNvSpPr/>
              <p:nvPr/>
            </p:nvSpPr>
            <p:spPr>
              <a:xfrm>
                <a:off x="5908680" y="343044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86280" y="342900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425920" y="351000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5396040" y="348768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145200" y="340200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092560" y="3965400"/>
            <a:ext cx="1097280" cy="390600"/>
            <a:chOff x="5092560" y="3965400"/>
            <a:chExt cx="1097280" cy="390600"/>
          </a:xfrm>
        </p:grpSpPr>
        <p:grpSp>
          <p:nvGrpSpPr>
            <p:cNvPr id="185" name=""/>
            <p:cNvGrpSpPr/>
            <p:nvPr/>
          </p:nvGrpSpPr>
          <p:grpSpPr>
            <a:xfrm>
              <a:off x="5257800" y="3965400"/>
              <a:ext cx="168480" cy="82800"/>
              <a:chOff x="5257800" y="3965400"/>
              <a:chExt cx="168480" cy="82800"/>
            </a:xfrm>
          </p:grpSpPr>
          <p:sp>
            <p:nvSpPr>
              <p:cNvPr id="186" name=""/>
              <p:cNvSpPr/>
              <p:nvPr/>
            </p:nvSpPr>
            <p:spPr>
              <a:xfrm>
                <a:off x="5294160" y="39654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57800" y="39654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092560" y="4035600"/>
              <a:ext cx="211320" cy="182880"/>
              <a:chOff x="5092560" y="4035600"/>
              <a:chExt cx="211320" cy="182880"/>
            </a:xfrm>
          </p:grpSpPr>
          <p:sp>
            <p:nvSpPr>
              <p:cNvPr id="189" name=""/>
              <p:cNvSpPr/>
              <p:nvPr/>
            </p:nvSpPr>
            <p:spPr>
              <a:xfrm>
                <a:off x="5199120" y="40370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92560" y="40356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457960" y="40068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977080" y="3987720"/>
              <a:ext cx="168480" cy="82800"/>
              <a:chOff x="5977080" y="3987720"/>
              <a:chExt cx="168480" cy="82800"/>
            </a:xfrm>
          </p:grpSpPr>
          <p:sp>
            <p:nvSpPr>
              <p:cNvPr id="193" name=""/>
              <p:cNvSpPr/>
              <p:nvPr/>
            </p:nvSpPr>
            <p:spPr>
              <a:xfrm>
                <a:off x="6013440" y="39877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977080" y="39877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786280" y="4052880"/>
              <a:ext cx="243000" cy="186120"/>
              <a:chOff x="5786280" y="4052880"/>
              <a:chExt cx="243000" cy="186120"/>
            </a:xfrm>
          </p:grpSpPr>
          <p:sp>
            <p:nvSpPr>
              <p:cNvPr id="196" name=""/>
              <p:cNvSpPr/>
              <p:nvPr/>
            </p:nvSpPr>
            <p:spPr>
              <a:xfrm>
                <a:off x="5908680" y="40543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86280" y="40528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5425920" y="41338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5396040" y="41115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145200" y="40258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92560" y="4575240"/>
            <a:ext cx="1097280" cy="390600"/>
            <a:chOff x="5092560" y="4575240"/>
            <a:chExt cx="1097280" cy="390600"/>
          </a:xfrm>
        </p:grpSpPr>
        <p:grpSp>
          <p:nvGrpSpPr>
            <p:cNvPr id="202" name=""/>
            <p:cNvGrpSpPr/>
            <p:nvPr/>
          </p:nvGrpSpPr>
          <p:grpSpPr>
            <a:xfrm>
              <a:off x="5257800" y="4575240"/>
              <a:ext cx="168480" cy="82800"/>
              <a:chOff x="5257800" y="4575240"/>
              <a:chExt cx="168480" cy="82800"/>
            </a:xfrm>
          </p:grpSpPr>
          <p:sp>
            <p:nvSpPr>
              <p:cNvPr id="203" name=""/>
              <p:cNvSpPr/>
              <p:nvPr/>
            </p:nvSpPr>
            <p:spPr>
              <a:xfrm>
                <a:off x="5294160" y="45752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57800" y="45752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5092560" y="4645080"/>
              <a:ext cx="211320" cy="182880"/>
              <a:chOff x="5092560" y="4645080"/>
              <a:chExt cx="211320" cy="182880"/>
            </a:xfrm>
          </p:grpSpPr>
          <p:sp>
            <p:nvSpPr>
              <p:cNvPr id="206" name=""/>
              <p:cNvSpPr/>
              <p:nvPr/>
            </p:nvSpPr>
            <p:spPr>
              <a:xfrm>
                <a:off x="5199120" y="46465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92560" y="46450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5457960" y="46162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5977080" y="4597560"/>
              <a:ext cx="168480" cy="82800"/>
              <a:chOff x="5977080" y="4597560"/>
              <a:chExt cx="168480" cy="82800"/>
            </a:xfrm>
          </p:grpSpPr>
          <p:sp>
            <p:nvSpPr>
              <p:cNvPr id="210" name=""/>
              <p:cNvSpPr/>
              <p:nvPr/>
            </p:nvSpPr>
            <p:spPr>
              <a:xfrm>
                <a:off x="6013440" y="45975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77080" y="45975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786280" y="4662360"/>
              <a:ext cx="243000" cy="186120"/>
              <a:chOff x="5786280" y="4662360"/>
              <a:chExt cx="243000" cy="186120"/>
            </a:xfrm>
          </p:grpSpPr>
          <p:sp>
            <p:nvSpPr>
              <p:cNvPr id="213" name=""/>
              <p:cNvSpPr/>
              <p:nvPr/>
            </p:nvSpPr>
            <p:spPr>
              <a:xfrm>
                <a:off x="5908680" y="46641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786280" y="46623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5425920" y="47433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5396040" y="47214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145200" y="46353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092560" y="5032440"/>
            <a:ext cx="1097280" cy="390600"/>
            <a:chOff x="5092560" y="5032440"/>
            <a:chExt cx="1097280" cy="390600"/>
          </a:xfrm>
        </p:grpSpPr>
        <p:grpSp>
          <p:nvGrpSpPr>
            <p:cNvPr id="219" name=""/>
            <p:cNvGrpSpPr/>
            <p:nvPr/>
          </p:nvGrpSpPr>
          <p:grpSpPr>
            <a:xfrm>
              <a:off x="5257800" y="5032440"/>
              <a:ext cx="168480" cy="82800"/>
              <a:chOff x="5257800" y="5032440"/>
              <a:chExt cx="168480" cy="82800"/>
            </a:xfrm>
          </p:grpSpPr>
          <p:sp>
            <p:nvSpPr>
              <p:cNvPr id="220" name=""/>
              <p:cNvSpPr/>
              <p:nvPr/>
            </p:nvSpPr>
            <p:spPr>
              <a:xfrm>
                <a:off x="5294160" y="503244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57800" y="503244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092560" y="5102280"/>
              <a:ext cx="211320" cy="182880"/>
              <a:chOff x="5092560" y="5102280"/>
              <a:chExt cx="211320" cy="182880"/>
            </a:xfrm>
          </p:grpSpPr>
          <p:sp>
            <p:nvSpPr>
              <p:cNvPr id="223" name=""/>
              <p:cNvSpPr/>
              <p:nvPr/>
            </p:nvSpPr>
            <p:spPr>
              <a:xfrm>
                <a:off x="5199120" y="510372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092560" y="510228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457960" y="507348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977080" y="5054760"/>
              <a:ext cx="168480" cy="82800"/>
              <a:chOff x="5977080" y="5054760"/>
              <a:chExt cx="168480" cy="82800"/>
            </a:xfrm>
          </p:grpSpPr>
          <p:sp>
            <p:nvSpPr>
              <p:cNvPr id="227" name=""/>
              <p:cNvSpPr/>
              <p:nvPr/>
            </p:nvSpPr>
            <p:spPr>
              <a:xfrm>
                <a:off x="6013440" y="505476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977080" y="505476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5786280" y="5119560"/>
              <a:ext cx="243000" cy="186120"/>
              <a:chOff x="5786280" y="5119560"/>
              <a:chExt cx="243000" cy="186120"/>
            </a:xfrm>
          </p:grpSpPr>
          <p:sp>
            <p:nvSpPr>
              <p:cNvPr id="230" name=""/>
              <p:cNvSpPr/>
              <p:nvPr/>
            </p:nvSpPr>
            <p:spPr>
              <a:xfrm>
                <a:off x="5908680" y="512136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86280" y="511956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5425920" y="520056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5396040" y="517860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145200" y="509256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092560" y="5794200"/>
            <a:ext cx="1097280" cy="390600"/>
            <a:chOff x="5092560" y="5794200"/>
            <a:chExt cx="1097280" cy="390600"/>
          </a:xfrm>
        </p:grpSpPr>
        <p:grpSp>
          <p:nvGrpSpPr>
            <p:cNvPr id="236" name=""/>
            <p:cNvGrpSpPr/>
            <p:nvPr/>
          </p:nvGrpSpPr>
          <p:grpSpPr>
            <a:xfrm>
              <a:off x="5257800" y="5794200"/>
              <a:ext cx="168480" cy="82800"/>
              <a:chOff x="5257800" y="5794200"/>
              <a:chExt cx="168480" cy="82800"/>
            </a:xfrm>
          </p:grpSpPr>
          <p:sp>
            <p:nvSpPr>
              <p:cNvPr id="237" name=""/>
              <p:cNvSpPr/>
              <p:nvPr/>
            </p:nvSpPr>
            <p:spPr>
              <a:xfrm>
                <a:off x="5294160" y="579420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257800" y="579420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"/>
            <p:cNvGrpSpPr/>
            <p:nvPr/>
          </p:nvGrpSpPr>
          <p:grpSpPr>
            <a:xfrm>
              <a:off x="5092560" y="5864400"/>
              <a:ext cx="211320" cy="182880"/>
              <a:chOff x="5092560" y="5864400"/>
              <a:chExt cx="211320" cy="182880"/>
            </a:xfrm>
          </p:grpSpPr>
          <p:sp>
            <p:nvSpPr>
              <p:cNvPr id="240" name=""/>
              <p:cNvSpPr/>
              <p:nvPr/>
            </p:nvSpPr>
            <p:spPr>
              <a:xfrm>
                <a:off x="5199120" y="5865840"/>
                <a:ext cx="10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092560" y="5864400"/>
                <a:ext cx="106560" cy="182880"/>
              </a:xfrm>
              <a:custGeom>
                <a:avLst/>
                <a:gdLst/>
                <a:ahLst/>
                <a:rect l="0" t="0" r="r" b="b"/>
                <a:pathLst>
                  <a:path fill="none" w="296" h="508">
                    <a:moveTo>
                      <a:pt x="0" y="508"/>
                    </a:moveTo>
                    <a:lnTo>
                      <a:pt x="296" y="508"/>
                    </a:lnTo>
                    <a:lnTo>
                      <a:pt x="29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5457960" y="5835600"/>
              <a:ext cx="563400" cy="0"/>
            </a:xfrm>
            <a:custGeom>
              <a:avLst/>
              <a:gdLst/>
              <a:ahLst/>
              <a:rect l="0" t="0" r="r" b="b"/>
              <a:pathLst>
                <a:path fill="none" w="1565" h="0">
                  <a:moveTo>
                    <a:pt x="0" y="0"/>
                  </a:moveTo>
                  <a:lnTo>
                    <a:pt x="41" y="0"/>
                  </a:lnTo>
                  <a:lnTo>
                    <a:pt x="15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977080" y="5816520"/>
              <a:ext cx="168480" cy="82800"/>
              <a:chOff x="5977080" y="5816520"/>
              <a:chExt cx="168480" cy="82800"/>
            </a:xfrm>
          </p:grpSpPr>
          <p:sp>
            <p:nvSpPr>
              <p:cNvPr id="244" name=""/>
              <p:cNvSpPr/>
              <p:nvPr/>
            </p:nvSpPr>
            <p:spPr>
              <a:xfrm>
                <a:off x="6013440" y="5816520"/>
                <a:ext cx="132120" cy="82800"/>
              </a:xfrm>
              <a:custGeom>
                <a:avLst/>
                <a:gdLst/>
                <a:ahLst/>
                <a:rect l="0" t="0" r="r" b="b"/>
                <a:pathLst>
                  <a:path w="367" h="230">
                    <a:moveTo>
                      <a:pt x="367" y="114"/>
                    </a:moveTo>
                    <a:lnTo>
                      <a:pt x="340" y="142"/>
                    </a:lnTo>
                    <a:lnTo>
                      <a:pt x="305" y="168"/>
                    </a:lnTo>
                    <a:lnTo>
                      <a:pt x="265" y="190"/>
                    </a:lnTo>
                    <a:lnTo>
                      <a:pt x="217" y="208"/>
                    </a:lnTo>
                    <a:lnTo>
                      <a:pt x="167" y="221"/>
                    </a:lnTo>
                    <a:lnTo>
                      <a:pt x="110" y="230"/>
                    </a:lnTo>
                    <a:lnTo>
                      <a:pt x="0" y="230"/>
                    </a:lnTo>
                    <a:lnTo>
                      <a:pt x="30" y="195"/>
                    </a:lnTo>
                    <a:lnTo>
                      <a:pt x="48" y="155"/>
                    </a:lnTo>
                    <a:lnTo>
                      <a:pt x="48" y="114"/>
                    </a:lnTo>
                    <a:lnTo>
                      <a:pt x="48" y="74"/>
                    </a:lnTo>
                    <a:lnTo>
                      <a:pt x="30" y="35"/>
                    </a:lnTo>
                    <a:lnTo>
                      <a:pt x="0" y="0"/>
                    </a:lnTo>
                    <a:lnTo>
                      <a:pt x="110" y="0"/>
                    </a:lnTo>
                    <a:lnTo>
                      <a:pt x="167" y="8"/>
                    </a:lnTo>
                    <a:lnTo>
                      <a:pt x="217" y="22"/>
                    </a:lnTo>
                    <a:lnTo>
                      <a:pt x="265" y="39"/>
                    </a:lnTo>
                    <a:lnTo>
                      <a:pt x="309" y="61"/>
                    </a:lnTo>
                    <a:lnTo>
                      <a:pt x="340" y="88"/>
                    </a:lnTo>
                    <a:lnTo>
                      <a:pt x="367" y="114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77080" y="5816520"/>
                <a:ext cx="25920" cy="82800"/>
              </a:xfrm>
              <a:custGeom>
                <a:avLst/>
                <a:gdLst/>
                <a:ahLst/>
                <a:rect l="0" t="0" r="r" b="b"/>
                <a:pathLst>
                  <a:path fill="none" w="72" h="230">
                    <a:moveTo>
                      <a:pt x="0" y="230"/>
                    </a:moveTo>
                    <a:lnTo>
                      <a:pt x="39" y="195"/>
                    </a:lnTo>
                    <a:lnTo>
                      <a:pt x="66" y="155"/>
                    </a:lnTo>
                    <a:lnTo>
                      <a:pt x="72" y="114"/>
                    </a:lnTo>
                    <a:lnTo>
                      <a:pt x="66" y="74"/>
                    </a:lnTo>
                    <a:lnTo>
                      <a:pt x="39" y="3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5786280" y="5881680"/>
              <a:ext cx="243000" cy="186120"/>
              <a:chOff x="5786280" y="5881680"/>
              <a:chExt cx="243000" cy="186120"/>
            </a:xfrm>
          </p:grpSpPr>
          <p:sp>
            <p:nvSpPr>
              <p:cNvPr id="247" name=""/>
              <p:cNvSpPr/>
              <p:nvPr/>
            </p:nvSpPr>
            <p:spPr>
              <a:xfrm>
                <a:off x="5908680" y="5883120"/>
                <a:ext cx="120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86280" y="5881680"/>
                <a:ext cx="122760" cy="186120"/>
              </a:xfrm>
              <a:custGeom>
                <a:avLst/>
                <a:gdLst/>
                <a:ahLst/>
                <a:rect l="0" t="0" r="r" b="b"/>
                <a:pathLst>
                  <a:path fill="none" w="341" h="517">
                    <a:moveTo>
                      <a:pt x="0" y="517"/>
                    </a:moveTo>
                    <a:lnTo>
                      <a:pt x="341" y="517"/>
                    </a:lnTo>
                    <a:lnTo>
                      <a:pt x="3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5425920" y="5962680"/>
              <a:ext cx="353880" cy="190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5396040" y="5940360"/>
              <a:ext cx="409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VER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6145200" y="5854680"/>
              <a:ext cx="446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62520" y="3352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962520" y="39625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3787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1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38480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962520" y="5540400"/>
            <a:ext cx="152280" cy="152280"/>
            <a:chOff x="3962520" y="5540400"/>
            <a:chExt cx="152280" cy="152280"/>
          </a:xfrm>
        </p:grpSpPr>
        <p:sp>
          <p:nvSpPr>
            <p:cNvPr id="258" name=""/>
            <p:cNvSpPr/>
            <p:nvPr/>
          </p:nvSpPr>
          <p:spPr>
            <a:xfrm>
              <a:off x="39625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625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625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019920" y="5540400"/>
            <a:ext cx="152280" cy="152280"/>
            <a:chOff x="6019920" y="5540400"/>
            <a:chExt cx="152280" cy="152280"/>
          </a:xfrm>
        </p:grpSpPr>
        <p:sp>
          <p:nvSpPr>
            <p:cNvPr id="262" name=""/>
            <p:cNvSpPr/>
            <p:nvPr/>
          </p:nvSpPr>
          <p:spPr>
            <a:xfrm>
              <a:off x="6019920" y="561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19920" y="5692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19920" y="554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019920" y="3787920"/>
            <a:ext cx="152280" cy="152280"/>
            <a:chOff x="6019920" y="3787920"/>
            <a:chExt cx="152280" cy="152280"/>
          </a:xfrm>
        </p:grpSpPr>
        <p:sp>
          <p:nvSpPr>
            <p:cNvPr id="266" name=""/>
            <p:cNvSpPr/>
            <p:nvPr/>
          </p:nvSpPr>
          <p:spPr>
            <a:xfrm>
              <a:off x="6019920" y="3863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19920" y="39402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19920" y="3787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data rate increases as number of orthogonal codes used increases (one data bit per c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use 1 to 11 Augmented Barker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data bits can be recovered due to the orthogonal nature of the spreading cod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has same clock as Augmented Barker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Code is 4095 bits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ip rate: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except frame body and CRC32: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body and CRC32: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802.11 Mode: 1 Mbps (BPSK), 2 Mbps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new method: 1.83, 3.67,  up to 20.16 Mbps in increments of 1.83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85800" y="167652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an use 1 code, 2 codes, … , 11 c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(Mcps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 (augmented Bark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, BPSK modulation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(Mbps , QPSK modulation , per code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data rate (Mbps , QPSK modulation , 1 co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data rate (Mbps , QPSK modulation , 11 cod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  1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ompatibl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as BPSK, QPSK modulation using one code. Code is Barker code, data rate is 1 and 2 Mbps and PG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constant and identical to the present IEEE 802.11 standard (11 Mcp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requirements remain identical to present IEEE 802.11 standard 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constellation (number of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 (1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des (11/3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odes (20  1/6 Mbp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er constellation points are low probability; RF can be in soft com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read signal constellation always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high data rate system can fully coexist and interoperate with legacy systems, subject to new higher data rates lim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acquire same spread spectrum SYNC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tect the same SFD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IGNAL field - this field indicates the data format of the MPDU field. It can indic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802.11 (1 or 2 Mb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new data rate (one of 11 data rates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SERVIC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LENGTH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systems demodulate the same CRC16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ystems can then demodulate MPDU at enhanced data rates or at present IEEE 802.11 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 increase is small due to utilization of matched filter based technology to implement the following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acqui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desp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PSK / QPSK de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racking (± 25 PP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tracking (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processing (selection or Rake with MR combi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 (CCA) using energy detection at IF and post desprea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next generation of W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multip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19810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performance due to matched filter based techn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resistance for several data rates, 100 byte packet,    FER=10e-1, no diversity processing (RA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90720" y="3429000"/>
            <a:ext cx="86994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performance - RF tr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Costas loop removes frequency offsets of ± 25 PP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 (dB) required for several data rates to achieve FER=10e-1 for  100 byte packet. Frequency offsets of 0 and 125 KHz are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0223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952880" y="1981080"/>
            <a:ext cx="3517920" cy="42609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343836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 to AGC setting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vs AGC setting for 8, 10, 12 dB.  Data rate of 12.83 Mbps at a frequency offset of 0 KHz (left) and 80 KHz (righ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511520" y="1981080"/>
            <a:ext cx="3498840" cy="41274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750960" y="2057400"/>
            <a:ext cx="35751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outlines a flexible signal structure that can be efficiently processed by high performance matched filter based architectu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with existing systems and capable of trading off cost, power consumption and data rate (11 rates, 1.83 to 20 Mbps plus present 1 and 2 Mbps) while maintaining full interoperabil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ll range of existing systems, from smallest ( and most restricted in power consumption) to largest can communicate using new IEEE Wireless LAN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ed filter based operation can take advantage of multipath to enhance system performance at little or no additional hardware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signal structure complies with FCC ISM band defin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 in ISM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data rate of up to 2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 operation compliant to FCC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ility with existing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odification to existing protocol software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mless operation in a mixed environment, i.e., present IEEE 802.11 and new high speed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applicability to variety of platfo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-off between cost/power consumption/dat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EEE802.11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ystem uses 11 chip Barker code as spreading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ata bit spread by entire code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F) Modulation is BPSK or 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varied by changing modulation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 is 11 Mc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bandwidth is 22 MH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defined fields (sync, set-up, data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protection of selec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ystem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block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d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data rate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sign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despread signal 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an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ing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spreading code is the 11 bit Barker Co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 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set uses all phases of the original Barker code and appends a ‘-1’ chip at th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: +1 -1 +1 +1 -1 +1 +1 +1 -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2: -1 +1 +1 -1 +1 +1 +1 -1 -1 -1 +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 11: -1+1 -1 +1 +1 -1 +1 +1 +1 -1 -1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gment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s form orthogonal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cked carrier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each member of orthogonal code set to spread spectrum modulate individual data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pread spectrum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omposite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d</dc:creator>
  <dc:description/>
  <dc:language>en-US</dc:language>
  <cp:lastModifiedBy>sd</cp:lastModifiedBy>
  <cp:revision>0</cp:revision>
  <dc:subject/>
  <dc:title>Further Considerations for Implementation of Adaptive Data Rates</dc:title>
</cp:coreProperties>
</file>