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1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0CAAF4E4-B3AB-45CD-B080-B46520D5E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, The Boeing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 to IEEE Draft Std. 802.1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3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toria Ponc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eing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O. Box 3707 M/S 7M-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ttle, WA 98124-22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+1(425)865-53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+1(425)957-5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victoria.m.poncini@boeing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c - Supplement to 802.1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133720"/>
            <a:ext cx="129528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9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3276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7720" y="2133720"/>
            <a:ext cx="99072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772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9520" y="3276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440" y="2133720"/>
            <a:ext cx="2211480" cy="2209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380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440" y="3276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38862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9404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94040" y="396252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884760" y="342900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4760" y="3962520"/>
            <a:ext cx="838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5486400"/>
            <a:ext cx="2971800" cy="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48769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3434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24080" y="4800600"/>
            <a:ext cx="152640" cy="2286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8006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5562720"/>
            <a:ext cx="2133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74880" y="5560920"/>
            <a:ext cx="1635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1981080"/>
            <a:ext cx="3581280" cy="114300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05280" y="2819520"/>
            <a:ext cx="728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666880"/>
            <a:ext cx="2133720" cy="762120"/>
          </a:xfrm>
          <a:prstGeom prst="rect">
            <a:avLst/>
          </a:pr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5120" y="2590920"/>
            <a:ext cx="1219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2666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6200" y="5029200"/>
            <a:ext cx="2362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802.11 802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4343400"/>
            <a:ext cx="0" cy="6858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295280" y="4724280"/>
            <a:ext cx="152640" cy="22860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800600"/>
            <a:ext cx="0" cy="609480"/>
          </a:xfrm>
          <a:prstGeom prst="line">
            <a:avLst/>
          </a:prstGeom>
          <a:ln w="38160">
            <a:solidFill>
              <a:srgbClr val="66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124080"/>
            <a:ext cx="1447920" cy="380880"/>
          </a:xfrm>
          <a:prstGeom prst="rect">
            <a:avLst/>
          </a:pr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1320" y="274320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746440" y="3124080"/>
            <a:ext cx="106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2362320"/>
            <a:ext cx="1143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72200" y="1600200"/>
            <a:ext cx="2666880" cy="31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324480" y="1903320"/>
            <a:ext cx="2438280" cy="27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pplement defines the MAC frame mapping to the 802.1D service primitive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P primitives going to and from the DS through the Portal are the same as the MAC SAP primitiv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1240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343400" y="320040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4876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5410080"/>
            <a:ext cx="1066680" cy="8380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48520" y="5562720"/>
            <a:ext cx="83808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