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5340AD4-504B-4DBB-8FC9-F06E87D94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71600" y="768240"/>
            <a:ext cx="5029200" cy="3767400"/>
          </a:xfrm>
          <a:prstGeom prst="rect">
            <a:avLst/>
          </a:prstGeom>
          <a:ln w="0">
            <a:noFill/>
          </a:ln>
        </p:spPr>
      </p:sp>
      <p:sp>
        <p:nvSpPr>
          <p:cNvPr id="1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4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0"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January 19-23, 1997</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Lynnwood, WA</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Jan 19, 8:30</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anuary 19-23 - Ambassy Suites, Lynnwood, WA</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9-13 - Hyatt Regency, Irvine, CA,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May ? TBD</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ug/Sept ? TBD</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9</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 (detailed)</a:t>
            </a:r>
            <a:endParaRPr b="0" lang="en-US" sz="4400" spc="-1" strike="noStrike">
              <a:solidFill>
                <a:srgbClr val="000000"/>
              </a:solidFill>
              <a:latin typeface="Arial"/>
            </a:endParaRPr>
          </a:p>
        </p:txBody>
      </p:sp>
      <p:sp>
        <p:nvSpPr>
          <p:cNvPr id="8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8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2"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5"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98"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6"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7"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tinental Breakfas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ased on 1 object per person</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Any other printers available?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0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90 copies) and on disket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5" name=""/>
          <p:cNvSpPr txBox="1"/>
          <p:nvPr/>
        </p:nvSpPr>
        <p:spPr>
          <a:xfrm>
            <a:off x="685800" y="83808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Review the LB result on the 802.11 (maintenance) PAR</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view the LB result on the 802.11c (bridge) PAR</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Work on detailed proposals for TGa and TGb</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ull detailed text required on accepted proposal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finement of the evaluation crite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5"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a:t>
            </a:r>
            <a:endParaRPr b="0" lang="en-US" sz="4400" spc="-1" strike="noStrike">
              <a:solidFill>
                <a:srgbClr val="000000"/>
              </a:solidFill>
              <a:latin typeface="Arial"/>
            </a:endParaRPr>
          </a:p>
        </p:txBody>
      </p:sp>
      <p:sp>
        <p:nvSpPr>
          <p:cNvPr id="116"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18"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1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0"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2"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5"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6"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7"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5"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6"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6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69"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2"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1 General information available on diskette, see George Fishel</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 diskette with relevant documents mailed or on already on ftp site (pdf)</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 diskette with new papers (pdf)</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6.2 Volunteers needed for Thursday evening to prepare mai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0" name=""/>
          <p:cNvSpPr txBox="1"/>
          <p:nvPr/>
        </p:nvSpPr>
        <p:spPr>
          <a:xfrm>
            <a:off x="685800" y="9907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3600" spc="-1" strike="noStrike">
                <a:solidFill>
                  <a:srgbClr val="000000"/>
                </a:solidFill>
                <a:latin typeface="Times New Roman"/>
                <a:ea typeface="Times New Roman"/>
              </a:rPr>
              <a:t>1.6.3 Officers for next 2 years</a:t>
            </a:r>
            <a:r>
              <a:rPr b="0" lang="en-US" sz="2400" spc="-1" strike="noStrike">
                <a:solidFill>
                  <a:srgbClr val="000000"/>
                </a:solidFill>
                <a:latin typeface="Times New Roman"/>
                <a:ea typeface="Times New Roman"/>
              </a:rPr>
              <a:t> current li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Vic Hayes (re-electable for last time and availabl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Vice-Chair: Stuart Ker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o-Vice-Chair: Chris Zegelin (Limited attendance to 1 per year)</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Secretary: George Fishel</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Editor: Bob O’Hara</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o-editor: Greg Ennis (is no voting member anymor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MAC subgroup: Dave Bagb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PHy and FH group: Dean Kawaguchi</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DS group: Jan Boer</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TGa (5 GHz): Naftali Chayat</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 TGb (2.4 GHz): John Fakatsel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7</a:t>
            </a:r>
            <a:endParaRPr b="0" lang="en-US" sz="2400" spc="-1" strike="noStrike">
              <a:solidFill>
                <a:srgbClr val="000000"/>
              </a:solidFill>
              <a:latin typeface="Arial"/>
            </a:endParaRPr>
          </a:p>
        </p:txBody>
      </p:sp>
      <p:sp>
        <p:nvSpPr>
          <p:cNvPr id="18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3"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3600" spc="-1" strike="noStrike">
                <a:solidFill>
                  <a:srgbClr val="000000"/>
                </a:solidFill>
                <a:latin typeface="Times New Roman"/>
                <a:ea typeface="Times New Roman"/>
              </a:rPr>
              <a:t>1.6.3 Officers for next 2 years</a:t>
            </a:r>
            <a:endParaRPr b="0" lang="en-US" sz="36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ed to have volunteers for election on March 1998</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efer to have pledges for attendance at all meeting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ternative at least 50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quest letter of support from spons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7" name=""/>
          <p:cNvSpPr txBox="1"/>
          <p:nvPr/>
        </p:nvSpPr>
        <p:spPr>
          <a:xfrm>
            <a:off x="150840" y="1285920"/>
            <a:ext cx="88423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main-|     !main- | Excursion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 TGa !te-  |TGa  !te-   |     to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nance|     !nance |   Boei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main-|Full 802.11 |     TGb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TGb !te-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nance|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TGb     |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TGb or       |    TGb    |    TGb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Combined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a and TGb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3"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ontreal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7/138 (quorum required)</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Standards Board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 the letter ballo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4 Review of contribution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7/15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6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ld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02.11 maintenan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02.11c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 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Friday</a:t>
            </a:r>
            <a:endParaRPr b="0" lang="en-US" sz="4400" spc="-1" strike="noStrike">
              <a:solidFill>
                <a:srgbClr val="000000"/>
              </a:solidFill>
              <a:latin typeface="Arial"/>
            </a:endParaRPr>
          </a:p>
        </p:txBody>
      </p:sp>
      <p:sp>
        <p:nvSpPr>
          <p:cNvPr id="7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5: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7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 2</a:t>
            </a:r>
            <a:endParaRPr b="0" lang="en-US" sz="4400" spc="-1" strike="noStrike">
              <a:solidFill>
                <a:srgbClr val="000000"/>
              </a:solidFill>
              <a:latin typeface="Arial"/>
            </a:endParaRPr>
          </a:p>
        </p:txBody>
      </p:sp>
      <p:sp>
        <p:nvSpPr>
          <p:cNvPr id="8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 as soon as possible, weekly uploads, as the need arises in diskette format for those that asked.</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