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E920A2-4FE3-45C1-9324-798804DA5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828800"/>
            <a:ext cx="906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480"/>
            <a:ext cx="7772400" cy="13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2n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 (PH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590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ptember 8-12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don,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September 8, 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suggest we sent a call for papers to everybody. It will accelerate our progress if authors can circulate the actual papers or presentations in adv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 Attend common BRAN/802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 Next meeting Goals/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609480"/>
            <a:ext cx="80010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Introduction of IEEE P802.11 and its most important rule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chedule for new PHY  in 5 GHz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Long term goals for IEEE/ETSI collaboration in 5.2 GHz wireless standard development (1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Common PHY, different 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Allow 802.11 MAC devic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echnical Requirement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Data rates and types of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 Multipath and interference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 Connection vs 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 Packet drop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Technical proposal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Modulati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Introduction of ETSI Project BRAN and its most important rule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Schedules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Technical Requirements (1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1 Data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2 Mobility levels to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3 ATM service classes to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4 Fixed ATM access requirements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Technical proposals seminar (6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Channel models, modulation &amp; coding issues and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MAC issues &amp;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officers / ETSI project BRAN Project Management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s for the meeting with the PMC (10 minu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1 positions on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2 ground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dissemination,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10-14 - Queen Elizabeth, Montreal, PQ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ch 9-13 - Hyatt Regency Irvine, CA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y 6-10 - Hyatt Regency La Jolla, San Diego, CA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9-13 - Hyatt Regency, Albuquerque, NM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ch 8-12 - Hyatt Regency Town Lake, Austin, TX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y 5-9 - Queen Elizabeth Hotel, Montreal, PQ, Plenary (contract not signed y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8-12 - Hyatt Regency Kauai, Koloa, HI, plenary (contract not yet sig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tart the work of TG a and TG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cooperation between IEEE P802.11 and ETSI project B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a strong liaison between TG a and ETSI project BRAN WG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schedule of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of TG a and TG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Organisation of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Any 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Adjourn for TG a and TG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Revise 5 criteria  PA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Project Schedule and major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Meetings and process to develop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Technical Discussions/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PHY baseline (key parameters and 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ates, sensitivity, multipath/PER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MAC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Evaluation and rating criteria for submitted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suggest we sent a call for papers to everybody. It will accelerate our progress if authors can circulate the actual papers or presentations in adv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 Prepare for BRAN/802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 Next meeting Goals/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Revise / Finalize 5 criteria  PA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Project Schedule and major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Meetings and process to develop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Technical Discussions/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PHY baseline (key parameters and 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ates, sensitivity, multipath/PER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MAC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Evaluation and rating criteria for submitted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TG b agenda</dc:title>
</cp:coreProperties>
</file>