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38280" y="6095880"/>
            <a:ext cx="762480" cy="610200"/>
            <a:chOff x="2438280" y="6095880"/>
            <a:chExt cx="762480" cy="610200"/>
          </a:xfrm>
        </p:grpSpPr>
        <p:sp>
          <p:nvSpPr>
            <p:cNvPr id="2" name=""/>
            <p:cNvSpPr/>
            <p:nvPr/>
          </p:nvSpPr>
          <p:spPr>
            <a:xfrm>
              <a:off x="2438280" y="630720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1059" y="327"/>
                  </a:moveTo>
                  <a:lnTo>
                    <a:pt x="0" y="1108"/>
                  </a:lnTo>
                  <a:lnTo>
                    <a:pt x="1059" y="0"/>
                  </a:lnTo>
                  <a:lnTo>
                    <a:pt x="1059" y="3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819520" y="609588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0" y="781"/>
                  </a:moveTo>
                  <a:lnTo>
                    <a:pt x="1059" y="0"/>
                  </a:lnTo>
                  <a:lnTo>
                    <a:pt x="0" y="1108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687240" y="533520"/>
            <a:ext cx="777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9480" y="228600"/>
            <a:ext cx="7897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oc: IEEE P802.11-97/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40600" y="627696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958080" y="6307200"/>
            <a:ext cx="15476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12/97,  Page </a:t>
            </a:r>
            <a:fld id="{04EB802C-C50B-4D47-9129-034F39FCD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895480"/>
            <a:ext cx="777240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ulse Position Modulat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-PPM)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5 GHz High-Speed PHY</a:t>
            </a:r>
            <a:br>
              <a:rPr sz="2400"/>
            </a:br>
            <a:br>
              <a:rPr sz="24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to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a Ahy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Products:  1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da Products:  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R-bas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6320" y="1487520"/>
            <a:ext cx="74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meets the modulation method criteria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robu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Radio LANs have been demonstrated as 10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low-cost IR LANs have been demonstrated as 4 &amp; 16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ould potentially co-exist with IEEE 802.11 low-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78160" y="1752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nomin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against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00360" y="17524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R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ransmiters (compared to OFDM, QPSK &amp;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moderate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channel good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hardwar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2360" y="504828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86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431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383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5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3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8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07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5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81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76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34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29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7560" y="53150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93960" y="531504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2360" y="561960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93960" y="5619600"/>
            <a:ext cx="4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2360" y="592452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93960" y="59245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4524480"/>
            <a:ext cx="117144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48000" y="516240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induced IS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ur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-alar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-slo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(Rayleigh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ve (Delay sp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selelctive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var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st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F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ignal conditioning &amp; processing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systems feasible with very simp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49440" y="19810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order L-PPM candidates (16-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is NOT the question: Low-cost implment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simple receiv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-likelihood Estimation (MLSE) Recivers could be too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&amp;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8000" y="1981080"/>
            <a:ext cx="577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efficient power transmission is 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ISM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10 Mbps, 5.8 GHz FCC-approv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 solutions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solution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U-NII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RadioLAN U-NII produc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>Staff</cp:lastModifiedBy>
  <cp:revision>0</cp:revision>
  <dc:subject/>
  <dc:title>No Slide Title</dc:title>
</cp:coreProperties>
</file>