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Models an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3200400"/>
            <a:ext cx="5943600" cy="12193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352680"/>
            <a:ext cx="579132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581280"/>
            <a:ext cx="563868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and Fluctuation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of Sight and Significant Single-Scatter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895480"/>
            <a:ext cx="6400800" cy="18288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3771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819520"/>
            <a:ext cx="6553080" cy="1981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971800"/>
            <a:ext cx="6248520" cy="16765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048120"/>
            <a:ext cx="60958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08200" y="3295800"/>
            <a:ext cx="2838240" cy="51408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52920" y="3289320"/>
            <a:ext cx="2584440" cy="52056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8200" y="3809880"/>
            <a:ext cx="1359000" cy="47016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73320" y="3816360"/>
            <a:ext cx="4057560" cy="46980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01720" y="3435480"/>
            <a:ext cx="4768920" cy="37440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771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29040" y="4235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3251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32480" y="3397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0640" y="3435480"/>
            <a:ext cx="660240" cy="374400"/>
          </a:xfrm>
          <a:prstGeom prst="line">
            <a:avLst/>
          </a:prstGeom>
          <a:ln w="12600">
            <a:solidFill>
              <a:srgbClr val="fe9b03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8098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38098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8098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51800" y="4708440"/>
            <a:ext cx="560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391520" y="4876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99120" y="3660840"/>
            <a:ext cx="520560" cy="304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562720" y="2247840"/>
            <a:ext cx="799920" cy="106704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324480" y="2095560"/>
            <a:ext cx="2228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Elliptic Anulus Corresponding to Objects Whose Scattered Signals Arrive Within ~ T</a:t>
            </a:r>
            <a:r>
              <a:rPr b="0" lang="en-US" sz="1200" spc="-1" strike="noStrike" baseline="-25000">
                <a:solidFill>
                  <a:srgbClr val="919191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 of Delay </a:t>
            </a:r>
            <a:r>
              <a:rPr b="0" lang="en-US" sz="1200" spc="-1" strike="noStrike">
                <a:solidFill>
                  <a:srgbClr val="919191"/>
                </a:solidFill>
                <a:latin typeface="Symbol"/>
                <a:ea typeface="Symbo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79132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23880" y="4876920"/>
            <a:ext cx="610200" cy="914760"/>
            <a:chOff x="1523880" y="4876920"/>
            <a:chExt cx="610200" cy="914760"/>
          </a:xfrm>
        </p:grpSpPr>
        <p:sp>
          <p:nvSpPr>
            <p:cNvPr id="71" name=""/>
            <p:cNvSpPr/>
            <p:nvPr/>
          </p:nvSpPr>
          <p:spPr>
            <a:xfrm>
              <a:off x="1523880" y="4876920"/>
              <a:ext cx="305280" cy="914760"/>
            </a:xfrm>
            <a:custGeom>
              <a:avLst/>
              <a:gdLst/>
              <a:ahLst/>
              <a:rect l="0" t="0" r="r" b="b"/>
              <a:pathLst>
                <a:path fill="none" w="848" h="2541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117"/>
                    <a:pt x="424" y="340"/>
                  </a:cubicBezTo>
                  <a:cubicBezTo>
                    <a:pt x="295" y="563"/>
                    <a:pt x="188" y="884"/>
                    <a:pt x="114" y="1271"/>
                  </a:cubicBezTo>
                  <a:cubicBezTo>
                    <a:pt x="39" y="1657"/>
                    <a:pt x="0" y="2095"/>
                    <a:pt x="0" y="254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876920"/>
              <a:ext cx="305280" cy="914760"/>
            </a:xfrm>
            <a:custGeom>
              <a:avLst/>
              <a:gdLst/>
              <a:ahLst/>
              <a:rect l="0" t="0" r="r" b="b"/>
              <a:pathLst>
                <a:path fill="none" w="848" h="2541">
                  <a:moveTo>
                    <a:pt x="848" y="2541"/>
                  </a:moveTo>
                  <a:lnTo>
                    <a:pt x="848" y="2541"/>
                  </a:lnTo>
                  <a:lnTo>
                    <a:pt x="848" y="2541"/>
                  </a:lnTo>
                  <a:cubicBezTo>
                    <a:pt x="848" y="2095"/>
                    <a:pt x="809" y="1657"/>
                    <a:pt x="734" y="1270"/>
                  </a:cubicBezTo>
                  <a:cubicBezTo>
                    <a:pt x="660" y="884"/>
                    <a:pt x="553" y="563"/>
                    <a:pt x="424" y="340"/>
                  </a:cubicBezTo>
                  <a:cubicBezTo>
                    <a:pt x="295" y="117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>
            <a:off x="1631880" y="5840280"/>
            <a:ext cx="42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743200" y="5029200"/>
            <a:ext cx="610200" cy="762480"/>
            <a:chOff x="2743200" y="5029200"/>
            <a:chExt cx="610200" cy="762480"/>
          </a:xfrm>
        </p:grpSpPr>
        <p:sp>
          <p:nvSpPr>
            <p:cNvPr id="75" name=""/>
            <p:cNvSpPr/>
            <p:nvPr/>
          </p:nvSpPr>
          <p:spPr>
            <a:xfrm>
              <a:off x="2743200" y="5029200"/>
              <a:ext cx="305280" cy="762480"/>
            </a:xfrm>
            <a:custGeom>
              <a:avLst/>
              <a:gdLst/>
              <a:ahLst/>
              <a:rect l="0" t="0" r="r" b="b"/>
              <a:pathLst>
                <a:path fill="none" w="848" h="2118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98"/>
                    <a:pt x="424" y="284"/>
                  </a:cubicBezTo>
                  <a:cubicBezTo>
                    <a:pt x="295" y="470"/>
                    <a:pt x="188" y="737"/>
                    <a:pt x="114" y="1059"/>
                  </a:cubicBezTo>
                  <a:cubicBezTo>
                    <a:pt x="39" y="1381"/>
                    <a:pt x="0" y="1746"/>
                    <a:pt x="0" y="2118"/>
                  </a:cubicBezTo>
                </a:path>
              </a:pathLst>
            </a:custGeom>
            <a:ln w="12600">
              <a:solidFill>
                <a:srgbClr val="fe9b0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5029200"/>
              <a:ext cx="305280" cy="762480"/>
            </a:xfrm>
            <a:custGeom>
              <a:avLst/>
              <a:gdLst/>
              <a:ahLst/>
              <a:rect l="0" t="0" r="r" b="b"/>
              <a:pathLst>
                <a:path fill="none" w="848" h="2118">
                  <a:moveTo>
                    <a:pt x="848" y="2118"/>
                  </a:moveTo>
                  <a:lnTo>
                    <a:pt x="848" y="2118"/>
                  </a:lnTo>
                  <a:lnTo>
                    <a:pt x="848" y="2118"/>
                  </a:lnTo>
                  <a:cubicBezTo>
                    <a:pt x="848" y="1746"/>
                    <a:pt x="809" y="1381"/>
                    <a:pt x="734" y="1059"/>
                  </a:cubicBezTo>
                  <a:cubicBezTo>
                    <a:pt x="660" y="737"/>
                    <a:pt x="553" y="470"/>
                    <a:pt x="424" y="284"/>
                  </a:cubicBezTo>
                  <a:cubicBezTo>
                    <a:pt x="295" y="98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fe9b0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9092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82880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17680" y="4913280"/>
            <a:ext cx="27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133720" y="5638680"/>
            <a:ext cx="609840" cy="152640"/>
            <a:chOff x="2133720" y="5638680"/>
            <a:chExt cx="609840" cy="152640"/>
          </a:xfrm>
        </p:grpSpPr>
        <p:sp>
          <p:nvSpPr>
            <p:cNvPr id="81" name=""/>
            <p:cNvSpPr/>
            <p:nvPr/>
          </p:nvSpPr>
          <p:spPr>
            <a:xfrm>
              <a:off x="2133720" y="5638680"/>
              <a:ext cx="305280" cy="152640"/>
            </a:xfrm>
            <a:custGeom>
              <a:avLst/>
              <a:gdLst/>
              <a:ahLst/>
              <a:rect l="0" t="0" r="r" b="b"/>
              <a:pathLst>
                <a:path fill="none" w="848" h="424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20"/>
                    <a:pt x="424" y="57"/>
                  </a:cubicBezTo>
                  <a:cubicBezTo>
                    <a:pt x="295" y="94"/>
                    <a:pt x="188" y="148"/>
                    <a:pt x="114" y="212"/>
                  </a:cubicBezTo>
                  <a:cubicBezTo>
                    <a:pt x="39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8280" y="5638680"/>
              <a:ext cx="305280" cy="152640"/>
            </a:xfrm>
            <a:custGeom>
              <a:avLst/>
              <a:gdLst/>
              <a:ahLst/>
              <a:rect l="0" t="0" r="r" b="b"/>
              <a:pathLst>
                <a:path fill="none" w="848" h="424">
                  <a:moveTo>
                    <a:pt x="848" y="424"/>
                  </a:moveTo>
                  <a:lnTo>
                    <a:pt x="848" y="424"/>
                  </a:lnTo>
                  <a:lnTo>
                    <a:pt x="848" y="424"/>
                  </a:lnTo>
                  <a:cubicBezTo>
                    <a:pt x="848" y="350"/>
                    <a:pt x="809" y="276"/>
                    <a:pt x="734" y="212"/>
                  </a:cubicBezTo>
                  <a:cubicBezTo>
                    <a:pt x="660" y="148"/>
                    <a:pt x="553" y="94"/>
                    <a:pt x="424" y="57"/>
                  </a:cubicBezTo>
                  <a:cubicBezTo>
                    <a:pt x="295" y="20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352680" y="5638680"/>
            <a:ext cx="610200" cy="152640"/>
            <a:chOff x="3352680" y="5638680"/>
            <a:chExt cx="610200" cy="152640"/>
          </a:xfrm>
        </p:grpSpPr>
        <p:sp>
          <p:nvSpPr>
            <p:cNvPr id="84" name=""/>
            <p:cNvSpPr/>
            <p:nvPr/>
          </p:nvSpPr>
          <p:spPr>
            <a:xfrm>
              <a:off x="3352680" y="5638680"/>
              <a:ext cx="305280" cy="152640"/>
            </a:xfrm>
            <a:custGeom>
              <a:avLst/>
              <a:gdLst/>
              <a:ahLst/>
              <a:rect l="0" t="0" r="r" b="b"/>
              <a:pathLst>
                <a:path fill="none" w="848" h="424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20"/>
                    <a:pt x="424" y="57"/>
                  </a:cubicBezTo>
                  <a:cubicBezTo>
                    <a:pt x="295" y="94"/>
                    <a:pt x="188" y="148"/>
                    <a:pt x="114" y="212"/>
                  </a:cubicBezTo>
                  <a:cubicBezTo>
                    <a:pt x="39" y="276"/>
                    <a:pt x="0" y="350"/>
                    <a:pt x="0" y="42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57600" y="5638680"/>
              <a:ext cx="305280" cy="152640"/>
            </a:xfrm>
            <a:custGeom>
              <a:avLst/>
              <a:gdLst/>
              <a:ahLst/>
              <a:rect l="0" t="0" r="r" b="b"/>
              <a:pathLst>
                <a:path fill="none" w="848" h="424">
                  <a:moveTo>
                    <a:pt x="848" y="424"/>
                  </a:moveTo>
                  <a:lnTo>
                    <a:pt x="848" y="424"/>
                  </a:lnTo>
                  <a:lnTo>
                    <a:pt x="848" y="424"/>
                  </a:lnTo>
                  <a:cubicBezTo>
                    <a:pt x="848" y="350"/>
                    <a:pt x="809" y="276"/>
                    <a:pt x="734" y="212"/>
                  </a:cubicBezTo>
                  <a:cubicBezTo>
                    <a:pt x="660" y="148"/>
                    <a:pt x="553" y="94"/>
                    <a:pt x="424" y="57"/>
                  </a:cubicBezTo>
                  <a:cubicBezTo>
                    <a:pt x="295" y="20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572000" y="5562720"/>
            <a:ext cx="610200" cy="228960"/>
            <a:chOff x="4572000" y="5562720"/>
            <a:chExt cx="610200" cy="228960"/>
          </a:xfrm>
        </p:grpSpPr>
        <p:sp>
          <p:nvSpPr>
            <p:cNvPr id="87" name=""/>
            <p:cNvSpPr/>
            <p:nvPr/>
          </p:nvSpPr>
          <p:spPr>
            <a:xfrm>
              <a:off x="4572000" y="5562720"/>
              <a:ext cx="305280" cy="228960"/>
            </a:xfrm>
            <a:custGeom>
              <a:avLst/>
              <a:gdLst/>
              <a:ahLst/>
              <a:rect l="0" t="0" r="r" b="b"/>
              <a:pathLst>
                <a:path fill="none" w="848" h="636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29"/>
                    <a:pt x="424" y="85"/>
                  </a:cubicBezTo>
                  <a:cubicBezTo>
                    <a:pt x="295" y="141"/>
                    <a:pt x="188" y="221"/>
                    <a:pt x="114" y="318"/>
                  </a:cubicBezTo>
                  <a:cubicBezTo>
                    <a:pt x="39" y="415"/>
                    <a:pt x="0" y="524"/>
                    <a:pt x="0" y="6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920" y="5562720"/>
              <a:ext cx="305280" cy="228960"/>
            </a:xfrm>
            <a:custGeom>
              <a:avLst/>
              <a:gdLst/>
              <a:ahLst/>
              <a:rect l="0" t="0" r="r" b="b"/>
              <a:pathLst>
                <a:path fill="none" w="848" h="636">
                  <a:moveTo>
                    <a:pt x="848" y="636"/>
                  </a:moveTo>
                  <a:lnTo>
                    <a:pt x="848" y="636"/>
                  </a:lnTo>
                  <a:lnTo>
                    <a:pt x="848" y="636"/>
                  </a:lnTo>
                  <a:cubicBezTo>
                    <a:pt x="848" y="524"/>
                    <a:pt x="809" y="415"/>
                    <a:pt x="734" y="318"/>
                  </a:cubicBezTo>
                  <a:cubicBezTo>
                    <a:pt x="660" y="221"/>
                    <a:pt x="553" y="141"/>
                    <a:pt x="424" y="85"/>
                  </a:cubicBezTo>
                  <a:cubicBezTo>
                    <a:pt x="295" y="29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2590920" y="575316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3-scatterer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52480" y="6210360"/>
            <a:ext cx="2666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609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Scale and Multipath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3924360"/>
            <a:ext cx="25146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esolution Channel Impulse Response with LOS and Speculars; Multipath Often Appears Log-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9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5800" y="27432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38080" y="2895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43000" y="3505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95280" y="3200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752480" y="3276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3505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920" y="2933640"/>
            <a:ext cx="28954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esolution Channel Impulse Response with Weak Single-Scattering and Multiple-Scattering Events (Diffuse); Multipath Rayle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28195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1120" y="5219640"/>
            <a:ext cx="25146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Resolution Channel Impulse Response with LOS and Speculars; Multipath Rayleigh or R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51055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67080" y="4419720"/>
            <a:ext cx="1371960" cy="609840"/>
            <a:chOff x="4267080" y="4419720"/>
            <a:chExt cx="1371960" cy="609840"/>
          </a:xfrm>
        </p:grpSpPr>
        <p:sp>
          <p:nvSpPr>
            <p:cNvPr id="105" name=""/>
            <p:cNvSpPr/>
            <p:nvPr/>
          </p:nvSpPr>
          <p:spPr>
            <a:xfrm>
              <a:off x="4267080" y="4419720"/>
              <a:ext cx="686160" cy="609840"/>
            </a:xfrm>
            <a:custGeom>
              <a:avLst/>
              <a:gdLst/>
              <a:ahLst/>
              <a:rect l="0" t="0" r="r" b="b"/>
              <a:pathLst>
                <a:path fill="none" w="1906" h="1694">
                  <a:moveTo>
                    <a:pt x="1906" y="0"/>
                  </a:moveTo>
                  <a:lnTo>
                    <a:pt x="1906" y="0"/>
                  </a:lnTo>
                  <a:cubicBezTo>
                    <a:pt x="1571" y="0"/>
                    <a:pt x="1243" y="78"/>
                    <a:pt x="953" y="227"/>
                  </a:cubicBezTo>
                  <a:cubicBezTo>
                    <a:pt x="663" y="376"/>
                    <a:pt x="423" y="589"/>
                    <a:pt x="255" y="847"/>
                  </a:cubicBezTo>
                  <a:cubicBezTo>
                    <a:pt x="88" y="1105"/>
                    <a:pt x="0" y="1397"/>
                    <a:pt x="0" y="169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4419720"/>
              <a:ext cx="686160" cy="609840"/>
            </a:xfrm>
            <a:custGeom>
              <a:avLst/>
              <a:gdLst/>
              <a:ahLst/>
              <a:rect l="0" t="0" r="r" b="b"/>
              <a:pathLst>
                <a:path fill="none" w="1906" h="1694">
                  <a:moveTo>
                    <a:pt x="1906" y="1694"/>
                  </a:moveTo>
                  <a:lnTo>
                    <a:pt x="1906" y="1694"/>
                  </a:lnTo>
                  <a:lnTo>
                    <a:pt x="1906" y="1694"/>
                  </a:lnTo>
                  <a:cubicBezTo>
                    <a:pt x="1906" y="1397"/>
                    <a:pt x="1818" y="1105"/>
                    <a:pt x="1651" y="847"/>
                  </a:cubicBezTo>
                  <a:cubicBezTo>
                    <a:pt x="1483" y="589"/>
                    <a:pt x="1243" y="376"/>
                    <a:pt x="953" y="227"/>
                  </a:cubicBezTo>
                  <a:cubicBezTo>
                    <a:pt x="663" y="78"/>
                    <a:pt x="335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181480" y="2266920"/>
            <a:ext cx="1905480" cy="552960"/>
          </a:xfrm>
          <a:custGeom>
            <a:avLst/>
            <a:gdLst/>
            <a:ahLst/>
            <a:rect l="0" t="0" r="r" b="b"/>
            <a:pathLst>
              <a:path fill="none" w="5293" h="1536">
                <a:moveTo>
                  <a:pt x="5293" y="1536"/>
                </a:moveTo>
                <a:lnTo>
                  <a:pt x="5214" y="1536"/>
                </a:lnTo>
                <a:lnTo>
                  <a:pt x="5134" y="1510"/>
                </a:lnTo>
                <a:lnTo>
                  <a:pt x="5055" y="1483"/>
                </a:lnTo>
                <a:lnTo>
                  <a:pt x="4976" y="1430"/>
                </a:lnTo>
                <a:lnTo>
                  <a:pt x="4896" y="1377"/>
                </a:lnTo>
                <a:lnTo>
                  <a:pt x="4817" y="1351"/>
                </a:lnTo>
                <a:lnTo>
                  <a:pt x="4738" y="1351"/>
                </a:lnTo>
                <a:lnTo>
                  <a:pt x="4658" y="1351"/>
                </a:lnTo>
                <a:lnTo>
                  <a:pt x="4579" y="1351"/>
                </a:lnTo>
                <a:lnTo>
                  <a:pt x="4499" y="1377"/>
                </a:lnTo>
                <a:lnTo>
                  <a:pt x="4420" y="1404"/>
                </a:lnTo>
                <a:lnTo>
                  <a:pt x="4341" y="1404"/>
                </a:lnTo>
                <a:lnTo>
                  <a:pt x="4261" y="1377"/>
                </a:lnTo>
                <a:lnTo>
                  <a:pt x="4235" y="1298"/>
                </a:lnTo>
                <a:lnTo>
                  <a:pt x="4208" y="1219"/>
                </a:lnTo>
                <a:lnTo>
                  <a:pt x="4129" y="1166"/>
                </a:lnTo>
                <a:lnTo>
                  <a:pt x="4050" y="1138"/>
                </a:lnTo>
                <a:lnTo>
                  <a:pt x="3969" y="1085"/>
                </a:lnTo>
                <a:lnTo>
                  <a:pt x="3890" y="1059"/>
                </a:lnTo>
                <a:lnTo>
                  <a:pt x="3811" y="1059"/>
                </a:lnTo>
                <a:lnTo>
                  <a:pt x="3731" y="1085"/>
                </a:lnTo>
                <a:lnTo>
                  <a:pt x="3652" y="1112"/>
                </a:lnTo>
                <a:lnTo>
                  <a:pt x="3572" y="1166"/>
                </a:lnTo>
                <a:lnTo>
                  <a:pt x="3493" y="1192"/>
                </a:lnTo>
                <a:lnTo>
                  <a:pt x="3414" y="1245"/>
                </a:lnTo>
                <a:lnTo>
                  <a:pt x="3334" y="1272"/>
                </a:lnTo>
                <a:lnTo>
                  <a:pt x="3281" y="1192"/>
                </a:lnTo>
                <a:lnTo>
                  <a:pt x="3202" y="1138"/>
                </a:lnTo>
                <a:lnTo>
                  <a:pt x="3123" y="1219"/>
                </a:lnTo>
                <a:lnTo>
                  <a:pt x="3043" y="1272"/>
                </a:lnTo>
                <a:lnTo>
                  <a:pt x="2964" y="1298"/>
                </a:lnTo>
                <a:lnTo>
                  <a:pt x="2884" y="1351"/>
                </a:lnTo>
                <a:lnTo>
                  <a:pt x="2832" y="1272"/>
                </a:lnTo>
                <a:lnTo>
                  <a:pt x="2832" y="1192"/>
                </a:lnTo>
                <a:lnTo>
                  <a:pt x="2805" y="1112"/>
                </a:lnTo>
                <a:lnTo>
                  <a:pt x="2752" y="1032"/>
                </a:lnTo>
                <a:lnTo>
                  <a:pt x="2726" y="953"/>
                </a:lnTo>
                <a:lnTo>
                  <a:pt x="2699" y="874"/>
                </a:lnTo>
                <a:lnTo>
                  <a:pt x="2646" y="794"/>
                </a:lnTo>
                <a:lnTo>
                  <a:pt x="2567" y="741"/>
                </a:lnTo>
                <a:lnTo>
                  <a:pt x="2488" y="741"/>
                </a:lnTo>
                <a:lnTo>
                  <a:pt x="2488" y="821"/>
                </a:lnTo>
                <a:lnTo>
                  <a:pt x="2435" y="900"/>
                </a:lnTo>
                <a:lnTo>
                  <a:pt x="2355" y="953"/>
                </a:lnTo>
                <a:lnTo>
                  <a:pt x="2302" y="1032"/>
                </a:lnTo>
                <a:lnTo>
                  <a:pt x="2223" y="1059"/>
                </a:lnTo>
                <a:lnTo>
                  <a:pt x="2144" y="1059"/>
                </a:lnTo>
                <a:lnTo>
                  <a:pt x="2091" y="979"/>
                </a:lnTo>
                <a:lnTo>
                  <a:pt x="2038" y="900"/>
                </a:lnTo>
                <a:lnTo>
                  <a:pt x="1985" y="821"/>
                </a:lnTo>
                <a:lnTo>
                  <a:pt x="1958" y="741"/>
                </a:lnTo>
                <a:lnTo>
                  <a:pt x="1879" y="662"/>
                </a:lnTo>
                <a:lnTo>
                  <a:pt x="1826" y="583"/>
                </a:lnTo>
                <a:lnTo>
                  <a:pt x="1747" y="583"/>
                </a:lnTo>
                <a:lnTo>
                  <a:pt x="1667" y="609"/>
                </a:lnTo>
                <a:lnTo>
                  <a:pt x="1588" y="662"/>
                </a:lnTo>
                <a:lnTo>
                  <a:pt x="1535" y="583"/>
                </a:lnTo>
                <a:lnTo>
                  <a:pt x="1482" y="503"/>
                </a:lnTo>
                <a:lnTo>
                  <a:pt x="1456" y="424"/>
                </a:lnTo>
                <a:lnTo>
                  <a:pt x="1403" y="343"/>
                </a:lnTo>
                <a:lnTo>
                  <a:pt x="1350" y="264"/>
                </a:lnTo>
                <a:lnTo>
                  <a:pt x="1296" y="185"/>
                </a:lnTo>
                <a:lnTo>
                  <a:pt x="1322" y="264"/>
                </a:lnTo>
                <a:lnTo>
                  <a:pt x="1243" y="317"/>
                </a:lnTo>
                <a:lnTo>
                  <a:pt x="1164" y="291"/>
                </a:lnTo>
                <a:lnTo>
                  <a:pt x="1137" y="211"/>
                </a:lnTo>
                <a:lnTo>
                  <a:pt x="1084" y="132"/>
                </a:lnTo>
                <a:lnTo>
                  <a:pt x="1084" y="52"/>
                </a:lnTo>
                <a:lnTo>
                  <a:pt x="1005" y="0"/>
                </a:lnTo>
                <a:lnTo>
                  <a:pt x="926" y="52"/>
                </a:lnTo>
                <a:lnTo>
                  <a:pt x="899" y="132"/>
                </a:lnTo>
                <a:lnTo>
                  <a:pt x="873" y="211"/>
                </a:lnTo>
                <a:lnTo>
                  <a:pt x="846" y="291"/>
                </a:lnTo>
                <a:lnTo>
                  <a:pt x="767" y="317"/>
                </a:lnTo>
                <a:lnTo>
                  <a:pt x="740" y="238"/>
                </a:lnTo>
                <a:lnTo>
                  <a:pt x="714" y="158"/>
                </a:lnTo>
                <a:lnTo>
                  <a:pt x="635" y="105"/>
                </a:lnTo>
                <a:lnTo>
                  <a:pt x="582" y="185"/>
                </a:lnTo>
                <a:lnTo>
                  <a:pt x="582" y="264"/>
                </a:lnTo>
                <a:lnTo>
                  <a:pt x="555" y="343"/>
                </a:lnTo>
                <a:lnTo>
                  <a:pt x="502" y="424"/>
                </a:lnTo>
                <a:lnTo>
                  <a:pt x="396" y="450"/>
                </a:lnTo>
                <a:lnTo>
                  <a:pt x="317" y="450"/>
                </a:lnTo>
                <a:lnTo>
                  <a:pt x="291" y="530"/>
                </a:lnTo>
                <a:lnTo>
                  <a:pt x="291" y="609"/>
                </a:lnTo>
                <a:lnTo>
                  <a:pt x="291" y="688"/>
                </a:lnTo>
                <a:lnTo>
                  <a:pt x="291" y="768"/>
                </a:lnTo>
                <a:lnTo>
                  <a:pt x="291" y="847"/>
                </a:lnTo>
                <a:lnTo>
                  <a:pt x="238" y="927"/>
                </a:lnTo>
                <a:lnTo>
                  <a:pt x="238" y="1006"/>
                </a:lnTo>
                <a:lnTo>
                  <a:pt x="211" y="1085"/>
                </a:lnTo>
                <a:lnTo>
                  <a:pt x="185" y="1166"/>
                </a:lnTo>
                <a:lnTo>
                  <a:pt x="158" y="1245"/>
                </a:lnTo>
                <a:lnTo>
                  <a:pt x="158" y="1324"/>
                </a:lnTo>
                <a:lnTo>
                  <a:pt x="79" y="1404"/>
                </a:lnTo>
                <a:lnTo>
                  <a:pt x="0" y="14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029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0" y="213"/>
                </a:lnTo>
                <a:cubicBezTo>
                  <a:pt x="37" y="213"/>
                  <a:pt x="74" y="203"/>
                  <a:pt x="107" y="184"/>
                </a:cubicBezTo>
                <a:cubicBezTo>
                  <a:pt x="139" y="166"/>
                  <a:pt x="166" y="139"/>
                  <a:pt x="184" y="107"/>
                </a:cubicBezTo>
                <a:cubicBezTo>
                  <a:pt x="203" y="74"/>
                  <a:pt x="213" y="37"/>
                  <a:pt x="213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5029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0" y="0"/>
                </a:lnTo>
                <a:cubicBezTo>
                  <a:pt x="0" y="37"/>
                  <a:pt x="10" y="74"/>
                  <a:pt x="29" y="107"/>
                </a:cubicBezTo>
                <a:cubicBezTo>
                  <a:pt x="47" y="139"/>
                  <a:pt x="74" y="166"/>
                  <a:pt x="107" y="184"/>
                </a:cubicBezTo>
                <a:cubicBezTo>
                  <a:pt x="139" y="203"/>
                  <a:pt x="176" y="213"/>
                  <a:pt x="213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Multipath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1752480"/>
            <a:ext cx="2286000" cy="762120"/>
            <a:chOff x="1143000" y="1752480"/>
            <a:chExt cx="2286000" cy="762120"/>
          </a:xfrm>
        </p:grpSpPr>
        <p:sp>
          <p:nvSpPr>
            <p:cNvPr id="112" name=""/>
            <p:cNvSpPr/>
            <p:nvPr/>
          </p:nvSpPr>
          <p:spPr>
            <a:xfrm>
              <a:off x="1143000" y="2514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752480" y="19051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523880" y="17524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3718080" y="1798560"/>
            <a:ext cx="23781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resolved non-fluctuating paths; parameterize in relative delay and relative streng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718080" y="2712960"/>
            <a:ext cx="27590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non-fluctuating with diffuse Rayleigh-fluctuating “tail” having exponential envelope; parameterize in delay spread and ratio of total diffuse to “good path” streng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94040" y="5227560"/>
            <a:ext cx="23018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e Rayleigh-fluctuating “tail” having exponential envelope; parameterize in delay sp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47080" y="5180040"/>
            <a:ext cx="13874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kely applicable to narrowband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47080" y="2741760"/>
            <a:ext cx="14637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kely applicable to wideband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8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400800" y="22860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53080" y="38862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5334120"/>
            <a:ext cx="2286000" cy="609840"/>
            <a:chOff x="1143000" y="5334120"/>
            <a:chExt cx="2286000" cy="609840"/>
          </a:xfrm>
        </p:grpSpPr>
        <p:sp>
          <p:nvSpPr>
            <p:cNvPr id="124" name=""/>
            <p:cNvSpPr/>
            <p:nvPr/>
          </p:nvSpPr>
          <p:spPr>
            <a:xfrm>
              <a:off x="1143000" y="5943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5334120"/>
              <a:ext cx="1676880" cy="609840"/>
            </a:xfrm>
            <a:custGeom>
              <a:avLst/>
              <a:gdLst/>
              <a:ahLst/>
              <a:rect l="0" t="0" r="r" b="b"/>
              <a:pathLst>
                <a:path fill="none" w="4658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215" y="589"/>
                    <a:pt x="624" y="847"/>
                  </a:cubicBezTo>
                  <a:cubicBezTo>
                    <a:pt x="1033" y="1105"/>
                    <a:pt x="1621" y="1318"/>
                    <a:pt x="2329" y="1467"/>
                  </a:cubicBezTo>
                  <a:cubicBezTo>
                    <a:pt x="3037" y="1616"/>
                    <a:pt x="3840" y="1694"/>
                    <a:pt x="4658" y="1694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523880" y="5334120"/>
              <a:ext cx="1143000" cy="609480"/>
              <a:chOff x="1523880" y="5334120"/>
              <a:chExt cx="1143000" cy="60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1523880" y="533412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00200" y="5486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557676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52480" y="56437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568152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05120" y="5710320"/>
                <a:ext cx="0" cy="2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81080" y="5748480"/>
                <a:ext cx="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57400" y="5781600"/>
                <a:ext cx="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33720" y="57960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09680" y="58294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86000" y="58388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62320" y="586260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587232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14600" y="588636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90920" y="588636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66880" y="58960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143000" y="2971800"/>
            <a:ext cx="2286000" cy="762120"/>
            <a:chOff x="1143000" y="2971800"/>
            <a:chExt cx="2286000" cy="762120"/>
          </a:xfrm>
        </p:grpSpPr>
        <p:sp>
          <p:nvSpPr>
            <p:cNvPr id="144" name=""/>
            <p:cNvSpPr/>
            <p:nvPr/>
          </p:nvSpPr>
          <p:spPr>
            <a:xfrm>
              <a:off x="1143000" y="37339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523880" y="29718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523880" y="3124080"/>
              <a:ext cx="1143000" cy="609840"/>
              <a:chOff x="1523880" y="3124080"/>
              <a:chExt cx="1143000" cy="609840"/>
            </a:xfrm>
          </p:grpSpPr>
          <p:sp>
            <p:nvSpPr>
              <p:cNvPr id="147" name=""/>
              <p:cNvSpPr/>
              <p:nvPr/>
            </p:nvSpPr>
            <p:spPr>
              <a:xfrm>
                <a:off x="1523880" y="3124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00200" y="32767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76520" y="336708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52480" y="3433680"/>
                <a:ext cx="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28800" y="347184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05120" y="3500280"/>
                <a:ext cx="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3538440"/>
                <a:ext cx="0" cy="1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57400" y="3571920"/>
                <a:ext cx="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33720" y="358632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09680" y="361944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86000" y="362916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62320" y="365292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38280" y="366228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367668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920" y="367668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66880" y="368604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523880" y="3124080"/>
              <a:ext cx="1676880" cy="609840"/>
            </a:xfrm>
            <a:custGeom>
              <a:avLst/>
              <a:gdLst/>
              <a:ahLst/>
              <a:rect l="0" t="0" r="r" b="b"/>
              <a:pathLst>
                <a:path fill="none" w="4658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215" y="589"/>
                    <a:pt x="624" y="847"/>
                  </a:cubicBezTo>
                  <a:cubicBezTo>
                    <a:pt x="1033" y="1105"/>
                    <a:pt x="1621" y="1318"/>
                    <a:pt x="2329" y="1467"/>
                  </a:cubicBezTo>
                  <a:cubicBezTo>
                    <a:pt x="3037" y="1616"/>
                    <a:pt x="3840" y="1694"/>
                    <a:pt x="4658" y="1694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3000" y="4800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40384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4191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450072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5673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6054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46864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469584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191120"/>
            <a:ext cx="1676880" cy="609840"/>
          </a:xfrm>
          <a:custGeom>
            <a:avLst/>
            <a:gdLst/>
            <a:ahLst/>
            <a:rect l="0" t="0" r="r" b="b"/>
            <a:pathLst>
              <a:path fill="none" w="4658" h="1694">
                <a:moveTo>
                  <a:pt x="0" y="0"/>
                </a:moveTo>
                <a:lnTo>
                  <a:pt x="0" y="0"/>
                </a:lnTo>
                <a:cubicBezTo>
                  <a:pt x="0" y="297"/>
                  <a:pt x="215" y="589"/>
                  <a:pt x="624" y="847"/>
                </a:cubicBezTo>
                <a:cubicBezTo>
                  <a:pt x="1033" y="1105"/>
                  <a:pt x="1621" y="1318"/>
                  <a:pt x="2329" y="1467"/>
                </a:cubicBezTo>
                <a:cubicBezTo>
                  <a:pt x="3037" y="1616"/>
                  <a:pt x="3840" y="1694"/>
                  <a:pt x="4658" y="1694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18080" y="3932280"/>
            <a:ext cx="27590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non-fluctuating with sparse Rayleigh-fluctuating “tail” having exponential envelope; parameterize in delay spread and ratio of total diffuse to “good path” streng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y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1752480"/>
            <a:ext cx="2286000" cy="762120"/>
            <a:chOff x="1143000" y="1752480"/>
            <a:chExt cx="2286000" cy="762120"/>
          </a:xfrm>
        </p:grpSpPr>
        <p:sp>
          <p:nvSpPr>
            <p:cNvPr id="177" name=""/>
            <p:cNvSpPr/>
            <p:nvPr/>
          </p:nvSpPr>
          <p:spPr>
            <a:xfrm>
              <a:off x="1143000" y="2514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752480" y="19051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523880" y="17524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143000" y="5334120"/>
            <a:ext cx="2286000" cy="609840"/>
            <a:chOff x="1143000" y="5334120"/>
            <a:chExt cx="2286000" cy="609840"/>
          </a:xfrm>
        </p:grpSpPr>
        <p:sp>
          <p:nvSpPr>
            <p:cNvPr id="181" name=""/>
            <p:cNvSpPr/>
            <p:nvPr/>
          </p:nvSpPr>
          <p:spPr>
            <a:xfrm>
              <a:off x="1143000" y="5943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334120"/>
              <a:ext cx="1676880" cy="609840"/>
            </a:xfrm>
            <a:custGeom>
              <a:avLst/>
              <a:gdLst/>
              <a:ahLst/>
              <a:rect l="0" t="0" r="r" b="b"/>
              <a:pathLst>
                <a:path fill="none" w="4658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215" y="589"/>
                    <a:pt x="624" y="847"/>
                  </a:cubicBezTo>
                  <a:cubicBezTo>
                    <a:pt x="1033" y="1105"/>
                    <a:pt x="1621" y="1318"/>
                    <a:pt x="2329" y="1467"/>
                  </a:cubicBezTo>
                  <a:cubicBezTo>
                    <a:pt x="3037" y="1616"/>
                    <a:pt x="3840" y="1694"/>
                    <a:pt x="4658" y="1694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523880" y="5334120"/>
              <a:ext cx="1143000" cy="609480"/>
              <a:chOff x="1523880" y="5334120"/>
              <a:chExt cx="1143000" cy="609480"/>
            </a:xfrm>
          </p:grpSpPr>
          <p:sp>
            <p:nvSpPr>
              <p:cNvPr id="184" name=""/>
              <p:cNvSpPr/>
              <p:nvPr/>
            </p:nvSpPr>
            <p:spPr>
              <a:xfrm>
                <a:off x="1523880" y="533412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00200" y="5486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76520" y="557676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52480" y="56437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28800" y="568152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05120" y="5710320"/>
                <a:ext cx="0" cy="23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080" y="5748480"/>
                <a:ext cx="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57400" y="5781600"/>
                <a:ext cx="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33720" y="57960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09680" y="58294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58388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62320" y="586260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8280" y="587232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14600" y="588636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90920" y="588636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66880" y="58960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143000" y="2971800"/>
            <a:ext cx="2286000" cy="762120"/>
            <a:chOff x="1143000" y="2971800"/>
            <a:chExt cx="2286000" cy="762120"/>
          </a:xfrm>
        </p:grpSpPr>
        <p:sp>
          <p:nvSpPr>
            <p:cNvPr id="201" name=""/>
            <p:cNvSpPr/>
            <p:nvPr/>
          </p:nvSpPr>
          <p:spPr>
            <a:xfrm>
              <a:off x="1143000" y="37339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523880" y="29718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523880" y="3124080"/>
              <a:ext cx="1143000" cy="609840"/>
              <a:chOff x="1523880" y="3124080"/>
              <a:chExt cx="1143000" cy="6098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23880" y="3124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0200" y="32767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76520" y="336708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52480" y="3433680"/>
                <a:ext cx="0" cy="3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28800" y="347184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05120" y="3500280"/>
                <a:ext cx="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1080" y="3538440"/>
                <a:ext cx="0" cy="19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57400" y="3571920"/>
                <a:ext cx="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33720" y="358632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09680" y="361944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86000" y="362916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62320" y="3652920"/>
                <a:ext cx="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38280" y="366228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14600" y="367668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90920" y="367668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6880" y="368604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523880" y="3124080"/>
              <a:ext cx="1676880" cy="609840"/>
            </a:xfrm>
            <a:custGeom>
              <a:avLst/>
              <a:gdLst/>
              <a:ahLst/>
              <a:rect l="0" t="0" r="r" b="b"/>
              <a:pathLst>
                <a:path fill="none" w="4658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215" y="589"/>
                    <a:pt x="624" y="847"/>
                  </a:cubicBezTo>
                  <a:cubicBezTo>
                    <a:pt x="1033" y="1105"/>
                    <a:pt x="1621" y="1318"/>
                    <a:pt x="2329" y="1467"/>
                  </a:cubicBezTo>
                  <a:cubicBezTo>
                    <a:pt x="3037" y="1616"/>
                    <a:pt x="3840" y="1694"/>
                    <a:pt x="4658" y="1694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143000" y="4800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523880" y="40384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4191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50072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5673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460548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46864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69584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4191120"/>
            <a:ext cx="1676880" cy="609840"/>
          </a:xfrm>
          <a:custGeom>
            <a:avLst/>
            <a:gdLst/>
            <a:ahLst/>
            <a:rect l="0" t="0" r="r" b="b"/>
            <a:pathLst>
              <a:path fill="none" w="4658" h="1694">
                <a:moveTo>
                  <a:pt x="0" y="0"/>
                </a:moveTo>
                <a:lnTo>
                  <a:pt x="0" y="0"/>
                </a:lnTo>
                <a:cubicBezTo>
                  <a:pt x="0" y="297"/>
                  <a:pt x="215" y="589"/>
                  <a:pt x="624" y="847"/>
                </a:cubicBezTo>
                <a:cubicBezTo>
                  <a:pt x="1033" y="1105"/>
                  <a:pt x="1621" y="1318"/>
                  <a:pt x="2329" y="1467"/>
                </a:cubicBezTo>
                <a:cubicBezTo>
                  <a:pt x="3037" y="1616"/>
                  <a:pt x="3840" y="1694"/>
                  <a:pt x="4658" y="1694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62520" y="1600200"/>
            <a:ext cx="2590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62520" y="3048120"/>
            <a:ext cx="19051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imulatio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38480" y="3962520"/>
            <a:ext cx="2590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038480" y="5486400"/>
            <a:ext cx="18288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alysi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imulatio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32680" y="2817720"/>
            <a:ext cx="2378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imulators Offer Only Modest Numbers of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1905120"/>
            <a:ext cx="609840" cy="381240"/>
          </a:xfrm>
          <a:custGeom>
            <a:avLst/>
            <a:gdLst/>
            <a:ahLst/>
            <a:rect l="0" t="0" r="r" b="b"/>
            <a:pathLst>
              <a:path w="1694" h="1059">
                <a:moveTo>
                  <a:pt x="1694" y="352"/>
                </a:moveTo>
                <a:lnTo>
                  <a:pt x="1694" y="705"/>
                </a:lnTo>
                <a:lnTo>
                  <a:pt x="507" y="705"/>
                </a:lnTo>
                <a:lnTo>
                  <a:pt x="507" y="1059"/>
                </a:lnTo>
                <a:lnTo>
                  <a:pt x="0" y="530"/>
                </a:lnTo>
                <a:lnTo>
                  <a:pt x="507" y="0"/>
                </a:lnTo>
                <a:lnTo>
                  <a:pt x="507" y="352"/>
                </a:lnTo>
                <a:lnTo>
                  <a:pt x="1694" y="35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267080"/>
            <a:ext cx="609840" cy="381240"/>
          </a:xfrm>
          <a:custGeom>
            <a:avLst/>
            <a:gdLst/>
            <a:ahLst/>
            <a:rect l="0" t="0" r="r" b="b"/>
            <a:pathLst>
              <a:path w="1694" h="1059">
                <a:moveTo>
                  <a:pt x="1694" y="352"/>
                </a:moveTo>
                <a:lnTo>
                  <a:pt x="1694" y="705"/>
                </a:lnTo>
                <a:lnTo>
                  <a:pt x="507" y="705"/>
                </a:lnTo>
                <a:lnTo>
                  <a:pt x="507" y="1059"/>
                </a:lnTo>
                <a:lnTo>
                  <a:pt x="0" y="530"/>
                </a:lnTo>
                <a:lnTo>
                  <a:pt x="507" y="0"/>
                </a:lnTo>
                <a:lnTo>
                  <a:pt x="507" y="352"/>
                </a:lnTo>
                <a:lnTo>
                  <a:pt x="1694" y="35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562720" y="639288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up to modest bandwidth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52480" y="6316560"/>
            <a:ext cx="327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mplicated by lack of deterministic path plus earlier assertion that 4 samples per chip must be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Multipath Models and Issues</dc:title>
</cp:coreProperties>
</file>