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93640" y="403200"/>
            <a:ext cx="7953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                                                                                                                   Doc: IEEE P802.11-97/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1828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Secur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RANSE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7400" y="3886200"/>
            <a:ext cx="4419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H. Cafa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kefield,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EC vs. Data Encry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form-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 Against Jamming, Spoofing and Traff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 for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 by All Users for Most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-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 Against Disclosure of Data to Any Unauthorized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 for Dec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-Wide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 by Few Users for Som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Repeated Code Att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tle A Priori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at code is repeated, and its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need code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3 dB less than full Processing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SDS Protection; Must Add 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1828800"/>
            <a:ext cx="609840" cy="762480"/>
          </a:xfrm>
          <a:custGeom>
            <a:avLst/>
            <a:gdLst/>
            <a:ahLst/>
            <a:rect l="0" t="0" r="r" b="b"/>
            <a:pathLst>
              <a:path fill="none" w="1694" h="2118">
                <a:moveTo>
                  <a:pt x="0" y="2118"/>
                </a:moveTo>
                <a:lnTo>
                  <a:pt x="1694" y="2118"/>
                </a:lnTo>
                <a:lnTo>
                  <a:pt x="846" y="0"/>
                </a:lnTo>
                <a:lnTo>
                  <a:pt x="0" y="21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514600"/>
            <a:ext cx="914760" cy="305280"/>
          </a:xfrm>
          <a:custGeom>
            <a:avLst/>
            <a:gdLst/>
            <a:ahLst/>
            <a:rect l="0" t="0" r="r" b="b"/>
            <a:pathLst>
              <a:path fill="none" w="2541" h="848">
                <a:moveTo>
                  <a:pt x="0" y="254"/>
                </a:moveTo>
                <a:lnTo>
                  <a:pt x="0" y="593"/>
                </a:lnTo>
                <a:lnTo>
                  <a:pt x="762" y="848"/>
                </a:lnTo>
                <a:lnTo>
                  <a:pt x="1778" y="848"/>
                </a:lnTo>
                <a:lnTo>
                  <a:pt x="2541" y="593"/>
                </a:lnTo>
                <a:lnTo>
                  <a:pt x="2541" y="254"/>
                </a:lnTo>
                <a:lnTo>
                  <a:pt x="1778" y="0"/>
                </a:lnTo>
                <a:lnTo>
                  <a:pt x="762" y="0"/>
                </a:lnTo>
                <a:lnTo>
                  <a:pt x="0" y="25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791320" y="2057400"/>
            <a:ext cx="304920" cy="304920"/>
            <a:chOff x="5791320" y="2057400"/>
            <a:chExt cx="304920" cy="304920"/>
          </a:xfrm>
        </p:grpSpPr>
        <p:sp>
          <p:nvSpPr>
            <p:cNvPr id="52" name=""/>
            <p:cNvSpPr/>
            <p:nvPr/>
          </p:nvSpPr>
          <p:spPr>
            <a:xfrm>
              <a:off x="5791320" y="20574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67280" y="2133720"/>
              <a:ext cx="15264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867280" y="2133720"/>
              <a:ext cx="15264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752480" y="1630440"/>
            <a:ext cx="685800" cy="1111320"/>
            <a:chOff x="1752480" y="1630440"/>
            <a:chExt cx="685800" cy="1111320"/>
          </a:xfrm>
        </p:grpSpPr>
        <p:sp>
          <p:nvSpPr>
            <p:cNvPr id="56" name=""/>
            <p:cNvSpPr/>
            <p:nvPr/>
          </p:nvSpPr>
          <p:spPr>
            <a:xfrm>
              <a:off x="1752480" y="1828800"/>
              <a:ext cx="6858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050920" y="193680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044800" y="240660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1873080" y="1630440"/>
              <a:ext cx="24444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1873080" y="2100240"/>
              <a:ext cx="409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1873080" y="1862280"/>
              <a:ext cx="3873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505320" y="2209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1752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26668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943600" y="2362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1752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1752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2209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2209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400800" y="1630440"/>
            <a:ext cx="685800" cy="1111320"/>
            <a:chOff x="6400800" y="1630440"/>
            <a:chExt cx="685800" cy="1111320"/>
          </a:xfrm>
        </p:grpSpPr>
        <p:sp>
          <p:nvSpPr>
            <p:cNvPr id="72" name=""/>
            <p:cNvSpPr/>
            <p:nvPr/>
          </p:nvSpPr>
          <p:spPr>
            <a:xfrm>
              <a:off x="6400800" y="1828800"/>
              <a:ext cx="6858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6699240" y="193680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692760" y="240660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6521400" y="1630440"/>
              <a:ext cx="24444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6521400" y="2100240"/>
              <a:ext cx="409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6521400" y="1862280"/>
              <a:ext cx="3873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0958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946760" y="2522520"/>
            <a:ext cx="523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89280" y="2612880"/>
            <a:ext cx="430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37240" y="2612880"/>
            <a:ext cx="65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794040" y="1874880"/>
            <a:ext cx="11588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frequency offset to preserve complex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65040" y="1722600"/>
            <a:ext cx="1539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Modulation on Spread-Spectrum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47080" y="1722600"/>
            <a:ext cx="1463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emodulation Statistic on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448240" y="2171520"/>
            <a:ext cx="457560" cy="381240"/>
          </a:xfrm>
          <a:custGeom>
            <a:avLst/>
            <a:gdLst/>
            <a:ahLst/>
            <a:rect l="0" t="0" r="r" b="b"/>
            <a:pathLst>
              <a:path fill="none" w="1271" h="1059">
                <a:moveTo>
                  <a:pt x="1271" y="211"/>
                </a:moveTo>
                <a:lnTo>
                  <a:pt x="1271" y="847"/>
                </a:lnTo>
                <a:lnTo>
                  <a:pt x="380" y="847"/>
                </a:lnTo>
                <a:lnTo>
                  <a:pt x="380" y="1059"/>
                </a:lnTo>
                <a:lnTo>
                  <a:pt x="0" y="530"/>
                </a:lnTo>
                <a:lnTo>
                  <a:pt x="380" y="0"/>
                </a:lnTo>
                <a:lnTo>
                  <a:pt x="380" y="211"/>
                </a:lnTo>
                <a:lnTo>
                  <a:pt x="1271" y="21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43360" y="2081160"/>
            <a:ext cx="11048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WL/M10 TRANS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335268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Code Channel (SCC) Seeds LF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Acquisition Uses Non-Changing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“Frame Sync” Provides Time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 Sequence Does Not Reveal LFS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s Selected for Best Multipath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84520" y="1846440"/>
            <a:ext cx="1292400" cy="6969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Feedback Shift Register Gen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60680" y="1846440"/>
            <a:ext cx="1292400" cy="6969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67200" y="1990800"/>
            <a:ext cx="395640" cy="381240"/>
          </a:xfrm>
          <a:custGeom>
            <a:avLst/>
            <a:gdLst/>
            <a:ahLst/>
            <a:rect l="0" t="0" r="r" b="b"/>
            <a:pathLst>
              <a:path fill="none" w="1099" h="1059">
                <a:moveTo>
                  <a:pt x="0" y="211"/>
                </a:moveTo>
                <a:lnTo>
                  <a:pt x="0" y="847"/>
                </a:lnTo>
                <a:lnTo>
                  <a:pt x="769" y="847"/>
                </a:lnTo>
                <a:lnTo>
                  <a:pt x="769" y="1059"/>
                </a:lnTo>
                <a:lnTo>
                  <a:pt x="1099" y="530"/>
                </a:lnTo>
                <a:lnTo>
                  <a:pt x="769" y="0"/>
                </a:lnTo>
                <a:lnTo>
                  <a:pt x="769" y="211"/>
                </a:lnTo>
                <a:lnTo>
                  <a:pt x="0" y="21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172120" y="2552760"/>
            <a:ext cx="1009800" cy="29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ft Re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95360" y="1986120"/>
            <a:ext cx="381240" cy="457560"/>
          </a:xfrm>
          <a:custGeom>
            <a:avLst/>
            <a:gdLst/>
            <a:ahLst/>
            <a:rect l="0" t="0" r="r" b="b"/>
            <a:pathLst>
              <a:path fill="none" w="1059" h="1271">
                <a:moveTo>
                  <a:pt x="0" y="253"/>
                </a:moveTo>
                <a:lnTo>
                  <a:pt x="0" y="1017"/>
                </a:lnTo>
                <a:lnTo>
                  <a:pt x="741" y="1017"/>
                </a:lnTo>
                <a:lnTo>
                  <a:pt x="741" y="1271"/>
                </a:lnTo>
                <a:lnTo>
                  <a:pt x="1059" y="635"/>
                </a:lnTo>
                <a:lnTo>
                  <a:pt x="741" y="0"/>
                </a:lnTo>
                <a:lnTo>
                  <a:pt x="741" y="253"/>
                </a:lnTo>
                <a:lnTo>
                  <a:pt x="0" y="25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65080" y="205092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81560" y="2709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19880" y="2109960"/>
            <a:ext cx="31428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308640" y="2103480"/>
            <a:ext cx="1692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 PN Code to Correlator De-Sp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65760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08800" y="3070080"/>
            <a:ext cx="857160" cy="71748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9810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s: 32K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lus compli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 Sub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et De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 Coset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48 Co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Cosets Having Low Near-In Crosscorrelation Side Lo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9520" y="1938240"/>
            <a:ext cx="450216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22760" y="1940040"/>
            <a:ext cx="339840" cy="3822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5400" y="5505480"/>
            <a:ext cx="63828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713640" y="3284640"/>
            <a:ext cx="446040" cy="2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3124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3124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3276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3581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419720"/>
            <a:ext cx="44193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4648320"/>
            <a:ext cx="44193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EC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PN Codes Symbol-to-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in Repeated-Code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 = PN Cod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nly “Good” PN Codes (Multipa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Use Encryption for Selec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H. Cafarella</dc:creator>
  <dc:description/>
  <dc:language>en-US</dc:language>
  <cp:lastModifiedBy>John H. Cafarella</cp:lastModifiedBy>
  <cp:revision>0</cp:revision>
  <dc:subject/>
  <dc:title>ROBUST 10-Mbps DATA COMMUNICATIONS</dc:title>
</cp:coreProperties>
</file>