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1066680" y="1677960"/>
            <a:ext cx="594360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urc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airman IEEE P802.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t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roduction of IEEE P802.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genda item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oint ETSI-IEEE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ci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cus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cument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cision/action requ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136440" y="98280"/>
            <a:ext cx="2274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ember 19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5548320" y="98280"/>
            <a:ext cx="341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 IEEE P802.11-97/8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457200"/>
            <a:ext cx="8763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36440" y="555480"/>
            <a:ext cx="270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TSI EP BRAN #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35360" y="555480"/>
            <a:ext cx="4282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G3 Temporary document 6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918480" y="98892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5 September 199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8137440" y="1293840"/>
            <a:ext cx="806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ag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5791320"/>
            <a:ext cx="685800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GHz PHY sche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736640" y="974880"/>
            <a:ext cx="79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022640" y="974880"/>
            <a:ext cx="79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308640" y="974880"/>
            <a:ext cx="79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1676520"/>
            <a:ext cx="83055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004080" y="1660680"/>
            <a:ext cx="2135160" cy="396720"/>
            <a:chOff x="6004080" y="1660680"/>
            <a:chExt cx="2135160" cy="396720"/>
          </a:xfrm>
        </p:grpSpPr>
        <p:sp>
          <p:nvSpPr>
            <p:cNvPr id="89" name=""/>
            <p:cNvSpPr/>
            <p:nvPr/>
          </p:nvSpPr>
          <p:spPr>
            <a:xfrm>
              <a:off x="6251400" y="1905120"/>
              <a:ext cx="152280" cy="1522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005600" y="1905120"/>
              <a:ext cx="152280" cy="1522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794720" y="1905120"/>
              <a:ext cx="152280" cy="1522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6004080" y="1660680"/>
              <a:ext cx="6476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r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6842160" y="1660680"/>
              <a:ext cx="4809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Jul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7604280" y="1660680"/>
              <a:ext cx="5349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v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3565440" y="1660680"/>
            <a:ext cx="2135160" cy="396720"/>
            <a:chOff x="3565440" y="1660680"/>
            <a:chExt cx="2135160" cy="396720"/>
          </a:xfrm>
        </p:grpSpPr>
        <p:sp>
          <p:nvSpPr>
            <p:cNvPr id="96" name=""/>
            <p:cNvSpPr/>
            <p:nvPr/>
          </p:nvSpPr>
          <p:spPr>
            <a:xfrm>
              <a:off x="3813120" y="1905120"/>
              <a:ext cx="152280" cy="1522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567320" y="1905120"/>
              <a:ext cx="152280" cy="1522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356080" y="1905120"/>
              <a:ext cx="152280" cy="1522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 txBox="1"/>
            <p:nvPr/>
          </p:nvSpPr>
          <p:spPr>
            <a:xfrm>
              <a:off x="3565440" y="1660680"/>
              <a:ext cx="6476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r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 txBox="1"/>
            <p:nvPr/>
          </p:nvSpPr>
          <p:spPr>
            <a:xfrm>
              <a:off x="4403880" y="1660680"/>
              <a:ext cx="4809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Jul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 txBox="1"/>
            <p:nvPr/>
          </p:nvSpPr>
          <p:spPr>
            <a:xfrm>
              <a:off x="5165640" y="1660680"/>
              <a:ext cx="5349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v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1127160" y="1660680"/>
            <a:ext cx="2135160" cy="396720"/>
            <a:chOff x="1127160" y="1660680"/>
            <a:chExt cx="2135160" cy="396720"/>
          </a:xfrm>
        </p:grpSpPr>
        <p:sp>
          <p:nvSpPr>
            <p:cNvPr id="103" name=""/>
            <p:cNvSpPr/>
            <p:nvPr/>
          </p:nvSpPr>
          <p:spPr>
            <a:xfrm>
              <a:off x="1374840" y="1905120"/>
              <a:ext cx="152280" cy="1522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128680" y="1905120"/>
              <a:ext cx="152280" cy="1522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917800" y="1905120"/>
              <a:ext cx="152280" cy="1522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 txBox="1"/>
            <p:nvPr/>
          </p:nvSpPr>
          <p:spPr>
            <a:xfrm>
              <a:off x="1127160" y="1660680"/>
              <a:ext cx="6476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r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 txBox="1"/>
            <p:nvPr/>
          </p:nvSpPr>
          <p:spPr>
            <a:xfrm>
              <a:off x="1965240" y="1660680"/>
              <a:ext cx="4809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Jul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 txBox="1"/>
            <p:nvPr/>
          </p:nvSpPr>
          <p:spPr>
            <a:xfrm>
              <a:off x="2727360" y="1660680"/>
              <a:ext cx="5349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v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8290080" y="1660680"/>
            <a:ext cx="647640" cy="396720"/>
            <a:chOff x="8290080" y="1660680"/>
            <a:chExt cx="647640" cy="396720"/>
          </a:xfrm>
        </p:grpSpPr>
        <p:sp>
          <p:nvSpPr>
            <p:cNvPr id="110" name=""/>
            <p:cNvSpPr/>
            <p:nvPr/>
          </p:nvSpPr>
          <p:spPr>
            <a:xfrm>
              <a:off x="8537400" y="1905120"/>
              <a:ext cx="152280" cy="1522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 txBox="1"/>
            <p:nvPr/>
          </p:nvSpPr>
          <p:spPr>
            <a:xfrm>
              <a:off x="8290080" y="1660680"/>
              <a:ext cx="6476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r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365040" y="1660680"/>
            <a:ext cx="534960" cy="396720"/>
            <a:chOff x="365040" y="1660680"/>
            <a:chExt cx="534960" cy="396720"/>
          </a:xfrm>
        </p:grpSpPr>
        <p:sp>
          <p:nvSpPr>
            <p:cNvPr id="113" name=""/>
            <p:cNvSpPr/>
            <p:nvPr/>
          </p:nvSpPr>
          <p:spPr>
            <a:xfrm>
              <a:off x="555480" y="1905120"/>
              <a:ext cx="152280" cy="1522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 txBox="1"/>
            <p:nvPr/>
          </p:nvSpPr>
          <p:spPr>
            <a:xfrm>
              <a:off x="365040" y="1660680"/>
              <a:ext cx="5349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v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4920" y="1523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90720" y="15238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352680" y="15238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638680" y="15238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861080" y="2436840"/>
            <a:ext cx="5796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022640" y="2817720"/>
            <a:ext cx="15159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MSC recirc b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186000" y="2513160"/>
            <a:ext cx="10033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MSC b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736640" y="2513160"/>
            <a:ext cx="7873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G b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193840" y="2817720"/>
            <a:ext cx="13017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G recirc b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41360" y="2567160"/>
            <a:ext cx="812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G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828800" y="2362320"/>
            <a:ext cx="380880" cy="152280"/>
          </a:xfrm>
          <a:prstGeom prst="rect">
            <a:avLst/>
          </a:prstGeom>
          <a:solidFill>
            <a:srgbClr val="3333cc"/>
          </a:solidFill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2362320"/>
            <a:ext cx="228600" cy="15228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124080" y="2362320"/>
            <a:ext cx="380880" cy="152280"/>
          </a:xfrm>
          <a:prstGeom prst="rect">
            <a:avLst/>
          </a:prstGeom>
          <a:solidFill>
            <a:srgbClr val="cc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62520" y="2362320"/>
            <a:ext cx="228600" cy="152280"/>
          </a:xfrm>
          <a:prstGeom prst="rect">
            <a:avLst/>
          </a:prstGeom>
          <a:solidFill>
            <a:srgbClr val="cc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14600" y="2514600"/>
            <a:ext cx="152280" cy="45720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191120" y="2514600"/>
            <a:ext cx="152280" cy="45720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1981080"/>
            <a:ext cx="76320" cy="152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105520" y="2057400"/>
            <a:ext cx="152280" cy="45720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90480" y="3498840"/>
            <a:ext cx="783756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 of IEEE P802.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the joint meeting with ETSI BRAN, September 10, 1997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don, 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-123840" y="3110040"/>
            <a:ext cx="427356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 September 1997pag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76440" y="2050920"/>
            <a:ext cx="7875720" cy="27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802.11 is open to publ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44792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standards meetings are open to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minutes, output papers and submissions are publicly available (FTP site and paper copy order servi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ft standards are only available on a protected FTP site and copy order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ision ma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44792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isions are taken by motions and votes by voting members according to Parliamentary procedures (Robert’s rule of ord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ting membership is to be earned by participation in at least two meetings within 4 plenary mee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ision ma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44792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ting membership is to be maintained by participation lim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ting membership is held by the individual, not by a comp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servers may participate in debates on chairman’s discr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ired support in 802.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44792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al motions require a simple maj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ical motions require a 75 % appro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ter ballots require a 50 %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roval at LMSC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44792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ing group (802.11) decides to send draft to LMSC ballot for appro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MSC ballot group is set-up among all those interest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te is only counted among IEEE or IEEE Computer Society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comments are to be addressed thoug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 % return of ballots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 % approval required to pass, but serious attempts to come to unanimity is the go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30492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roval at Standards Board and beyo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144792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ws the procedural integrity during the approval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 approval ANSI approval is requ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. Hayes</dc:creator>
  <dc:description/>
  <dc:language>en-US</dc:language>
  <cp:lastModifiedBy>V. Hayes</cp:lastModifiedBy>
  <cp:revision>0</cp:revision>
  <dc:subject/>
  <dc:title>Introduction of IEEE 802.11</dc:title>
</cp:coreProperties>
</file>