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CF2801-F8B5-4BB4-BFAD-0BBD997EA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11280" y="77760"/>
            <a:ext cx="80740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uary, 1998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DOC: IEEE P802.11-98/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534960" y="6478560"/>
            <a:ext cx="80740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ctr" pos="3944880"/>
                <a:tab algn="r" pos="78915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</a:t>
            </a:r>
            <a:fld id="{CBE3961C-D65A-48ED-B304-94648D1C01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. Ishikawa &amp; H. Shinonaga, KDD R&amp;D Lab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19200" y="6477120"/>
            <a:ext cx="7908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19200" y="380880"/>
            <a:ext cx="7908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Access Method and Physical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rier Frequency Offset-Spread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FO-SS) Scheme for Higher Speed 2.4 GHz 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uary 19,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r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royasu Ishikawa and Hideyuki Shinona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D R&amp;D Laborato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1-15, Ohara, Kamifukuoka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itama, 356, J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ephone:  +81(492)78-785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X: +81(492)78-75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ctr" pos="3433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 ishikawa@lab.kdd.co.jp, shinonaga@lab.kdd.co.j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waveforms of SAW matched fil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57200" y="3394080"/>
            <a:ext cx="3290760" cy="1114560"/>
            <a:chOff x="457200" y="3394080"/>
            <a:chExt cx="3290760" cy="111456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457200" y="3394080"/>
              <a:ext cx="329076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547560" y="3438360"/>
              <a:ext cx="3097080" cy="1012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3809880" y="1571760"/>
            <a:ext cx="4800600" cy="2068560"/>
            <a:chOff x="3809880" y="1571760"/>
            <a:chExt cx="4800600" cy="2068560"/>
          </a:xfrm>
        </p:grpSpPr>
        <p:pic>
          <p:nvPicPr>
            <p:cNvPr id="96" name="" descr=""/>
            <p:cNvPicPr/>
            <p:nvPr/>
          </p:nvPicPr>
          <p:blipFill>
            <a:blip r:embed="rId2"/>
            <a:stretch/>
          </p:blipFill>
          <p:spPr>
            <a:xfrm>
              <a:off x="3809880" y="1571760"/>
              <a:ext cx="4800600" cy="20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900600" y="1616040"/>
              <a:ext cx="4606920" cy="196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809880" y="3755880"/>
            <a:ext cx="4800600" cy="2490840"/>
            <a:chOff x="3809880" y="3755880"/>
            <a:chExt cx="4800600" cy="2490840"/>
          </a:xfrm>
        </p:grpSpPr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3809880" y="3755880"/>
              <a:ext cx="4800600" cy="24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900600" y="3800520"/>
              <a:ext cx="4606920" cy="2389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ye diagram of  CFO-SS system when  five channels are multiplex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247760" y="1981080"/>
            <a:ext cx="6647040" cy="4114800"/>
            <a:chOff x="1247760" y="1981080"/>
            <a:chExt cx="6647040" cy="411480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1247760" y="1981080"/>
              <a:ext cx="664704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1338120" y="2025720"/>
              <a:ext cx="6453360" cy="401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09480" y="1447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F/IF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Times New Roman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RF unit consists of antenna, divider, combiner, power amplifiers and LNA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Times New Roman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IF unit basically consists of five units of the 2 Mbit/s PH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Times New Roman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One clock tracking circuit is shared by five un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seband processing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Times New Roman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Serial-Parallel transl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qualizer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Times New Roman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O-SS does not require a special equaliz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versity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Times New Roman"/>
              <a:buChar char=""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ntional selection diversity technique is also adequate to CFO-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ation of CFO-SS Term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33520" y="1778040"/>
            <a:ext cx="8172360" cy="3949560"/>
            <a:chOff x="533520" y="1778040"/>
            <a:chExt cx="8172360" cy="394956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33520" y="1778040"/>
              <a:ext cx="8172360" cy="39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623880" y="1822320"/>
              <a:ext cx="7978680" cy="3848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nna and RF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224000" y="1523880"/>
            <a:ext cx="6835680" cy="4508640"/>
            <a:chOff x="1224000" y="1523880"/>
            <a:chExt cx="6835680" cy="450864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1224000" y="1523880"/>
              <a:ext cx="6835680" cy="450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1314360" y="1568520"/>
              <a:ext cx="6642000" cy="4406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09480" y="45720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ing recovery method for CFO-SS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09480" y="27432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1: Find the maximum average absolute output level Amax for N symbol d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685800" y="1157400"/>
            <a:ext cx="7578720" cy="1446120"/>
            <a:chOff x="685800" y="1157400"/>
            <a:chExt cx="7578720" cy="144612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685800" y="1157400"/>
              <a:ext cx="7578720" cy="14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776160" y="1201680"/>
              <a:ext cx="7385040" cy="134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990720" y="3816360"/>
            <a:ext cx="7404120" cy="2630520"/>
            <a:chOff x="990720" y="3816360"/>
            <a:chExt cx="7404120" cy="263052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990720" y="3816360"/>
              <a:ext cx="7404120" cy="26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1081080" y="3860640"/>
              <a:ext cx="7210440" cy="2529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2: Carrier Detection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52388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rier detected: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ceeds the predetermined threshold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rier not detected: other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797040" y="4114800"/>
            <a:ext cx="7550280" cy="1981080"/>
            <a:chOff x="797040" y="4114800"/>
            <a:chExt cx="7550280" cy="1981080"/>
          </a:xfrm>
        </p:grpSpPr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797040" y="4114800"/>
              <a:ext cx="75502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887400" y="4159080"/>
              <a:ext cx="7356600" cy="1879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 3: Initial Acquisition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52388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, select the sampling point with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define its sampling number as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average absolute output level A at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inuously exceeds the predetermined threshold level till B state, then move to tracking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4560" y="3733920"/>
            <a:ext cx="7912080" cy="2603520"/>
            <a:chOff x="574560" y="3733920"/>
            <a:chExt cx="7912080" cy="260352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574560" y="3733920"/>
              <a:ext cx="7912080" cy="260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665280" y="3778200"/>
              <a:ext cx="7718400" cy="250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 of time window in the tracking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38480" y="4952880"/>
            <a:ext cx="426708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114800" y="502920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2001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the sampling point which shows the A within the time window as the center of the time window for the following N symbo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22360" y="1523880"/>
            <a:ext cx="8101080" cy="4354560"/>
            <a:chOff x="522360" y="1523880"/>
            <a:chExt cx="8101080" cy="435456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522360" y="1523880"/>
              <a:ext cx="8101080" cy="435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612720" y="1568520"/>
              <a:ext cx="7907400" cy="4253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cking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447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 of time window is initially defined by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initial acquisition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65280" y="2514600"/>
            <a:ext cx="7827840" cy="3594240"/>
            <a:chOff x="665280" y="2514600"/>
            <a:chExt cx="7827840" cy="359424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665280" y="2514600"/>
              <a:ext cx="7827840" cy="359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755640" y="2558880"/>
              <a:ext cx="7634160" cy="34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document has been prepared by KDD R&amp;D Laboratories to assist the Standard Working Group IEEE P802.11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D specifically reserves the right to amend or modify the material contained in the proposed docu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hing herein shall be construed as conferring or offering licenses or rights with respect to any intellectual property of KD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simulation results are based on Japanese standards.  However, those could be discussed in relation to IEEE P802.11 standa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D is currently developing a 10 Mbit/s ISM band wireless communication equipment employing the CFO-SS schem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609480" y="45720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ye diagram during pream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09480" y="129528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choosing a preferable preamble pattern for each channel, the center channel shows a clean pulse waveform to facilitate easy clock acquis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id timing recovery and acquisition are accomplished without any difficul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85920" y="2590920"/>
            <a:ext cx="6270480" cy="3854520"/>
            <a:chOff x="1285920" y="2590920"/>
            <a:chExt cx="6270480" cy="385452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1285920" y="2590920"/>
              <a:ext cx="6270480" cy="385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1376280" y="2635200"/>
              <a:ext cx="6076800" cy="375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14400" y="1219320"/>
            <a:ext cx="7391520" cy="487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0948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tion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90720" y="129528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channel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3 &amp;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separati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2 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lengt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64 Bytes &amp; 1000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amble lengt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64 symbols (64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 cod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11 chip Barker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 ra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11 Mchip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ssion ra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2 Mbit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transmission ra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6 Mbit/s &amp; 10 Mbit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on techniqu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S/QP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dulation techniqu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ifferential detection a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prescribed by IEEE80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d pass filte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8th order Butterworth fil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dB bandwidth of BP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17 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ing recovery and acquisiti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s described in this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-of-sight two path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592280" y="1676520"/>
            <a:ext cx="5832360" cy="2603520"/>
            <a:chOff x="1592280" y="1676520"/>
            <a:chExt cx="5832360" cy="2603520"/>
          </a:xfrm>
        </p:grpSpPr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>
              <a:off x="1592280" y="1676520"/>
              <a:ext cx="5832360" cy="260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682640" y="1720800"/>
              <a:ext cx="5638680" cy="250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 txBox="1"/>
          <p:nvPr/>
        </p:nvSpPr>
        <p:spPr>
          <a:xfrm>
            <a:off x="685800" y="441972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D: Received power ratio of the coherent signal to the delayed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  : Arrival time difference of the coherent signal and the delayed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R Performance of CFO-SS System with Band Limitation under AWGN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447920" y="449280"/>
            <a:ext cx="6184800" cy="6207120"/>
            <a:chOff x="1447920" y="449280"/>
            <a:chExt cx="6184800" cy="620712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1447920" y="449280"/>
              <a:ext cx="6184800" cy="620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1538280" y="493560"/>
              <a:ext cx="5991120" cy="6105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R performance of CFO-SS system whe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=45.45 nse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521000" y="533520"/>
            <a:ext cx="6264360" cy="6032520"/>
            <a:chOff x="1521000" y="533520"/>
            <a:chExt cx="6264360" cy="6032520"/>
          </a:xfrm>
        </p:grpSpPr>
        <p:pic>
          <p:nvPicPr>
            <p:cNvPr id="169" name="" descr=""/>
            <p:cNvPicPr/>
            <p:nvPr/>
          </p:nvPicPr>
          <p:blipFill>
            <a:blip r:embed="rId1"/>
            <a:stretch/>
          </p:blipFill>
          <p:spPr>
            <a:xfrm>
              <a:off x="1521000" y="533520"/>
              <a:ext cx="6264360" cy="603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1611360" y="577800"/>
              <a:ext cx="6070680" cy="5931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010280" y="3352680"/>
            <a:ext cx="17524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996240" y="3384720"/>
            <a:ext cx="17971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ch: 10 Mbit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ch: 6 Mbit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R performance of CFO-SS system whe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=90.9 nse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521000" y="457200"/>
            <a:ext cx="6424560" cy="6184800"/>
            <a:chOff x="1521000" y="457200"/>
            <a:chExt cx="6424560" cy="6184800"/>
          </a:xfrm>
        </p:grpSpPr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1521000" y="457200"/>
              <a:ext cx="6424560" cy="618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1611360" y="501480"/>
              <a:ext cx="6230880" cy="608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7162920" y="3505320"/>
            <a:ext cx="17524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7148520" y="3537000"/>
            <a:ext cx="179712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ch: 10 Mbit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ch: 6 Mbit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ship between BER an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469880" y="304920"/>
            <a:ext cx="6738840" cy="6337440"/>
            <a:chOff x="1469880" y="304920"/>
            <a:chExt cx="6738840" cy="6337440"/>
          </a:xfrm>
        </p:grpSpPr>
        <p:pic>
          <p:nvPicPr>
            <p:cNvPr id="185" name="" descr=""/>
            <p:cNvPicPr/>
            <p:nvPr/>
          </p:nvPicPr>
          <p:blipFill>
            <a:blip r:embed="rId1"/>
            <a:stretch/>
          </p:blipFill>
          <p:spPr>
            <a:xfrm>
              <a:off x="1469880" y="304920"/>
              <a:ext cx="6738840" cy="633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1560600" y="349200"/>
              <a:ext cx="6545160" cy="6235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09480" y="45720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head related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2193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eamble leng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28 bits for synchronization is enough for CFO-SS under multipath fading environments, which is the same as the current 2 Mbit/s 2.4 GHz PH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Rapid acquisition is realized by a specially selected preamble patte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lot siz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ame as the current 2 Mbit/s 2.4 GHz PH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arrier Sense / Clear Channel Assessment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ame as the current 2 Mbit/s 2.4 GHz PH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IFS tim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lmost the same as the current 2 Mbit/s 2.4 GHz PH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rocess time depends on the CPU employ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pecial techniques like equalization, deinterleaving, FEC are not mand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609480" y="83808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ssion rate and channel band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60020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Mbit/s five channel wireless LAN can be implemented within 26 MHz bandwid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ssion rate can be designed to be 2, 4, 6 Mbit/s meeting the current 2 Mbit/s IEEE out of band rejection m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control, 2, 4, 6, 8 and 10 Mbit/s rate can flexibly be sele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403848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ral Efficiency and Channel Al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472428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472428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sub-bands of 26 MHz can be allocated in US ISM b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 scanned sub-band is busy, then the CFO-SS terminal searches a vacant sub-b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609480" y="60948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rvice r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ice use (Point-to-multipoint): ~ 5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-to-point use: ~ 1 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roughput perform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roughput performance of 10 Mbit/s CFO-SS is five times of the current 2 Mbit/s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djacent Channel Interfer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O-SS does not have to take care on the influence of ACI since the previous channel selection method is applied to search a vacant sub-b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-Channel Interfer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O-SS requires no special CCI rejection techn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I could be avoidable by CSMA/CA techn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mmunity to CW jamming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mmunity at 10% packet drop rate is to be investig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panese 2.4 GHz ISM B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45000"/>
              <a:buFont typeface="Times New Roman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ng Frequency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: 2.4 to 2.4835 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Times New Roman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Total bandwidth = 83.5 MHz, one sub-band = 22 MHz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PAN: 2.471 to 2.497 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Times New Roman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Bandwidth = 26 MHz, one  sub-band on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45000"/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45000"/>
              <a:buFont typeface="Times New Roman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Operating Cha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: Three sub-band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PAN: Only one sub-band is allocated, which should be shared by multiple systems and multiple us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609480" y="38088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tical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09480" y="106668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nsitivity to phase nois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To be evaluated by the CFO-SS hard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wer consumption (DC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Five times of that of the current 2 Mbit/s PH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mplex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Hardware architectures are si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scillator with an accuracy of +/-12 ppm is suffic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GC with wide dynamic range ( ~ 60 dB) might be requir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F PA backoff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ach 2 Mbit/s transceiver is equipped with an independent PA to avoid intermodul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lternatively, one PA with sufficient back-off could be employed to ensure linear 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versity techniqu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f the operation environment is very severe, CFO-SS might need a diversity technique to improve the channel qua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conditions for the current 2 Mbit/s 2.4 GHz PH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0948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two modems for 6 Mbit/s imple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four modems for 10 Mbit/s imple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RF channel frequencies to meet the CFO cond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e PN timings of each chann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ing recovery circuit is required only in one channe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lgorithm of the timing recovery method shall be as described in this docu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bilit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teroperability  at the data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By employing buffer, the system can work with the rate of 2, 4, 6, 8 and 10 Mbit/s.  The data rate can be notified to the receive side through the pream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teroperability at the antenna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SMA/CA protocol need not to be chang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dentify 2 Mbit/s PHY(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CFO-SS terminal could recognize the transmission rate by receiving the preamble data of each pack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ual  schemes (i.e fast vs. low rate preamble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nly one type of preamble is employed for 2, 4, 6, 8 and 10 Mbits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-exis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85800" y="1676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O-SS can coexist with the current 2 Mbit/s 2.4 GHz PH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O-SS has a function of operating as 2, 4, 6, 8 and 10 Mbit/s 2.4 GHz PHYs by activating appropriate chann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Mbit/s CFO-SS wireless LAN can connect with the current wireless LAN terminals by detecting the bit rate of the received signal and setting its own ra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e of CFO-SS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85800" y="1447920"/>
            <a:ext cx="5410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D is developing a 10 Mbit/s CFO-SS point-to-point wireless equipment to be completed in February 199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D will assess the performance of 10 Mbit/s CFO-SS terminal under various propagation models by field and indoor experi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O-SS 10 Mbit/s transceiver with an Ethernet interface will be demonstrated at NAB ‘98, in Las Vegas in Apr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O-SS modem is smaller than B5 size.  It might be compatible with a PCMCIA card if ASICs are develop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6413400" y="1828800"/>
            <a:ext cx="2106720" cy="1981080"/>
            <a:chOff x="6413400" y="1828800"/>
            <a:chExt cx="2106720" cy="1981080"/>
          </a:xfrm>
        </p:grpSpPr>
        <p:pic>
          <p:nvPicPr>
            <p:cNvPr id="206" name="" descr=""/>
            <p:cNvPicPr/>
            <p:nvPr/>
          </p:nvPicPr>
          <p:blipFill>
            <a:blip r:embed="rId1"/>
            <a:stretch/>
          </p:blipFill>
          <p:spPr>
            <a:xfrm>
              <a:off x="6413400" y="1828800"/>
              <a:ext cx="210672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6504120" y="1873080"/>
              <a:ext cx="1913040" cy="1879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6404040" y="3962520"/>
            <a:ext cx="2125800" cy="1981080"/>
            <a:chOff x="6404040" y="3962520"/>
            <a:chExt cx="2125800" cy="1981080"/>
          </a:xfrm>
        </p:grpSpPr>
        <p:pic>
          <p:nvPicPr>
            <p:cNvPr id="209" name="" descr=""/>
            <p:cNvPicPr/>
            <p:nvPr/>
          </p:nvPicPr>
          <p:blipFill>
            <a:blip r:embed="rId2"/>
            <a:stretch/>
          </p:blipFill>
          <p:spPr>
            <a:xfrm>
              <a:off x="6404040" y="3962520"/>
              <a:ext cx="212580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6494400" y="4006800"/>
              <a:ext cx="1932120" cy="1879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lectual property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09480" y="13716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Times New Roman"/>
              <a:buChar char="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DD’s pos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D follows the IEEE Patent Policy set forth in Clause 5 of the IEEE Standards Board Byla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Times New Roman"/>
              <a:buChar char="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pplicable patent numb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 Patent number: 5,319,672.  M. Sumiya and H. Shinonaga, “Spread Spectrum Communication System.”, Jun. 7, 199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Japanese patent had been author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Japanese patents pend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Times New Roman"/>
              <a:buChar char="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int of conta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houzou Hikas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twork planning Department, Network Headquarters, KDD l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Times New Roman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EL:+81-3-3347-5371/FAX:+81-3-3347-636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Times New Roman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-mail:sh-hikasa@kdd.co.j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09480" y="16002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O-SS is a kind of synchronous multi-carrier DS CDMA technique, which utilizing a single PN (Barker) code commonly assigned to all the multiple carri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tion results show that CFO-SS shows good performance under multipath fading environ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ware is simple.  CFO-SS transceiver basically consists of multiple transceiver units of the 2 Mbit/s 2.4 GHz wireless LAN termi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O-SS requires no special techniques like equalizer, channel estimator, frequency offset compens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O-SS is backward compatible with the current 2 Mbit/s 2.4 GHz PHYs.  Furthermore, 2, 4, 6, 8 and 10 Mbit/s rate can flexibly be 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09480" y="457200"/>
            <a:ext cx="7924680" cy="10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 of band rejection mask of Japanese (RCR) and IEEE 802.11 Stand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362240" y="1600200"/>
            <a:ext cx="6423120" cy="4875120"/>
            <a:chOff x="1362240" y="1600200"/>
            <a:chExt cx="6423120" cy="487512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1362240" y="1600200"/>
              <a:ext cx="6423120" cy="487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1452600" y="1644480"/>
              <a:ext cx="6229440" cy="477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1938240" y="1828800"/>
            <a:ext cx="1427040" cy="1755720"/>
            <a:chOff x="1938240" y="1828800"/>
            <a:chExt cx="1427040" cy="1755720"/>
          </a:xfrm>
        </p:grpSpPr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1938240" y="1828800"/>
              <a:ext cx="142704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2028960" y="1873080"/>
              <a:ext cx="1233360" cy="165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09480" y="45720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CFO-S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09480" y="121932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O-SS is an abbreviation of  “Carrier Frequency Offset-Spread Spectrum”, which is a kind of synchronous multi-carrier DS CDMA technique and utilizing a single PN (Barker) code commonly assigned to all the multiple carriers.  Orthogonality among multiple carriers are achieved by specially selected carrier frequenc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O-SS employs a receiver with surface acoustic wave (SAW) matched filters (or baseband digital matched filters) to achieve rapid signal acqui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performance is achieved by CFO-SS even under multipath fading environ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ware is simple.  10 Mbit/s CFO-SS transceiver basically consists of five units of the 2 Mbit/s 2.4 GHz wireless LAN terminal.  One clock tracking circuit is only required which is shared by five un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O-SS requires no special equalizing techn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3520" y="3505320"/>
            <a:ext cx="8077320" cy="274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09480" y="45720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etical explanation of the CFO-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09480" y="358128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rrelation peak value is obtained by the following equation when a frequency offset exists between the carrier frequency of the SS signal and the nominal operating frequency of the SAW matched fil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: Amplitude of the correlation peak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C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hip duration [sec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: Frequency offset [Hz]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: Length of the PN code [chip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019240" y="4648320"/>
            <a:ext cx="4457880" cy="649440"/>
            <a:chOff x="2019240" y="4648320"/>
            <a:chExt cx="4457880" cy="649440"/>
          </a:xfrm>
        </p:grpSpPr>
        <p:sp>
          <p:nvSpPr>
            <p:cNvPr id="68" name=""/>
            <p:cNvSpPr/>
            <p:nvPr/>
          </p:nvSpPr>
          <p:spPr>
            <a:xfrm>
              <a:off x="2108160" y="4648320"/>
              <a:ext cx="4368960" cy="649440"/>
            </a:xfrm>
            <a:prstGeom prst="round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2019240" y="4795920"/>
              <a:ext cx="4254480" cy="39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"/>
          <p:cNvGrpSpPr/>
          <p:nvPr/>
        </p:nvGrpSpPr>
        <p:grpSpPr>
          <a:xfrm>
            <a:off x="457200" y="1157400"/>
            <a:ext cx="3708360" cy="1751040"/>
            <a:chOff x="457200" y="1157400"/>
            <a:chExt cx="3708360" cy="1751040"/>
          </a:xfrm>
        </p:grpSpPr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457200" y="1157400"/>
              <a:ext cx="3708360" cy="17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47560" y="1201680"/>
              <a:ext cx="3514680" cy="1649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438280" y="1755720"/>
            <a:ext cx="6184800" cy="1716120"/>
            <a:chOff x="2438280" y="1755720"/>
            <a:chExt cx="6184800" cy="1716120"/>
          </a:xfrm>
        </p:grpSpPr>
        <p:pic>
          <p:nvPicPr>
            <p:cNvPr id="74" name="" descr=""/>
            <p:cNvPicPr/>
            <p:nvPr/>
          </p:nvPicPr>
          <p:blipFill>
            <a:blip r:embed="rId3"/>
            <a:stretch/>
          </p:blipFill>
          <p:spPr>
            <a:xfrm>
              <a:off x="2438280" y="1755720"/>
              <a:ext cx="6184800" cy="17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2529000" y="1800360"/>
              <a:ext cx="5991120" cy="161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09480" y="3808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 of CFO-SS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33520" y="83808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lation peak vanishes at the frequencies specified by the information r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10 Mbit/s five channel system, minimum channel separation is 1 MHz.  However, 2 MHz separation makes the system strong against multipath fa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signals spread by a single PN code can be multiplexed without interfering one another(orthogonality among multiple carriers) if the following conditions (CFO conditions) are simultaneously satisfi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45000"/>
              <a:buFont typeface="Times New Roman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The symbol timing in each channel are synchronized with the PN c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45000"/>
              <a:buFont typeface="Times New Roman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PN codes of all the channels are synchroniz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30280" y="3124080"/>
            <a:ext cx="8169120" cy="3311640"/>
            <a:chOff x="530280" y="3124080"/>
            <a:chExt cx="8169120" cy="3311640"/>
          </a:xfrm>
        </p:grpSpPr>
        <p:pic>
          <p:nvPicPr>
            <p:cNvPr id="79" name="" descr=""/>
            <p:cNvPicPr/>
            <p:nvPr/>
          </p:nvPicPr>
          <p:blipFill>
            <a:blip r:embed="rId1"/>
            <a:stretch/>
          </p:blipFill>
          <p:spPr>
            <a:xfrm>
              <a:off x="530280" y="3124080"/>
              <a:ext cx="8169120" cy="33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620640" y="3168720"/>
              <a:ext cx="7975440" cy="3209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transmitter configuration of CFO-SS system with  a five channe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592280" y="1600200"/>
            <a:ext cx="5888160" cy="4802040"/>
            <a:chOff x="1592280" y="1600200"/>
            <a:chExt cx="5888160" cy="480204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1592280" y="1600200"/>
              <a:ext cx="5888160" cy="480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1682640" y="1644480"/>
              <a:ext cx="5694480" cy="470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09480" y="4572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receiver configuration of CFO-SS system with a five channe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14520" y="1600200"/>
            <a:ext cx="7856640" cy="4827600"/>
            <a:chOff x="614520" y="1600200"/>
            <a:chExt cx="7856640" cy="482760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614520" y="1600200"/>
              <a:ext cx="7856640" cy="482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704880" y="1644480"/>
              <a:ext cx="7662960" cy="472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iroyasu Ishikawa</dc:creator>
  <dc:description/>
  <dc:language>en-US</dc:language>
  <cp:lastModifiedBy>Hiroyasu Ishikawa</cp:lastModifiedBy>
  <cp:revision>0</cp:revision>
  <dc:subject/>
  <dc:title>10 Mbit/s CFO-SS scheme for IEEE 802.11</dc:title>
</cp:coreProperties>
</file>