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43040" y="1600200"/>
            <a:ext cx="8420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19191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50960" y="609480"/>
            <a:ext cx="8405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50960" y="6477120"/>
            <a:ext cx="8405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5599080" y="6464160"/>
            <a:ext cx="329400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itoshi Takanashi, NTT Wireless Systems Labora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28640" y="6442200"/>
            <a:ext cx="9684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4443480" y="6540480"/>
            <a:ext cx="6541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92AED0A9-750E-47FF-884A-4569A222B57C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728640" y="322200"/>
            <a:ext cx="13082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nuar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6754680" y="322200"/>
            <a:ext cx="21970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IEEE P802.11-98/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rformance of DQPSK-OFDM in Multipath Rayleigh Fading Chan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752480" y="3581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.11 Interim Meeting (Seatt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an.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TT Wireless 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toshi Takana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513160" y="2330280"/>
            <a:ext cx="4191120" cy="4000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cket Error Rate in Multipath Propagation with AW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pectrum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30240" y="2239920"/>
            <a:ext cx="77151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lay spread of 400 ns and more is tolerable by employing DQPSK-OF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O of 4 or 5 dB is en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ectrum allocation of HIPERLAN can be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quired Eb/No is 20 dB in a Rayleigh Fading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Arial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agation loss up to 92 dB in a Rayleigh Fading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figuration of DQPSK-OFDM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0160" y="1892160"/>
            <a:ext cx="84074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ajor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50760" y="1930320"/>
            <a:ext cx="831852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rame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41240" y="2666880"/>
            <a:ext cx="8572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ultipath Channe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22560" y="1822320"/>
            <a:ext cx="541008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haracteristics of solid state power amplif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63800" y="1828800"/>
            <a:ext cx="8271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cket Error Rate in Multipath Propa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2880" y="2093760"/>
            <a:ext cx="4562640" cy="4308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875120" y="1854360"/>
            <a:ext cx="411480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cket Error Rate in Multipath Propagation with AW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47920" y="2406600"/>
            <a:ext cx="4191120" cy="4000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875120" y="1854360"/>
            <a:ext cx="411480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0666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cket Error Rate with AW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75120" y="1854360"/>
            <a:ext cx="4114800" cy="254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862280" y="2395440"/>
            <a:ext cx="62960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. Hayes</cp:lastModifiedBy>
  <cp:revision>0</cp:revision>
  <dc:subject/>
  <dc:title>Performance of DQPSK-OFDM in Multipath Rayleigh Fading Channels</dc:title>
</cp:coreProperties>
</file>