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46280" y="5945040"/>
            <a:ext cx="2508120" cy="2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1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Boer, Lucent Technologies, January 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537240" y="5945040"/>
            <a:ext cx="603360" cy="2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11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fld id="{E0A1B847-4E67-47E0-8DC9-DA9AEA5727B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4680" y="6500880"/>
            <a:ext cx="9137520" cy="35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7360" y="5715000"/>
            <a:ext cx="250812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680" y="6500880"/>
            <a:ext cx="913752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8040" y="1752480"/>
            <a:ext cx="8077320" cy="10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Discussion on Comparison Criteria of BCP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143000" y="3351240"/>
            <a:ext cx="6130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Jan Boer, Lucent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8240" y="5410080"/>
            <a:ext cx="2508120" cy="838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600200" y="-1523880"/>
            <a:ext cx="58672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Doc: IEEE P802.11-97/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752480" y="-1371600"/>
            <a:ext cx="58672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Doc: IEEE P802.11-97/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905120" y="-1219320"/>
            <a:ext cx="58672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Doc: IEEE P802.11-97/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057400" y="-1066680"/>
            <a:ext cx="58672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Doc: IEEE P802.11-97/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09680" y="-914400"/>
            <a:ext cx="58672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Doc: IEEE P802.11-97/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9960" y="318960"/>
            <a:ext cx="184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362320" y="-762120"/>
            <a:ext cx="5867280" cy="4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199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Doc: IEEE P802.11-97/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22860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38088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1998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Doc: IEEE P802.11-98/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685800"/>
            <a:ext cx="830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09480" y="1143000"/>
            <a:ext cx="784872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Immunity to multipath and noise </a:t>
            </a:r>
            <a:r>
              <a:rPr b="0" lang="en-US" sz="28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con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2057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 frequency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p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ly easy acquisition and tracking of LO off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oticeable performance degradation if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09480" y="60948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Over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6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DSSS Preamble is proposed for full interoperability and coexistence with current 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PM does NOT need long pream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 short prea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25 microsecond for synchronization and calculating the channel matched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lottime (20 microseconds) for antenna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fea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09480" y="1143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Overhead cont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2057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slottime of 20 microseconds will be main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and coexistence with current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mechanism will no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time and turnaround times will not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09480" y="1143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Overhead cont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2057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SIFS time of 10 microseconds will be maint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and coexistence with current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ed to receiver delay compared with current Phy is delay of Mode Sifter (4 symbols if depth is 4); SIFS is enough to 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09480" y="1143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Spectral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2057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spectrum is not changed compared to the current 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me channelization scheme is empl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09480" y="1143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Cell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2057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channels where same frequency of different cells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chma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ology should be compa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09480" y="1143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2057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pow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mW (14 dBm)  Tx pow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 receive level (Rx sensi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6 dBm ( SNR 15.8 dB @ BER 10-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noise factor and implementation loss 12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budget 100dB - 40dB isotropic loss --&gt; 60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dB --&gt; 1000 meter free space (theoretical !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09480" y="1143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Adjacent channel 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2057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 must be such that a 3 channel solution i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PM will not give 35dB as required in current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d devices will fall back i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throughput more essential than the ACI fig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09480" y="1143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Co-channel inter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2057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to 6 dB ( dependent on delayspre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ed data will be provided in M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09480" y="1143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Interference imm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2057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ion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able test to be defined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st case single tone SIR per channel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09480" y="83808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523880"/>
            <a:ext cx="7848720" cy="37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iscuss the comparison criteria of modulation methods for the higher speed extension for the 2.4 GHz 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ker Code Position Modulation as proposed by Lucent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 97/1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 98/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eria document 97/157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09480" y="2286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Critical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0880" y="91440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eme sensitivity to phase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 power con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the same as low rate Phy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PA back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different from low rate if  Tx power about 2.5 dB 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ce on antenna diversity/dire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more critical than low rate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09480" y="5335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Intellectual Prop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8288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 patent 5,596,601 Bar-Dav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 and apparatus for spread spectrum code pulse position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conta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ce Tu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hnolog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 Box 7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30 AT Nieuwegein, 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: +31 30 6097527, fax: +31 30 60975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09480" y="1143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Interoperability / Coexis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2057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long 802.11 header BCPM is fully coexistence and interoperable (can fall back to 1 and 2 Mbit/s), making use of multi-rate capabilities of current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20 micros slottime is maintained also with a short header coexistence and/or interoperability i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09480" y="1143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Interoperability / Coexistence </a:t>
            </a:r>
            <a:r>
              <a:rPr b="0" lang="en-US" sz="28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con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2057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er preamble is possi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microseconds for Rx training (synchronization, channel matched fil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time for energy detection and possibly antenna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time to send over header info at higher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preamble time needed in the order of 50-70 micro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09480" y="38088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Interoperability / Coexistence </a:t>
            </a:r>
            <a:r>
              <a:rPr b="0" lang="en-US" sz="28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con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37160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preamble for higher rate as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hort preamble in a high rat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back to long preamble to be interoperable with low rate Phy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ssibility in a mixed system that low rate Phy does not see BCPM if not synchronized (loosely coexistence, preamble is always recogniz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is affects system throughput fall back to long preamble (full coexiste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Receiver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1447920"/>
            <a:ext cx="12193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828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1447920"/>
            <a:ext cx="12193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1828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98560" y="1500120"/>
            <a:ext cx="1200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a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498760" y="1500120"/>
            <a:ext cx="1123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1447920"/>
            <a:ext cx="7621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098960" y="172872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1447920"/>
            <a:ext cx="1447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089680" y="1424160"/>
            <a:ext cx="1238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1981080"/>
            <a:ext cx="1447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89680" y="1957320"/>
            <a:ext cx="1238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4280" y="1600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724280" y="2133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3657600" y="2133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259092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727360" y="2719440"/>
            <a:ext cx="514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971800" y="2286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7480" y="1447920"/>
            <a:ext cx="76212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743200"/>
            <a:ext cx="76212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2743200"/>
            <a:ext cx="190512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105520" y="2743200"/>
            <a:ext cx="2835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Ti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343400" y="31240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34340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16002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2133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527960" y="172872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527960" y="3024360"/>
            <a:ext cx="704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1600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2133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689880" y="1195560"/>
            <a:ext cx="272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689880" y="1805040"/>
            <a:ext cx="361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43828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25146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01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24480" y="3886200"/>
            <a:ext cx="205740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384960" y="3938760"/>
            <a:ext cx="1905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7732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3886200"/>
            <a:ext cx="167652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327560" y="3938760"/>
            <a:ext cx="134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 Si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iterb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4290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422440" y="4091040"/>
            <a:ext cx="113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29600" y="1828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610480" y="18288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5105520"/>
            <a:ext cx="3504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105520" y="4724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7391520" y="4724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82296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219320"/>
            <a:ext cx="6553080" cy="251460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03480" y="3481560"/>
            <a:ext cx="2400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al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927760" y="5456160"/>
            <a:ext cx="225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parameter estim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matched filter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09480" y="1143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Receiver structure cont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2057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 can be traded for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F+TSE+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 of separate blocks can also be tr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length CMF and depth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F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09480" y="60948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Receiver structure cont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0512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/IF complexity comparable to low rate 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LO, same bandwidth, 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gate count for moderate complexity receiver about twice low rate 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qual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09480" y="4572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Receiver structure cont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1371600"/>
            <a:ext cx="784872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ersit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DSSS preamble is used same  antenna diversity as low rate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PM is not dependent on long prea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er preamble possible, antenna diversity (not required) within one slot on implementers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al or parallel rece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diversity (throughput performance penal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diversity inherent to BCP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dependent on receiver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09480" y="1143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Immunity to multipath and 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205740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figures presented in November for 100 byte packet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figures for 64 and 1000 bytes in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09480" y="380880"/>
            <a:ext cx="8532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Immunity to multipath and noise </a:t>
            </a:r>
            <a:r>
              <a:rPr b="0" lang="en-US" sz="28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con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880" y="10666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byte packet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794040" y="5119560"/>
            <a:ext cx="98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8380440" cy="3733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62120" y="1676520"/>
            <a:ext cx="0" cy="3200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09480" y="533520"/>
            <a:ext cx="7848720" cy="86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0" lang="en-US" sz="44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Immunity to multipath and noise </a:t>
            </a:r>
            <a:r>
              <a:rPr b="0" lang="en-US" sz="2800" spc="-1" strike="noStrike">
                <a:solidFill>
                  <a:srgbClr val="00378a"/>
                </a:solidFill>
                <a:latin typeface="Times New Roman"/>
                <a:ea typeface="Times New Roman"/>
              </a:rPr>
              <a:t>cont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23880"/>
            <a:ext cx="784872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initial results for 64 and 1000 bytes packetleng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376280" y="3203640"/>
            <a:ext cx="7494480" cy="2228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108240" y="5135400"/>
            <a:ext cx="32180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ted TDS at PER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n Haagh</dc:creator>
  <dc:description/>
  <dc:language>en-US</dc:language>
  <cp:lastModifiedBy>Jan Haagh</cp:lastModifiedBy>
  <cp:revision>0</cp:revision>
  <dc:subject/>
  <dc:title>PPM presentation</dc:title>
</cp:coreProperties>
</file>