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MAC Requirements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High-Speed 2.4 GHz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HY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onald Brock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No Wires Needed B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80880" y="6858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4920" y="38088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998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Doc: IEEE P802.11-98/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094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What abou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backward compatibil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MAC supports backwards compatibility with 802.11 DS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identical channe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ompatible pream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identical parameters (slot times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Use short preamble for high-speed, no interoperability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094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uggested Framework fo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High-Speed 2.4 GHz 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Use 802.11 DS channelization (3 to 4 channe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Use 802.11 DS parameters (slot times, DIFS, SIFS,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TBD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 high-speed modulation for MPD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Option for 802.11 DS pream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Option for high-speed pream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High peak bi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Efficient spectrum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Good performance in multi-AP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Backward compatibility (long preambl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High Speed, Coexistence (short pream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No changes to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Future Work: Case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Need to demonstrate that channelization is sufficient in real-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Work needs to be done on efficiency of TDMA sharing of channel for different modul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More in Mar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Goals for High-Speed 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rovide high peak bandwidth per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rovide fair sharing of spectrum between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Minimize loss of bandwidth through collisions/co-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Good performance in all top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Low-speed coexistence/inter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Work with existing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ell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5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In a typical site, more than one AP is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Therefore, cells need to be isolated from each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ossible m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Time Division (TD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ode Division (CD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Frequency Division (FD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Inter-Cell Time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Existing MAC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Use Physical and Virtual Carrier Sense to share chann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Hidden termi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Effective bandwidth per AP is fraction of channel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Does not allow use of PC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Inter-Cell Code Divi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Near-Far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Transmission by STA may disturb frame reception by nearby STA using differe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MAC has no way of detecting t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No physical carrier sense (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TS-CTS of adjacent cell cannot b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MAC not designed for this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Near-Far Probl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between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3429000"/>
            <a:ext cx="1343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ode 1, 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274320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7400" y="5791320"/>
            <a:ext cx="5867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41148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49528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3429000"/>
            <a:ext cx="60948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743200"/>
            <a:ext cx="763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9528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49528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29400" y="49528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42900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743200"/>
            <a:ext cx="763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2743200"/>
            <a:ext cx="5335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3352680"/>
            <a:ext cx="763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3526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666880"/>
            <a:ext cx="763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86000" y="4789440"/>
            <a:ext cx="685800" cy="784440"/>
            <a:chOff x="2286000" y="4789440"/>
            <a:chExt cx="685800" cy="784440"/>
          </a:xfrm>
        </p:grpSpPr>
        <p:sp>
          <p:nvSpPr>
            <p:cNvPr id="69" name=""/>
            <p:cNvSpPr/>
            <p:nvPr/>
          </p:nvSpPr>
          <p:spPr>
            <a:xfrm>
              <a:off x="2286000" y="4800600"/>
              <a:ext cx="685800" cy="762120"/>
            </a:xfrm>
            <a:prstGeom prst="line">
              <a:avLst/>
            </a:prstGeom>
            <a:ln w="1015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298600" y="4789440"/>
              <a:ext cx="660600" cy="784440"/>
            </a:xfrm>
            <a:prstGeom prst="line">
              <a:avLst/>
            </a:prstGeom>
            <a:ln w="1015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352680" y="4789440"/>
            <a:ext cx="685800" cy="784440"/>
            <a:chOff x="3352680" y="4789440"/>
            <a:chExt cx="685800" cy="784440"/>
          </a:xfrm>
        </p:grpSpPr>
        <p:sp>
          <p:nvSpPr>
            <p:cNvPr id="72" name=""/>
            <p:cNvSpPr/>
            <p:nvPr/>
          </p:nvSpPr>
          <p:spPr>
            <a:xfrm>
              <a:off x="3352680" y="4800600"/>
              <a:ext cx="685800" cy="762120"/>
            </a:xfrm>
            <a:prstGeom prst="line">
              <a:avLst/>
            </a:prstGeom>
            <a:ln w="1015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65640" y="4789440"/>
              <a:ext cx="660240" cy="784440"/>
            </a:xfrm>
            <a:prstGeom prst="line">
              <a:avLst/>
            </a:prstGeom>
            <a:ln w="1015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800600" y="4789440"/>
            <a:ext cx="685800" cy="784440"/>
            <a:chOff x="4800600" y="4789440"/>
            <a:chExt cx="685800" cy="784440"/>
          </a:xfrm>
        </p:grpSpPr>
        <p:sp>
          <p:nvSpPr>
            <p:cNvPr id="75" name=""/>
            <p:cNvSpPr/>
            <p:nvPr/>
          </p:nvSpPr>
          <p:spPr>
            <a:xfrm>
              <a:off x="4800600" y="4800600"/>
              <a:ext cx="685800" cy="762120"/>
            </a:xfrm>
            <a:prstGeom prst="line">
              <a:avLst/>
            </a:prstGeom>
            <a:ln w="1015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4813200" y="4789440"/>
              <a:ext cx="660600" cy="784440"/>
            </a:xfrm>
            <a:prstGeom prst="line">
              <a:avLst/>
            </a:prstGeom>
            <a:ln w="1015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7391520" y="4267080"/>
            <a:ext cx="763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26668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6858000" y="2503440"/>
            <a:ext cx="685800" cy="784440"/>
            <a:chOff x="6858000" y="2503440"/>
            <a:chExt cx="685800" cy="784440"/>
          </a:xfrm>
        </p:grpSpPr>
        <p:sp>
          <p:nvSpPr>
            <p:cNvPr id="80" name=""/>
            <p:cNvSpPr/>
            <p:nvPr/>
          </p:nvSpPr>
          <p:spPr>
            <a:xfrm>
              <a:off x="6858000" y="2514600"/>
              <a:ext cx="685800" cy="762120"/>
            </a:xfrm>
            <a:prstGeom prst="line">
              <a:avLst/>
            </a:prstGeom>
            <a:ln w="1015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870600" y="2503440"/>
              <a:ext cx="660600" cy="784440"/>
            </a:xfrm>
            <a:prstGeom prst="line">
              <a:avLst/>
            </a:prstGeom>
            <a:ln w="10152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40760" rIns="140760" tIns="95760" bIns="9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 txBox="1"/>
          <p:nvPr/>
        </p:nvSpPr>
        <p:spPr>
          <a:xfrm>
            <a:off x="593640" y="2741760"/>
            <a:ext cx="121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ode 1,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93640" y="4341960"/>
            <a:ext cx="1343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ode 2, 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3640" y="5103720"/>
            <a:ext cx="121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ode 2,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Inter-Cell Code Divis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urrent MAC does not deal well with the near-far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May effectively reduce to AL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roblems with one STA affect performance in the entire B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Effective throughput may be ver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Inter-Cel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Frequency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6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Multiple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Good isolation between cells, even if incompatible radios/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Adjacent cells on different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ufficient distance between cells on the same chann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Optimum number of channe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Therefor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6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oding is mandatory to provide process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However, code division is not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rovide small but sufficient number of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Existing MAC mechanisms to share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nald Brockmann</dc:creator>
  <dc:description/>
  <dc:language>en-US</dc:language>
  <cp:lastModifiedBy>Ronald Brockmann</cp:lastModifiedBy>
  <cp:revision>0</cp:revision>
  <dc:subject/>
  <dc:title>No Slide Title</dc:title>
</cp:coreProperties>
</file>