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2286000"/>
            <a:ext cx="777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High Speed 2.4 GHz PHY and th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PLCP Header Length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71600" y="3886200"/>
            <a:ext cx="6400800" cy="178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Ronald Brockm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No Wires Needed B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68580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4920" y="38088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1998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Doc: IEEE P802.11-98/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2.4 GHz High Speed PHY will have a backward compatibity mode using 802.11 DS pream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Current PLCP Header allows high-rate PHY extensions through the Rate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Length field is expressed in microseconds for backward compa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MAC requires PHY to recover exact MPDU length in octet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Need uniform, deterministic way of translat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s to octets and octets to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s for odd rates (e.g. 5 or 5.5 Mbit/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For bit rates &gt; 8 Mbit/s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s resolution is insufficient to provide accurate translation into oct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For example at 10 Mbit/s, 1.25 octets go into on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Proposed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Use MSB of Service field as new LSB of Length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Extended Length field is a 17 bit value, 0.5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s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Backward compa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Supports rates up to 16 Mbit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PLCP Header Revis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2743200"/>
            <a:ext cx="1455840" cy="36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94400" y="2708280"/>
            <a:ext cx="6858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332400" y="2689200"/>
            <a:ext cx="930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_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7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708440" y="2765520"/>
            <a:ext cx="1677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ICE 7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Proposed Solution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Standardize on these conversion form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96920" y="2978280"/>
            <a:ext cx="6070680" cy="1432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214280" y="4808520"/>
            <a:ext cx="6370560" cy="13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Rate =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Transmit Octets = 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plcp_ext_len = 101 = 50,5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Receive Octets = 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Without the additional half-microsecond resolution, this may not work o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miel Sprenger</dc:creator>
  <dc:description/>
  <dc:language>en-US</dc:language>
  <cp:lastModifiedBy>Emiel Sprenger</cp:lastModifiedBy>
  <cp:revision>0</cp:revision>
  <dc:subject/>
  <dc:title>High Speed 2.4 GHz PHY and the  PLCP Header Length Field</dc:title>
</cp:coreProperties>
</file>