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33520" y="53352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93640" y="250920"/>
            <a:ext cx="7736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anuary 199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8/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477120"/>
            <a:ext cx="807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703440" y="6499080"/>
            <a:ext cx="7878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rk Webster, Harris Semicond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Issues and Architectur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 Web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Semicondu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9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"/>
          <p:cNvSpPr txBox="1"/>
          <p:nvPr/>
        </p:nvSpPr>
        <p:spPr>
          <a:xfrm>
            <a:off x="2041560" y="776160"/>
            <a:ext cx="4659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 txBox="1"/>
          <p:nvPr/>
        </p:nvSpPr>
        <p:spPr>
          <a:xfrm>
            <a:off x="1050840" y="1432080"/>
            <a:ext cx="6827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pproximately spans 6X the RMS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is predominately post-cu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3" name=""/>
          <p:cNvGrpSpPr/>
          <p:nvPr/>
        </p:nvGrpSpPr>
        <p:grpSpPr>
          <a:xfrm>
            <a:off x="974880" y="2286000"/>
            <a:ext cx="6188040" cy="3779640"/>
            <a:chOff x="974880" y="2286000"/>
            <a:chExt cx="6188040" cy="3779640"/>
          </a:xfrm>
        </p:grpSpPr>
        <p:grpSp>
          <p:nvGrpSpPr>
            <p:cNvPr id="2334" name=""/>
            <p:cNvGrpSpPr/>
            <p:nvPr/>
          </p:nvGrpSpPr>
          <p:grpSpPr>
            <a:xfrm>
              <a:off x="2286000" y="2341440"/>
              <a:ext cx="4876920" cy="3068640"/>
              <a:chOff x="2286000" y="2341440"/>
              <a:chExt cx="4876920" cy="3068640"/>
            </a:xfrm>
          </p:grpSpPr>
          <p:sp>
            <p:nvSpPr>
              <p:cNvPr id="2335" name=""/>
              <p:cNvSpPr/>
              <p:nvPr/>
            </p:nvSpPr>
            <p:spPr>
              <a:xfrm>
                <a:off x="2286000" y="2363760"/>
                <a:ext cx="4876920" cy="3046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919240" y="2587680"/>
                <a:ext cx="3764160" cy="1045080"/>
              </a:xfrm>
              <a:custGeom>
                <a:avLst/>
                <a:gdLst/>
                <a:ahLst/>
                <a:rect l="0" t="0" r="r" b="b"/>
                <a:pathLst>
                  <a:path w="10456" h="2903">
                    <a:moveTo>
                      <a:pt x="0" y="2903"/>
                    </a:moveTo>
                    <a:lnTo>
                      <a:pt x="0" y="0"/>
                    </a:lnTo>
                    <a:lnTo>
                      <a:pt x="10456" y="0"/>
                    </a:lnTo>
                    <a:lnTo>
                      <a:pt x="10456" y="2903"/>
                    </a:lnTo>
                    <a:lnTo>
                      <a:pt x="0" y="29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919240" y="2587680"/>
                <a:ext cx="3764160" cy="1045080"/>
              </a:xfrm>
              <a:custGeom>
                <a:avLst/>
                <a:gdLst/>
                <a:ahLst/>
                <a:rect l="0" t="0" r="r" b="b"/>
                <a:pathLst>
                  <a:path fill="none" w="10456" h="2903">
                    <a:moveTo>
                      <a:pt x="0" y="2903"/>
                    </a:moveTo>
                    <a:lnTo>
                      <a:pt x="0" y="0"/>
                    </a:lnTo>
                    <a:lnTo>
                      <a:pt x="10456" y="0"/>
                    </a:lnTo>
                    <a:lnTo>
                      <a:pt x="10456" y="2903"/>
                    </a:lnTo>
                    <a:lnTo>
                      <a:pt x="0" y="290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V="1">
                <a:off x="2919240" y="258768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V="1">
                <a:off x="3857760" y="258768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V="1">
                <a:off x="4807080" y="258768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V="1">
                <a:off x="5745240" y="258768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6683400" y="258768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2919240" y="363204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2919240" y="328608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2919240" y="293220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2919240" y="258768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2919240" y="363204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2919240" y="258768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V="1">
                <a:off x="2919240" y="258768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V="1">
                <a:off x="6683400" y="258768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2919240" y="363204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V="1">
                <a:off x="2919240" y="258768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flipV="1">
                <a:off x="2919240" y="36082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2919240" y="258768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 txBox="1"/>
              <p:nvPr/>
            </p:nvSpPr>
            <p:spPr>
              <a:xfrm>
                <a:off x="2698920" y="35942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flipV="1">
                <a:off x="3857760" y="36082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857760" y="258768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 txBox="1"/>
              <p:nvPr/>
            </p:nvSpPr>
            <p:spPr>
              <a:xfrm>
                <a:off x="3637080" y="35942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4807080" y="36082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4807080" y="258768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 txBox="1"/>
              <p:nvPr/>
            </p:nvSpPr>
            <p:spPr>
              <a:xfrm>
                <a:off x="4541760" y="3594240"/>
                <a:ext cx="2682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flipV="1">
                <a:off x="5745240" y="36082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5745240" y="258768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 txBox="1"/>
              <p:nvPr/>
            </p:nvSpPr>
            <p:spPr>
              <a:xfrm>
                <a:off x="5479920" y="3594240"/>
                <a:ext cx="2682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6683400" y="36082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6683400" y="258768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 txBox="1"/>
              <p:nvPr/>
            </p:nvSpPr>
            <p:spPr>
              <a:xfrm>
                <a:off x="6416640" y="3594240"/>
                <a:ext cx="2682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2919240" y="363204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H="1">
                <a:off x="6647040" y="3632040"/>
                <a:ext cx="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 txBox="1"/>
              <p:nvPr/>
            </p:nvSpPr>
            <p:spPr>
              <a:xfrm>
                <a:off x="2430360" y="3508200"/>
                <a:ext cx="31608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.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2919240" y="32860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 flipH="1">
                <a:off x="6647040" y="3286080"/>
                <a:ext cx="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 txBox="1"/>
              <p:nvPr/>
            </p:nvSpPr>
            <p:spPr>
              <a:xfrm>
                <a:off x="2606760" y="31622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919240" y="29322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 flipH="1">
                <a:off x="6647040" y="2932200"/>
                <a:ext cx="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 txBox="1"/>
              <p:nvPr/>
            </p:nvSpPr>
            <p:spPr>
              <a:xfrm>
                <a:off x="2476440" y="2808360"/>
                <a:ext cx="29052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2919240" y="25876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flipH="1">
                <a:off x="6647040" y="2587680"/>
                <a:ext cx="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 txBox="1"/>
              <p:nvPr/>
            </p:nvSpPr>
            <p:spPr>
              <a:xfrm>
                <a:off x="2606760" y="24638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2919240" y="363204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919240" y="258768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V="1">
                <a:off x="2919240" y="258768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flipV="1">
                <a:off x="6683400" y="258768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2919240" y="2587680"/>
                <a:ext cx="3389760" cy="943200"/>
              </a:xfrm>
              <a:custGeom>
                <a:avLst/>
                <a:gdLst/>
                <a:ahLst/>
                <a:rect l="0" t="0" r="r" b="b"/>
                <a:pathLst>
                  <a:path fill="none" w="9416" h="2620">
                    <a:moveTo>
                      <a:pt x="0" y="2479"/>
                    </a:moveTo>
                    <a:lnTo>
                      <a:pt x="519" y="2320"/>
                    </a:lnTo>
                    <a:lnTo>
                      <a:pt x="1039" y="2620"/>
                    </a:lnTo>
                    <a:lnTo>
                      <a:pt x="1558" y="0"/>
                    </a:lnTo>
                    <a:lnTo>
                      <a:pt x="2086" y="1981"/>
                    </a:lnTo>
                    <a:lnTo>
                      <a:pt x="2606" y="1821"/>
                    </a:lnTo>
                    <a:lnTo>
                      <a:pt x="3126" y="2000"/>
                    </a:lnTo>
                    <a:lnTo>
                      <a:pt x="3645" y="2102"/>
                    </a:lnTo>
                    <a:lnTo>
                      <a:pt x="4165" y="2102"/>
                    </a:lnTo>
                    <a:lnTo>
                      <a:pt x="4692" y="1981"/>
                    </a:lnTo>
                    <a:lnTo>
                      <a:pt x="5243" y="1981"/>
                    </a:lnTo>
                    <a:lnTo>
                      <a:pt x="5763" y="1782"/>
                    </a:lnTo>
                    <a:lnTo>
                      <a:pt x="6282" y="2000"/>
                    </a:lnTo>
                    <a:lnTo>
                      <a:pt x="6810" y="1860"/>
                    </a:lnTo>
                    <a:lnTo>
                      <a:pt x="7330" y="1840"/>
                    </a:lnTo>
                    <a:lnTo>
                      <a:pt x="7850" y="1918"/>
                    </a:lnTo>
                    <a:lnTo>
                      <a:pt x="8369" y="1961"/>
                    </a:lnTo>
                    <a:lnTo>
                      <a:pt x="8889" y="1898"/>
                    </a:lnTo>
                    <a:lnTo>
                      <a:pt x="9416" y="198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 txBox="1"/>
              <p:nvPr/>
            </p:nvSpPr>
            <p:spPr>
              <a:xfrm>
                <a:off x="4281480" y="2341440"/>
                <a:ext cx="51444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t Puls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2919240" y="4021200"/>
                <a:ext cx="3764160" cy="1045080"/>
              </a:xfrm>
              <a:custGeom>
                <a:avLst/>
                <a:gdLst/>
                <a:ahLst/>
                <a:rect l="0" t="0" r="r" b="b"/>
                <a:pathLst>
                  <a:path w="10456" h="2903">
                    <a:moveTo>
                      <a:pt x="0" y="2903"/>
                    </a:moveTo>
                    <a:lnTo>
                      <a:pt x="0" y="0"/>
                    </a:lnTo>
                    <a:lnTo>
                      <a:pt x="10456" y="0"/>
                    </a:lnTo>
                    <a:lnTo>
                      <a:pt x="10456" y="2903"/>
                    </a:lnTo>
                    <a:lnTo>
                      <a:pt x="0" y="29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2919240" y="4021200"/>
                <a:ext cx="3764160" cy="1045080"/>
              </a:xfrm>
              <a:custGeom>
                <a:avLst/>
                <a:gdLst/>
                <a:ahLst/>
                <a:rect l="0" t="0" r="r" b="b"/>
                <a:pathLst>
                  <a:path fill="none" w="10456" h="2903">
                    <a:moveTo>
                      <a:pt x="0" y="2903"/>
                    </a:moveTo>
                    <a:lnTo>
                      <a:pt x="0" y="0"/>
                    </a:lnTo>
                    <a:lnTo>
                      <a:pt x="10456" y="0"/>
                    </a:lnTo>
                    <a:lnTo>
                      <a:pt x="10456" y="2903"/>
                    </a:lnTo>
                    <a:lnTo>
                      <a:pt x="0" y="2903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V="1">
                <a:off x="2919240" y="402120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flipV="1">
                <a:off x="3857760" y="402120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flipV="1">
                <a:off x="4807080" y="402120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V="1">
                <a:off x="5745240" y="402120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flipV="1">
                <a:off x="6683400" y="402120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2919240" y="506556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2919240" y="454500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2919240" y="402120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919240" y="506556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2919240" y="402120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flipV="1">
                <a:off x="2919240" y="402120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6683400" y="402120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2919240" y="506556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2919240" y="402120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2919240" y="50418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2919240" y="402120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 txBox="1"/>
              <p:nvPr/>
            </p:nvSpPr>
            <p:spPr>
              <a:xfrm>
                <a:off x="2698920" y="502596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3857760" y="50418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3857760" y="402120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 txBox="1"/>
              <p:nvPr/>
            </p:nvSpPr>
            <p:spPr>
              <a:xfrm>
                <a:off x="3637080" y="502596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4807080" y="50418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4807080" y="402120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 txBox="1"/>
              <p:nvPr/>
            </p:nvSpPr>
            <p:spPr>
              <a:xfrm>
                <a:off x="4541760" y="5025960"/>
                <a:ext cx="2682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5745240" y="50418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745240" y="402120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 txBox="1"/>
              <p:nvPr/>
            </p:nvSpPr>
            <p:spPr>
              <a:xfrm>
                <a:off x="5479920" y="5025960"/>
                <a:ext cx="2682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V="1">
                <a:off x="6683400" y="504180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683400" y="4021200"/>
                <a:ext cx="0" cy="2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 txBox="1"/>
              <p:nvPr/>
            </p:nvSpPr>
            <p:spPr>
              <a:xfrm>
                <a:off x="6416640" y="5025960"/>
                <a:ext cx="2682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2919240" y="50655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flipH="1">
                <a:off x="6647040" y="5065560"/>
                <a:ext cx="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 txBox="1"/>
              <p:nvPr/>
            </p:nvSpPr>
            <p:spPr>
              <a:xfrm>
                <a:off x="2430360" y="4941720"/>
                <a:ext cx="31608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.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2919240" y="45450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flipH="1">
                <a:off x="6647040" y="4545000"/>
                <a:ext cx="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 txBox="1"/>
              <p:nvPr/>
            </p:nvSpPr>
            <p:spPr>
              <a:xfrm>
                <a:off x="2606760" y="442116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2919240" y="40212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flipH="1">
                <a:off x="6647040" y="4021200"/>
                <a:ext cx="3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 txBox="1"/>
              <p:nvPr/>
            </p:nvSpPr>
            <p:spPr>
              <a:xfrm>
                <a:off x="2476440" y="3897360"/>
                <a:ext cx="29052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2919240" y="506556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919240" y="4021200"/>
                <a:ext cx="376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flipV="1">
                <a:off x="2919240" y="402120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flipV="1">
                <a:off x="6683400" y="4021200"/>
                <a:ext cx="0" cy="10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2919240" y="4121280"/>
                <a:ext cx="3389760" cy="894240"/>
              </a:xfrm>
              <a:custGeom>
                <a:avLst/>
                <a:gdLst/>
                <a:ahLst/>
                <a:rect l="0" t="0" r="r" b="b"/>
                <a:pathLst>
                  <a:path fill="none" w="9416" h="2484">
                    <a:moveTo>
                      <a:pt x="0" y="1082"/>
                    </a:moveTo>
                    <a:lnTo>
                      <a:pt x="519" y="2484"/>
                    </a:lnTo>
                    <a:lnTo>
                      <a:pt x="1039" y="1518"/>
                    </a:lnTo>
                    <a:lnTo>
                      <a:pt x="1558" y="1179"/>
                    </a:lnTo>
                    <a:lnTo>
                      <a:pt x="2086" y="0"/>
                    </a:lnTo>
                    <a:lnTo>
                      <a:pt x="2606" y="1319"/>
                    </a:lnTo>
                    <a:lnTo>
                      <a:pt x="3126" y="557"/>
                    </a:lnTo>
                    <a:lnTo>
                      <a:pt x="3645" y="620"/>
                    </a:lnTo>
                    <a:lnTo>
                      <a:pt x="4165" y="518"/>
                    </a:lnTo>
                    <a:lnTo>
                      <a:pt x="4692" y="1319"/>
                    </a:lnTo>
                    <a:lnTo>
                      <a:pt x="5243" y="1562"/>
                    </a:lnTo>
                    <a:lnTo>
                      <a:pt x="5763" y="1198"/>
                    </a:lnTo>
                    <a:lnTo>
                      <a:pt x="6282" y="1198"/>
                    </a:lnTo>
                    <a:lnTo>
                      <a:pt x="6810" y="1179"/>
                    </a:lnTo>
                    <a:lnTo>
                      <a:pt x="7330" y="1261"/>
                    </a:lnTo>
                    <a:lnTo>
                      <a:pt x="7850" y="1082"/>
                    </a:lnTo>
                    <a:lnTo>
                      <a:pt x="8369" y="1218"/>
                    </a:lnTo>
                    <a:lnTo>
                      <a:pt x="8889" y="1218"/>
                    </a:lnTo>
                    <a:lnTo>
                      <a:pt x="9416" y="126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 txBox="1"/>
              <p:nvPr/>
            </p:nvSpPr>
            <p:spPr>
              <a:xfrm>
                <a:off x="4141800" y="5141880"/>
                <a:ext cx="6588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*chipRat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2" name=""/>
            <p:cNvSpPr/>
            <p:nvPr/>
          </p:nvSpPr>
          <p:spPr>
            <a:xfrm>
              <a:off x="3479760" y="556272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6299280" y="5410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V="1">
              <a:off x="2870280" y="5410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>
              <a:off x="2870280" y="55627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 txBox="1"/>
            <p:nvPr/>
          </p:nvSpPr>
          <p:spPr>
            <a:xfrm>
              <a:off x="4010040" y="5427720"/>
              <a:ext cx="1536840" cy="422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stcur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 txBox="1"/>
            <p:nvPr/>
          </p:nvSpPr>
          <p:spPr>
            <a:xfrm>
              <a:off x="2041560" y="5668920"/>
              <a:ext cx="1370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curs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479760" y="2286000"/>
              <a:ext cx="0" cy="3733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 txBox="1"/>
            <p:nvPr/>
          </p:nvSpPr>
          <p:spPr>
            <a:xfrm>
              <a:off x="974880" y="3260880"/>
              <a:ext cx="137016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 ns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mpul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"/>
          <p:cNvSpPr txBox="1"/>
          <p:nvPr/>
        </p:nvSpPr>
        <p:spPr>
          <a:xfrm>
            <a:off x="2346480" y="700200"/>
            <a:ext cx="4570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MAL NOISE FL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746280" y="1584360"/>
            <a:ext cx="77421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mal noise degradation is dependent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link budget and noise 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nk budget is dominated by TX power, TX antenn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gain, propagation loss, flat channel fading, RX antenn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gain, and AGC set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oise figure is dominated by the RCVR front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2" name=""/>
          <p:cNvGrpSpPr/>
          <p:nvPr/>
        </p:nvGrpSpPr>
        <p:grpSpPr>
          <a:xfrm>
            <a:off x="2193840" y="4417920"/>
            <a:ext cx="5349960" cy="1525680"/>
            <a:chOff x="2193840" y="4417920"/>
            <a:chExt cx="5349960" cy="1525680"/>
          </a:xfrm>
        </p:grpSpPr>
        <p:sp>
          <p:nvSpPr>
            <p:cNvPr id="2443" name=""/>
            <p:cNvSpPr/>
            <p:nvPr/>
          </p:nvSpPr>
          <p:spPr>
            <a:xfrm>
              <a:off x="2743200" y="44956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743200" y="44956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>
              <a:off x="2971800" y="44956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97180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 txBox="1"/>
            <p:nvPr/>
          </p:nvSpPr>
          <p:spPr>
            <a:xfrm>
              <a:off x="2651040" y="5103720"/>
              <a:ext cx="6350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590920" y="5105520"/>
              <a:ext cx="68580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791320" y="44956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791320" y="449568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6019920" y="44956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019920" y="47242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 txBox="1"/>
            <p:nvPr/>
          </p:nvSpPr>
          <p:spPr>
            <a:xfrm>
              <a:off x="5699160" y="5103720"/>
              <a:ext cx="177624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X AM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dditive Whit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ussian Nois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5638680" y="5105520"/>
              <a:ext cx="190512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V="1">
              <a:off x="3505320" y="4419720"/>
              <a:ext cx="114300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V="1">
              <a:off x="4267080" y="4572000"/>
              <a:ext cx="137160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>
              <a:off x="4267080" y="4419720"/>
              <a:ext cx="38124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 txBox="1"/>
            <p:nvPr/>
          </p:nvSpPr>
          <p:spPr>
            <a:xfrm>
              <a:off x="4022640" y="4875120"/>
              <a:ext cx="76032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 txBox="1"/>
            <p:nvPr/>
          </p:nvSpPr>
          <p:spPr>
            <a:xfrm>
              <a:off x="6308640" y="4417920"/>
              <a:ext cx="6015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 txBox="1"/>
            <p:nvPr/>
          </p:nvSpPr>
          <p:spPr>
            <a:xfrm>
              <a:off x="2193840" y="4417920"/>
              <a:ext cx="6015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"/>
          <p:cNvSpPr txBox="1"/>
          <p:nvPr/>
        </p:nvSpPr>
        <p:spPr>
          <a:xfrm>
            <a:off x="898560" y="1889280"/>
            <a:ext cx="71978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one evaluate relative importance RCVR’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noise versus multipath perform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esigns may be more noise robust but le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ultipath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designs may be less noise robust but mo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ultipath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 txBox="1"/>
          <p:nvPr/>
        </p:nvSpPr>
        <p:spPr>
          <a:xfrm>
            <a:off x="974880" y="1004760"/>
            <a:ext cx="7346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RTANCE OF NOISE VS. MULTI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3" name=""/>
          <p:cNvGrpSpPr/>
          <p:nvPr/>
        </p:nvGrpSpPr>
        <p:grpSpPr>
          <a:xfrm>
            <a:off x="898560" y="4327560"/>
            <a:ext cx="6848640" cy="1569960"/>
            <a:chOff x="898560" y="4327560"/>
            <a:chExt cx="6848640" cy="1569960"/>
          </a:xfrm>
        </p:grpSpPr>
        <p:sp>
          <p:nvSpPr>
            <p:cNvPr id="2464" name=""/>
            <p:cNvSpPr/>
            <p:nvPr/>
          </p:nvSpPr>
          <p:spPr>
            <a:xfrm>
              <a:off x="2057400" y="45720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546880" y="4327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 txBox="1"/>
            <p:nvPr/>
          </p:nvSpPr>
          <p:spPr>
            <a:xfrm>
              <a:off x="4175280" y="4417920"/>
              <a:ext cx="3571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PLIFIER COMPRESSION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 txBox="1"/>
            <p:nvPr/>
          </p:nvSpPr>
          <p:spPr>
            <a:xfrm>
              <a:off x="4175280" y="5560920"/>
              <a:ext cx="33447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MAL NOISE FLOOR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057400" y="57150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676520" y="51055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3505320" y="457200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 txBox="1"/>
            <p:nvPr/>
          </p:nvSpPr>
          <p:spPr>
            <a:xfrm>
              <a:off x="3565440" y="4951440"/>
              <a:ext cx="11890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ad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362320" y="51055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974880" y="47847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 txBox="1"/>
            <p:nvPr/>
          </p:nvSpPr>
          <p:spPr>
            <a:xfrm>
              <a:off x="898560" y="4875120"/>
              <a:ext cx="8049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rg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"/>
          <p:cNvSpPr txBox="1"/>
          <p:nvPr/>
        </p:nvSpPr>
        <p:spPr>
          <a:xfrm>
            <a:off x="1279440" y="960480"/>
            <a:ext cx="7207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DESIGN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 txBox="1"/>
          <p:nvPr/>
        </p:nvSpPr>
        <p:spPr>
          <a:xfrm>
            <a:off x="1127160" y="5394240"/>
            <a:ext cx="688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QUESTION:  How achieve higher data r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7" name=""/>
          <p:cNvGrpSpPr/>
          <p:nvPr/>
        </p:nvGrpSpPr>
        <p:grpSpPr>
          <a:xfrm>
            <a:off x="685800" y="1752480"/>
            <a:ext cx="8001000" cy="3505320"/>
            <a:chOff x="685800" y="1752480"/>
            <a:chExt cx="8001000" cy="3505320"/>
          </a:xfrm>
        </p:grpSpPr>
        <p:sp>
          <p:nvSpPr>
            <p:cNvPr id="2478" name=""/>
            <p:cNvSpPr txBox="1"/>
            <p:nvPr/>
          </p:nvSpPr>
          <p:spPr>
            <a:xfrm>
              <a:off x="1050840" y="2193840"/>
              <a:ext cx="312264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WGN PARADIG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 Bandwidth Limi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 Power Limit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 txBox="1"/>
            <p:nvPr/>
          </p:nvSpPr>
          <p:spPr>
            <a:xfrm>
              <a:off x="1050840" y="3641760"/>
              <a:ext cx="341136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DITIONAL TWIS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 Multipa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  Multi-user capac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914400" y="2057400"/>
              <a:ext cx="358128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724280" y="2971800"/>
              <a:ext cx="762480" cy="1143360"/>
            </a:xfrm>
            <a:custGeom>
              <a:avLst/>
              <a:gdLst/>
              <a:ahLst/>
              <a:rect l="0" t="0" r="r" b="b"/>
              <a:pathLst>
                <a:path fill="none" w="2118" h="3176">
                  <a:moveTo>
                    <a:pt x="0" y="635"/>
                  </a:moveTo>
                  <a:lnTo>
                    <a:pt x="0" y="2541"/>
                  </a:lnTo>
                  <a:lnTo>
                    <a:pt x="1482" y="2541"/>
                  </a:lnTo>
                  <a:lnTo>
                    <a:pt x="1482" y="3176"/>
                  </a:lnTo>
                  <a:lnTo>
                    <a:pt x="2118" y="1587"/>
                  </a:lnTo>
                  <a:lnTo>
                    <a:pt x="1482" y="0"/>
                  </a:lnTo>
                  <a:lnTo>
                    <a:pt x="1482" y="635"/>
                  </a:lnTo>
                  <a:lnTo>
                    <a:pt x="0" y="6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 txBox="1"/>
            <p:nvPr/>
          </p:nvSpPr>
          <p:spPr>
            <a:xfrm>
              <a:off x="5622840" y="2879640"/>
              <a:ext cx="295272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mplex Mix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o simple 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daptive Tailo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 Scenario Desire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85800" y="1752480"/>
              <a:ext cx="8001000" cy="3505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"/>
          <p:cNvSpPr txBox="1"/>
          <p:nvPr/>
        </p:nvSpPr>
        <p:spPr>
          <a:xfrm>
            <a:off x="1965240" y="731880"/>
            <a:ext cx="48927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COMPAR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2743200" y="220968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2286000" y="37339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>
            <a:off x="2438280" y="1981080"/>
            <a:ext cx="2362680" cy="3581640"/>
          </a:xfrm>
          <a:custGeom>
            <a:avLst/>
            <a:gdLst/>
            <a:ahLst/>
            <a:rect l="0" t="0" r="r" b="b"/>
            <a:pathLst>
              <a:path fill="none" w="6563" h="9949">
                <a:moveTo>
                  <a:pt x="6563" y="0"/>
                </a:moveTo>
                <a:lnTo>
                  <a:pt x="6563" y="0"/>
                </a:lnTo>
                <a:cubicBezTo>
                  <a:pt x="5411" y="0"/>
                  <a:pt x="4279" y="460"/>
                  <a:pt x="3281" y="1333"/>
                </a:cubicBezTo>
                <a:cubicBezTo>
                  <a:pt x="2284" y="2206"/>
                  <a:pt x="1455" y="3462"/>
                  <a:pt x="879" y="4975"/>
                </a:cubicBezTo>
                <a:cubicBezTo>
                  <a:pt x="303" y="6487"/>
                  <a:pt x="0" y="8203"/>
                  <a:pt x="0" y="9949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 txBox="1"/>
          <p:nvPr/>
        </p:nvSpPr>
        <p:spPr>
          <a:xfrm>
            <a:off x="4861080" y="1782720"/>
            <a:ext cx="677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/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 txBox="1"/>
          <p:nvPr/>
        </p:nvSpPr>
        <p:spPr>
          <a:xfrm>
            <a:off x="1584360" y="2011320"/>
            <a:ext cx="1044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ts/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5241960" y="3763800"/>
            <a:ext cx="7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 txBox="1"/>
          <p:nvPr/>
        </p:nvSpPr>
        <p:spPr>
          <a:xfrm>
            <a:off x="3870360" y="327492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P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 txBox="1"/>
          <p:nvPr/>
        </p:nvSpPr>
        <p:spPr>
          <a:xfrm>
            <a:off x="3641760" y="32749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 txBox="1"/>
          <p:nvPr/>
        </p:nvSpPr>
        <p:spPr>
          <a:xfrm>
            <a:off x="3870360" y="251316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4175280" y="289404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4403880" y="2894040"/>
            <a:ext cx="771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 P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4175280" y="2513160"/>
            <a:ext cx="941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 Q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3641760" y="3960720"/>
            <a:ext cx="826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8 M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 txBox="1"/>
          <p:nvPr/>
        </p:nvSpPr>
        <p:spPr>
          <a:xfrm>
            <a:off x="3413160" y="39607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 txBox="1"/>
          <p:nvPr/>
        </p:nvSpPr>
        <p:spPr>
          <a:xfrm>
            <a:off x="3489480" y="4646520"/>
            <a:ext cx="941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6 M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3260880" y="46465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3336840" y="5332320"/>
            <a:ext cx="941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 M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 txBox="1"/>
          <p:nvPr/>
        </p:nvSpPr>
        <p:spPr>
          <a:xfrm>
            <a:off x="3108240" y="5332320"/>
            <a:ext cx="33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5867280" y="41148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 txBox="1"/>
          <p:nvPr/>
        </p:nvSpPr>
        <p:spPr>
          <a:xfrm>
            <a:off x="6308640" y="4014720"/>
            <a:ext cx="831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4648320" y="48006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5089680" y="5081760"/>
            <a:ext cx="19684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s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th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W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5851440" y="2185920"/>
            <a:ext cx="1670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s B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u Symb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H="1">
            <a:off x="5181480" y="259092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9" name=""/>
          <p:cNvGrpSpPr/>
          <p:nvPr/>
        </p:nvGrpSpPr>
        <p:grpSpPr>
          <a:xfrm>
            <a:off x="1066680" y="1981080"/>
            <a:ext cx="6858000" cy="3200400"/>
            <a:chOff x="1066680" y="1981080"/>
            <a:chExt cx="6858000" cy="3200400"/>
          </a:xfrm>
        </p:grpSpPr>
        <p:sp>
          <p:nvSpPr>
            <p:cNvPr id="2510" name=""/>
            <p:cNvSpPr txBox="1"/>
            <p:nvPr/>
          </p:nvSpPr>
          <p:spPr>
            <a:xfrm>
              <a:off x="1279440" y="2803680"/>
              <a:ext cx="180972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TD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-54/IS-1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 txBox="1"/>
            <p:nvPr/>
          </p:nvSpPr>
          <p:spPr>
            <a:xfrm>
              <a:off x="5699160" y="2955960"/>
              <a:ext cx="21654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FE or Viterb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aliz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 txBox="1"/>
            <p:nvPr/>
          </p:nvSpPr>
          <p:spPr>
            <a:xfrm>
              <a:off x="1279440" y="4175280"/>
              <a:ext cx="1131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CD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S-9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 txBox="1"/>
            <p:nvPr/>
          </p:nvSpPr>
          <p:spPr>
            <a:xfrm>
              <a:off x="3489480" y="2879640"/>
              <a:ext cx="20764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rrowb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NR &gt; 10 d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 txBox="1"/>
            <p:nvPr/>
          </p:nvSpPr>
          <p:spPr>
            <a:xfrm>
              <a:off x="3641760" y="4175280"/>
              <a:ext cx="153972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deb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SIR low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 txBox="1"/>
            <p:nvPr/>
          </p:nvSpPr>
          <p:spPr>
            <a:xfrm>
              <a:off x="6080040" y="4403880"/>
              <a:ext cx="1065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066680" y="2590920"/>
              <a:ext cx="22860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352680" y="2590920"/>
              <a:ext cx="22860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638680" y="2590920"/>
              <a:ext cx="22860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066680" y="4038480"/>
              <a:ext cx="228600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352680" y="4038480"/>
              <a:ext cx="228600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638680" y="4038480"/>
              <a:ext cx="228600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 txBox="1"/>
            <p:nvPr/>
          </p:nvSpPr>
          <p:spPr>
            <a:xfrm>
              <a:off x="3565440" y="2117880"/>
              <a:ext cx="16239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ndwid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 txBox="1"/>
            <p:nvPr/>
          </p:nvSpPr>
          <p:spPr>
            <a:xfrm>
              <a:off x="5775480" y="2117880"/>
              <a:ext cx="1573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roces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 txBox="1"/>
            <p:nvPr/>
          </p:nvSpPr>
          <p:spPr>
            <a:xfrm>
              <a:off x="1355760" y="211788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nd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066680" y="1981080"/>
              <a:ext cx="228600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352680" y="1981080"/>
              <a:ext cx="228600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638680" y="1981080"/>
              <a:ext cx="228600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8" name=""/>
          <p:cNvSpPr txBox="1"/>
          <p:nvPr/>
        </p:nvSpPr>
        <p:spPr>
          <a:xfrm>
            <a:off x="2651040" y="1004760"/>
            <a:ext cx="35323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FORM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"/>
          <p:cNvSpPr txBox="1"/>
          <p:nvPr/>
        </p:nvSpPr>
        <p:spPr>
          <a:xfrm>
            <a:off x="1432080" y="700200"/>
            <a:ext cx="67834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VEFORM CONSTRAINTS IM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RAKE-BASED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 txBox="1"/>
          <p:nvPr/>
        </p:nvSpPr>
        <p:spPr>
          <a:xfrm>
            <a:off x="1432080" y="2803680"/>
            <a:ext cx="6365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 Assumptions for Rak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Time &gt;&gt; Multipath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Autocorrelation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1" name=""/>
          <p:cNvGrpSpPr/>
          <p:nvPr/>
        </p:nvGrpSpPr>
        <p:grpSpPr>
          <a:xfrm>
            <a:off x="1905120" y="2192400"/>
            <a:ext cx="5333760" cy="2164320"/>
            <a:chOff x="1905120" y="2192400"/>
            <a:chExt cx="5333760" cy="2164320"/>
          </a:xfrm>
        </p:grpSpPr>
        <p:sp>
          <p:nvSpPr>
            <p:cNvPr id="2532" name=""/>
            <p:cNvSpPr/>
            <p:nvPr/>
          </p:nvSpPr>
          <p:spPr>
            <a:xfrm>
              <a:off x="1905120" y="2801880"/>
              <a:ext cx="2666880" cy="47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572000" y="2801880"/>
              <a:ext cx="2666880" cy="476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 txBox="1"/>
            <p:nvPr/>
          </p:nvSpPr>
          <p:spPr>
            <a:xfrm>
              <a:off x="2838600" y="2192400"/>
              <a:ext cx="37148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Tsym &gt;&gt; multipath spread  to avoid IS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 txBox="1"/>
            <p:nvPr/>
          </p:nvSpPr>
          <p:spPr>
            <a:xfrm>
              <a:off x="2647800" y="2954160"/>
              <a:ext cx="83520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M 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 txBox="1"/>
            <p:nvPr/>
          </p:nvSpPr>
          <p:spPr>
            <a:xfrm>
              <a:off x="5410080" y="2954160"/>
              <a:ext cx="115884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M K + 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4381560" y="3618000"/>
              <a:ext cx="572040" cy="738720"/>
            </a:xfrm>
            <a:custGeom>
              <a:avLst/>
              <a:gdLst/>
              <a:ahLst/>
              <a:rect l="0" t="0" r="r" b="b"/>
              <a:pathLst>
                <a:path fill="none" w="1589" h="2052">
                  <a:moveTo>
                    <a:pt x="0" y="1439"/>
                  </a:moveTo>
                  <a:lnTo>
                    <a:pt x="115" y="1373"/>
                  </a:lnTo>
                  <a:lnTo>
                    <a:pt x="115" y="1323"/>
                  </a:lnTo>
                  <a:lnTo>
                    <a:pt x="99" y="1257"/>
                  </a:lnTo>
                  <a:lnTo>
                    <a:pt x="82" y="1175"/>
                  </a:lnTo>
                  <a:lnTo>
                    <a:pt x="66" y="1108"/>
                  </a:lnTo>
                  <a:lnTo>
                    <a:pt x="66" y="1059"/>
                  </a:lnTo>
                  <a:lnTo>
                    <a:pt x="49" y="976"/>
                  </a:lnTo>
                  <a:lnTo>
                    <a:pt x="33" y="893"/>
                  </a:lnTo>
                  <a:lnTo>
                    <a:pt x="33" y="811"/>
                  </a:lnTo>
                  <a:lnTo>
                    <a:pt x="33" y="761"/>
                  </a:lnTo>
                  <a:lnTo>
                    <a:pt x="33" y="678"/>
                  </a:lnTo>
                  <a:lnTo>
                    <a:pt x="33" y="579"/>
                  </a:lnTo>
                  <a:lnTo>
                    <a:pt x="33" y="496"/>
                  </a:lnTo>
                  <a:lnTo>
                    <a:pt x="49" y="413"/>
                  </a:lnTo>
                  <a:lnTo>
                    <a:pt x="49" y="347"/>
                  </a:lnTo>
                  <a:lnTo>
                    <a:pt x="49" y="297"/>
                  </a:lnTo>
                  <a:lnTo>
                    <a:pt x="66" y="248"/>
                  </a:lnTo>
                  <a:lnTo>
                    <a:pt x="115" y="181"/>
                  </a:lnTo>
                  <a:lnTo>
                    <a:pt x="115" y="115"/>
                  </a:lnTo>
                  <a:lnTo>
                    <a:pt x="115" y="49"/>
                  </a:lnTo>
                  <a:lnTo>
                    <a:pt x="115" y="0"/>
                  </a:lnTo>
                  <a:lnTo>
                    <a:pt x="165" y="49"/>
                  </a:lnTo>
                  <a:lnTo>
                    <a:pt x="181" y="148"/>
                  </a:lnTo>
                  <a:lnTo>
                    <a:pt x="214" y="231"/>
                  </a:lnTo>
                  <a:lnTo>
                    <a:pt x="214" y="297"/>
                  </a:lnTo>
                  <a:lnTo>
                    <a:pt x="214" y="363"/>
                  </a:lnTo>
                  <a:lnTo>
                    <a:pt x="214" y="463"/>
                  </a:lnTo>
                  <a:lnTo>
                    <a:pt x="214" y="563"/>
                  </a:lnTo>
                  <a:lnTo>
                    <a:pt x="214" y="645"/>
                  </a:lnTo>
                  <a:lnTo>
                    <a:pt x="214" y="712"/>
                  </a:lnTo>
                  <a:lnTo>
                    <a:pt x="231" y="794"/>
                  </a:lnTo>
                  <a:lnTo>
                    <a:pt x="231" y="877"/>
                  </a:lnTo>
                  <a:lnTo>
                    <a:pt x="231" y="976"/>
                  </a:lnTo>
                  <a:lnTo>
                    <a:pt x="231" y="1075"/>
                  </a:lnTo>
                  <a:lnTo>
                    <a:pt x="231" y="1158"/>
                  </a:lnTo>
                  <a:lnTo>
                    <a:pt x="248" y="1241"/>
                  </a:lnTo>
                  <a:lnTo>
                    <a:pt x="248" y="1290"/>
                  </a:lnTo>
                  <a:lnTo>
                    <a:pt x="248" y="1373"/>
                  </a:lnTo>
                  <a:lnTo>
                    <a:pt x="248" y="1489"/>
                  </a:lnTo>
                  <a:lnTo>
                    <a:pt x="248" y="1572"/>
                  </a:lnTo>
                  <a:lnTo>
                    <a:pt x="248" y="1622"/>
                  </a:lnTo>
                  <a:lnTo>
                    <a:pt x="264" y="1672"/>
                  </a:lnTo>
                  <a:lnTo>
                    <a:pt x="281" y="1754"/>
                  </a:lnTo>
                  <a:lnTo>
                    <a:pt x="297" y="1854"/>
                  </a:lnTo>
                  <a:lnTo>
                    <a:pt x="330" y="1986"/>
                  </a:lnTo>
                  <a:lnTo>
                    <a:pt x="330" y="2052"/>
                  </a:lnTo>
                  <a:lnTo>
                    <a:pt x="330" y="1953"/>
                  </a:lnTo>
                  <a:lnTo>
                    <a:pt x="347" y="1837"/>
                  </a:lnTo>
                  <a:lnTo>
                    <a:pt x="347" y="1771"/>
                  </a:lnTo>
                  <a:lnTo>
                    <a:pt x="380" y="1705"/>
                  </a:lnTo>
                  <a:lnTo>
                    <a:pt x="380" y="1622"/>
                  </a:lnTo>
                  <a:lnTo>
                    <a:pt x="380" y="1522"/>
                  </a:lnTo>
                  <a:lnTo>
                    <a:pt x="414" y="1423"/>
                  </a:lnTo>
                  <a:lnTo>
                    <a:pt x="414" y="1373"/>
                  </a:lnTo>
                  <a:lnTo>
                    <a:pt x="414" y="1290"/>
                  </a:lnTo>
                  <a:lnTo>
                    <a:pt x="430" y="1208"/>
                  </a:lnTo>
                  <a:lnTo>
                    <a:pt x="430" y="1125"/>
                  </a:lnTo>
                  <a:lnTo>
                    <a:pt x="447" y="1026"/>
                  </a:lnTo>
                  <a:lnTo>
                    <a:pt x="447" y="960"/>
                  </a:lnTo>
                  <a:lnTo>
                    <a:pt x="513" y="943"/>
                  </a:lnTo>
                  <a:lnTo>
                    <a:pt x="563" y="960"/>
                  </a:lnTo>
                  <a:lnTo>
                    <a:pt x="579" y="1026"/>
                  </a:lnTo>
                  <a:lnTo>
                    <a:pt x="612" y="1108"/>
                  </a:lnTo>
                  <a:lnTo>
                    <a:pt x="629" y="1191"/>
                  </a:lnTo>
                  <a:lnTo>
                    <a:pt x="629" y="1274"/>
                  </a:lnTo>
                  <a:lnTo>
                    <a:pt x="629" y="1323"/>
                  </a:lnTo>
                  <a:lnTo>
                    <a:pt x="645" y="1390"/>
                  </a:lnTo>
                  <a:lnTo>
                    <a:pt x="695" y="1390"/>
                  </a:lnTo>
                  <a:lnTo>
                    <a:pt x="761" y="1356"/>
                  </a:lnTo>
                  <a:lnTo>
                    <a:pt x="827" y="1274"/>
                  </a:lnTo>
                  <a:lnTo>
                    <a:pt x="893" y="1224"/>
                  </a:lnTo>
                  <a:lnTo>
                    <a:pt x="943" y="1224"/>
                  </a:lnTo>
                  <a:lnTo>
                    <a:pt x="993" y="1274"/>
                  </a:lnTo>
                  <a:lnTo>
                    <a:pt x="1059" y="1340"/>
                  </a:lnTo>
                  <a:lnTo>
                    <a:pt x="1108" y="1356"/>
                  </a:lnTo>
                  <a:lnTo>
                    <a:pt x="1191" y="1290"/>
                  </a:lnTo>
                  <a:lnTo>
                    <a:pt x="1242" y="1224"/>
                  </a:lnTo>
                  <a:lnTo>
                    <a:pt x="1275" y="1175"/>
                  </a:lnTo>
                  <a:lnTo>
                    <a:pt x="1291" y="1125"/>
                  </a:lnTo>
                  <a:lnTo>
                    <a:pt x="1357" y="1125"/>
                  </a:lnTo>
                  <a:lnTo>
                    <a:pt x="1407" y="1125"/>
                  </a:lnTo>
                  <a:lnTo>
                    <a:pt x="1490" y="1191"/>
                  </a:lnTo>
                  <a:lnTo>
                    <a:pt x="1556" y="1241"/>
                  </a:lnTo>
                  <a:lnTo>
                    <a:pt x="1589" y="117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 txBox="1"/>
            <p:nvPr/>
          </p:nvSpPr>
          <p:spPr>
            <a:xfrm>
              <a:off x="5219640" y="3525840"/>
              <a:ext cx="1143000" cy="80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ne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ul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 txBox="1"/>
            <p:nvPr/>
          </p:nvSpPr>
          <p:spPr>
            <a:xfrm>
              <a:off x="3219480" y="3716280"/>
              <a:ext cx="1089000" cy="343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volv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"/>
          <p:cNvSpPr txBox="1"/>
          <p:nvPr/>
        </p:nvSpPr>
        <p:spPr>
          <a:xfrm>
            <a:off x="1279440" y="1004760"/>
            <a:ext cx="7021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ING ISI THRU SIGN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 txBox="1"/>
          <p:nvPr/>
        </p:nvSpPr>
        <p:spPr>
          <a:xfrm>
            <a:off x="1432080" y="4861080"/>
            <a:ext cx="6149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DM and RAKE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 11, 16 chip symbols only weakly meet thi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2" name=""/>
          <p:cNvSpPr txBox="1"/>
          <p:nvPr/>
        </p:nvSpPr>
        <p:spPr>
          <a:xfrm>
            <a:off x="1022400" y="928800"/>
            <a:ext cx="69804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ING BANDWIDTH TO OBT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3" name=""/>
          <p:cNvGrpSpPr/>
          <p:nvPr/>
        </p:nvGrpSpPr>
        <p:grpSpPr>
          <a:xfrm>
            <a:off x="1371600" y="2637000"/>
            <a:ext cx="6551640" cy="2179440"/>
            <a:chOff x="1371600" y="2637000"/>
            <a:chExt cx="6551640" cy="2179440"/>
          </a:xfrm>
        </p:grpSpPr>
        <p:sp>
          <p:nvSpPr>
            <p:cNvPr id="2544" name=""/>
            <p:cNvSpPr/>
            <p:nvPr/>
          </p:nvSpPr>
          <p:spPr>
            <a:xfrm flipH="1">
              <a:off x="2362320" y="3200400"/>
              <a:ext cx="152280" cy="12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514600" y="3200400"/>
              <a:ext cx="76320" cy="1295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2590920" y="434340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 flipV="1">
              <a:off x="2286000" y="434340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666880" y="434340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H="1">
              <a:off x="2209680" y="434340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371600" y="441972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 txBox="1"/>
            <p:nvPr/>
          </p:nvSpPr>
          <p:spPr>
            <a:xfrm>
              <a:off x="1584360" y="2637000"/>
              <a:ext cx="1733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TOCORRE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181480" y="3083040"/>
              <a:ext cx="2362680" cy="117720"/>
            </a:xfrm>
            <a:custGeom>
              <a:avLst/>
              <a:gdLst/>
              <a:ahLst/>
              <a:rect l="0" t="0" r="r" b="b"/>
              <a:pathLst>
                <a:path fill="none" w="6563" h="327">
                  <a:moveTo>
                    <a:pt x="0" y="114"/>
                  </a:moveTo>
                  <a:lnTo>
                    <a:pt x="92" y="239"/>
                  </a:lnTo>
                  <a:lnTo>
                    <a:pt x="154" y="269"/>
                  </a:lnTo>
                  <a:lnTo>
                    <a:pt x="242" y="296"/>
                  </a:lnTo>
                  <a:lnTo>
                    <a:pt x="392" y="327"/>
                  </a:lnTo>
                  <a:lnTo>
                    <a:pt x="480" y="269"/>
                  </a:lnTo>
                  <a:lnTo>
                    <a:pt x="630" y="269"/>
                  </a:lnTo>
                  <a:lnTo>
                    <a:pt x="776" y="208"/>
                  </a:lnTo>
                  <a:lnTo>
                    <a:pt x="895" y="149"/>
                  </a:lnTo>
                  <a:lnTo>
                    <a:pt x="956" y="119"/>
                  </a:lnTo>
                  <a:lnTo>
                    <a:pt x="1075" y="149"/>
                  </a:lnTo>
                  <a:lnTo>
                    <a:pt x="1106" y="239"/>
                  </a:lnTo>
                  <a:lnTo>
                    <a:pt x="1195" y="177"/>
                  </a:lnTo>
                  <a:lnTo>
                    <a:pt x="1371" y="88"/>
                  </a:lnTo>
                  <a:lnTo>
                    <a:pt x="1433" y="57"/>
                  </a:lnTo>
                  <a:lnTo>
                    <a:pt x="1552" y="30"/>
                  </a:lnTo>
                  <a:lnTo>
                    <a:pt x="1672" y="30"/>
                  </a:lnTo>
                  <a:lnTo>
                    <a:pt x="1698" y="119"/>
                  </a:lnTo>
                  <a:lnTo>
                    <a:pt x="1760" y="119"/>
                  </a:lnTo>
                  <a:lnTo>
                    <a:pt x="1879" y="57"/>
                  </a:lnTo>
                  <a:lnTo>
                    <a:pt x="1998" y="57"/>
                  </a:lnTo>
                  <a:lnTo>
                    <a:pt x="2086" y="88"/>
                  </a:lnTo>
                  <a:lnTo>
                    <a:pt x="2117" y="177"/>
                  </a:lnTo>
                  <a:lnTo>
                    <a:pt x="2205" y="177"/>
                  </a:lnTo>
                  <a:lnTo>
                    <a:pt x="2355" y="149"/>
                  </a:lnTo>
                  <a:lnTo>
                    <a:pt x="2474" y="119"/>
                  </a:lnTo>
                  <a:lnTo>
                    <a:pt x="2563" y="88"/>
                  </a:lnTo>
                  <a:lnTo>
                    <a:pt x="2651" y="177"/>
                  </a:lnTo>
                  <a:lnTo>
                    <a:pt x="2739" y="149"/>
                  </a:lnTo>
                  <a:lnTo>
                    <a:pt x="2832" y="119"/>
                  </a:lnTo>
                  <a:lnTo>
                    <a:pt x="2920" y="88"/>
                  </a:lnTo>
                  <a:lnTo>
                    <a:pt x="3008" y="30"/>
                  </a:lnTo>
                  <a:lnTo>
                    <a:pt x="3096" y="0"/>
                  </a:lnTo>
                  <a:lnTo>
                    <a:pt x="3158" y="0"/>
                  </a:lnTo>
                  <a:lnTo>
                    <a:pt x="3189" y="88"/>
                  </a:lnTo>
                  <a:lnTo>
                    <a:pt x="3303" y="57"/>
                  </a:lnTo>
                  <a:lnTo>
                    <a:pt x="3396" y="30"/>
                  </a:lnTo>
                  <a:lnTo>
                    <a:pt x="3542" y="30"/>
                  </a:lnTo>
                  <a:lnTo>
                    <a:pt x="3603" y="30"/>
                  </a:lnTo>
                  <a:lnTo>
                    <a:pt x="3634" y="119"/>
                  </a:lnTo>
                  <a:lnTo>
                    <a:pt x="3634" y="208"/>
                  </a:lnTo>
                  <a:lnTo>
                    <a:pt x="3811" y="149"/>
                  </a:lnTo>
                  <a:lnTo>
                    <a:pt x="3899" y="88"/>
                  </a:lnTo>
                  <a:lnTo>
                    <a:pt x="3960" y="57"/>
                  </a:lnTo>
                  <a:lnTo>
                    <a:pt x="4049" y="57"/>
                  </a:lnTo>
                  <a:lnTo>
                    <a:pt x="4137" y="88"/>
                  </a:lnTo>
                  <a:lnTo>
                    <a:pt x="4168" y="177"/>
                  </a:lnTo>
                  <a:lnTo>
                    <a:pt x="4406" y="177"/>
                  </a:lnTo>
                  <a:lnTo>
                    <a:pt x="4556" y="119"/>
                  </a:lnTo>
                  <a:lnTo>
                    <a:pt x="4644" y="88"/>
                  </a:lnTo>
                  <a:lnTo>
                    <a:pt x="4794" y="149"/>
                  </a:lnTo>
                  <a:lnTo>
                    <a:pt x="4882" y="177"/>
                  </a:lnTo>
                  <a:lnTo>
                    <a:pt x="4971" y="177"/>
                  </a:lnTo>
                  <a:lnTo>
                    <a:pt x="5090" y="177"/>
                  </a:lnTo>
                  <a:lnTo>
                    <a:pt x="5179" y="149"/>
                  </a:lnTo>
                  <a:lnTo>
                    <a:pt x="5240" y="119"/>
                  </a:lnTo>
                  <a:lnTo>
                    <a:pt x="5328" y="177"/>
                  </a:lnTo>
                  <a:lnTo>
                    <a:pt x="5417" y="208"/>
                  </a:lnTo>
                  <a:lnTo>
                    <a:pt x="5505" y="208"/>
                  </a:lnTo>
                  <a:lnTo>
                    <a:pt x="5567" y="177"/>
                  </a:lnTo>
                  <a:lnTo>
                    <a:pt x="5686" y="149"/>
                  </a:lnTo>
                  <a:lnTo>
                    <a:pt x="5774" y="149"/>
                  </a:lnTo>
                  <a:lnTo>
                    <a:pt x="5836" y="208"/>
                  </a:lnTo>
                  <a:lnTo>
                    <a:pt x="5836" y="119"/>
                  </a:lnTo>
                  <a:lnTo>
                    <a:pt x="5955" y="88"/>
                  </a:lnTo>
                  <a:lnTo>
                    <a:pt x="6043" y="88"/>
                  </a:lnTo>
                  <a:lnTo>
                    <a:pt x="6069" y="149"/>
                  </a:lnTo>
                  <a:lnTo>
                    <a:pt x="6162" y="208"/>
                  </a:lnTo>
                  <a:lnTo>
                    <a:pt x="6250" y="177"/>
                  </a:lnTo>
                  <a:lnTo>
                    <a:pt x="6338" y="208"/>
                  </a:lnTo>
                  <a:lnTo>
                    <a:pt x="6400" y="149"/>
                  </a:lnTo>
                  <a:lnTo>
                    <a:pt x="6488" y="177"/>
                  </a:lnTo>
                  <a:lnTo>
                    <a:pt x="6563" y="1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105520" y="4419720"/>
              <a:ext cx="251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886200" y="3429000"/>
              <a:ext cx="762480" cy="686160"/>
            </a:xfrm>
            <a:custGeom>
              <a:avLst/>
              <a:gdLst/>
              <a:ahLst/>
              <a:rect l="0" t="0" r="r" b="b"/>
              <a:pathLst>
                <a:path fill="none" w="2118" h="1906">
                  <a:moveTo>
                    <a:pt x="0" y="634"/>
                  </a:moveTo>
                  <a:lnTo>
                    <a:pt x="0" y="1269"/>
                  </a:lnTo>
                  <a:lnTo>
                    <a:pt x="1482" y="1269"/>
                  </a:lnTo>
                  <a:lnTo>
                    <a:pt x="1482" y="1906"/>
                  </a:lnTo>
                  <a:lnTo>
                    <a:pt x="2118" y="952"/>
                  </a:lnTo>
                  <a:lnTo>
                    <a:pt x="1482" y="0"/>
                  </a:lnTo>
                  <a:lnTo>
                    <a:pt x="1482" y="634"/>
                  </a:lnTo>
                  <a:lnTo>
                    <a:pt x="0" y="63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 txBox="1"/>
            <p:nvPr/>
          </p:nvSpPr>
          <p:spPr>
            <a:xfrm>
              <a:off x="5622840" y="2637000"/>
              <a:ext cx="1589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AD WHI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LSE SPECTRU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 txBox="1"/>
            <p:nvPr/>
          </p:nvSpPr>
          <p:spPr>
            <a:xfrm>
              <a:off x="3870360" y="3094200"/>
              <a:ext cx="979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 txBox="1"/>
            <p:nvPr/>
          </p:nvSpPr>
          <p:spPr>
            <a:xfrm>
              <a:off x="3260880" y="4465800"/>
              <a:ext cx="496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 txBox="1"/>
            <p:nvPr/>
          </p:nvSpPr>
          <p:spPr>
            <a:xfrm>
              <a:off x="7451640" y="4541760"/>
              <a:ext cx="4716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9" name=""/>
          <p:cNvSpPr txBox="1"/>
          <p:nvPr/>
        </p:nvSpPr>
        <p:spPr>
          <a:xfrm>
            <a:off x="822240" y="5241960"/>
            <a:ext cx="7308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for clean channel finger correlation-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neous BW consumption limits data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"/>
          <p:cNvSpPr txBox="1"/>
          <p:nvPr/>
        </p:nvSpPr>
        <p:spPr>
          <a:xfrm>
            <a:off x="1965240" y="776160"/>
            <a:ext cx="4896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 txBox="1"/>
          <p:nvPr/>
        </p:nvSpPr>
        <p:spPr>
          <a:xfrm>
            <a:off x="1203480" y="1432080"/>
            <a:ext cx="645012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NR is good enough, chip-level equaliz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s potent  (TDMA standards, microwave li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waste bandwidth trying to achie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good correlation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s ISI, so symbol duration is fre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rom multipath-spread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ing can be si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2" name=""/>
          <p:cNvGrpSpPr/>
          <p:nvPr/>
        </p:nvGrpSpPr>
        <p:grpSpPr>
          <a:xfrm>
            <a:off x="1432080" y="4221000"/>
            <a:ext cx="5937120" cy="1984680"/>
            <a:chOff x="1432080" y="4221000"/>
            <a:chExt cx="5937120" cy="1984680"/>
          </a:xfrm>
        </p:grpSpPr>
        <p:sp>
          <p:nvSpPr>
            <p:cNvPr id="2563" name=""/>
            <p:cNvSpPr/>
            <p:nvPr/>
          </p:nvSpPr>
          <p:spPr>
            <a:xfrm>
              <a:off x="3505320" y="5791320"/>
              <a:ext cx="2438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4" name=""/>
            <p:cNvGrpSpPr/>
            <p:nvPr/>
          </p:nvGrpSpPr>
          <p:grpSpPr>
            <a:xfrm>
              <a:off x="2160720" y="4599000"/>
              <a:ext cx="5208480" cy="939960"/>
              <a:chOff x="2160720" y="4599000"/>
              <a:chExt cx="5208480" cy="939960"/>
            </a:xfrm>
          </p:grpSpPr>
          <p:sp>
            <p:nvSpPr>
              <p:cNvPr id="2565" name=""/>
              <p:cNvSpPr txBox="1"/>
              <p:nvPr/>
            </p:nvSpPr>
            <p:spPr>
              <a:xfrm>
                <a:off x="2160720" y="4599000"/>
                <a:ext cx="1057320" cy="9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atched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ilter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ound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 txBox="1"/>
              <p:nvPr/>
            </p:nvSpPr>
            <p:spPr>
              <a:xfrm>
                <a:off x="3457440" y="4599000"/>
                <a:ext cx="1044720" cy="65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MLS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Viterbi)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 txBox="1"/>
              <p:nvPr/>
            </p:nvSpPr>
            <p:spPr>
              <a:xfrm>
                <a:off x="4809960" y="4599000"/>
                <a:ext cx="1150920" cy="93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ecision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Feedback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qualizer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 txBox="1"/>
              <p:nvPr/>
            </p:nvSpPr>
            <p:spPr>
              <a:xfrm>
                <a:off x="6218280" y="4599000"/>
                <a:ext cx="1150920" cy="65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inear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qualizer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 txBox="1"/>
              <p:nvPr/>
            </p:nvSpPr>
            <p:spPr>
              <a:xfrm>
                <a:off x="3062160" y="4853160"/>
                <a:ext cx="28404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 txBox="1"/>
              <p:nvPr/>
            </p:nvSpPr>
            <p:spPr>
              <a:xfrm>
                <a:off x="4470480" y="4853160"/>
                <a:ext cx="28404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 txBox="1"/>
              <p:nvPr/>
            </p:nvSpPr>
            <p:spPr>
              <a:xfrm>
                <a:off x="5880240" y="4853160"/>
                <a:ext cx="284040" cy="36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2" name=""/>
            <p:cNvSpPr txBox="1"/>
            <p:nvPr/>
          </p:nvSpPr>
          <p:spPr>
            <a:xfrm>
              <a:off x="1432080" y="4221000"/>
              <a:ext cx="37749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EQUALIZER PERFORM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 txBox="1"/>
            <p:nvPr/>
          </p:nvSpPr>
          <p:spPr>
            <a:xfrm>
              <a:off x="3946680" y="5538960"/>
              <a:ext cx="1492200" cy="66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ARR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PO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60680" y="852480"/>
            <a:ext cx="5796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AR CHANNEL DIST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828800" y="4343400"/>
            <a:ext cx="5410080" cy="770040"/>
            <a:chOff x="1828800" y="4343400"/>
            <a:chExt cx="5410080" cy="770040"/>
          </a:xfrm>
        </p:grpSpPr>
        <p:sp>
          <p:nvSpPr>
            <p:cNvPr id="47" name=""/>
            <p:cNvSpPr txBox="1"/>
            <p:nvPr/>
          </p:nvSpPr>
          <p:spPr>
            <a:xfrm>
              <a:off x="1889280" y="4471920"/>
              <a:ext cx="11365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28800" y="4343400"/>
              <a:ext cx="13716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 txBox="1"/>
            <p:nvPr/>
          </p:nvSpPr>
          <p:spPr>
            <a:xfrm>
              <a:off x="5927760" y="4471920"/>
              <a:ext cx="11365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L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867280" y="4343400"/>
              <a:ext cx="13716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 txBox="1"/>
            <p:nvPr/>
          </p:nvSpPr>
          <p:spPr>
            <a:xfrm>
              <a:off x="3794040" y="4471920"/>
              <a:ext cx="15048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LTIPA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33920" y="4343400"/>
              <a:ext cx="16002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4724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4120" y="47242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 txBox="1"/>
          <p:nvPr/>
        </p:nvSpPr>
        <p:spPr>
          <a:xfrm>
            <a:off x="976320" y="1630440"/>
            <a:ext cx="710424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POSITE LINEAR DISTORTION DRIV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CEIVER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GOOD PERFORMANCE LINEAR DISTOR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UST BE MITIG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IGATION TECHNIQUES CAN GREATLY INCREAS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ECEIVER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803680" y="5462640"/>
            <a:ext cx="3803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ND-TO-END LINEAR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"/>
          <p:cNvSpPr txBox="1"/>
          <p:nvPr/>
        </p:nvSpPr>
        <p:spPr>
          <a:xfrm>
            <a:off x="2498760" y="776160"/>
            <a:ext cx="3592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 txBox="1"/>
          <p:nvPr/>
        </p:nvSpPr>
        <p:spPr>
          <a:xfrm>
            <a:off x="746280" y="1432080"/>
            <a:ext cx="770724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 a waveform which meets at broa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range of needs (highly tailor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fettered by RAKE waveform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it predominate min. phase channel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he highest performance/complexity rati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or multipath m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*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mplexity in benign MP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*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complexity in moderate MP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*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st complexity in severe MP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icable to 2.4 and 5 GHz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modates short pream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modates even higher data rates (22, 33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ance properties equiv. to others with similar bits/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"/>
          <p:cNvSpPr/>
          <p:nvPr/>
        </p:nvSpPr>
        <p:spPr>
          <a:xfrm>
            <a:off x="1736640" y="82224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 txBox="1"/>
          <p:nvPr/>
        </p:nvSpPr>
        <p:spPr>
          <a:xfrm>
            <a:off x="2271600" y="776160"/>
            <a:ext cx="51544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c/No SUFFICIENT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EQUALIZATION?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8" name=""/>
          <p:cNvGrpSpPr/>
          <p:nvPr/>
        </p:nvGrpSpPr>
        <p:grpSpPr>
          <a:xfrm>
            <a:off x="1922400" y="1965240"/>
            <a:ext cx="4740120" cy="2749680"/>
            <a:chOff x="1922400" y="1965240"/>
            <a:chExt cx="4740120" cy="2749680"/>
          </a:xfrm>
        </p:grpSpPr>
        <p:sp>
          <p:nvSpPr>
            <p:cNvPr id="2579" name=""/>
            <p:cNvSpPr/>
            <p:nvPr/>
          </p:nvSpPr>
          <p:spPr>
            <a:xfrm>
              <a:off x="3103560" y="2185920"/>
              <a:ext cx="3292560" cy="958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3103560" y="3144960"/>
              <a:ext cx="3292560" cy="960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103560" y="2185920"/>
              <a:ext cx="1646280" cy="19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749840" y="2185920"/>
              <a:ext cx="1646280" cy="191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 txBox="1"/>
            <p:nvPr/>
          </p:nvSpPr>
          <p:spPr>
            <a:xfrm>
              <a:off x="2951280" y="4132440"/>
              <a:ext cx="29196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 txBox="1"/>
            <p:nvPr/>
          </p:nvSpPr>
          <p:spPr>
            <a:xfrm>
              <a:off x="4597560" y="4132440"/>
              <a:ext cx="29196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 txBox="1"/>
            <p:nvPr/>
          </p:nvSpPr>
          <p:spPr>
            <a:xfrm>
              <a:off x="6243480" y="4132440"/>
              <a:ext cx="419040" cy="35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 txBox="1"/>
            <p:nvPr/>
          </p:nvSpPr>
          <p:spPr>
            <a:xfrm>
              <a:off x="2471760" y="1965240"/>
              <a:ext cx="64620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 txBox="1"/>
            <p:nvPr/>
          </p:nvSpPr>
          <p:spPr>
            <a:xfrm>
              <a:off x="2471760" y="2925720"/>
              <a:ext cx="64620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 txBox="1"/>
            <p:nvPr/>
          </p:nvSpPr>
          <p:spPr>
            <a:xfrm>
              <a:off x="2471760" y="3886200"/>
              <a:ext cx="64620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6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 txBox="1"/>
            <p:nvPr/>
          </p:nvSpPr>
          <p:spPr>
            <a:xfrm>
              <a:off x="1922400" y="2444760"/>
              <a:ext cx="70812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 txBox="1"/>
            <p:nvPr/>
          </p:nvSpPr>
          <p:spPr>
            <a:xfrm>
              <a:off x="5010120" y="4297320"/>
              <a:ext cx="92556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b/N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543560" y="2320920"/>
              <a:ext cx="206280" cy="1647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6053040" y="2389320"/>
              <a:ext cx="204840" cy="16477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 txBox="1"/>
            <p:nvPr/>
          </p:nvSpPr>
          <p:spPr>
            <a:xfrm>
              <a:off x="5078520" y="2308320"/>
              <a:ext cx="925560" cy="75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PS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hi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 txBox="1"/>
            <p:nvPr/>
          </p:nvSpPr>
          <p:spPr>
            <a:xfrm>
              <a:off x="3294000" y="3405240"/>
              <a:ext cx="126684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QMBOK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4680000" y="3214800"/>
              <a:ext cx="144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 txBox="1"/>
            <p:nvPr/>
          </p:nvSpPr>
          <p:spPr>
            <a:xfrm>
              <a:off x="4940280" y="3200400"/>
              <a:ext cx="946080" cy="41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 2 dB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7" name=""/>
          <p:cNvSpPr txBox="1"/>
          <p:nvPr/>
        </p:nvSpPr>
        <p:spPr>
          <a:xfrm>
            <a:off x="1203480" y="4937040"/>
            <a:ext cx="7291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 is only 2 dB better than chip error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results for others with same bits/Hz (Luc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"/>
          <p:cNvSpPr txBox="1"/>
          <p:nvPr/>
        </p:nvSpPr>
        <p:spPr>
          <a:xfrm>
            <a:off x="1660680" y="808200"/>
            <a:ext cx="55483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S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 txBox="1"/>
          <p:nvPr/>
        </p:nvSpPr>
        <p:spPr>
          <a:xfrm>
            <a:off x="1508040" y="1736640"/>
            <a:ext cx="58611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 for 30 nsec delay spreads or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limiting in RF front-end (low c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s no eq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0" name=""/>
          <p:cNvGrpSpPr/>
          <p:nvPr/>
        </p:nvGrpSpPr>
        <p:grpSpPr>
          <a:xfrm>
            <a:off x="1219320" y="3276720"/>
            <a:ext cx="6477120" cy="2438280"/>
            <a:chOff x="1219320" y="3276720"/>
            <a:chExt cx="6477120" cy="2438280"/>
          </a:xfrm>
        </p:grpSpPr>
        <p:sp>
          <p:nvSpPr>
            <p:cNvPr id="2601" name=""/>
            <p:cNvSpPr/>
            <p:nvPr/>
          </p:nvSpPr>
          <p:spPr>
            <a:xfrm>
              <a:off x="2514600" y="3733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590920" y="380988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H="1">
              <a:off x="2590920" y="380988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981080" y="38862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V="1">
              <a:off x="2666880" y="40384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819520" y="388620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 txBox="1"/>
            <p:nvPr/>
          </p:nvSpPr>
          <p:spPr>
            <a:xfrm>
              <a:off x="4175280" y="4313160"/>
              <a:ext cx="92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191120" y="4267080"/>
              <a:ext cx="9144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4648320" y="38862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 txBox="1"/>
            <p:nvPr/>
          </p:nvSpPr>
          <p:spPr>
            <a:xfrm>
              <a:off x="5165640" y="362736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L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R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 txBox="1"/>
            <p:nvPr/>
          </p:nvSpPr>
          <p:spPr>
            <a:xfrm>
              <a:off x="6537240" y="3627360"/>
              <a:ext cx="92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MB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181480" y="3581280"/>
              <a:ext cx="91440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6477120" y="3581280"/>
              <a:ext cx="9907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095880" y="38862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581280" y="49528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657600" y="5105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733920" y="5029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733920" y="38862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648320" y="48006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>
              <a:off x="3886200" y="510552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 txBox="1"/>
            <p:nvPr/>
          </p:nvSpPr>
          <p:spPr>
            <a:xfrm>
              <a:off x="2346480" y="4846680"/>
              <a:ext cx="878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286000" y="4800600"/>
              <a:ext cx="9144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>
              <a:off x="3200400" y="5105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 txBox="1"/>
            <p:nvPr/>
          </p:nvSpPr>
          <p:spPr>
            <a:xfrm>
              <a:off x="3946680" y="5151600"/>
              <a:ext cx="23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 txBox="1"/>
            <p:nvPr/>
          </p:nvSpPr>
          <p:spPr>
            <a:xfrm>
              <a:off x="3489480" y="454176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 txBox="1"/>
            <p:nvPr/>
          </p:nvSpPr>
          <p:spPr>
            <a:xfrm>
              <a:off x="1279440" y="3780000"/>
              <a:ext cx="557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/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 txBox="1"/>
            <p:nvPr/>
          </p:nvSpPr>
          <p:spPr>
            <a:xfrm>
              <a:off x="3184560" y="530388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1219320" y="3276720"/>
              <a:ext cx="6477120" cy="2438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"/>
          <p:cNvSpPr txBox="1"/>
          <p:nvPr/>
        </p:nvSpPr>
        <p:spPr>
          <a:xfrm>
            <a:off x="746280" y="928800"/>
            <a:ext cx="7810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COMPLEXITY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 txBox="1"/>
          <p:nvPr/>
        </p:nvSpPr>
        <p:spPr>
          <a:xfrm>
            <a:off x="974880" y="1660680"/>
            <a:ext cx="72518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its predominately minimum phase channe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PER with up to 100 nsec RMS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Feedback Equalizer based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/complexity tail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*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back tap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*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B taps with 2 FF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*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B taps with 3 FF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 training using channel impulse response 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ise amplification minimized by 2 samples/chi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hannel estimation.  Decimate about pea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ise amplification minimized by mostly FB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1" name=""/>
          <p:cNvGrpSpPr/>
          <p:nvPr/>
        </p:nvGrpSpPr>
        <p:grpSpPr>
          <a:xfrm>
            <a:off x="990720" y="2590920"/>
            <a:ext cx="3233880" cy="3305160"/>
            <a:chOff x="990720" y="2590920"/>
            <a:chExt cx="3233880" cy="3305160"/>
          </a:xfrm>
        </p:grpSpPr>
        <p:sp>
          <p:nvSpPr>
            <p:cNvPr id="2632" name=""/>
            <p:cNvSpPr/>
            <p:nvPr/>
          </p:nvSpPr>
          <p:spPr>
            <a:xfrm>
              <a:off x="990720" y="2630520"/>
              <a:ext cx="3233880" cy="326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403280" y="2874960"/>
              <a:ext cx="2499120" cy="1113120"/>
            </a:xfrm>
            <a:custGeom>
              <a:avLst/>
              <a:gdLst/>
              <a:ahLst/>
              <a:rect l="0" t="0" r="r" b="b"/>
              <a:pathLst>
                <a:path w="6942" h="3092">
                  <a:moveTo>
                    <a:pt x="0" y="3092"/>
                  </a:moveTo>
                  <a:lnTo>
                    <a:pt x="0" y="0"/>
                  </a:lnTo>
                  <a:lnTo>
                    <a:pt x="6942" y="0"/>
                  </a:lnTo>
                  <a:lnTo>
                    <a:pt x="6942" y="3092"/>
                  </a:lnTo>
                  <a:lnTo>
                    <a:pt x="0" y="30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403280" y="2874960"/>
              <a:ext cx="2499120" cy="1113120"/>
            </a:xfrm>
            <a:custGeom>
              <a:avLst/>
              <a:gdLst/>
              <a:ahLst/>
              <a:rect l="0" t="0" r="r" b="b"/>
              <a:pathLst>
                <a:path fill="none" w="6942" h="3092">
                  <a:moveTo>
                    <a:pt x="0" y="3092"/>
                  </a:moveTo>
                  <a:lnTo>
                    <a:pt x="0" y="0"/>
                  </a:lnTo>
                  <a:lnTo>
                    <a:pt x="6942" y="0"/>
                  </a:lnTo>
                  <a:lnTo>
                    <a:pt x="6942" y="3092"/>
                  </a:lnTo>
                  <a:lnTo>
                    <a:pt x="0" y="30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V="1">
              <a:off x="140328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V="1">
              <a:off x="175752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V="1">
              <a:off x="212076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247500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V="1">
              <a:off x="283068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V="1">
              <a:off x="318456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354816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V="1">
              <a:off x="390204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403280" y="398772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403280" y="361620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403280" y="324468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403280" y="287496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403280" y="398772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403280" y="287496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V="1">
              <a:off x="140328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V="1">
              <a:off x="390204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403280" y="398772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140328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1403280" y="395928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403280" y="28749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 txBox="1"/>
            <p:nvPr/>
          </p:nvSpPr>
          <p:spPr>
            <a:xfrm>
              <a:off x="1257480" y="39560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 flipV="1">
              <a:off x="1757520" y="395928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757520" y="28749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 txBox="1"/>
            <p:nvPr/>
          </p:nvSpPr>
          <p:spPr>
            <a:xfrm>
              <a:off x="1611360" y="39560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2120760" y="395928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120760" y="28749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 txBox="1"/>
            <p:nvPr/>
          </p:nvSpPr>
          <p:spPr>
            <a:xfrm>
              <a:off x="1974960" y="39560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2475000" y="395928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475000" y="28749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 txBox="1"/>
            <p:nvPr/>
          </p:nvSpPr>
          <p:spPr>
            <a:xfrm>
              <a:off x="2328840" y="39560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2830680" y="395928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830680" y="28749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 txBox="1"/>
            <p:nvPr/>
          </p:nvSpPr>
          <p:spPr>
            <a:xfrm>
              <a:off x="2682720" y="39560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V="1">
              <a:off x="3184560" y="395928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3184560" y="28749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 txBox="1"/>
            <p:nvPr/>
          </p:nvSpPr>
          <p:spPr>
            <a:xfrm>
              <a:off x="3036960" y="39560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 flipV="1">
              <a:off x="3548160" y="395928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548160" y="28749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 txBox="1"/>
            <p:nvPr/>
          </p:nvSpPr>
          <p:spPr>
            <a:xfrm>
              <a:off x="3402000" y="39560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V="1">
              <a:off x="3902040" y="395928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902040" y="287496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 txBox="1"/>
            <p:nvPr/>
          </p:nvSpPr>
          <p:spPr>
            <a:xfrm>
              <a:off x="3754440" y="39560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1403280" y="398772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>
              <a:off x="3876840" y="398772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 txBox="1"/>
            <p:nvPr/>
          </p:nvSpPr>
          <p:spPr>
            <a:xfrm>
              <a:off x="1066680" y="384804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1403280" y="36162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 flipH="1">
              <a:off x="3876840" y="3616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 txBox="1"/>
            <p:nvPr/>
          </p:nvSpPr>
          <p:spPr>
            <a:xfrm>
              <a:off x="1190520" y="34765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403280" y="324468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>
              <a:off x="3876840" y="32446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 txBox="1"/>
            <p:nvPr/>
          </p:nvSpPr>
          <p:spPr>
            <a:xfrm>
              <a:off x="1100160" y="310500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403280" y="287496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3876840" y="28749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 txBox="1"/>
            <p:nvPr/>
          </p:nvSpPr>
          <p:spPr>
            <a:xfrm>
              <a:off x="1190520" y="273528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403280" y="398772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403280" y="287496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V="1">
              <a:off x="140328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V="1">
              <a:off x="3902040" y="287496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1403280" y="2874960"/>
              <a:ext cx="2499120" cy="878400"/>
            </a:xfrm>
            <a:custGeom>
              <a:avLst/>
              <a:gdLst/>
              <a:ahLst/>
              <a:rect l="0" t="0" r="r" b="b"/>
              <a:pathLst>
                <a:path fill="none" w="6942" h="2440">
                  <a:moveTo>
                    <a:pt x="0" y="2388"/>
                  </a:moveTo>
                  <a:lnTo>
                    <a:pt x="985" y="2440"/>
                  </a:lnTo>
                  <a:lnTo>
                    <a:pt x="1992" y="0"/>
                  </a:lnTo>
                  <a:lnTo>
                    <a:pt x="2978" y="1332"/>
                  </a:lnTo>
                  <a:lnTo>
                    <a:pt x="3964" y="1607"/>
                  </a:lnTo>
                  <a:lnTo>
                    <a:pt x="4949" y="1711"/>
                  </a:lnTo>
                  <a:lnTo>
                    <a:pt x="5957" y="2315"/>
                  </a:lnTo>
                  <a:lnTo>
                    <a:pt x="6942" y="213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 txBox="1"/>
            <p:nvPr/>
          </p:nvSpPr>
          <p:spPr>
            <a:xfrm>
              <a:off x="2295360" y="2590920"/>
              <a:ext cx="569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 Pul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403280" y="4413240"/>
              <a:ext cx="2499120" cy="1113120"/>
            </a:xfrm>
            <a:custGeom>
              <a:avLst/>
              <a:gdLst/>
              <a:ahLst/>
              <a:rect l="0" t="0" r="r" b="b"/>
              <a:pathLst>
                <a:path w="6942" h="3092">
                  <a:moveTo>
                    <a:pt x="0" y="3092"/>
                  </a:moveTo>
                  <a:lnTo>
                    <a:pt x="0" y="0"/>
                  </a:lnTo>
                  <a:lnTo>
                    <a:pt x="6942" y="0"/>
                  </a:lnTo>
                  <a:lnTo>
                    <a:pt x="6942" y="3092"/>
                  </a:lnTo>
                  <a:lnTo>
                    <a:pt x="0" y="309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403280" y="4413240"/>
              <a:ext cx="2499120" cy="1113120"/>
            </a:xfrm>
            <a:custGeom>
              <a:avLst/>
              <a:gdLst/>
              <a:ahLst/>
              <a:rect l="0" t="0" r="r" b="b"/>
              <a:pathLst>
                <a:path fill="none" w="6942" h="3092">
                  <a:moveTo>
                    <a:pt x="0" y="3092"/>
                  </a:moveTo>
                  <a:lnTo>
                    <a:pt x="0" y="0"/>
                  </a:lnTo>
                  <a:lnTo>
                    <a:pt x="6942" y="0"/>
                  </a:lnTo>
                  <a:lnTo>
                    <a:pt x="6942" y="3092"/>
                  </a:lnTo>
                  <a:lnTo>
                    <a:pt x="0" y="309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V="1">
              <a:off x="140328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V="1">
              <a:off x="175752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V="1">
              <a:off x="212076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V="1">
              <a:off x="247500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V="1">
              <a:off x="283068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 flipV="1">
              <a:off x="318456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V="1">
              <a:off x="354816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V="1">
              <a:off x="390204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1403280" y="552600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403280" y="524520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403280" y="497376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403280" y="469260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1403280" y="441324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403280" y="552600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403280" y="441324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 flipV="1">
              <a:off x="140328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V="1">
              <a:off x="390204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403280" y="552600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V="1">
              <a:off x="140328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403280" y="54975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403280" y="4413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 txBox="1"/>
            <p:nvPr/>
          </p:nvSpPr>
          <p:spPr>
            <a:xfrm>
              <a:off x="1257480" y="5494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1757520" y="54975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757520" y="4413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 txBox="1"/>
            <p:nvPr/>
          </p:nvSpPr>
          <p:spPr>
            <a:xfrm>
              <a:off x="1611360" y="5494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 flipV="1">
              <a:off x="2120760" y="54975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120760" y="4413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 txBox="1"/>
            <p:nvPr/>
          </p:nvSpPr>
          <p:spPr>
            <a:xfrm>
              <a:off x="1974960" y="5494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V="1">
              <a:off x="2475000" y="54975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475000" y="4413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 txBox="1"/>
            <p:nvPr/>
          </p:nvSpPr>
          <p:spPr>
            <a:xfrm>
              <a:off x="2328840" y="5494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V="1">
              <a:off x="2830680" y="54975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830680" y="4413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 txBox="1"/>
            <p:nvPr/>
          </p:nvSpPr>
          <p:spPr>
            <a:xfrm>
              <a:off x="2682720" y="5494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V="1">
              <a:off x="3184560" y="54975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3184560" y="4413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 txBox="1"/>
            <p:nvPr/>
          </p:nvSpPr>
          <p:spPr>
            <a:xfrm>
              <a:off x="3036960" y="5494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V="1">
              <a:off x="3548160" y="54975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3548160" y="4413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 txBox="1"/>
            <p:nvPr/>
          </p:nvSpPr>
          <p:spPr>
            <a:xfrm>
              <a:off x="3402000" y="5494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3902040" y="549756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902040" y="44132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 txBox="1"/>
            <p:nvPr/>
          </p:nvSpPr>
          <p:spPr>
            <a:xfrm>
              <a:off x="3754440" y="5494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403280" y="55260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H="1">
              <a:off x="3876840" y="55260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 txBox="1"/>
            <p:nvPr/>
          </p:nvSpPr>
          <p:spPr>
            <a:xfrm>
              <a:off x="1066680" y="538488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403280" y="52452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3876840" y="5245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 txBox="1"/>
            <p:nvPr/>
          </p:nvSpPr>
          <p:spPr>
            <a:xfrm>
              <a:off x="1066680" y="510552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403280" y="497376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H="1">
              <a:off x="3876840" y="497376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 txBox="1"/>
            <p:nvPr/>
          </p:nvSpPr>
          <p:spPr>
            <a:xfrm>
              <a:off x="1066680" y="483408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403280" y="46926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H="1">
              <a:off x="3876840" y="46926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 txBox="1"/>
            <p:nvPr/>
          </p:nvSpPr>
          <p:spPr>
            <a:xfrm>
              <a:off x="1190520" y="45529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403280" y="441324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H="1">
              <a:off x="3876840" y="441324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 txBox="1"/>
            <p:nvPr/>
          </p:nvSpPr>
          <p:spPr>
            <a:xfrm>
              <a:off x="1100160" y="427212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403280" y="552600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403280" y="4413240"/>
              <a:ext cx="2498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140328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V="1">
              <a:off x="3902040" y="4413240"/>
              <a:ext cx="0" cy="1112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403280" y="4683240"/>
              <a:ext cx="2499120" cy="679680"/>
            </a:xfrm>
            <a:custGeom>
              <a:avLst/>
              <a:gdLst/>
              <a:ahLst/>
              <a:rect l="0" t="0" r="r" b="b"/>
              <a:pathLst>
                <a:path fill="none" w="6942" h="1888">
                  <a:moveTo>
                    <a:pt x="0" y="353"/>
                  </a:moveTo>
                  <a:lnTo>
                    <a:pt x="985" y="1888"/>
                  </a:lnTo>
                  <a:lnTo>
                    <a:pt x="1992" y="25"/>
                  </a:lnTo>
                  <a:lnTo>
                    <a:pt x="2978" y="904"/>
                  </a:lnTo>
                  <a:lnTo>
                    <a:pt x="3964" y="681"/>
                  </a:lnTo>
                  <a:lnTo>
                    <a:pt x="4949" y="0"/>
                  </a:lnTo>
                  <a:lnTo>
                    <a:pt x="5957" y="51"/>
                  </a:lnTo>
                  <a:lnTo>
                    <a:pt x="6942" y="22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 txBox="1"/>
            <p:nvPr/>
          </p:nvSpPr>
          <p:spPr>
            <a:xfrm>
              <a:off x="2195640" y="5640480"/>
              <a:ext cx="7383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*chipR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1" name=""/>
          <p:cNvGrpSpPr/>
          <p:nvPr/>
        </p:nvGrpSpPr>
        <p:grpSpPr>
          <a:xfrm>
            <a:off x="4141800" y="2514600"/>
            <a:ext cx="3935520" cy="3886200"/>
            <a:chOff x="4141800" y="2514600"/>
            <a:chExt cx="3935520" cy="3886200"/>
          </a:xfrm>
        </p:grpSpPr>
        <p:sp>
          <p:nvSpPr>
            <p:cNvPr id="2762" name=""/>
            <p:cNvSpPr/>
            <p:nvPr/>
          </p:nvSpPr>
          <p:spPr>
            <a:xfrm>
              <a:off x="4191120" y="2514600"/>
              <a:ext cx="3886200" cy="3886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692600" y="3189240"/>
              <a:ext cx="3003840" cy="2386440"/>
            </a:xfrm>
            <a:custGeom>
              <a:avLst/>
              <a:gdLst/>
              <a:ahLst/>
              <a:rect l="0" t="0" r="r" b="b"/>
              <a:pathLst>
                <a:path w="8344" h="6629">
                  <a:moveTo>
                    <a:pt x="0" y="6629"/>
                  </a:moveTo>
                  <a:lnTo>
                    <a:pt x="0" y="0"/>
                  </a:lnTo>
                  <a:lnTo>
                    <a:pt x="8344" y="0"/>
                  </a:lnTo>
                  <a:lnTo>
                    <a:pt x="8344" y="6629"/>
                  </a:lnTo>
                  <a:lnTo>
                    <a:pt x="0" y="66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692600" y="3189240"/>
              <a:ext cx="3003840" cy="2386440"/>
            </a:xfrm>
            <a:custGeom>
              <a:avLst/>
              <a:gdLst/>
              <a:ahLst/>
              <a:rect l="0" t="0" r="r" b="b"/>
              <a:pathLst>
                <a:path fill="none" w="8344" h="6629">
                  <a:moveTo>
                    <a:pt x="0" y="6629"/>
                  </a:moveTo>
                  <a:lnTo>
                    <a:pt x="0" y="0"/>
                  </a:lnTo>
                  <a:lnTo>
                    <a:pt x="8344" y="0"/>
                  </a:lnTo>
                  <a:lnTo>
                    <a:pt x="8344" y="6629"/>
                  </a:lnTo>
                  <a:lnTo>
                    <a:pt x="0" y="662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 flipV="1">
              <a:off x="469260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 flipV="1">
              <a:off x="506412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V="1">
              <a:off x="544680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 flipV="1">
              <a:off x="581976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V="1">
              <a:off x="619272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 flipV="1">
              <a:off x="656748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 flipV="1">
              <a:off x="695016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732168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V="1">
              <a:off x="769608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692600" y="549576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692600" y="511488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692600" y="473868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692600" y="434988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692600" y="397044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692600" y="359244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692600" y="321300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692600" y="557532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692600" y="318924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469260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V="1">
              <a:off x="769608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692600" y="557532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469260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V="1">
              <a:off x="4692600" y="55389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692600" y="3189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 txBox="1"/>
            <p:nvPr/>
          </p:nvSpPr>
          <p:spPr>
            <a:xfrm>
              <a:off x="4486320" y="551664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5064120" y="55389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064120" y="3189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 txBox="1"/>
            <p:nvPr/>
          </p:nvSpPr>
          <p:spPr>
            <a:xfrm>
              <a:off x="4859280" y="551664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5446800" y="55389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446800" y="3189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 txBox="1"/>
            <p:nvPr/>
          </p:nvSpPr>
          <p:spPr>
            <a:xfrm>
              <a:off x="5240160" y="551664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5819760" y="55389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5819760" y="3189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 txBox="1"/>
            <p:nvPr/>
          </p:nvSpPr>
          <p:spPr>
            <a:xfrm>
              <a:off x="5611680" y="551664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V="1">
              <a:off x="6192720" y="55389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192720" y="3189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 txBox="1"/>
            <p:nvPr/>
          </p:nvSpPr>
          <p:spPr>
            <a:xfrm>
              <a:off x="6021360" y="551664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V="1">
              <a:off x="6567480" y="55389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567480" y="3189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 txBox="1"/>
            <p:nvPr/>
          </p:nvSpPr>
          <p:spPr>
            <a:xfrm>
              <a:off x="6396120" y="551664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6950160" y="55389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950160" y="3189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 txBox="1"/>
            <p:nvPr/>
          </p:nvSpPr>
          <p:spPr>
            <a:xfrm>
              <a:off x="6773760" y="551664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V="1">
              <a:off x="7321680" y="55389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321680" y="3189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 txBox="1"/>
            <p:nvPr/>
          </p:nvSpPr>
          <p:spPr>
            <a:xfrm>
              <a:off x="7148520" y="551664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V="1">
              <a:off x="7696080" y="55389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696080" y="318924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 txBox="1"/>
            <p:nvPr/>
          </p:nvSpPr>
          <p:spPr>
            <a:xfrm>
              <a:off x="7521480" y="551664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692600" y="54957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>
              <a:off x="7661160" y="54957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 txBox="1"/>
            <p:nvPr/>
          </p:nvSpPr>
          <p:spPr>
            <a:xfrm>
              <a:off x="4416480" y="533700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692600" y="51148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7661160" y="51148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 txBox="1"/>
            <p:nvPr/>
          </p:nvSpPr>
          <p:spPr>
            <a:xfrm>
              <a:off x="4416480" y="495468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692600" y="47386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7661160" y="47386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 txBox="1"/>
            <p:nvPr/>
          </p:nvSpPr>
          <p:spPr>
            <a:xfrm>
              <a:off x="4416480" y="4578480"/>
              <a:ext cx="2523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692600" y="43498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7661160" y="43498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 txBox="1"/>
            <p:nvPr/>
          </p:nvSpPr>
          <p:spPr>
            <a:xfrm>
              <a:off x="4451400" y="41893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692600" y="39704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7661160" y="39704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 txBox="1"/>
            <p:nvPr/>
          </p:nvSpPr>
          <p:spPr>
            <a:xfrm>
              <a:off x="4451400" y="380988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692600" y="35924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H="1">
              <a:off x="7661160" y="35924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 txBox="1"/>
            <p:nvPr/>
          </p:nvSpPr>
          <p:spPr>
            <a:xfrm>
              <a:off x="4451400" y="343224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692600" y="32130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H="1">
              <a:off x="7661160" y="321300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 txBox="1"/>
            <p:nvPr/>
          </p:nvSpPr>
          <p:spPr>
            <a:xfrm>
              <a:off x="4451400" y="30528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92600" y="557532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692600" y="3189240"/>
              <a:ext cx="30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V="1">
              <a:off x="469260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V="1">
              <a:off x="7696080" y="3189240"/>
              <a:ext cx="0" cy="238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03920" y="4675320"/>
              <a:ext cx="3492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H="1">
              <a:off x="4903920" y="4675320"/>
              <a:ext cx="3492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743880" y="4772160"/>
              <a:ext cx="3636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H="1">
              <a:off x="6743880" y="4772160"/>
              <a:ext cx="3636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6192720" y="4056120"/>
              <a:ext cx="3348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H="1">
              <a:off x="6192720" y="4056120"/>
              <a:ext cx="3348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354720" y="4281480"/>
              <a:ext cx="3348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6354720" y="4281480"/>
              <a:ext cx="3348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938920" y="4289400"/>
              <a:ext cx="3312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>
              <a:off x="5938920" y="4289400"/>
              <a:ext cx="3312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6192720" y="4565520"/>
              <a:ext cx="33480" cy="36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>
              <a:off x="6192720" y="4565520"/>
              <a:ext cx="33480" cy="36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6066000" y="4427640"/>
              <a:ext cx="3312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6066000" y="4427640"/>
              <a:ext cx="3312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819760" y="3970440"/>
              <a:ext cx="748080" cy="768600"/>
            </a:xfrm>
            <a:custGeom>
              <a:avLst/>
              <a:gdLst/>
              <a:ahLst/>
              <a:rect l="0" t="0" r="r" b="b"/>
              <a:pathLst>
                <a:path fill="none" w="2078" h="2135">
                  <a:moveTo>
                    <a:pt x="2078" y="1054"/>
                  </a:moveTo>
                  <a:lnTo>
                    <a:pt x="2078" y="1030"/>
                  </a:lnTo>
                  <a:lnTo>
                    <a:pt x="2078" y="980"/>
                  </a:lnTo>
                  <a:lnTo>
                    <a:pt x="2078" y="962"/>
                  </a:lnTo>
                  <a:lnTo>
                    <a:pt x="2078" y="912"/>
                  </a:lnTo>
                  <a:lnTo>
                    <a:pt x="2078" y="888"/>
                  </a:lnTo>
                  <a:lnTo>
                    <a:pt x="2054" y="838"/>
                  </a:lnTo>
                  <a:lnTo>
                    <a:pt x="2054" y="814"/>
                  </a:lnTo>
                  <a:lnTo>
                    <a:pt x="2054" y="771"/>
                  </a:lnTo>
                  <a:lnTo>
                    <a:pt x="2029" y="746"/>
                  </a:lnTo>
                  <a:lnTo>
                    <a:pt x="2029" y="697"/>
                  </a:lnTo>
                  <a:lnTo>
                    <a:pt x="2010" y="672"/>
                  </a:lnTo>
                  <a:lnTo>
                    <a:pt x="1986" y="623"/>
                  </a:lnTo>
                  <a:lnTo>
                    <a:pt x="1986" y="598"/>
                  </a:lnTo>
                  <a:lnTo>
                    <a:pt x="1961" y="579"/>
                  </a:lnTo>
                  <a:lnTo>
                    <a:pt x="1936" y="530"/>
                  </a:lnTo>
                  <a:lnTo>
                    <a:pt x="1936" y="505"/>
                  </a:lnTo>
                  <a:lnTo>
                    <a:pt x="1912" y="481"/>
                  </a:lnTo>
                  <a:lnTo>
                    <a:pt x="1893" y="431"/>
                  </a:lnTo>
                  <a:lnTo>
                    <a:pt x="1868" y="407"/>
                  </a:lnTo>
                  <a:lnTo>
                    <a:pt x="1844" y="388"/>
                  </a:lnTo>
                  <a:lnTo>
                    <a:pt x="1819" y="363"/>
                  </a:lnTo>
                  <a:lnTo>
                    <a:pt x="1794" y="339"/>
                  </a:lnTo>
                  <a:lnTo>
                    <a:pt x="1769" y="314"/>
                  </a:lnTo>
                  <a:lnTo>
                    <a:pt x="1751" y="289"/>
                  </a:lnTo>
                  <a:lnTo>
                    <a:pt x="1701" y="265"/>
                  </a:lnTo>
                  <a:lnTo>
                    <a:pt x="1677" y="240"/>
                  </a:lnTo>
                  <a:lnTo>
                    <a:pt x="1652" y="215"/>
                  </a:lnTo>
                  <a:lnTo>
                    <a:pt x="1633" y="191"/>
                  </a:lnTo>
                  <a:lnTo>
                    <a:pt x="1584" y="172"/>
                  </a:lnTo>
                  <a:lnTo>
                    <a:pt x="1558" y="148"/>
                  </a:lnTo>
                  <a:lnTo>
                    <a:pt x="1534" y="123"/>
                  </a:lnTo>
                  <a:lnTo>
                    <a:pt x="1490" y="123"/>
                  </a:lnTo>
                  <a:lnTo>
                    <a:pt x="1466" y="98"/>
                  </a:lnTo>
                  <a:lnTo>
                    <a:pt x="1441" y="74"/>
                  </a:lnTo>
                  <a:lnTo>
                    <a:pt x="1391" y="74"/>
                  </a:lnTo>
                  <a:lnTo>
                    <a:pt x="1373" y="49"/>
                  </a:lnTo>
                  <a:lnTo>
                    <a:pt x="1323" y="49"/>
                  </a:lnTo>
                  <a:lnTo>
                    <a:pt x="1299" y="49"/>
                  </a:lnTo>
                  <a:lnTo>
                    <a:pt x="1249" y="24"/>
                  </a:lnTo>
                  <a:lnTo>
                    <a:pt x="1231" y="24"/>
                  </a:lnTo>
                  <a:lnTo>
                    <a:pt x="1181" y="24"/>
                  </a:lnTo>
                  <a:lnTo>
                    <a:pt x="1156" y="0"/>
                  </a:lnTo>
                  <a:lnTo>
                    <a:pt x="1113" y="0"/>
                  </a:lnTo>
                  <a:lnTo>
                    <a:pt x="1088" y="0"/>
                  </a:lnTo>
                  <a:lnTo>
                    <a:pt x="1039" y="0"/>
                  </a:lnTo>
                  <a:lnTo>
                    <a:pt x="990" y="0"/>
                  </a:lnTo>
                  <a:lnTo>
                    <a:pt x="971" y="0"/>
                  </a:lnTo>
                  <a:lnTo>
                    <a:pt x="922" y="0"/>
                  </a:lnTo>
                  <a:lnTo>
                    <a:pt x="897" y="24"/>
                  </a:lnTo>
                  <a:lnTo>
                    <a:pt x="854" y="24"/>
                  </a:lnTo>
                  <a:lnTo>
                    <a:pt x="829" y="24"/>
                  </a:lnTo>
                  <a:lnTo>
                    <a:pt x="779" y="49"/>
                  </a:lnTo>
                  <a:lnTo>
                    <a:pt x="755" y="49"/>
                  </a:lnTo>
                  <a:lnTo>
                    <a:pt x="711" y="49"/>
                  </a:lnTo>
                  <a:lnTo>
                    <a:pt x="687" y="74"/>
                  </a:lnTo>
                  <a:lnTo>
                    <a:pt x="637" y="74"/>
                  </a:lnTo>
                  <a:lnTo>
                    <a:pt x="612" y="98"/>
                  </a:lnTo>
                  <a:lnTo>
                    <a:pt x="594" y="123"/>
                  </a:lnTo>
                  <a:lnTo>
                    <a:pt x="544" y="123"/>
                  </a:lnTo>
                  <a:lnTo>
                    <a:pt x="520" y="148"/>
                  </a:lnTo>
                  <a:lnTo>
                    <a:pt x="494" y="172"/>
                  </a:lnTo>
                  <a:lnTo>
                    <a:pt x="451" y="191"/>
                  </a:lnTo>
                  <a:lnTo>
                    <a:pt x="426" y="215"/>
                  </a:lnTo>
                  <a:lnTo>
                    <a:pt x="401" y="240"/>
                  </a:lnTo>
                  <a:lnTo>
                    <a:pt x="377" y="265"/>
                  </a:lnTo>
                  <a:lnTo>
                    <a:pt x="333" y="289"/>
                  </a:lnTo>
                  <a:lnTo>
                    <a:pt x="309" y="314"/>
                  </a:lnTo>
                  <a:lnTo>
                    <a:pt x="284" y="339"/>
                  </a:lnTo>
                  <a:lnTo>
                    <a:pt x="259" y="363"/>
                  </a:lnTo>
                  <a:lnTo>
                    <a:pt x="234" y="388"/>
                  </a:lnTo>
                  <a:lnTo>
                    <a:pt x="210" y="407"/>
                  </a:lnTo>
                  <a:lnTo>
                    <a:pt x="191" y="431"/>
                  </a:lnTo>
                  <a:lnTo>
                    <a:pt x="166" y="481"/>
                  </a:lnTo>
                  <a:lnTo>
                    <a:pt x="142" y="505"/>
                  </a:lnTo>
                  <a:lnTo>
                    <a:pt x="142" y="530"/>
                  </a:lnTo>
                  <a:lnTo>
                    <a:pt x="117" y="579"/>
                  </a:lnTo>
                  <a:lnTo>
                    <a:pt x="92" y="598"/>
                  </a:lnTo>
                  <a:lnTo>
                    <a:pt x="92" y="623"/>
                  </a:lnTo>
                  <a:lnTo>
                    <a:pt x="74" y="672"/>
                  </a:lnTo>
                  <a:lnTo>
                    <a:pt x="49" y="697"/>
                  </a:lnTo>
                  <a:lnTo>
                    <a:pt x="49" y="746"/>
                  </a:lnTo>
                  <a:lnTo>
                    <a:pt x="24" y="771"/>
                  </a:lnTo>
                  <a:lnTo>
                    <a:pt x="24" y="814"/>
                  </a:lnTo>
                  <a:lnTo>
                    <a:pt x="24" y="838"/>
                  </a:lnTo>
                  <a:lnTo>
                    <a:pt x="0" y="888"/>
                  </a:lnTo>
                  <a:lnTo>
                    <a:pt x="0" y="912"/>
                  </a:lnTo>
                  <a:lnTo>
                    <a:pt x="0" y="962"/>
                  </a:lnTo>
                  <a:lnTo>
                    <a:pt x="0" y="980"/>
                  </a:lnTo>
                  <a:lnTo>
                    <a:pt x="0" y="1030"/>
                  </a:lnTo>
                  <a:lnTo>
                    <a:pt x="0" y="1054"/>
                  </a:lnTo>
                  <a:lnTo>
                    <a:pt x="0" y="1105"/>
                  </a:lnTo>
                  <a:lnTo>
                    <a:pt x="0" y="1154"/>
                  </a:lnTo>
                  <a:lnTo>
                    <a:pt x="0" y="1173"/>
                  </a:lnTo>
                  <a:lnTo>
                    <a:pt x="0" y="1222"/>
                  </a:lnTo>
                  <a:lnTo>
                    <a:pt x="0" y="1247"/>
                  </a:lnTo>
                  <a:lnTo>
                    <a:pt x="24" y="1296"/>
                  </a:lnTo>
                  <a:lnTo>
                    <a:pt x="24" y="1321"/>
                  </a:lnTo>
                  <a:lnTo>
                    <a:pt x="24" y="1370"/>
                  </a:lnTo>
                  <a:lnTo>
                    <a:pt x="49" y="1388"/>
                  </a:lnTo>
                  <a:lnTo>
                    <a:pt x="49" y="1438"/>
                  </a:lnTo>
                  <a:lnTo>
                    <a:pt x="74" y="1462"/>
                  </a:lnTo>
                  <a:lnTo>
                    <a:pt x="92" y="1487"/>
                  </a:lnTo>
                  <a:lnTo>
                    <a:pt x="92" y="1536"/>
                  </a:lnTo>
                  <a:lnTo>
                    <a:pt x="117" y="1561"/>
                  </a:lnTo>
                  <a:lnTo>
                    <a:pt x="142" y="1604"/>
                  </a:lnTo>
                  <a:lnTo>
                    <a:pt x="142" y="1629"/>
                  </a:lnTo>
                  <a:lnTo>
                    <a:pt x="166" y="1654"/>
                  </a:lnTo>
                  <a:lnTo>
                    <a:pt x="191" y="1678"/>
                  </a:lnTo>
                  <a:lnTo>
                    <a:pt x="210" y="1728"/>
                  </a:lnTo>
                  <a:lnTo>
                    <a:pt x="234" y="1752"/>
                  </a:lnTo>
                  <a:lnTo>
                    <a:pt x="259" y="1771"/>
                  </a:lnTo>
                  <a:lnTo>
                    <a:pt x="284" y="1796"/>
                  </a:lnTo>
                  <a:lnTo>
                    <a:pt x="309" y="1820"/>
                  </a:lnTo>
                  <a:lnTo>
                    <a:pt x="333" y="1845"/>
                  </a:lnTo>
                  <a:lnTo>
                    <a:pt x="377" y="1870"/>
                  </a:lnTo>
                  <a:lnTo>
                    <a:pt x="401" y="1894"/>
                  </a:lnTo>
                  <a:lnTo>
                    <a:pt x="426" y="1919"/>
                  </a:lnTo>
                  <a:lnTo>
                    <a:pt x="451" y="1944"/>
                  </a:lnTo>
                  <a:lnTo>
                    <a:pt x="494" y="1962"/>
                  </a:lnTo>
                  <a:lnTo>
                    <a:pt x="520" y="1987"/>
                  </a:lnTo>
                  <a:lnTo>
                    <a:pt x="544" y="2011"/>
                  </a:lnTo>
                  <a:lnTo>
                    <a:pt x="594" y="2011"/>
                  </a:lnTo>
                  <a:lnTo>
                    <a:pt x="612" y="2036"/>
                  </a:lnTo>
                  <a:lnTo>
                    <a:pt x="637" y="2061"/>
                  </a:lnTo>
                  <a:lnTo>
                    <a:pt x="687" y="2061"/>
                  </a:lnTo>
                  <a:lnTo>
                    <a:pt x="711" y="2085"/>
                  </a:lnTo>
                  <a:lnTo>
                    <a:pt x="755" y="2085"/>
                  </a:lnTo>
                  <a:lnTo>
                    <a:pt x="779" y="2085"/>
                  </a:lnTo>
                  <a:lnTo>
                    <a:pt x="829" y="2110"/>
                  </a:lnTo>
                  <a:lnTo>
                    <a:pt x="854" y="2110"/>
                  </a:lnTo>
                  <a:lnTo>
                    <a:pt x="897" y="2110"/>
                  </a:lnTo>
                  <a:lnTo>
                    <a:pt x="922" y="2110"/>
                  </a:lnTo>
                  <a:lnTo>
                    <a:pt x="971" y="2135"/>
                  </a:lnTo>
                  <a:lnTo>
                    <a:pt x="990" y="2135"/>
                  </a:lnTo>
                  <a:lnTo>
                    <a:pt x="1039" y="2135"/>
                  </a:lnTo>
                  <a:lnTo>
                    <a:pt x="1088" y="2135"/>
                  </a:lnTo>
                  <a:lnTo>
                    <a:pt x="1113" y="2135"/>
                  </a:lnTo>
                  <a:lnTo>
                    <a:pt x="1156" y="2110"/>
                  </a:lnTo>
                  <a:lnTo>
                    <a:pt x="1181" y="2110"/>
                  </a:lnTo>
                  <a:lnTo>
                    <a:pt x="1231" y="2110"/>
                  </a:lnTo>
                  <a:lnTo>
                    <a:pt x="1249" y="2110"/>
                  </a:lnTo>
                  <a:lnTo>
                    <a:pt x="1299" y="2085"/>
                  </a:lnTo>
                  <a:lnTo>
                    <a:pt x="1323" y="2085"/>
                  </a:lnTo>
                  <a:lnTo>
                    <a:pt x="1373" y="2085"/>
                  </a:lnTo>
                  <a:lnTo>
                    <a:pt x="1391" y="2061"/>
                  </a:lnTo>
                  <a:lnTo>
                    <a:pt x="1441" y="2061"/>
                  </a:lnTo>
                  <a:lnTo>
                    <a:pt x="1466" y="2036"/>
                  </a:lnTo>
                  <a:lnTo>
                    <a:pt x="1490" y="2011"/>
                  </a:lnTo>
                  <a:lnTo>
                    <a:pt x="1534" y="2011"/>
                  </a:lnTo>
                  <a:lnTo>
                    <a:pt x="1558" y="1987"/>
                  </a:lnTo>
                  <a:lnTo>
                    <a:pt x="1584" y="1962"/>
                  </a:lnTo>
                  <a:lnTo>
                    <a:pt x="1633" y="1944"/>
                  </a:lnTo>
                  <a:lnTo>
                    <a:pt x="1652" y="1919"/>
                  </a:lnTo>
                  <a:lnTo>
                    <a:pt x="1677" y="1894"/>
                  </a:lnTo>
                  <a:lnTo>
                    <a:pt x="1701" y="1870"/>
                  </a:lnTo>
                  <a:lnTo>
                    <a:pt x="1751" y="1845"/>
                  </a:lnTo>
                  <a:lnTo>
                    <a:pt x="1769" y="1820"/>
                  </a:lnTo>
                  <a:lnTo>
                    <a:pt x="1794" y="1796"/>
                  </a:lnTo>
                  <a:lnTo>
                    <a:pt x="1819" y="1771"/>
                  </a:lnTo>
                  <a:lnTo>
                    <a:pt x="1844" y="1752"/>
                  </a:lnTo>
                  <a:lnTo>
                    <a:pt x="1868" y="1728"/>
                  </a:lnTo>
                  <a:lnTo>
                    <a:pt x="1893" y="1678"/>
                  </a:lnTo>
                  <a:lnTo>
                    <a:pt x="1912" y="1654"/>
                  </a:lnTo>
                  <a:lnTo>
                    <a:pt x="1936" y="1629"/>
                  </a:lnTo>
                  <a:lnTo>
                    <a:pt x="1936" y="1604"/>
                  </a:lnTo>
                  <a:lnTo>
                    <a:pt x="1961" y="1561"/>
                  </a:lnTo>
                  <a:lnTo>
                    <a:pt x="1986" y="1536"/>
                  </a:lnTo>
                  <a:lnTo>
                    <a:pt x="1986" y="1487"/>
                  </a:lnTo>
                  <a:lnTo>
                    <a:pt x="2010" y="1462"/>
                  </a:lnTo>
                  <a:lnTo>
                    <a:pt x="2029" y="1438"/>
                  </a:lnTo>
                  <a:lnTo>
                    <a:pt x="2029" y="1388"/>
                  </a:lnTo>
                  <a:lnTo>
                    <a:pt x="2054" y="1370"/>
                  </a:lnTo>
                  <a:lnTo>
                    <a:pt x="2054" y="1321"/>
                  </a:lnTo>
                  <a:lnTo>
                    <a:pt x="2054" y="1296"/>
                  </a:lnTo>
                  <a:lnTo>
                    <a:pt x="2078" y="1247"/>
                  </a:lnTo>
                  <a:lnTo>
                    <a:pt x="2078" y="1222"/>
                  </a:lnTo>
                  <a:lnTo>
                    <a:pt x="2078" y="1173"/>
                  </a:lnTo>
                  <a:lnTo>
                    <a:pt x="2078" y="1154"/>
                  </a:lnTo>
                  <a:lnTo>
                    <a:pt x="2078" y="1105"/>
                  </a:lnTo>
                  <a:lnTo>
                    <a:pt x="2078" y="105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 txBox="1"/>
            <p:nvPr/>
          </p:nvSpPr>
          <p:spPr>
            <a:xfrm>
              <a:off x="5570640" y="2886120"/>
              <a:ext cx="8319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NEL ZERO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 txBox="1"/>
            <p:nvPr/>
          </p:nvSpPr>
          <p:spPr>
            <a:xfrm>
              <a:off x="5943600" y="5654520"/>
              <a:ext cx="31104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 txBox="1"/>
            <p:nvPr/>
          </p:nvSpPr>
          <p:spPr>
            <a:xfrm>
              <a:off x="4141800" y="4465800"/>
              <a:ext cx="349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894200" y="4670280"/>
              <a:ext cx="68400" cy="68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6735600" y="4764240"/>
              <a:ext cx="68400" cy="68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6184800" y="4046400"/>
              <a:ext cx="68400" cy="71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346800" y="4270320"/>
              <a:ext cx="66600" cy="6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931000" y="4281480"/>
              <a:ext cx="66600" cy="68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184800" y="4556160"/>
              <a:ext cx="68400" cy="6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6056280" y="4419720"/>
              <a:ext cx="69840" cy="68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4" name=""/>
          <p:cNvSpPr txBox="1"/>
          <p:nvPr/>
        </p:nvSpPr>
        <p:spPr>
          <a:xfrm>
            <a:off x="1203480" y="623880"/>
            <a:ext cx="6921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/FB DFE TAPS TARGET DIST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"/>
          <p:cNvSpPr txBox="1"/>
          <p:nvPr/>
        </p:nvSpPr>
        <p:spPr>
          <a:xfrm>
            <a:off x="1508040" y="1508040"/>
            <a:ext cx="5954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B Taps target minimum phase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 Taps target maximum phase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"/>
          <p:cNvSpPr txBox="1"/>
          <p:nvPr/>
        </p:nvSpPr>
        <p:spPr>
          <a:xfrm>
            <a:off x="1355760" y="5973840"/>
            <a:ext cx="242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"/>
          <p:cNvSpPr txBox="1"/>
          <p:nvPr/>
        </p:nvSpPr>
        <p:spPr>
          <a:xfrm>
            <a:off x="5165640" y="5973840"/>
            <a:ext cx="1947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 Z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8" name=""/>
          <p:cNvGrpSpPr/>
          <p:nvPr/>
        </p:nvGrpSpPr>
        <p:grpSpPr>
          <a:xfrm>
            <a:off x="4251240" y="1905120"/>
            <a:ext cx="4054680" cy="4267080"/>
            <a:chOff x="4251240" y="1905120"/>
            <a:chExt cx="4054680" cy="4267080"/>
          </a:xfrm>
        </p:grpSpPr>
        <p:sp>
          <p:nvSpPr>
            <p:cNvPr id="2869" name=""/>
            <p:cNvSpPr/>
            <p:nvPr/>
          </p:nvSpPr>
          <p:spPr>
            <a:xfrm>
              <a:off x="5486400" y="1905120"/>
              <a:ext cx="2514960" cy="1295640"/>
            </a:xfrm>
            <a:custGeom>
              <a:avLst/>
              <a:gdLst/>
              <a:ahLst/>
              <a:rect l="0" t="0" r="r" b="b"/>
              <a:pathLst>
                <a:path fill="none" w="6986" h="3599">
                  <a:moveTo>
                    <a:pt x="0" y="0"/>
                  </a:moveTo>
                  <a:lnTo>
                    <a:pt x="0" y="0"/>
                  </a:lnTo>
                  <a:cubicBezTo>
                    <a:pt x="0" y="632"/>
                    <a:pt x="323" y="1252"/>
                    <a:pt x="936" y="1800"/>
                  </a:cubicBezTo>
                  <a:cubicBezTo>
                    <a:pt x="1549" y="2347"/>
                    <a:pt x="2431" y="2801"/>
                    <a:pt x="3493" y="3117"/>
                  </a:cubicBezTo>
                  <a:cubicBezTo>
                    <a:pt x="4555" y="3433"/>
                    <a:pt x="5760" y="3599"/>
                    <a:pt x="6986" y="3599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486400" y="1905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4952880" y="3352680"/>
              <a:ext cx="3124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5486400" y="3886200"/>
              <a:ext cx="2667240" cy="1295640"/>
            </a:xfrm>
            <a:custGeom>
              <a:avLst/>
              <a:gdLst/>
              <a:ahLst/>
              <a:rect l="0" t="0" r="r" b="b"/>
              <a:pathLst>
                <a:path fill="none" w="7409" h="3599">
                  <a:moveTo>
                    <a:pt x="0" y="0"/>
                  </a:moveTo>
                  <a:lnTo>
                    <a:pt x="0" y="0"/>
                  </a:lnTo>
                  <a:cubicBezTo>
                    <a:pt x="0" y="632"/>
                    <a:pt x="342" y="1252"/>
                    <a:pt x="993" y="1800"/>
                  </a:cubicBezTo>
                  <a:cubicBezTo>
                    <a:pt x="1643" y="2347"/>
                    <a:pt x="2578" y="2801"/>
                    <a:pt x="3705" y="3117"/>
                  </a:cubicBezTo>
                  <a:cubicBezTo>
                    <a:pt x="4831" y="3433"/>
                    <a:pt x="6108" y="3599"/>
                    <a:pt x="7409" y="3599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5410080" y="3962520"/>
              <a:ext cx="76680" cy="914760"/>
            </a:xfrm>
            <a:custGeom>
              <a:avLst/>
              <a:gdLst/>
              <a:ahLst/>
              <a:rect l="0" t="0" r="r" b="b"/>
              <a:pathLst>
                <a:path fill="none" w="213" h="2541">
                  <a:moveTo>
                    <a:pt x="0" y="2541"/>
                  </a:moveTo>
                  <a:lnTo>
                    <a:pt x="0" y="2541"/>
                  </a:lnTo>
                  <a:cubicBezTo>
                    <a:pt x="37" y="2541"/>
                    <a:pt x="74" y="2424"/>
                    <a:pt x="107" y="2201"/>
                  </a:cubicBezTo>
                  <a:cubicBezTo>
                    <a:pt x="139" y="1978"/>
                    <a:pt x="166" y="1657"/>
                    <a:pt x="184" y="1270"/>
                  </a:cubicBezTo>
                  <a:cubicBezTo>
                    <a:pt x="203" y="884"/>
                    <a:pt x="213" y="446"/>
                    <a:pt x="213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5334120" y="4495680"/>
              <a:ext cx="76680" cy="381240"/>
            </a:xfrm>
            <a:custGeom>
              <a:avLst/>
              <a:gdLst/>
              <a:ahLst/>
              <a:rect l="0" t="0" r="r" b="b"/>
              <a:pathLst>
                <a:path fill="none" w="213" h="1059">
                  <a:moveTo>
                    <a:pt x="0" y="0"/>
                  </a:moveTo>
                  <a:lnTo>
                    <a:pt x="0" y="0"/>
                  </a:lnTo>
                  <a:cubicBezTo>
                    <a:pt x="0" y="186"/>
                    <a:pt x="10" y="369"/>
                    <a:pt x="29" y="530"/>
                  </a:cubicBezTo>
                  <a:cubicBezTo>
                    <a:pt x="47" y="690"/>
                    <a:pt x="74" y="824"/>
                    <a:pt x="107" y="917"/>
                  </a:cubicBezTo>
                  <a:cubicBezTo>
                    <a:pt x="139" y="1010"/>
                    <a:pt x="176" y="1059"/>
                    <a:pt x="213" y="1059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105520" y="4495680"/>
              <a:ext cx="228960" cy="838440"/>
            </a:xfrm>
            <a:custGeom>
              <a:avLst/>
              <a:gdLst/>
              <a:ahLst/>
              <a:rect l="0" t="0" r="r" b="b"/>
              <a:pathLst>
                <a:path fill="none" w="636" h="2329">
                  <a:moveTo>
                    <a:pt x="0" y="2329"/>
                  </a:moveTo>
                  <a:lnTo>
                    <a:pt x="0" y="2329"/>
                  </a:lnTo>
                  <a:cubicBezTo>
                    <a:pt x="112" y="2329"/>
                    <a:pt x="221" y="2221"/>
                    <a:pt x="318" y="2017"/>
                  </a:cubicBezTo>
                  <a:cubicBezTo>
                    <a:pt x="415" y="1813"/>
                    <a:pt x="495" y="1519"/>
                    <a:pt x="551" y="1164"/>
                  </a:cubicBezTo>
                  <a:cubicBezTo>
                    <a:pt x="607" y="810"/>
                    <a:pt x="636" y="409"/>
                    <a:pt x="636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4800600" y="533412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5562720" y="5410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8229600" y="5410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 txBox="1"/>
            <p:nvPr/>
          </p:nvSpPr>
          <p:spPr>
            <a:xfrm>
              <a:off x="6232680" y="5456160"/>
              <a:ext cx="1285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tigat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edback Ta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467480" y="56386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562720" y="56386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V="1">
              <a:off x="8229600" y="350532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486400" y="34290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 txBox="1"/>
            <p:nvPr/>
          </p:nvSpPr>
          <p:spPr>
            <a:xfrm>
              <a:off x="4251240" y="5532480"/>
              <a:ext cx="114156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tigat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edForwa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 txBox="1"/>
            <p:nvPr/>
          </p:nvSpPr>
          <p:spPr>
            <a:xfrm>
              <a:off x="7604280" y="3398760"/>
              <a:ext cx="496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 txBox="1"/>
            <p:nvPr/>
          </p:nvSpPr>
          <p:spPr>
            <a:xfrm>
              <a:off x="6461280" y="2255760"/>
              <a:ext cx="9381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pl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 txBox="1"/>
            <p:nvPr/>
          </p:nvSpPr>
          <p:spPr>
            <a:xfrm>
              <a:off x="6461280" y="4389480"/>
              <a:ext cx="9381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ampl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"/>
          <p:cNvSpPr txBox="1"/>
          <p:nvPr/>
        </p:nvSpPr>
        <p:spPr>
          <a:xfrm>
            <a:off x="1203480" y="655560"/>
            <a:ext cx="72626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E FF AND FB TAP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517680" y="2239920"/>
            <a:ext cx="402588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zero-forcing design, althoug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MSE can be used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B taps amplify no 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cursor Only -- FB taps onl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is exact DF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ursor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*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B taps still mitigate most of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the disto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*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 taps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"/>
          <p:cNvSpPr txBox="1"/>
          <p:nvPr/>
        </p:nvSpPr>
        <p:spPr>
          <a:xfrm>
            <a:off x="898560" y="808200"/>
            <a:ext cx="7512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TAP ZF FF WEIGHT CALC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1" name=""/>
          <p:cNvGrpSpPr/>
          <p:nvPr/>
        </p:nvGrpSpPr>
        <p:grpSpPr>
          <a:xfrm>
            <a:off x="1050840" y="1660680"/>
            <a:ext cx="6721560" cy="2438280"/>
            <a:chOff x="1050840" y="1660680"/>
            <a:chExt cx="6721560" cy="2438280"/>
          </a:xfrm>
        </p:grpSpPr>
        <p:sp>
          <p:nvSpPr>
            <p:cNvPr id="2892" name=""/>
            <p:cNvSpPr txBox="1"/>
            <p:nvPr/>
          </p:nvSpPr>
          <p:spPr>
            <a:xfrm>
              <a:off x="1127160" y="2575080"/>
              <a:ext cx="30290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0   h-1     w-1     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   h0      w0        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066680" y="2514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066680" y="25146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066680" y="34290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209680" y="25146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2362320" y="2514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2209680" y="34290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514600" y="2514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2514600" y="2514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2514600" y="3429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733920" y="2514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733920" y="2514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733920" y="3429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124080" y="25146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276720" y="2514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124080" y="34290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4038480" y="25146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4191120" y="25146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4038480" y="34290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 txBox="1"/>
            <p:nvPr/>
          </p:nvSpPr>
          <p:spPr>
            <a:xfrm>
              <a:off x="3336840" y="2727360"/>
              <a:ext cx="361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 txBox="1"/>
            <p:nvPr/>
          </p:nvSpPr>
          <p:spPr>
            <a:xfrm>
              <a:off x="5470560" y="3641760"/>
              <a:ext cx="1962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-1 h0 h1 h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 txBox="1"/>
            <p:nvPr/>
          </p:nvSpPr>
          <p:spPr>
            <a:xfrm>
              <a:off x="1050840" y="1812960"/>
              <a:ext cx="3146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x2 matrix FF wts cal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5410080" y="3200400"/>
              <a:ext cx="236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V="1">
              <a:off x="5715000" y="28195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V="1">
              <a:off x="6172200" y="213372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6629400" y="3200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V="1">
              <a:off x="7086600" y="28195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 txBox="1"/>
            <p:nvPr/>
          </p:nvSpPr>
          <p:spPr>
            <a:xfrm>
              <a:off x="5546880" y="1660680"/>
              <a:ext cx="2089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IR Estim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669960" y="4251240"/>
            <a:ext cx="4942080" cy="2041560"/>
            <a:chOff x="669960" y="4251240"/>
            <a:chExt cx="4942080" cy="2041560"/>
          </a:xfrm>
        </p:grpSpPr>
        <p:sp>
          <p:nvSpPr>
            <p:cNvPr id="2921" name=""/>
            <p:cNvSpPr txBox="1"/>
            <p:nvPr/>
          </p:nvSpPr>
          <p:spPr>
            <a:xfrm>
              <a:off x="1432080" y="425124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447920" y="42670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057400" y="4495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 txBox="1"/>
            <p:nvPr/>
          </p:nvSpPr>
          <p:spPr>
            <a:xfrm>
              <a:off x="2651040" y="425124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1905120" y="4495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 flipH="1">
              <a:off x="914400" y="4495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1295280" y="44956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1905120" y="52578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295280" y="5105520"/>
              <a:ext cx="60984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362320" y="44956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2666880" y="4267080"/>
              <a:ext cx="838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 txBox="1"/>
            <p:nvPr/>
          </p:nvSpPr>
          <p:spPr>
            <a:xfrm>
              <a:off x="3794040" y="425124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809880" y="42670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4267080" y="4495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362320" y="44956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H="1">
              <a:off x="2209680" y="5410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505320" y="44956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657600" y="4495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419720" y="44956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505320" y="52578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 flipV="1">
              <a:off x="3657600" y="5562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H="1">
              <a:off x="3809880" y="5105520"/>
              <a:ext cx="60984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 flipH="1">
              <a:off x="2057400" y="586728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V="1">
              <a:off x="2057400" y="5562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1981080" y="5410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3581280" y="5410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2057400" y="5334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657600" y="5334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1295280" y="44956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2057400" y="44956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657600" y="44956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419720" y="44956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 txBox="1"/>
            <p:nvPr/>
          </p:nvSpPr>
          <p:spPr>
            <a:xfrm>
              <a:off x="1432080" y="478476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 txBox="1"/>
            <p:nvPr/>
          </p:nvSpPr>
          <p:spPr>
            <a:xfrm>
              <a:off x="669960" y="4784760"/>
              <a:ext cx="692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 txBox="1"/>
            <p:nvPr/>
          </p:nvSpPr>
          <p:spPr>
            <a:xfrm>
              <a:off x="3032280" y="478476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 txBox="1"/>
            <p:nvPr/>
          </p:nvSpPr>
          <p:spPr>
            <a:xfrm>
              <a:off x="3794040" y="478476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 txBox="1"/>
            <p:nvPr/>
          </p:nvSpPr>
          <p:spPr>
            <a:xfrm>
              <a:off x="4556160" y="425124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572000" y="426708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029200" y="4495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181480" y="44956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181480" y="44956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 txBox="1"/>
            <p:nvPr/>
          </p:nvSpPr>
          <p:spPr>
            <a:xfrm>
              <a:off x="4556160" y="4784760"/>
              <a:ext cx="59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H="1">
              <a:off x="3809880" y="5105520"/>
              <a:ext cx="137160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 txBox="1"/>
            <p:nvPr/>
          </p:nvSpPr>
          <p:spPr>
            <a:xfrm>
              <a:off x="4175280" y="5470560"/>
              <a:ext cx="14367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F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ructu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5" name=""/>
          <p:cNvSpPr txBox="1"/>
          <p:nvPr/>
        </p:nvSpPr>
        <p:spPr>
          <a:xfrm>
            <a:off x="6004080" y="4784760"/>
            <a:ext cx="26557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B wts formed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by convolvin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han with FF w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6" name=""/>
          <p:cNvGrpSpPr/>
          <p:nvPr/>
        </p:nvGrpSpPr>
        <p:grpSpPr>
          <a:xfrm>
            <a:off x="1050840" y="2590920"/>
            <a:ext cx="7026480" cy="2378160"/>
            <a:chOff x="1050840" y="2590920"/>
            <a:chExt cx="7026480" cy="2378160"/>
          </a:xfrm>
        </p:grpSpPr>
        <p:sp>
          <p:nvSpPr>
            <p:cNvPr id="2967" name=""/>
            <p:cNvSpPr/>
            <p:nvPr/>
          </p:nvSpPr>
          <p:spPr>
            <a:xfrm>
              <a:off x="2286000" y="2743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2362320" y="281952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 flipH="1">
              <a:off x="2362320" y="281952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1752480" y="28954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2438280" y="3048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3733920" y="289548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 txBox="1"/>
            <p:nvPr/>
          </p:nvSpPr>
          <p:spPr>
            <a:xfrm>
              <a:off x="4708440" y="3246480"/>
              <a:ext cx="92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724280" y="3200400"/>
              <a:ext cx="9144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5181480" y="289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 txBox="1"/>
            <p:nvPr/>
          </p:nvSpPr>
          <p:spPr>
            <a:xfrm>
              <a:off x="5775480" y="263700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L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R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 txBox="1"/>
            <p:nvPr/>
          </p:nvSpPr>
          <p:spPr>
            <a:xfrm>
              <a:off x="7147080" y="2637000"/>
              <a:ext cx="92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MB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791320" y="2590920"/>
              <a:ext cx="91440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7086600" y="2590920"/>
              <a:ext cx="9907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705720" y="2895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191120" y="44956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267080" y="4648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343400" y="45720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343400" y="289548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518148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H="1">
              <a:off x="4495680" y="46483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 txBox="1"/>
            <p:nvPr/>
          </p:nvSpPr>
          <p:spPr>
            <a:xfrm>
              <a:off x="2117880" y="4237200"/>
              <a:ext cx="8780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C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2057400" y="4191120"/>
              <a:ext cx="9144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H="1">
              <a:off x="2971800" y="4648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 txBox="1"/>
            <p:nvPr/>
          </p:nvSpPr>
          <p:spPr>
            <a:xfrm>
              <a:off x="4556160" y="4694400"/>
              <a:ext cx="23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 txBox="1"/>
            <p:nvPr/>
          </p:nvSpPr>
          <p:spPr>
            <a:xfrm>
              <a:off x="4098960" y="408456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 txBox="1"/>
            <p:nvPr/>
          </p:nvSpPr>
          <p:spPr>
            <a:xfrm>
              <a:off x="1050840" y="2789280"/>
              <a:ext cx="557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/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 txBox="1"/>
            <p:nvPr/>
          </p:nvSpPr>
          <p:spPr>
            <a:xfrm>
              <a:off x="3336840" y="469440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 txBox="1"/>
            <p:nvPr/>
          </p:nvSpPr>
          <p:spPr>
            <a:xfrm>
              <a:off x="3336840" y="3627360"/>
              <a:ext cx="430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3276720" y="3581280"/>
              <a:ext cx="60948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429000" y="2743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505320" y="28954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581280" y="28195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590920" y="2895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>
              <a:off x="3886200" y="39625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3581280" y="304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 txBox="1"/>
            <p:nvPr/>
          </p:nvSpPr>
          <p:spPr>
            <a:xfrm>
              <a:off x="3641760" y="2970360"/>
              <a:ext cx="252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 txBox="1"/>
            <p:nvPr/>
          </p:nvSpPr>
          <p:spPr>
            <a:xfrm>
              <a:off x="3032280" y="294156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4" name=""/>
          <p:cNvSpPr txBox="1"/>
          <p:nvPr/>
        </p:nvSpPr>
        <p:spPr>
          <a:xfrm>
            <a:off x="1965240" y="808200"/>
            <a:ext cx="528804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E WITH FB TAP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 txBox="1"/>
          <p:nvPr/>
        </p:nvSpPr>
        <p:spPr>
          <a:xfrm>
            <a:off x="900000" y="5699160"/>
            <a:ext cx="7429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B FIR only employs Adds/Subtracts for QSPK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6" name=""/>
          <p:cNvGrpSpPr/>
          <p:nvPr/>
        </p:nvGrpSpPr>
        <p:grpSpPr>
          <a:xfrm>
            <a:off x="2236680" y="838080"/>
            <a:ext cx="4146480" cy="5168880"/>
            <a:chOff x="2236680" y="838080"/>
            <a:chExt cx="4146480" cy="5168880"/>
          </a:xfrm>
        </p:grpSpPr>
        <p:grpSp>
          <p:nvGrpSpPr>
            <p:cNvPr id="3007" name=""/>
            <p:cNvGrpSpPr/>
            <p:nvPr/>
          </p:nvGrpSpPr>
          <p:grpSpPr>
            <a:xfrm>
              <a:off x="2236680" y="838080"/>
              <a:ext cx="4146480" cy="5168880"/>
              <a:chOff x="2236680" y="838080"/>
              <a:chExt cx="4146480" cy="5168880"/>
            </a:xfrm>
          </p:grpSpPr>
          <p:sp>
            <p:nvSpPr>
              <p:cNvPr id="3008" name=""/>
              <p:cNvSpPr/>
              <p:nvPr/>
            </p:nvSpPr>
            <p:spPr>
              <a:xfrm>
                <a:off x="2438280" y="2057400"/>
                <a:ext cx="3944880" cy="3949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2946240" y="2352600"/>
                <a:ext cx="3046680" cy="3202200"/>
              </a:xfrm>
              <a:custGeom>
                <a:avLst/>
                <a:gdLst/>
                <a:ahLst/>
                <a:rect l="0" t="0" r="r" b="b"/>
                <a:pathLst>
                  <a:path w="8463" h="8895">
                    <a:moveTo>
                      <a:pt x="0" y="8895"/>
                    </a:moveTo>
                    <a:lnTo>
                      <a:pt x="0" y="0"/>
                    </a:lnTo>
                    <a:lnTo>
                      <a:pt x="8463" y="0"/>
                    </a:lnTo>
                    <a:lnTo>
                      <a:pt x="8463" y="8895"/>
                    </a:lnTo>
                    <a:lnTo>
                      <a:pt x="0" y="889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2946240" y="2352600"/>
                <a:ext cx="3046680" cy="3202200"/>
              </a:xfrm>
              <a:custGeom>
                <a:avLst/>
                <a:gdLst/>
                <a:ahLst/>
                <a:rect l="0" t="0" r="r" b="b"/>
                <a:pathLst>
                  <a:path fill="none" w="8463" h="8895">
                    <a:moveTo>
                      <a:pt x="0" y="8895"/>
                    </a:moveTo>
                    <a:lnTo>
                      <a:pt x="0" y="0"/>
                    </a:lnTo>
                    <a:lnTo>
                      <a:pt x="8463" y="0"/>
                    </a:lnTo>
                    <a:lnTo>
                      <a:pt x="8463" y="8895"/>
                    </a:lnTo>
                    <a:lnTo>
                      <a:pt x="0" y="8895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946240" y="2352600"/>
                <a:ext cx="0" cy="32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3708360" y="2352600"/>
                <a:ext cx="0" cy="32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4468680" y="2352600"/>
                <a:ext cx="0" cy="32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5230800" y="2352600"/>
                <a:ext cx="0" cy="32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V="1">
                <a:off x="5992920" y="2352600"/>
                <a:ext cx="0" cy="32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2946240" y="555480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2946240" y="523872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2946240" y="491184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2946240" y="459576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2946240" y="426888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2946240" y="395280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2946240" y="363708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2946240" y="330984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2946240" y="299412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946240" y="266868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2946240" y="235260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946240" y="555480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2946240" y="235260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2946240" y="2352600"/>
                <a:ext cx="0" cy="32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5992920" y="2352600"/>
                <a:ext cx="0" cy="32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2946240" y="555480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2946240" y="2352600"/>
                <a:ext cx="0" cy="32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2946240" y="5522760"/>
                <a:ext cx="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2946240" y="235260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 txBox="1"/>
              <p:nvPr/>
            </p:nvSpPr>
            <p:spPr>
              <a:xfrm>
                <a:off x="2811600" y="5530680"/>
                <a:ext cx="2541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V="1">
                <a:off x="3708360" y="5522760"/>
                <a:ext cx="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3708360" y="235260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 txBox="1"/>
              <p:nvPr/>
            </p:nvSpPr>
            <p:spPr>
              <a:xfrm>
                <a:off x="3535200" y="5530680"/>
                <a:ext cx="325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4468680" y="5522760"/>
                <a:ext cx="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68680" y="235260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 txBox="1"/>
              <p:nvPr/>
            </p:nvSpPr>
            <p:spPr>
              <a:xfrm>
                <a:off x="4267080" y="5530680"/>
                <a:ext cx="3952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5230800" y="5522760"/>
                <a:ext cx="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5230800" y="235260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 txBox="1"/>
              <p:nvPr/>
            </p:nvSpPr>
            <p:spPr>
              <a:xfrm>
                <a:off x="5029200" y="5530680"/>
                <a:ext cx="3952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5992920" y="5522760"/>
                <a:ext cx="0" cy="3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5992920" y="2352600"/>
                <a:ext cx="0" cy="31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 txBox="1"/>
              <p:nvPr/>
            </p:nvSpPr>
            <p:spPr>
              <a:xfrm>
                <a:off x="5789520" y="5530680"/>
                <a:ext cx="3952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2946240" y="555480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H="1">
                <a:off x="5962680" y="555480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 txBox="1"/>
              <p:nvPr/>
            </p:nvSpPr>
            <p:spPr>
              <a:xfrm>
                <a:off x="2733840" y="5403960"/>
                <a:ext cx="2541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2946240" y="523872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H="1">
                <a:off x="5962680" y="523872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 txBox="1"/>
              <p:nvPr/>
            </p:nvSpPr>
            <p:spPr>
              <a:xfrm>
                <a:off x="2733840" y="5087880"/>
                <a:ext cx="2541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2946240" y="491184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H="1">
                <a:off x="5962680" y="491184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 txBox="1"/>
              <p:nvPr/>
            </p:nvSpPr>
            <p:spPr>
              <a:xfrm>
                <a:off x="2665440" y="4762440"/>
                <a:ext cx="325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946240" y="459576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H="1">
                <a:off x="5962680" y="459576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 txBox="1"/>
              <p:nvPr/>
            </p:nvSpPr>
            <p:spPr>
              <a:xfrm>
                <a:off x="2665440" y="4446720"/>
                <a:ext cx="325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2946240" y="426888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H="1">
                <a:off x="5962680" y="426888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 txBox="1"/>
              <p:nvPr/>
            </p:nvSpPr>
            <p:spPr>
              <a:xfrm>
                <a:off x="2665440" y="4119480"/>
                <a:ext cx="325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946240" y="395280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H="1">
                <a:off x="5962680" y="395280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 txBox="1"/>
              <p:nvPr/>
            </p:nvSpPr>
            <p:spPr>
              <a:xfrm>
                <a:off x="2665440" y="3803760"/>
                <a:ext cx="325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2946240" y="363708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 flipH="1">
                <a:off x="5962680" y="363708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 txBox="1"/>
              <p:nvPr/>
            </p:nvSpPr>
            <p:spPr>
              <a:xfrm>
                <a:off x="2665440" y="3487680"/>
                <a:ext cx="325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2946240" y="330984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H="1">
                <a:off x="5962680" y="330984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 txBox="1"/>
              <p:nvPr/>
            </p:nvSpPr>
            <p:spPr>
              <a:xfrm>
                <a:off x="2665440" y="3160800"/>
                <a:ext cx="325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2946240" y="299412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 flipH="1">
                <a:off x="5962680" y="299412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 txBox="1"/>
              <p:nvPr/>
            </p:nvSpPr>
            <p:spPr>
              <a:xfrm>
                <a:off x="2665440" y="2844720"/>
                <a:ext cx="325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2946240" y="266868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 flipH="1">
                <a:off x="5962680" y="266868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 txBox="1"/>
              <p:nvPr/>
            </p:nvSpPr>
            <p:spPr>
              <a:xfrm>
                <a:off x="2665440" y="2519280"/>
                <a:ext cx="325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5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2946240" y="2352600"/>
                <a:ext cx="2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 flipH="1">
                <a:off x="5962680" y="2352600"/>
                <a:ext cx="3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 txBox="1"/>
              <p:nvPr/>
            </p:nvSpPr>
            <p:spPr>
              <a:xfrm>
                <a:off x="2665440" y="2203560"/>
                <a:ext cx="325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2946240" y="555480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2946240" y="2352600"/>
                <a:ext cx="304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 flipV="1">
                <a:off x="2946240" y="2352600"/>
                <a:ext cx="0" cy="32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 flipV="1">
                <a:off x="5992920" y="2352600"/>
                <a:ext cx="0" cy="32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249720" y="1004760"/>
                <a:ext cx="663840" cy="3591360"/>
              </a:xfrm>
              <a:custGeom>
                <a:avLst/>
                <a:gdLst/>
                <a:ahLst/>
                <a:rect l="0" t="0" r="r" b="b"/>
                <a:pathLst>
                  <a:path fill="none" w="1844" h="9976">
                    <a:moveTo>
                      <a:pt x="0" y="9976"/>
                    </a:moveTo>
                    <a:lnTo>
                      <a:pt x="432" y="7666"/>
                    </a:lnTo>
                    <a:lnTo>
                      <a:pt x="1275" y="1636"/>
                    </a:lnTo>
                    <a:lnTo>
                      <a:pt x="1844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3249720" y="1004760"/>
                <a:ext cx="1073520" cy="4359600"/>
              </a:xfrm>
              <a:custGeom>
                <a:avLst/>
                <a:gdLst/>
                <a:ahLst/>
                <a:rect l="0" t="0" r="r" b="b"/>
                <a:pathLst>
                  <a:path fill="none" w="2982" h="12110">
                    <a:moveTo>
                      <a:pt x="0" y="12110"/>
                    </a:moveTo>
                    <a:lnTo>
                      <a:pt x="432" y="11201"/>
                    </a:lnTo>
                    <a:lnTo>
                      <a:pt x="1275" y="8719"/>
                    </a:lnTo>
                    <a:lnTo>
                      <a:pt x="298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249720" y="1004760"/>
                <a:ext cx="1494360" cy="4359600"/>
              </a:xfrm>
              <a:custGeom>
                <a:avLst/>
                <a:gdLst/>
                <a:ahLst/>
                <a:rect l="0" t="0" r="r" b="b"/>
                <a:pathLst>
                  <a:path fill="none" w="4151" h="12110">
                    <a:moveTo>
                      <a:pt x="0" y="12110"/>
                    </a:moveTo>
                    <a:lnTo>
                      <a:pt x="432" y="11761"/>
                    </a:lnTo>
                    <a:lnTo>
                      <a:pt x="1275" y="10853"/>
                    </a:lnTo>
                    <a:lnTo>
                      <a:pt x="3388" y="2337"/>
                    </a:lnTo>
                    <a:lnTo>
                      <a:pt x="415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249720" y="1004760"/>
                <a:ext cx="2138760" cy="4422960"/>
              </a:xfrm>
              <a:custGeom>
                <a:avLst/>
                <a:gdLst/>
                <a:ahLst/>
                <a:rect l="0" t="0" r="r" b="b"/>
                <a:pathLst>
                  <a:path fill="none" w="5941" h="12286">
                    <a:moveTo>
                      <a:pt x="0" y="12286"/>
                    </a:moveTo>
                    <a:lnTo>
                      <a:pt x="432" y="11933"/>
                    </a:lnTo>
                    <a:lnTo>
                      <a:pt x="1274" y="11201"/>
                    </a:lnTo>
                    <a:lnTo>
                      <a:pt x="3387" y="8189"/>
                    </a:lnTo>
                    <a:lnTo>
                      <a:pt x="5505" y="1111"/>
                    </a:lnTo>
                    <a:lnTo>
                      <a:pt x="594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249720" y="1004760"/>
                <a:ext cx="2665800" cy="4422960"/>
              </a:xfrm>
              <a:custGeom>
                <a:avLst/>
                <a:gdLst/>
                <a:ahLst/>
                <a:rect l="0" t="0" r="r" b="b"/>
                <a:pathLst>
                  <a:path fill="none" w="7405" h="12286">
                    <a:moveTo>
                      <a:pt x="0" y="12286"/>
                    </a:moveTo>
                    <a:lnTo>
                      <a:pt x="432" y="11933"/>
                    </a:lnTo>
                    <a:lnTo>
                      <a:pt x="1274" y="11201"/>
                    </a:lnTo>
                    <a:lnTo>
                      <a:pt x="3387" y="9623"/>
                    </a:lnTo>
                    <a:lnTo>
                      <a:pt x="5504" y="6054"/>
                    </a:lnTo>
                    <a:lnTo>
                      <a:pt x="740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3249720" y="2478240"/>
                <a:ext cx="2743560" cy="2949840"/>
              </a:xfrm>
              <a:custGeom>
                <a:avLst/>
                <a:gdLst/>
                <a:ahLst/>
                <a:rect l="0" t="0" r="r" b="b"/>
                <a:pathLst>
                  <a:path fill="none" w="7621" h="8194">
                    <a:moveTo>
                      <a:pt x="0" y="8194"/>
                    </a:moveTo>
                    <a:lnTo>
                      <a:pt x="432" y="7841"/>
                    </a:lnTo>
                    <a:lnTo>
                      <a:pt x="1274" y="7109"/>
                    </a:lnTo>
                    <a:lnTo>
                      <a:pt x="3386" y="5707"/>
                    </a:lnTo>
                    <a:lnTo>
                      <a:pt x="5504" y="3571"/>
                    </a:lnTo>
                    <a:lnTo>
                      <a:pt x="762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3249720" y="2994120"/>
                <a:ext cx="2743560" cy="2433960"/>
              </a:xfrm>
              <a:custGeom>
                <a:avLst/>
                <a:gdLst/>
                <a:ahLst/>
                <a:rect l="0" t="0" r="r" b="b"/>
                <a:pathLst>
                  <a:path fill="none" w="7621" h="6761">
                    <a:moveTo>
                      <a:pt x="0" y="6761"/>
                    </a:moveTo>
                    <a:lnTo>
                      <a:pt x="432" y="6408"/>
                    </a:lnTo>
                    <a:lnTo>
                      <a:pt x="1274" y="5676"/>
                    </a:lnTo>
                    <a:lnTo>
                      <a:pt x="3386" y="4450"/>
                    </a:lnTo>
                    <a:lnTo>
                      <a:pt x="5504" y="2663"/>
                    </a:lnTo>
                    <a:lnTo>
                      <a:pt x="7621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 txBox="1"/>
              <p:nvPr/>
            </p:nvSpPr>
            <p:spPr>
              <a:xfrm>
                <a:off x="3613320" y="5699160"/>
                <a:ext cx="16588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MS Delay Spread (nsec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 txBox="1"/>
              <p:nvPr/>
            </p:nvSpPr>
            <p:spPr>
              <a:xfrm>
                <a:off x="2236680" y="3970440"/>
                <a:ext cx="5936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% P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 txBox="1"/>
              <p:nvPr/>
            </p:nvSpPr>
            <p:spPr>
              <a:xfrm>
                <a:off x="4521240" y="4888080"/>
                <a:ext cx="14763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,1,2,4,6,8,10 FB Tap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3429000" y="838080"/>
                <a:ext cx="2514600" cy="144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6" name=""/>
            <p:cNvSpPr txBox="1"/>
            <p:nvPr/>
          </p:nvSpPr>
          <p:spPr>
            <a:xfrm>
              <a:off x="3794040" y="2049480"/>
              <a:ext cx="13111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B Taps Onl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7" name=""/>
          <p:cNvSpPr txBox="1"/>
          <p:nvPr/>
        </p:nvSpPr>
        <p:spPr>
          <a:xfrm>
            <a:off x="1143000" y="1508040"/>
            <a:ext cx="4498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sh correlation gain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"/>
          <p:cNvSpPr txBox="1"/>
          <p:nvPr/>
        </p:nvSpPr>
        <p:spPr>
          <a:xfrm>
            <a:off x="1660680" y="623880"/>
            <a:ext cx="6288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PERFORMANCE FB TAP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"/>
          <p:cNvSpPr txBox="1"/>
          <p:nvPr/>
        </p:nvSpPr>
        <p:spPr>
          <a:xfrm>
            <a:off x="1736640" y="808200"/>
            <a:ext cx="51973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E WITH FF TAPS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0" name=""/>
          <p:cNvGrpSpPr/>
          <p:nvPr/>
        </p:nvGrpSpPr>
        <p:grpSpPr>
          <a:xfrm>
            <a:off x="898560" y="2103480"/>
            <a:ext cx="7026480" cy="2408400"/>
            <a:chOff x="898560" y="2103480"/>
            <a:chExt cx="7026480" cy="2408400"/>
          </a:xfrm>
        </p:grpSpPr>
        <p:sp>
          <p:nvSpPr>
            <p:cNvPr id="3101" name=""/>
            <p:cNvSpPr/>
            <p:nvPr/>
          </p:nvSpPr>
          <p:spPr>
            <a:xfrm>
              <a:off x="2133720" y="22860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2209680" y="2362320"/>
              <a:ext cx="15264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H="1">
              <a:off x="2209680" y="2362320"/>
              <a:ext cx="15264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600200" y="2438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2286000" y="25909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886200" y="243828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 txBox="1"/>
            <p:nvPr/>
          </p:nvSpPr>
          <p:spPr>
            <a:xfrm>
              <a:off x="4556160" y="2789280"/>
              <a:ext cx="92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572000" y="2743200"/>
              <a:ext cx="9144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029200" y="2438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 txBox="1"/>
            <p:nvPr/>
          </p:nvSpPr>
          <p:spPr>
            <a:xfrm>
              <a:off x="5622840" y="217980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L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R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 txBox="1"/>
            <p:nvPr/>
          </p:nvSpPr>
          <p:spPr>
            <a:xfrm>
              <a:off x="6994440" y="2179800"/>
              <a:ext cx="92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MB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638680" y="2133720"/>
              <a:ext cx="91440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6934320" y="2133720"/>
              <a:ext cx="9907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6553080" y="2438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4191120" y="40384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267080" y="41911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4343400" y="4114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4343400" y="243828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029200" y="32767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H="1">
              <a:off x="4495680" y="41911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 txBox="1"/>
            <p:nvPr/>
          </p:nvSpPr>
          <p:spPr>
            <a:xfrm>
              <a:off x="1965240" y="3780000"/>
              <a:ext cx="8780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C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905120" y="3733920"/>
              <a:ext cx="9144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 flipH="1">
              <a:off x="2819520" y="41911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 txBox="1"/>
            <p:nvPr/>
          </p:nvSpPr>
          <p:spPr>
            <a:xfrm>
              <a:off x="4556160" y="4237200"/>
              <a:ext cx="23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 txBox="1"/>
            <p:nvPr/>
          </p:nvSpPr>
          <p:spPr>
            <a:xfrm>
              <a:off x="4098960" y="362736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 txBox="1"/>
            <p:nvPr/>
          </p:nvSpPr>
          <p:spPr>
            <a:xfrm>
              <a:off x="898560" y="2332080"/>
              <a:ext cx="557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/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 txBox="1"/>
            <p:nvPr/>
          </p:nvSpPr>
          <p:spPr>
            <a:xfrm>
              <a:off x="3184560" y="423720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 txBox="1"/>
            <p:nvPr/>
          </p:nvSpPr>
          <p:spPr>
            <a:xfrm>
              <a:off x="3489480" y="3170160"/>
              <a:ext cx="430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3429000" y="3124080"/>
              <a:ext cx="60948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581280" y="22860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657600" y="2438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3733920" y="2362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2438280" y="2438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H="1">
              <a:off x="4038480" y="35053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 flipV="1">
              <a:off x="3733920" y="25909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 txBox="1"/>
            <p:nvPr/>
          </p:nvSpPr>
          <p:spPr>
            <a:xfrm>
              <a:off x="2803680" y="2255760"/>
              <a:ext cx="430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743200" y="2209680"/>
              <a:ext cx="60948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3352680" y="2438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 txBox="1"/>
            <p:nvPr/>
          </p:nvSpPr>
          <p:spPr>
            <a:xfrm>
              <a:off x="3336840" y="210348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 txBox="1"/>
            <p:nvPr/>
          </p:nvSpPr>
          <p:spPr>
            <a:xfrm>
              <a:off x="3794040" y="2589120"/>
              <a:ext cx="252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1" name=""/>
          <p:cNvSpPr txBox="1"/>
          <p:nvPr/>
        </p:nvSpPr>
        <p:spPr>
          <a:xfrm>
            <a:off x="900000" y="5394240"/>
            <a:ext cx="7429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B FIR only employs Adds/Subtracts for QSPK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 FIR uses Multipl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589040" y="731880"/>
            <a:ext cx="60102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STIC MODEM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90720" y="3840120"/>
            <a:ext cx="7010280" cy="2179440"/>
            <a:chOff x="990720" y="3840120"/>
            <a:chExt cx="7010280" cy="2179440"/>
          </a:xfrm>
        </p:grpSpPr>
        <p:sp>
          <p:nvSpPr>
            <p:cNvPr id="59" name=""/>
            <p:cNvSpPr txBox="1"/>
            <p:nvPr/>
          </p:nvSpPr>
          <p:spPr>
            <a:xfrm>
              <a:off x="1203480" y="4548240"/>
              <a:ext cx="1542960" cy="11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th-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tterworth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%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lo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143000" y="4495680"/>
              <a:ext cx="160020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260880" y="4853160"/>
              <a:ext cx="7174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00400" y="4724280"/>
              <a:ext cx="8380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5013360" y="4853160"/>
              <a:ext cx="7174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X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52880" y="4724280"/>
              <a:ext cx="83808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43200" y="51055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8480" y="51055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791320" y="51055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48320" y="4267080"/>
              <a:ext cx="3352680" cy="1752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90720" y="4267080"/>
              <a:ext cx="3276720" cy="1752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1889280" y="3840120"/>
              <a:ext cx="946080" cy="564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x Fil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5546880" y="3840120"/>
              <a:ext cx="12351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x Filt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6308640" y="4548240"/>
              <a:ext cx="1542960" cy="11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th-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tterworth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70%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lo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248520" y="4495680"/>
              <a:ext cx="160020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898560" y="1630440"/>
            <a:ext cx="624996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ansmit filters must meet a spectral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ing BW consumption is important for multiuse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DMA occup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X filters limit noise, interference and contr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requency translation disto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has selected cost-effectiv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2" name=""/>
          <p:cNvSpPr txBox="1"/>
          <p:nvPr/>
        </p:nvSpPr>
        <p:spPr>
          <a:xfrm>
            <a:off x="1355760" y="700200"/>
            <a:ext cx="6248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PERFORMANCE WITH FF T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3" name=""/>
          <p:cNvGrpSpPr/>
          <p:nvPr/>
        </p:nvGrpSpPr>
        <p:grpSpPr>
          <a:xfrm>
            <a:off x="824040" y="1371600"/>
            <a:ext cx="3805200" cy="4624560"/>
            <a:chOff x="824040" y="1371600"/>
            <a:chExt cx="3805200" cy="4624560"/>
          </a:xfrm>
        </p:grpSpPr>
        <p:sp>
          <p:nvSpPr>
            <p:cNvPr id="3144" name=""/>
            <p:cNvSpPr/>
            <p:nvPr/>
          </p:nvSpPr>
          <p:spPr>
            <a:xfrm>
              <a:off x="914400" y="2362320"/>
              <a:ext cx="3714840" cy="3633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395360" y="2631960"/>
              <a:ext cx="2868840" cy="2954520"/>
            </a:xfrm>
            <a:custGeom>
              <a:avLst/>
              <a:gdLst/>
              <a:ahLst/>
              <a:rect l="0" t="0" r="r" b="b"/>
              <a:pathLst>
                <a:path w="7969" h="8207">
                  <a:moveTo>
                    <a:pt x="0" y="8207"/>
                  </a:moveTo>
                  <a:lnTo>
                    <a:pt x="0" y="0"/>
                  </a:lnTo>
                  <a:lnTo>
                    <a:pt x="7969" y="0"/>
                  </a:lnTo>
                  <a:lnTo>
                    <a:pt x="7969" y="8207"/>
                  </a:lnTo>
                  <a:lnTo>
                    <a:pt x="0" y="8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395360" y="2631960"/>
              <a:ext cx="2868840" cy="2954520"/>
            </a:xfrm>
            <a:custGeom>
              <a:avLst/>
              <a:gdLst/>
              <a:ahLst/>
              <a:rect l="0" t="0" r="r" b="b"/>
              <a:pathLst>
                <a:path fill="none" w="7969" h="8207">
                  <a:moveTo>
                    <a:pt x="0" y="8207"/>
                  </a:moveTo>
                  <a:lnTo>
                    <a:pt x="0" y="0"/>
                  </a:lnTo>
                  <a:lnTo>
                    <a:pt x="7969" y="0"/>
                  </a:lnTo>
                  <a:lnTo>
                    <a:pt x="7969" y="8207"/>
                  </a:lnTo>
                  <a:lnTo>
                    <a:pt x="0" y="820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V="1">
              <a:off x="1395360" y="2631960"/>
              <a:ext cx="0" cy="2954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V="1">
              <a:off x="2349360" y="2631960"/>
              <a:ext cx="0" cy="2954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V="1">
              <a:off x="3311640" y="2631960"/>
              <a:ext cx="0" cy="2954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V="1">
              <a:off x="4264200" y="2631960"/>
              <a:ext cx="0" cy="2954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395360" y="558648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1395360" y="529128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395360" y="499572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395360" y="470052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395360" y="440532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395360" y="411012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395360" y="381312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395360" y="351792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1395360" y="322272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395360" y="292752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395360" y="263196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395360" y="558648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395360" y="263196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V="1">
              <a:off x="1395360" y="2631960"/>
              <a:ext cx="0" cy="2954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V="1">
              <a:off x="4264200" y="2631960"/>
              <a:ext cx="0" cy="2954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395360" y="558648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 flipV="1">
              <a:off x="1395360" y="2631960"/>
              <a:ext cx="0" cy="2954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1395360" y="55530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395360" y="2631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 txBox="1"/>
            <p:nvPr/>
          </p:nvSpPr>
          <p:spPr>
            <a:xfrm>
              <a:off x="1266840" y="5560920"/>
              <a:ext cx="241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V="1">
              <a:off x="2349360" y="55530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349360" y="2631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 txBox="1"/>
            <p:nvPr/>
          </p:nvSpPr>
          <p:spPr>
            <a:xfrm>
              <a:off x="2192400" y="556092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3311640" y="55530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311640" y="2631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 txBox="1"/>
            <p:nvPr/>
          </p:nvSpPr>
          <p:spPr>
            <a:xfrm>
              <a:off x="3132000" y="5560920"/>
              <a:ext cx="3538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V="1">
              <a:off x="4264200" y="55530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264200" y="2631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 txBox="1"/>
            <p:nvPr/>
          </p:nvSpPr>
          <p:spPr>
            <a:xfrm>
              <a:off x="4084560" y="5560920"/>
              <a:ext cx="3538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1395360" y="558648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4235400" y="55864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 txBox="1"/>
            <p:nvPr/>
          </p:nvSpPr>
          <p:spPr>
            <a:xfrm>
              <a:off x="1208160" y="5457960"/>
              <a:ext cx="241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395360" y="529128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4235400" y="52912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 txBox="1"/>
            <p:nvPr/>
          </p:nvSpPr>
          <p:spPr>
            <a:xfrm>
              <a:off x="1208160" y="5162400"/>
              <a:ext cx="241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395360" y="49957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H="1">
              <a:off x="4235400" y="4995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 txBox="1"/>
            <p:nvPr/>
          </p:nvSpPr>
          <p:spPr>
            <a:xfrm>
              <a:off x="1157400" y="486576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395360" y="47005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H="1">
              <a:off x="4235400" y="4700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 txBox="1"/>
            <p:nvPr/>
          </p:nvSpPr>
          <p:spPr>
            <a:xfrm>
              <a:off x="1157400" y="457056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395360" y="44053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H="1">
              <a:off x="4235400" y="44053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 txBox="1"/>
            <p:nvPr/>
          </p:nvSpPr>
          <p:spPr>
            <a:xfrm>
              <a:off x="1157400" y="427500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395360" y="41101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H="1">
              <a:off x="4235400" y="4110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 txBox="1"/>
            <p:nvPr/>
          </p:nvSpPr>
          <p:spPr>
            <a:xfrm>
              <a:off x="1157400" y="397980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395360" y="38131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H="1">
              <a:off x="4235400" y="38131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 txBox="1"/>
            <p:nvPr/>
          </p:nvSpPr>
          <p:spPr>
            <a:xfrm>
              <a:off x="1157400" y="368460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395360" y="35179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H="1">
              <a:off x="4235400" y="35179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 txBox="1"/>
            <p:nvPr/>
          </p:nvSpPr>
          <p:spPr>
            <a:xfrm>
              <a:off x="1157400" y="338760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1395360" y="32227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H="1">
              <a:off x="4235400" y="32227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 txBox="1"/>
            <p:nvPr/>
          </p:nvSpPr>
          <p:spPr>
            <a:xfrm>
              <a:off x="1157400" y="309240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395360" y="292752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>
              <a:off x="4235400" y="292752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 txBox="1"/>
            <p:nvPr/>
          </p:nvSpPr>
          <p:spPr>
            <a:xfrm>
              <a:off x="1157400" y="279720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395360" y="2631960"/>
              <a:ext cx="30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 flipH="1">
              <a:off x="4235400" y="263196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 txBox="1"/>
            <p:nvPr/>
          </p:nvSpPr>
          <p:spPr>
            <a:xfrm>
              <a:off x="1157400" y="250200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395360" y="558648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395360" y="2631960"/>
              <a:ext cx="286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 flipV="1">
              <a:off x="1395360" y="2631960"/>
              <a:ext cx="0" cy="2954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4264200" y="2631960"/>
              <a:ext cx="0" cy="2954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V="1">
              <a:off x="2349360" y="1492200"/>
              <a:ext cx="947880" cy="3208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349360" y="1492200"/>
              <a:ext cx="1529280" cy="3738960"/>
            </a:xfrm>
            <a:custGeom>
              <a:avLst/>
              <a:gdLst/>
              <a:ahLst/>
              <a:rect l="0" t="0" r="r" b="b"/>
              <a:pathLst>
                <a:path fill="none" w="4248" h="10386">
                  <a:moveTo>
                    <a:pt x="0" y="10386"/>
                  </a:moveTo>
                  <a:lnTo>
                    <a:pt x="2673" y="4807"/>
                  </a:lnTo>
                  <a:lnTo>
                    <a:pt x="424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49360" y="2752560"/>
              <a:ext cx="1914840" cy="2478600"/>
            </a:xfrm>
            <a:custGeom>
              <a:avLst/>
              <a:gdLst/>
              <a:ahLst/>
              <a:rect l="0" t="0" r="r" b="b"/>
              <a:pathLst>
                <a:path fill="none" w="5319" h="6885">
                  <a:moveTo>
                    <a:pt x="0" y="6885"/>
                  </a:moveTo>
                  <a:lnTo>
                    <a:pt x="2673" y="5412"/>
                  </a:lnTo>
                  <a:lnTo>
                    <a:pt x="531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349360" y="4110120"/>
              <a:ext cx="1914840" cy="1121040"/>
            </a:xfrm>
            <a:custGeom>
              <a:avLst/>
              <a:gdLst/>
              <a:ahLst/>
              <a:rect l="0" t="0" r="r" b="b"/>
              <a:pathLst>
                <a:path fill="none" w="5319" h="3114">
                  <a:moveTo>
                    <a:pt x="0" y="3114"/>
                  </a:moveTo>
                  <a:lnTo>
                    <a:pt x="2673" y="2122"/>
                  </a:lnTo>
                  <a:lnTo>
                    <a:pt x="531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349360" y="4405320"/>
              <a:ext cx="1914840" cy="825840"/>
            </a:xfrm>
            <a:custGeom>
              <a:avLst/>
              <a:gdLst/>
              <a:ahLst/>
              <a:rect l="0" t="0" r="r" b="b"/>
              <a:pathLst>
                <a:path fill="none" w="5319" h="2294">
                  <a:moveTo>
                    <a:pt x="0" y="2294"/>
                  </a:moveTo>
                  <a:lnTo>
                    <a:pt x="2673" y="1641"/>
                  </a:lnTo>
                  <a:lnTo>
                    <a:pt x="531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49360" y="4525920"/>
              <a:ext cx="1914840" cy="705240"/>
            </a:xfrm>
            <a:custGeom>
              <a:avLst/>
              <a:gdLst/>
              <a:ahLst/>
              <a:rect l="0" t="0" r="r" b="b"/>
              <a:pathLst>
                <a:path fill="none" w="5319" h="1959">
                  <a:moveTo>
                    <a:pt x="0" y="1959"/>
                  </a:moveTo>
                  <a:lnTo>
                    <a:pt x="2673" y="1306"/>
                  </a:lnTo>
                  <a:lnTo>
                    <a:pt x="531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 txBox="1"/>
            <p:nvPr/>
          </p:nvSpPr>
          <p:spPr>
            <a:xfrm>
              <a:off x="2168640" y="5700600"/>
              <a:ext cx="1363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MS Delay Spread (nsec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 txBox="1"/>
            <p:nvPr/>
          </p:nvSpPr>
          <p:spPr>
            <a:xfrm>
              <a:off x="824040" y="4138560"/>
              <a:ext cx="511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% P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 txBox="1"/>
            <p:nvPr/>
          </p:nvSpPr>
          <p:spPr>
            <a:xfrm>
              <a:off x="1484280" y="2919240"/>
              <a:ext cx="11336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,4,6,8,10 FB Ta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2936880" y="1371600"/>
              <a:ext cx="1011240" cy="121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 txBox="1"/>
            <p:nvPr/>
          </p:nvSpPr>
          <p:spPr>
            <a:xfrm>
              <a:off x="2149560" y="2362320"/>
              <a:ext cx="12398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F DFE with 2 FF Ta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8" name=""/>
          <p:cNvSpPr txBox="1"/>
          <p:nvPr/>
        </p:nvSpPr>
        <p:spPr>
          <a:xfrm>
            <a:off x="838080" y="1401840"/>
            <a:ext cx="524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sh correlation gain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bounded using chip eye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9" name=""/>
          <p:cNvGrpSpPr/>
          <p:nvPr/>
        </p:nvGrpSpPr>
        <p:grpSpPr>
          <a:xfrm>
            <a:off x="4449600" y="1447920"/>
            <a:ext cx="4069080" cy="4571640"/>
            <a:chOff x="4449600" y="1447920"/>
            <a:chExt cx="4069080" cy="4571640"/>
          </a:xfrm>
        </p:grpSpPr>
        <p:sp>
          <p:nvSpPr>
            <p:cNvPr id="3230" name=""/>
            <p:cNvSpPr/>
            <p:nvPr/>
          </p:nvSpPr>
          <p:spPr>
            <a:xfrm>
              <a:off x="4572000" y="2365200"/>
              <a:ext cx="3946680" cy="365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081760" y="2631960"/>
              <a:ext cx="3048480" cy="2970720"/>
            </a:xfrm>
            <a:custGeom>
              <a:avLst/>
              <a:gdLst/>
              <a:ahLst/>
              <a:rect l="0" t="0" r="r" b="b"/>
              <a:pathLst>
                <a:path w="8468" h="8252">
                  <a:moveTo>
                    <a:pt x="0" y="8252"/>
                  </a:moveTo>
                  <a:lnTo>
                    <a:pt x="0" y="0"/>
                  </a:lnTo>
                  <a:lnTo>
                    <a:pt x="8468" y="0"/>
                  </a:lnTo>
                  <a:lnTo>
                    <a:pt x="8468" y="8252"/>
                  </a:lnTo>
                  <a:lnTo>
                    <a:pt x="0" y="82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5081760" y="2631960"/>
              <a:ext cx="3048480" cy="2970720"/>
            </a:xfrm>
            <a:custGeom>
              <a:avLst/>
              <a:gdLst/>
              <a:ahLst/>
              <a:rect l="0" t="0" r="r" b="b"/>
              <a:pathLst>
                <a:path fill="none" w="8468" h="8252">
                  <a:moveTo>
                    <a:pt x="0" y="8252"/>
                  </a:moveTo>
                  <a:lnTo>
                    <a:pt x="0" y="0"/>
                  </a:lnTo>
                  <a:lnTo>
                    <a:pt x="8468" y="0"/>
                  </a:lnTo>
                  <a:lnTo>
                    <a:pt x="8468" y="8252"/>
                  </a:lnTo>
                  <a:lnTo>
                    <a:pt x="0" y="825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 flipV="1">
              <a:off x="5081760" y="2631960"/>
              <a:ext cx="0" cy="297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 flipV="1">
              <a:off x="6100920" y="2631960"/>
              <a:ext cx="0" cy="297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V="1">
              <a:off x="7110360" y="2631960"/>
              <a:ext cx="0" cy="297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V="1">
              <a:off x="8129520" y="2631960"/>
              <a:ext cx="0" cy="297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081760" y="56023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5081760" y="53103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5081760" y="50101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5081760" y="47163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5081760" y="441468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081760" y="41227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5081760" y="382104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081760" y="352728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081760" y="32259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081760" y="293364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081760" y="26319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081760" y="56023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5081760" y="26319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V="1">
              <a:off x="5081760" y="2631960"/>
              <a:ext cx="0" cy="297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 flipV="1">
              <a:off x="8129520" y="2631960"/>
              <a:ext cx="0" cy="297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5081760" y="56023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5081760" y="2631960"/>
              <a:ext cx="0" cy="297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 flipV="1">
              <a:off x="5081760" y="55688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081760" y="2631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 txBox="1"/>
            <p:nvPr/>
          </p:nvSpPr>
          <p:spPr>
            <a:xfrm>
              <a:off x="4951440" y="5580000"/>
              <a:ext cx="247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V="1">
              <a:off x="6100920" y="55688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6100920" y="2631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 txBox="1"/>
            <p:nvPr/>
          </p:nvSpPr>
          <p:spPr>
            <a:xfrm>
              <a:off x="5935680" y="558000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V="1">
              <a:off x="7110360" y="55688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110360" y="2631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 txBox="1"/>
            <p:nvPr/>
          </p:nvSpPr>
          <p:spPr>
            <a:xfrm>
              <a:off x="6919920" y="5580000"/>
              <a:ext cx="3747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V="1">
              <a:off x="8129520" y="55688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8129520" y="263196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 txBox="1"/>
            <p:nvPr/>
          </p:nvSpPr>
          <p:spPr>
            <a:xfrm>
              <a:off x="7939080" y="5580000"/>
              <a:ext cx="3747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081760" y="56023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 flipH="1">
              <a:off x="8096400" y="560232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 txBox="1"/>
            <p:nvPr/>
          </p:nvSpPr>
          <p:spPr>
            <a:xfrm>
              <a:off x="4881600" y="5473800"/>
              <a:ext cx="247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5081760" y="5310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 flipH="1">
              <a:off x="8096400" y="531036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 txBox="1"/>
            <p:nvPr/>
          </p:nvSpPr>
          <p:spPr>
            <a:xfrm>
              <a:off x="4881600" y="5181480"/>
              <a:ext cx="247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081760" y="50101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>
              <a:off x="8096400" y="501012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 txBox="1"/>
            <p:nvPr/>
          </p:nvSpPr>
          <p:spPr>
            <a:xfrm>
              <a:off x="4821120" y="487980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5081760" y="47163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 flipH="1">
              <a:off x="8096400" y="471636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 txBox="1"/>
            <p:nvPr/>
          </p:nvSpPr>
          <p:spPr>
            <a:xfrm>
              <a:off x="4821120" y="458640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5081760" y="44146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>
              <a:off x="8096400" y="441468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 txBox="1"/>
            <p:nvPr/>
          </p:nvSpPr>
          <p:spPr>
            <a:xfrm>
              <a:off x="4821120" y="428472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081760" y="412272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H="1">
              <a:off x="8096400" y="412272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 txBox="1"/>
            <p:nvPr/>
          </p:nvSpPr>
          <p:spPr>
            <a:xfrm>
              <a:off x="4821120" y="399240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5081760" y="38210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8096400" y="382104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 txBox="1"/>
            <p:nvPr/>
          </p:nvSpPr>
          <p:spPr>
            <a:xfrm>
              <a:off x="4821120" y="369108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081760" y="35272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>
              <a:off x="8096400" y="352728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 txBox="1"/>
            <p:nvPr/>
          </p:nvSpPr>
          <p:spPr>
            <a:xfrm>
              <a:off x="4821120" y="339876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5081760" y="32259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 flipH="1">
              <a:off x="8096400" y="322596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 txBox="1"/>
            <p:nvPr/>
          </p:nvSpPr>
          <p:spPr>
            <a:xfrm>
              <a:off x="4821120" y="309708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081760" y="293364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>
              <a:off x="8096400" y="293364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 txBox="1"/>
            <p:nvPr/>
          </p:nvSpPr>
          <p:spPr>
            <a:xfrm>
              <a:off x="4821120" y="280512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081760" y="26319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H="1">
              <a:off x="8096400" y="263196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 txBox="1"/>
            <p:nvPr/>
          </p:nvSpPr>
          <p:spPr>
            <a:xfrm>
              <a:off x="4821120" y="250200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5081760" y="560232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5081760" y="26319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 flipV="1">
              <a:off x="5081760" y="2631960"/>
              <a:ext cx="0" cy="297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 flipV="1">
              <a:off x="8129520" y="2631960"/>
              <a:ext cx="0" cy="297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6100920" y="1479600"/>
              <a:ext cx="1286280" cy="3530880"/>
            </a:xfrm>
            <a:custGeom>
              <a:avLst/>
              <a:gdLst/>
              <a:ahLst/>
              <a:rect l="0" t="0" r="r" b="b"/>
              <a:pathLst>
                <a:path fill="none" w="3573" h="9808">
                  <a:moveTo>
                    <a:pt x="0" y="9808"/>
                  </a:moveTo>
                  <a:lnTo>
                    <a:pt x="2806" y="1577"/>
                  </a:lnTo>
                  <a:lnTo>
                    <a:pt x="357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6100920" y="1479600"/>
              <a:ext cx="1762560" cy="3885120"/>
            </a:xfrm>
            <a:custGeom>
              <a:avLst/>
              <a:gdLst/>
              <a:ahLst/>
              <a:rect l="0" t="0" r="r" b="b"/>
              <a:pathLst>
                <a:path fill="none" w="4896" h="10792">
                  <a:moveTo>
                    <a:pt x="0" y="10792"/>
                  </a:moveTo>
                  <a:lnTo>
                    <a:pt x="2805" y="5839"/>
                  </a:lnTo>
                  <a:lnTo>
                    <a:pt x="489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6100920" y="3225960"/>
              <a:ext cx="2029320" cy="2138760"/>
            </a:xfrm>
            <a:custGeom>
              <a:avLst/>
              <a:gdLst/>
              <a:ahLst/>
              <a:rect l="0" t="0" r="r" b="b"/>
              <a:pathLst>
                <a:path fill="none" w="5637" h="5941">
                  <a:moveTo>
                    <a:pt x="0" y="5941"/>
                  </a:moveTo>
                  <a:lnTo>
                    <a:pt x="2805" y="4633"/>
                  </a:lnTo>
                  <a:lnTo>
                    <a:pt x="563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6100920" y="4299120"/>
              <a:ext cx="2029320" cy="1065600"/>
            </a:xfrm>
            <a:custGeom>
              <a:avLst/>
              <a:gdLst/>
              <a:ahLst/>
              <a:rect l="0" t="0" r="r" b="b"/>
              <a:pathLst>
                <a:path fill="none" w="5637" h="2960">
                  <a:moveTo>
                    <a:pt x="0" y="2960"/>
                  </a:moveTo>
                  <a:lnTo>
                    <a:pt x="2805" y="1974"/>
                  </a:lnTo>
                  <a:lnTo>
                    <a:pt x="563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6100920" y="4530600"/>
              <a:ext cx="2029320" cy="894240"/>
            </a:xfrm>
            <a:custGeom>
              <a:avLst/>
              <a:gdLst/>
              <a:ahLst/>
              <a:rect l="0" t="0" r="r" b="b"/>
              <a:pathLst>
                <a:path fill="none" w="5637" h="2484">
                  <a:moveTo>
                    <a:pt x="0" y="2484"/>
                  </a:moveTo>
                  <a:lnTo>
                    <a:pt x="2805" y="1647"/>
                  </a:lnTo>
                  <a:lnTo>
                    <a:pt x="563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6100920" y="4716360"/>
              <a:ext cx="2029320" cy="708480"/>
            </a:xfrm>
            <a:custGeom>
              <a:avLst/>
              <a:gdLst/>
              <a:ahLst/>
              <a:rect l="0" t="0" r="r" b="b"/>
              <a:pathLst>
                <a:path fill="none" w="5637" h="1968">
                  <a:moveTo>
                    <a:pt x="0" y="1968"/>
                  </a:moveTo>
                  <a:lnTo>
                    <a:pt x="2805" y="1131"/>
                  </a:lnTo>
                  <a:lnTo>
                    <a:pt x="563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 txBox="1"/>
            <p:nvPr/>
          </p:nvSpPr>
          <p:spPr>
            <a:xfrm>
              <a:off x="5840280" y="5721480"/>
              <a:ext cx="15112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MS Delay Spread (nsec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 txBox="1"/>
            <p:nvPr/>
          </p:nvSpPr>
          <p:spPr>
            <a:xfrm>
              <a:off x="4449600" y="4135320"/>
              <a:ext cx="5526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% P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 txBox="1"/>
            <p:nvPr/>
          </p:nvSpPr>
          <p:spPr>
            <a:xfrm>
              <a:off x="5184720" y="2927520"/>
              <a:ext cx="12510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,4,6,8,10 FB Tap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6934320" y="1447920"/>
              <a:ext cx="990720" cy="113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 txBox="1"/>
            <p:nvPr/>
          </p:nvSpPr>
          <p:spPr>
            <a:xfrm>
              <a:off x="5908680" y="2359080"/>
              <a:ext cx="13716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ZF DFE with 3 FF Tap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4" name=""/>
          <p:cNvSpPr txBox="1"/>
          <p:nvPr/>
        </p:nvSpPr>
        <p:spPr>
          <a:xfrm>
            <a:off x="1584360" y="655560"/>
            <a:ext cx="6235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E TRACKING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5" name=""/>
          <p:cNvGrpSpPr/>
          <p:nvPr/>
        </p:nvGrpSpPr>
        <p:grpSpPr>
          <a:xfrm>
            <a:off x="1355760" y="1424160"/>
            <a:ext cx="5780160" cy="3956040"/>
            <a:chOff x="1355760" y="1424160"/>
            <a:chExt cx="5780160" cy="3956040"/>
          </a:xfrm>
        </p:grpSpPr>
        <p:sp>
          <p:nvSpPr>
            <p:cNvPr id="3316" name=""/>
            <p:cNvSpPr txBox="1"/>
            <p:nvPr/>
          </p:nvSpPr>
          <p:spPr>
            <a:xfrm>
              <a:off x="1355760" y="3687840"/>
              <a:ext cx="321804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FF:  # of complex FF Ta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FB:  # of complex FB Ta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 txBox="1"/>
            <p:nvPr/>
          </p:nvSpPr>
          <p:spPr>
            <a:xfrm>
              <a:off x="1355760" y="4373640"/>
              <a:ext cx="425916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 of real mults:  4 nFF/c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 of real adds:    (2 nFF + 6 nFB)/c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# of compares:  2/chi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8" name=""/>
            <p:cNvGrpSpPr/>
            <p:nvPr/>
          </p:nvGrpSpPr>
          <p:grpSpPr>
            <a:xfrm>
              <a:off x="2193840" y="1424160"/>
              <a:ext cx="4942080" cy="2277720"/>
              <a:chOff x="2193840" y="1424160"/>
              <a:chExt cx="4942080" cy="2277720"/>
            </a:xfrm>
          </p:grpSpPr>
          <p:sp>
            <p:nvSpPr>
              <p:cNvPr id="3319" name=""/>
              <p:cNvSpPr txBox="1"/>
              <p:nvPr/>
            </p:nvSpPr>
            <p:spPr>
              <a:xfrm>
                <a:off x="2955960" y="1812960"/>
                <a:ext cx="517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2971800" y="18288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3581280" y="20574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"/>
              <p:cNvSpPr txBox="1"/>
              <p:nvPr/>
            </p:nvSpPr>
            <p:spPr>
              <a:xfrm>
                <a:off x="4175280" y="1812960"/>
                <a:ext cx="8269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3429000" y="20574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flipH="1">
                <a:off x="2438280" y="205740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2819520" y="20574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3429000" y="281952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2819520" y="2666880"/>
                <a:ext cx="60948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3886200" y="20574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4191120" y="1828800"/>
                <a:ext cx="83808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"/>
              <p:cNvSpPr txBox="1"/>
              <p:nvPr/>
            </p:nvSpPr>
            <p:spPr>
              <a:xfrm>
                <a:off x="5318280" y="1812960"/>
                <a:ext cx="517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5334120" y="18288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791320" y="205740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3886200" y="205740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3733920" y="29718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5029200" y="205740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5181480" y="20574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5943600" y="20574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5029200" y="281952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V="1">
                <a:off x="5181480" y="31240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5334120" y="2666880"/>
                <a:ext cx="60948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>
                <a:off x="3581280" y="3429000"/>
                <a:ext cx="1600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V="1">
                <a:off x="3581280" y="3124080"/>
                <a:ext cx="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505320" y="29718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5105520" y="297180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581280" y="289548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5181480" y="2895480"/>
                <a:ext cx="0" cy="152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2819520" y="20574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81280" y="20574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5181480" y="20574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5943600" y="20574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 txBox="1"/>
              <p:nvPr/>
            </p:nvSpPr>
            <p:spPr>
              <a:xfrm>
                <a:off x="2955960" y="2346480"/>
                <a:ext cx="5904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 txBox="1"/>
              <p:nvPr/>
            </p:nvSpPr>
            <p:spPr>
              <a:xfrm>
                <a:off x="2193840" y="2346480"/>
                <a:ext cx="6922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 txBox="1"/>
              <p:nvPr/>
            </p:nvSpPr>
            <p:spPr>
              <a:xfrm>
                <a:off x="4556160" y="2346480"/>
                <a:ext cx="5904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 txBox="1"/>
              <p:nvPr/>
            </p:nvSpPr>
            <p:spPr>
              <a:xfrm>
                <a:off x="5318280" y="2346480"/>
                <a:ext cx="5904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 txBox="1"/>
              <p:nvPr/>
            </p:nvSpPr>
            <p:spPr>
              <a:xfrm>
                <a:off x="6080040" y="1812960"/>
                <a:ext cx="517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6095880" y="18288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6553080" y="205740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705720" y="20574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705720" y="20574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 txBox="1"/>
              <p:nvPr/>
            </p:nvSpPr>
            <p:spPr>
              <a:xfrm>
                <a:off x="6080040" y="2346480"/>
                <a:ext cx="5904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5334120" y="2666880"/>
                <a:ext cx="137160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 txBox="1"/>
              <p:nvPr/>
            </p:nvSpPr>
            <p:spPr>
              <a:xfrm>
                <a:off x="5699160" y="2879640"/>
                <a:ext cx="1436760" cy="822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F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Structur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 txBox="1"/>
              <p:nvPr/>
            </p:nvSpPr>
            <p:spPr>
              <a:xfrm>
                <a:off x="4708440" y="1424160"/>
                <a:ext cx="17715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QPSK:  +/-1+/-j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"/>
          <p:cNvSpPr txBox="1"/>
          <p:nvPr/>
        </p:nvSpPr>
        <p:spPr>
          <a:xfrm>
            <a:off x="746280" y="928800"/>
            <a:ext cx="7740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ST-PERFORMANCE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 txBox="1"/>
          <p:nvPr/>
        </p:nvSpPr>
        <p:spPr>
          <a:xfrm>
            <a:off x="974880" y="2041560"/>
            <a:ext cx="72518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its predominately minimum phase channe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PER with beyond 200 nsec RMS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erbi-DFE based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/complexity tailo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*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hannel percursor taps -- 4 state trel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*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hannel percursor taps -- 16 state trel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close to optimal Viterbi-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 training using channel impulse response 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oise a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"/>
          <p:cNvSpPr txBox="1"/>
          <p:nvPr/>
        </p:nvSpPr>
        <p:spPr>
          <a:xfrm>
            <a:off x="2043000" y="547560"/>
            <a:ext cx="48578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FILTER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NITE STATE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7" name=""/>
          <p:cNvGrpSpPr/>
          <p:nvPr/>
        </p:nvGrpSpPr>
        <p:grpSpPr>
          <a:xfrm>
            <a:off x="517680" y="1828800"/>
            <a:ext cx="4740120" cy="2133720"/>
            <a:chOff x="517680" y="1828800"/>
            <a:chExt cx="4740120" cy="2133720"/>
          </a:xfrm>
        </p:grpSpPr>
        <p:sp>
          <p:nvSpPr>
            <p:cNvPr id="3368" name=""/>
            <p:cNvSpPr/>
            <p:nvPr/>
          </p:nvSpPr>
          <p:spPr>
            <a:xfrm>
              <a:off x="533520" y="1828800"/>
              <a:ext cx="4724280" cy="2133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 txBox="1"/>
            <p:nvPr/>
          </p:nvSpPr>
          <p:spPr>
            <a:xfrm>
              <a:off x="3718080" y="21178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3733920" y="21337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191120" y="23623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429000" y="2362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3581280" y="2362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4343400" y="23623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429000" y="31240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 flipV="1">
              <a:off x="3581280" y="3429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H="1">
              <a:off x="3733920" y="2971800"/>
              <a:ext cx="60948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505320" y="3276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581280" y="32004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3581280" y="23623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343400" y="23623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 txBox="1"/>
            <p:nvPr/>
          </p:nvSpPr>
          <p:spPr>
            <a:xfrm>
              <a:off x="2955960" y="2651040"/>
              <a:ext cx="539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 txBox="1"/>
            <p:nvPr/>
          </p:nvSpPr>
          <p:spPr>
            <a:xfrm>
              <a:off x="3718080" y="2651040"/>
              <a:ext cx="539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 txBox="1"/>
            <p:nvPr/>
          </p:nvSpPr>
          <p:spPr>
            <a:xfrm>
              <a:off x="4479840" y="21178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495680" y="21337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952880" y="236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105520" y="23623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105520" y="23623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 txBox="1"/>
            <p:nvPr/>
          </p:nvSpPr>
          <p:spPr>
            <a:xfrm>
              <a:off x="4479840" y="2651040"/>
              <a:ext cx="539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H="1">
              <a:off x="3733920" y="2971800"/>
              <a:ext cx="1371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 txBox="1"/>
            <p:nvPr/>
          </p:nvSpPr>
          <p:spPr>
            <a:xfrm>
              <a:off x="2193840" y="21178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209680" y="21337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2666880" y="2362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1523880" y="23623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 txBox="1"/>
            <p:nvPr/>
          </p:nvSpPr>
          <p:spPr>
            <a:xfrm>
              <a:off x="2955960" y="21178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971800" y="21337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429000" y="236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057400" y="23623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2819520" y="23623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 txBox="1"/>
            <p:nvPr/>
          </p:nvSpPr>
          <p:spPr>
            <a:xfrm>
              <a:off x="2193840" y="265104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 txBox="1"/>
            <p:nvPr/>
          </p:nvSpPr>
          <p:spPr>
            <a:xfrm>
              <a:off x="1432080" y="2651040"/>
              <a:ext cx="641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819520" y="2971800"/>
              <a:ext cx="60948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057400" y="2971800"/>
              <a:ext cx="1371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 txBox="1"/>
            <p:nvPr/>
          </p:nvSpPr>
          <p:spPr>
            <a:xfrm>
              <a:off x="517680" y="1965240"/>
              <a:ext cx="1438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x Sy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5" name=""/>
          <p:cNvGrpSpPr/>
          <p:nvPr/>
        </p:nvGrpSpPr>
        <p:grpSpPr>
          <a:xfrm>
            <a:off x="5562720" y="1752480"/>
            <a:ext cx="3048120" cy="3429000"/>
            <a:chOff x="5562720" y="1752480"/>
            <a:chExt cx="3048120" cy="3429000"/>
          </a:xfrm>
        </p:grpSpPr>
        <p:sp>
          <p:nvSpPr>
            <p:cNvPr id="3406" name=""/>
            <p:cNvSpPr/>
            <p:nvPr/>
          </p:nvSpPr>
          <p:spPr>
            <a:xfrm>
              <a:off x="5562720" y="1752480"/>
              <a:ext cx="304812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7" name=""/>
            <p:cNvGrpSpPr/>
            <p:nvPr/>
          </p:nvGrpSpPr>
          <p:grpSpPr>
            <a:xfrm>
              <a:off x="5943600" y="1874880"/>
              <a:ext cx="2209680" cy="2697120"/>
              <a:chOff x="5943600" y="1874880"/>
              <a:chExt cx="2209680" cy="2697120"/>
            </a:xfrm>
          </p:grpSpPr>
          <p:sp>
            <p:nvSpPr>
              <p:cNvPr id="3408" name=""/>
              <p:cNvSpPr/>
              <p:nvPr/>
            </p:nvSpPr>
            <p:spPr>
              <a:xfrm>
                <a:off x="5943600" y="2286000"/>
                <a:ext cx="220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943600" y="3048120"/>
                <a:ext cx="220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943600" y="3809880"/>
                <a:ext cx="220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943600" y="4572000"/>
                <a:ext cx="220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V="1">
                <a:off x="5943600" y="3809880"/>
                <a:ext cx="220968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 flipV="1">
                <a:off x="5943600" y="3048120"/>
                <a:ext cx="220968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 flipV="1">
                <a:off x="5943600" y="2286000"/>
                <a:ext cx="220968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V="1">
                <a:off x="5943600" y="3048120"/>
                <a:ext cx="220968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V="1">
                <a:off x="5943600" y="2286000"/>
                <a:ext cx="220968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5943600" y="3809880"/>
                <a:ext cx="220968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 flipV="1">
                <a:off x="5943600" y="2286000"/>
                <a:ext cx="220968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943600" y="3048120"/>
                <a:ext cx="220968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943600" y="3048120"/>
                <a:ext cx="220968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943600" y="2286000"/>
                <a:ext cx="220968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943600" y="2286000"/>
                <a:ext cx="220968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943600" y="2286000"/>
                <a:ext cx="220968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 txBox="1"/>
              <p:nvPr/>
            </p:nvSpPr>
            <p:spPr>
              <a:xfrm>
                <a:off x="6384960" y="1874880"/>
                <a:ext cx="11746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 State Trelli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25" name=""/>
          <p:cNvSpPr txBox="1"/>
          <p:nvPr/>
        </p:nvSpPr>
        <p:spPr>
          <a:xfrm>
            <a:off x="974880" y="5241960"/>
            <a:ext cx="3621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ary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channe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of Trellis States =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L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"/>
          <p:cNvSpPr txBox="1"/>
          <p:nvPr/>
        </p:nvSpPr>
        <p:spPr>
          <a:xfrm>
            <a:off x="1585800" y="471600"/>
            <a:ext cx="6210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ING STATES WITH FB T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7" name=""/>
          <p:cNvGrpSpPr/>
          <p:nvPr/>
        </p:nvGrpSpPr>
        <p:grpSpPr>
          <a:xfrm>
            <a:off x="517680" y="1219320"/>
            <a:ext cx="7788240" cy="4876560"/>
            <a:chOff x="517680" y="1219320"/>
            <a:chExt cx="7788240" cy="4876560"/>
          </a:xfrm>
        </p:grpSpPr>
        <p:grpSp>
          <p:nvGrpSpPr>
            <p:cNvPr id="3428" name=""/>
            <p:cNvGrpSpPr/>
            <p:nvPr/>
          </p:nvGrpSpPr>
          <p:grpSpPr>
            <a:xfrm>
              <a:off x="3565440" y="4373640"/>
              <a:ext cx="3216600" cy="1722240"/>
              <a:chOff x="3565440" y="4373640"/>
              <a:chExt cx="3216600" cy="1722240"/>
            </a:xfrm>
          </p:grpSpPr>
          <p:sp>
            <p:nvSpPr>
              <p:cNvPr id="3429" name=""/>
              <p:cNvSpPr/>
              <p:nvPr/>
            </p:nvSpPr>
            <p:spPr>
              <a:xfrm>
                <a:off x="6477120" y="472428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6629400" y="472428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6477120" y="54864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V="1">
                <a:off x="6629400" y="57913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6553080" y="563868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629400" y="55627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629400" y="47242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 txBox="1"/>
              <p:nvPr/>
            </p:nvSpPr>
            <p:spPr>
              <a:xfrm>
                <a:off x="6004080" y="5013360"/>
                <a:ext cx="5396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 txBox="1"/>
              <p:nvPr/>
            </p:nvSpPr>
            <p:spPr>
              <a:xfrm>
                <a:off x="5241960" y="4479840"/>
                <a:ext cx="517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257800" y="4495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5715000" y="47242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4572000" y="47242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 txBox="1"/>
              <p:nvPr/>
            </p:nvSpPr>
            <p:spPr>
              <a:xfrm>
                <a:off x="6004080" y="4479840"/>
                <a:ext cx="517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019920" y="4495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5105520" y="47242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5867280" y="47242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 txBox="1"/>
              <p:nvPr/>
            </p:nvSpPr>
            <p:spPr>
              <a:xfrm>
                <a:off x="5241960" y="5013360"/>
                <a:ext cx="6415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 txBox="1"/>
              <p:nvPr/>
            </p:nvSpPr>
            <p:spPr>
              <a:xfrm>
                <a:off x="4479840" y="5013360"/>
                <a:ext cx="6415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867280" y="5334120"/>
                <a:ext cx="60984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105520" y="5334120"/>
                <a:ext cx="1371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 txBox="1"/>
              <p:nvPr/>
            </p:nvSpPr>
            <p:spPr>
              <a:xfrm>
                <a:off x="3565440" y="4373640"/>
                <a:ext cx="12286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x Sym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0" name=""/>
            <p:cNvSpPr txBox="1"/>
            <p:nvPr/>
          </p:nvSpPr>
          <p:spPr>
            <a:xfrm>
              <a:off x="6689880" y="14320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6705720" y="14479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162920" y="1676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6400800" y="1676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553080" y="16765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315200" y="16765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400800" y="24382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6553080" y="2743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H="1">
              <a:off x="6705720" y="2286000"/>
              <a:ext cx="60948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6477120" y="2590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6553080" y="25146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6553080" y="16765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315200" y="16765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 txBox="1"/>
            <p:nvPr/>
          </p:nvSpPr>
          <p:spPr>
            <a:xfrm>
              <a:off x="6689880" y="1965240"/>
              <a:ext cx="539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 txBox="1"/>
            <p:nvPr/>
          </p:nvSpPr>
          <p:spPr>
            <a:xfrm>
              <a:off x="7451640" y="1432080"/>
              <a:ext cx="5176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467480" y="144792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924680" y="16765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8077320" y="16765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8077320" y="16765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 txBox="1"/>
            <p:nvPr/>
          </p:nvSpPr>
          <p:spPr>
            <a:xfrm>
              <a:off x="7451640" y="1965240"/>
              <a:ext cx="539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H="1">
              <a:off x="6705720" y="2286000"/>
              <a:ext cx="1371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6400800" y="1676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 txBox="1"/>
            <p:nvPr/>
          </p:nvSpPr>
          <p:spPr>
            <a:xfrm>
              <a:off x="5622840" y="14320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5638680" y="1447920"/>
              <a:ext cx="76212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4" name=""/>
            <p:cNvGrpSpPr/>
            <p:nvPr/>
          </p:nvGrpSpPr>
          <p:grpSpPr>
            <a:xfrm>
              <a:off x="517680" y="1630440"/>
              <a:ext cx="4587840" cy="1722240"/>
              <a:chOff x="517680" y="1630440"/>
              <a:chExt cx="4587840" cy="1722240"/>
            </a:xfrm>
          </p:grpSpPr>
          <p:sp>
            <p:nvSpPr>
              <p:cNvPr id="3475" name=""/>
              <p:cNvSpPr txBox="1"/>
              <p:nvPr/>
            </p:nvSpPr>
            <p:spPr>
              <a:xfrm>
                <a:off x="3718080" y="1736640"/>
                <a:ext cx="517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3733920" y="17524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4191120" y="1981080"/>
                <a:ext cx="30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3429000" y="1981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3581280" y="198108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4343400" y="19810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3429000" y="27432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 flipV="1">
                <a:off x="3581280" y="3048120"/>
                <a:ext cx="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 flipH="1">
                <a:off x="3733920" y="2590920"/>
                <a:ext cx="60948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3505320" y="289548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3581280" y="28195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3581280" y="19810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4343400" y="19810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 txBox="1"/>
              <p:nvPr/>
            </p:nvSpPr>
            <p:spPr>
              <a:xfrm>
                <a:off x="2955960" y="2270160"/>
                <a:ext cx="5396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 txBox="1"/>
              <p:nvPr/>
            </p:nvSpPr>
            <p:spPr>
              <a:xfrm>
                <a:off x="3718080" y="2270160"/>
                <a:ext cx="5396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 txBox="1"/>
              <p:nvPr/>
            </p:nvSpPr>
            <p:spPr>
              <a:xfrm>
                <a:off x="4479840" y="1736640"/>
                <a:ext cx="517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4495680" y="17524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4952880" y="198108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105520" y="19810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105520" y="19810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 txBox="1"/>
              <p:nvPr/>
            </p:nvSpPr>
            <p:spPr>
              <a:xfrm>
                <a:off x="4479840" y="2270160"/>
                <a:ext cx="5396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H="1">
                <a:off x="3733920" y="2590920"/>
                <a:ext cx="1371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 txBox="1"/>
              <p:nvPr/>
            </p:nvSpPr>
            <p:spPr>
              <a:xfrm>
                <a:off x="2193840" y="1736640"/>
                <a:ext cx="517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2209680" y="17524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2666880" y="1981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1523880" y="19810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 txBox="1"/>
              <p:nvPr/>
            </p:nvSpPr>
            <p:spPr>
              <a:xfrm>
                <a:off x="2955960" y="1736640"/>
                <a:ext cx="5176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2971800" y="17524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>
                <a:off x="3429000" y="198108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2057400" y="19810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2819520" y="198108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 txBox="1"/>
              <p:nvPr/>
            </p:nvSpPr>
            <p:spPr>
              <a:xfrm>
                <a:off x="2193840" y="2270160"/>
                <a:ext cx="6415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 txBox="1"/>
              <p:nvPr/>
            </p:nvSpPr>
            <p:spPr>
              <a:xfrm>
                <a:off x="1432080" y="2270160"/>
                <a:ext cx="64152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2819520" y="2590920"/>
                <a:ext cx="60948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2057400" y="2590920"/>
                <a:ext cx="137160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 txBox="1"/>
              <p:nvPr/>
            </p:nvSpPr>
            <p:spPr>
              <a:xfrm>
                <a:off x="517680" y="1630440"/>
                <a:ext cx="122868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x Sym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1" name=""/>
            <p:cNvSpPr/>
            <p:nvPr/>
          </p:nvSpPr>
          <p:spPr>
            <a:xfrm>
              <a:off x="3733920" y="289548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 txBox="1"/>
            <p:nvPr/>
          </p:nvSpPr>
          <p:spPr>
            <a:xfrm>
              <a:off x="3946680" y="2803680"/>
              <a:ext cx="285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5486400" y="1219320"/>
              <a:ext cx="2819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 txBox="1"/>
            <p:nvPr/>
          </p:nvSpPr>
          <p:spPr>
            <a:xfrm>
              <a:off x="7147080" y="2567160"/>
              <a:ext cx="10857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F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B Ta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3505320" y="3657600"/>
              <a:ext cx="2286360" cy="533880"/>
            </a:xfrm>
            <a:custGeom>
              <a:avLst/>
              <a:gdLst/>
              <a:ahLst/>
              <a:rect l="0" t="0" r="r" b="b"/>
              <a:pathLst>
                <a:path fill="none" w="6351" h="1483">
                  <a:moveTo>
                    <a:pt x="0" y="296"/>
                  </a:moveTo>
                  <a:lnTo>
                    <a:pt x="0" y="1187"/>
                  </a:lnTo>
                  <a:lnTo>
                    <a:pt x="4445" y="1187"/>
                  </a:lnTo>
                  <a:lnTo>
                    <a:pt x="4445" y="1483"/>
                  </a:lnTo>
                  <a:lnTo>
                    <a:pt x="6351" y="741"/>
                  </a:lnTo>
                  <a:lnTo>
                    <a:pt x="4445" y="0"/>
                  </a:lnTo>
                  <a:lnTo>
                    <a:pt x="4445" y="296"/>
                  </a:lnTo>
                  <a:lnTo>
                    <a:pt x="0" y="29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 txBox="1"/>
            <p:nvPr/>
          </p:nvSpPr>
          <p:spPr>
            <a:xfrm>
              <a:off x="974880" y="4937040"/>
              <a:ext cx="2276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quivalent F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7" name=""/>
          <p:cNvGrpSpPr/>
          <p:nvPr/>
        </p:nvGrpSpPr>
        <p:grpSpPr>
          <a:xfrm>
            <a:off x="1523880" y="1889280"/>
            <a:ext cx="6137280" cy="4251240"/>
            <a:chOff x="1523880" y="1889280"/>
            <a:chExt cx="6137280" cy="4251240"/>
          </a:xfrm>
        </p:grpSpPr>
        <p:grpSp>
          <p:nvGrpSpPr>
            <p:cNvPr id="3518" name=""/>
            <p:cNvGrpSpPr/>
            <p:nvPr/>
          </p:nvGrpSpPr>
          <p:grpSpPr>
            <a:xfrm>
              <a:off x="6477120" y="2514600"/>
              <a:ext cx="990360" cy="2286000"/>
              <a:chOff x="6477120" y="2514600"/>
              <a:chExt cx="990360" cy="2286000"/>
            </a:xfrm>
          </p:grpSpPr>
          <p:sp>
            <p:nvSpPr>
              <p:cNvPr id="3519" name=""/>
              <p:cNvSpPr/>
              <p:nvPr/>
            </p:nvSpPr>
            <p:spPr>
              <a:xfrm>
                <a:off x="6477120" y="251460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6477120" y="32767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6477120" y="40384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6477120" y="480060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 flipV="1">
                <a:off x="6477120" y="4038480"/>
                <a:ext cx="990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 flipV="1">
                <a:off x="6477120" y="3276720"/>
                <a:ext cx="99036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 flipV="1">
                <a:off x="6477120" y="2514600"/>
                <a:ext cx="99036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 flipV="1">
                <a:off x="6477120" y="3276720"/>
                <a:ext cx="9903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 flipV="1">
                <a:off x="6477120" y="2514600"/>
                <a:ext cx="99036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477120" y="4038480"/>
                <a:ext cx="990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 flipV="1">
                <a:off x="6477120" y="2514600"/>
                <a:ext cx="990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6477120" y="3276720"/>
                <a:ext cx="9903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6477120" y="3276720"/>
                <a:ext cx="99036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6477120" y="2514600"/>
                <a:ext cx="990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6477120" y="2514600"/>
                <a:ext cx="99036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6477120" y="2514600"/>
                <a:ext cx="99036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5486400" y="2514600"/>
              <a:ext cx="990720" cy="2286000"/>
              <a:chOff x="5486400" y="2514600"/>
              <a:chExt cx="990720" cy="2286000"/>
            </a:xfrm>
          </p:grpSpPr>
          <p:sp>
            <p:nvSpPr>
              <p:cNvPr id="3536" name=""/>
              <p:cNvSpPr/>
              <p:nvPr/>
            </p:nvSpPr>
            <p:spPr>
              <a:xfrm>
                <a:off x="5486400" y="251460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5486400" y="327672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5486400" y="403848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5486400" y="480060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 flipV="1">
                <a:off x="5486400" y="403848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 flipV="1">
                <a:off x="5486400" y="327672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 flipV="1">
                <a:off x="5486400" y="2514600"/>
                <a:ext cx="99072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flipV="1">
                <a:off x="5486400" y="32767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 flipV="1">
                <a:off x="5486400" y="251460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5486400" y="403848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 flipV="1">
                <a:off x="5486400" y="251460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5486400" y="32767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5486400" y="327672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486400" y="251460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5486400" y="251460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5486400" y="2514600"/>
                <a:ext cx="99072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2" name=""/>
            <p:cNvGrpSpPr/>
            <p:nvPr/>
          </p:nvGrpSpPr>
          <p:grpSpPr>
            <a:xfrm>
              <a:off x="4495680" y="2514600"/>
              <a:ext cx="990720" cy="2286000"/>
              <a:chOff x="4495680" y="2514600"/>
              <a:chExt cx="990720" cy="2286000"/>
            </a:xfrm>
          </p:grpSpPr>
          <p:sp>
            <p:nvSpPr>
              <p:cNvPr id="3553" name=""/>
              <p:cNvSpPr/>
              <p:nvPr/>
            </p:nvSpPr>
            <p:spPr>
              <a:xfrm>
                <a:off x="4495680" y="251460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4495680" y="327672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4495680" y="403848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4495680" y="480060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 flipV="1">
                <a:off x="4495680" y="403848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 flipV="1">
                <a:off x="4495680" y="327672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 flipV="1">
                <a:off x="4495680" y="2514600"/>
                <a:ext cx="99072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 flipV="1">
                <a:off x="4495680" y="32767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 flipV="1">
                <a:off x="4495680" y="251460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4495680" y="403848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 flipV="1">
                <a:off x="4495680" y="251460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4495680" y="32767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4495680" y="327672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4495680" y="251460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4495680" y="251460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4495680" y="2514600"/>
                <a:ext cx="99072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9" name=""/>
            <p:cNvGrpSpPr/>
            <p:nvPr/>
          </p:nvGrpSpPr>
          <p:grpSpPr>
            <a:xfrm>
              <a:off x="3505320" y="2514600"/>
              <a:ext cx="990360" cy="2286000"/>
              <a:chOff x="3505320" y="2514600"/>
              <a:chExt cx="990360" cy="2286000"/>
            </a:xfrm>
          </p:grpSpPr>
          <p:sp>
            <p:nvSpPr>
              <p:cNvPr id="3570" name=""/>
              <p:cNvSpPr/>
              <p:nvPr/>
            </p:nvSpPr>
            <p:spPr>
              <a:xfrm>
                <a:off x="3505320" y="251460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3505320" y="327672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3505320" y="403848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3505320" y="4800600"/>
                <a:ext cx="990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 flipV="1">
                <a:off x="3505320" y="4038480"/>
                <a:ext cx="990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 flipV="1">
                <a:off x="3505320" y="3276720"/>
                <a:ext cx="99036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 flipV="1">
                <a:off x="3505320" y="2514600"/>
                <a:ext cx="99036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 flipV="1">
                <a:off x="3505320" y="3276720"/>
                <a:ext cx="9903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 flipV="1">
                <a:off x="3505320" y="2514600"/>
                <a:ext cx="99036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3505320" y="4038480"/>
                <a:ext cx="990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 flipV="1">
                <a:off x="3505320" y="2514600"/>
                <a:ext cx="990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3505320" y="3276720"/>
                <a:ext cx="9903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3505320" y="3276720"/>
                <a:ext cx="99036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3505320" y="2514600"/>
                <a:ext cx="990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3505320" y="2514600"/>
                <a:ext cx="99036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3505320" y="2514600"/>
                <a:ext cx="99036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6" name=""/>
            <p:cNvGrpSpPr/>
            <p:nvPr/>
          </p:nvGrpSpPr>
          <p:grpSpPr>
            <a:xfrm>
              <a:off x="2514600" y="2514600"/>
              <a:ext cx="990720" cy="2286000"/>
              <a:chOff x="2514600" y="2514600"/>
              <a:chExt cx="990720" cy="2286000"/>
            </a:xfrm>
          </p:grpSpPr>
          <p:sp>
            <p:nvSpPr>
              <p:cNvPr id="3587" name=""/>
              <p:cNvSpPr/>
              <p:nvPr/>
            </p:nvSpPr>
            <p:spPr>
              <a:xfrm>
                <a:off x="2514600" y="251460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2514600" y="327672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2514600" y="403848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2514600" y="480060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 flipV="1">
                <a:off x="2514600" y="403848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 flipV="1">
                <a:off x="2514600" y="327672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 flipV="1">
                <a:off x="2514600" y="2514600"/>
                <a:ext cx="99072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 flipV="1">
                <a:off x="2514600" y="32767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 flipV="1">
                <a:off x="2514600" y="251460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2514600" y="403848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 flipV="1">
                <a:off x="2514600" y="251460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2514600" y="32767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2514600" y="327672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2514600" y="251460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2514600" y="251460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2514600" y="2514600"/>
                <a:ext cx="99072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3" name=""/>
            <p:cNvGrpSpPr/>
            <p:nvPr/>
          </p:nvGrpSpPr>
          <p:grpSpPr>
            <a:xfrm>
              <a:off x="1523880" y="2514600"/>
              <a:ext cx="990720" cy="2286000"/>
              <a:chOff x="1523880" y="2514600"/>
              <a:chExt cx="990720" cy="2286000"/>
            </a:xfrm>
          </p:grpSpPr>
          <p:sp>
            <p:nvSpPr>
              <p:cNvPr id="3604" name=""/>
              <p:cNvSpPr/>
              <p:nvPr/>
            </p:nvSpPr>
            <p:spPr>
              <a:xfrm>
                <a:off x="1523880" y="251460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1523880" y="327672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1523880" y="403848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1523880" y="4800600"/>
                <a:ext cx="9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 flipV="1">
                <a:off x="1523880" y="403848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 flipV="1">
                <a:off x="1523880" y="327672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 flipV="1">
                <a:off x="1523880" y="2514600"/>
                <a:ext cx="99072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 flipV="1">
                <a:off x="1523880" y="32767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 flipV="1">
                <a:off x="1523880" y="251460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1523880" y="403848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 flipV="1">
                <a:off x="1523880" y="251460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1523880" y="3276720"/>
                <a:ext cx="99072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1523880" y="327672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1523880" y="2514600"/>
                <a:ext cx="9907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1523880" y="2514600"/>
                <a:ext cx="99072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1523880" y="2514600"/>
                <a:ext cx="990720" cy="228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0" name=""/>
            <p:cNvSpPr/>
            <p:nvPr/>
          </p:nvSpPr>
          <p:spPr>
            <a:xfrm flipH="1">
              <a:off x="6477120" y="3276720"/>
              <a:ext cx="990360" cy="761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H="1" flipV="1">
              <a:off x="4495680" y="2514600"/>
              <a:ext cx="1981440" cy="1523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 flipH="1">
              <a:off x="3505320" y="2514600"/>
              <a:ext cx="990360" cy="22860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 flipV="1">
              <a:off x="2514600" y="3276720"/>
              <a:ext cx="990720" cy="1523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 flipH="1">
              <a:off x="1523880" y="3276720"/>
              <a:ext cx="990720" cy="761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7467480" y="1981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 flipH="1">
              <a:off x="1523880" y="2209680"/>
              <a:ext cx="5943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1523880" y="1981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 txBox="1"/>
            <p:nvPr/>
          </p:nvSpPr>
          <p:spPr>
            <a:xfrm>
              <a:off x="2727360" y="1889280"/>
              <a:ext cx="33512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ll Trace Fed to Wals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 flipV="1">
              <a:off x="7467480" y="50292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H="1">
              <a:off x="5486400" y="5257800"/>
              <a:ext cx="1981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 flipV="1">
              <a:off x="5486400" y="50292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 txBox="1"/>
            <p:nvPr/>
          </p:nvSpPr>
          <p:spPr>
            <a:xfrm>
              <a:off x="5470560" y="5318280"/>
              <a:ext cx="21906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artial Tra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ed to FB T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3" name=""/>
          <p:cNvSpPr txBox="1"/>
          <p:nvPr/>
        </p:nvSpPr>
        <p:spPr>
          <a:xfrm>
            <a:off x="2270160" y="776160"/>
            <a:ext cx="4797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ING MECHA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4" name=""/>
          <p:cNvGrpSpPr/>
          <p:nvPr/>
        </p:nvGrpSpPr>
        <p:grpSpPr>
          <a:xfrm>
            <a:off x="3870360" y="1981080"/>
            <a:ext cx="4486320" cy="3934080"/>
            <a:chOff x="3870360" y="1981080"/>
            <a:chExt cx="4486320" cy="3934080"/>
          </a:xfrm>
        </p:grpSpPr>
        <p:sp>
          <p:nvSpPr>
            <p:cNvPr id="3635" name=""/>
            <p:cNvSpPr/>
            <p:nvPr/>
          </p:nvSpPr>
          <p:spPr>
            <a:xfrm>
              <a:off x="4845960" y="2513160"/>
              <a:ext cx="1539360" cy="2790360"/>
            </a:xfrm>
            <a:custGeom>
              <a:avLst/>
              <a:gdLst/>
              <a:ahLst/>
              <a:rect l="0" t="0" r="r" b="b"/>
              <a:pathLst>
                <a:path fill="none" w="4276" h="7751">
                  <a:moveTo>
                    <a:pt x="4276" y="7751"/>
                  </a:moveTo>
                  <a:lnTo>
                    <a:pt x="4276" y="7751"/>
                  </a:lnTo>
                  <a:lnTo>
                    <a:pt x="4276" y="7751"/>
                  </a:lnTo>
                  <a:cubicBezTo>
                    <a:pt x="4276" y="6390"/>
                    <a:pt x="4078" y="5054"/>
                    <a:pt x="3703" y="3875"/>
                  </a:cubicBezTo>
                  <a:cubicBezTo>
                    <a:pt x="3328" y="2697"/>
                    <a:pt x="2788" y="1719"/>
                    <a:pt x="2138" y="1038"/>
                  </a:cubicBezTo>
                  <a:cubicBezTo>
                    <a:pt x="1488" y="358"/>
                    <a:pt x="751" y="0"/>
                    <a:pt x="0" y="0"/>
                  </a:cubicBezTo>
                </a:path>
              </a:pathLst>
            </a:custGeom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4974480" y="2446200"/>
              <a:ext cx="1539360" cy="2790360"/>
            </a:xfrm>
            <a:custGeom>
              <a:avLst/>
              <a:gdLst/>
              <a:ahLst/>
              <a:rect l="0" t="0" r="r" b="b"/>
              <a:pathLst>
                <a:path fill="none" w="4276" h="7751">
                  <a:moveTo>
                    <a:pt x="4276" y="7751"/>
                  </a:moveTo>
                  <a:lnTo>
                    <a:pt x="4276" y="7751"/>
                  </a:lnTo>
                  <a:lnTo>
                    <a:pt x="4276" y="7751"/>
                  </a:lnTo>
                  <a:cubicBezTo>
                    <a:pt x="4276" y="6390"/>
                    <a:pt x="4078" y="5054"/>
                    <a:pt x="3703" y="3875"/>
                  </a:cubicBezTo>
                  <a:cubicBezTo>
                    <a:pt x="3328" y="2697"/>
                    <a:pt x="2788" y="1719"/>
                    <a:pt x="2138" y="1038"/>
                  </a:cubicBezTo>
                  <a:cubicBezTo>
                    <a:pt x="1488" y="358"/>
                    <a:pt x="751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101560" y="2379600"/>
              <a:ext cx="1539360" cy="2790360"/>
            </a:xfrm>
            <a:custGeom>
              <a:avLst/>
              <a:gdLst/>
              <a:ahLst/>
              <a:rect l="0" t="0" r="r" b="b"/>
              <a:pathLst>
                <a:path fill="none" w="4276" h="7751">
                  <a:moveTo>
                    <a:pt x="4276" y="7751"/>
                  </a:moveTo>
                  <a:lnTo>
                    <a:pt x="4276" y="7751"/>
                  </a:lnTo>
                  <a:lnTo>
                    <a:pt x="4276" y="7751"/>
                  </a:lnTo>
                  <a:cubicBezTo>
                    <a:pt x="4276" y="6390"/>
                    <a:pt x="4078" y="5054"/>
                    <a:pt x="3703" y="3875"/>
                  </a:cubicBezTo>
                  <a:cubicBezTo>
                    <a:pt x="3328" y="2697"/>
                    <a:pt x="2788" y="1719"/>
                    <a:pt x="2138" y="1038"/>
                  </a:cubicBezTo>
                  <a:cubicBezTo>
                    <a:pt x="1488" y="358"/>
                    <a:pt x="751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5421960" y="2246400"/>
              <a:ext cx="1539360" cy="2790360"/>
            </a:xfrm>
            <a:custGeom>
              <a:avLst/>
              <a:gdLst/>
              <a:ahLst/>
              <a:rect l="0" t="0" r="r" b="b"/>
              <a:pathLst>
                <a:path fill="none" w="4276" h="7751">
                  <a:moveTo>
                    <a:pt x="4276" y="7751"/>
                  </a:moveTo>
                  <a:lnTo>
                    <a:pt x="4276" y="7751"/>
                  </a:lnTo>
                  <a:lnTo>
                    <a:pt x="4276" y="7751"/>
                  </a:lnTo>
                  <a:cubicBezTo>
                    <a:pt x="4276" y="6390"/>
                    <a:pt x="4078" y="5054"/>
                    <a:pt x="3703" y="3875"/>
                  </a:cubicBezTo>
                  <a:cubicBezTo>
                    <a:pt x="3328" y="2697"/>
                    <a:pt x="2788" y="1719"/>
                    <a:pt x="2138" y="1038"/>
                  </a:cubicBezTo>
                  <a:cubicBezTo>
                    <a:pt x="1488" y="358"/>
                    <a:pt x="751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4524480" y="1981080"/>
              <a:ext cx="0" cy="345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4524480" y="5435640"/>
              <a:ext cx="288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4525200" y="2579760"/>
              <a:ext cx="1539360" cy="2790360"/>
            </a:xfrm>
            <a:custGeom>
              <a:avLst/>
              <a:gdLst/>
              <a:ahLst/>
              <a:rect l="0" t="0" r="r" b="b"/>
              <a:pathLst>
                <a:path fill="none" w="4276" h="7751">
                  <a:moveTo>
                    <a:pt x="4276" y="7751"/>
                  </a:moveTo>
                  <a:lnTo>
                    <a:pt x="4276" y="7751"/>
                  </a:lnTo>
                  <a:lnTo>
                    <a:pt x="4276" y="7751"/>
                  </a:lnTo>
                  <a:cubicBezTo>
                    <a:pt x="4276" y="6390"/>
                    <a:pt x="4078" y="5054"/>
                    <a:pt x="3703" y="3875"/>
                  </a:cubicBezTo>
                  <a:cubicBezTo>
                    <a:pt x="3328" y="2697"/>
                    <a:pt x="2788" y="1719"/>
                    <a:pt x="2138" y="1038"/>
                  </a:cubicBezTo>
                  <a:cubicBezTo>
                    <a:pt x="1488" y="358"/>
                    <a:pt x="751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 txBox="1"/>
            <p:nvPr/>
          </p:nvSpPr>
          <p:spPr>
            <a:xfrm>
              <a:off x="6435720" y="5548320"/>
              <a:ext cx="1365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b/No (d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 txBox="1"/>
            <p:nvPr/>
          </p:nvSpPr>
          <p:spPr>
            <a:xfrm>
              <a:off x="3870360" y="3355920"/>
              <a:ext cx="6667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 txBox="1"/>
            <p:nvPr/>
          </p:nvSpPr>
          <p:spPr>
            <a:xfrm>
              <a:off x="4768920" y="4570560"/>
              <a:ext cx="120024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TCH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IL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O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 flipV="1">
              <a:off x="5357880" y="4040280"/>
              <a:ext cx="514440" cy="465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 txBox="1"/>
            <p:nvPr/>
          </p:nvSpPr>
          <p:spPr>
            <a:xfrm>
              <a:off x="4768920" y="3706920"/>
              <a:ext cx="73836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U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L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 flipV="1">
              <a:off x="5165640" y="3110040"/>
              <a:ext cx="577800" cy="598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 txBox="1"/>
            <p:nvPr/>
          </p:nvSpPr>
          <p:spPr>
            <a:xfrm>
              <a:off x="6435720" y="211284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F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H="1">
              <a:off x="6319800" y="2379600"/>
              <a:ext cx="193680" cy="33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 txBox="1"/>
            <p:nvPr/>
          </p:nvSpPr>
          <p:spPr>
            <a:xfrm>
              <a:off x="6819840" y="2709720"/>
              <a:ext cx="12794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terbi DF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Del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4909320" y="2513160"/>
              <a:ext cx="1539360" cy="2790360"/>
            </a:xfrm>
            <a:custGeom>
              <a:avLst/>
              <a:gdLst/>
              <a:ahLst/>
              <a:rect l="0" t="0" r="r" b="b"/>
              <a:pathLst>
                <a:path fill="none" w="4276" h="7751">
                  <a:moveTo>
                    <a:pt x="4276" y="7751"/>
                  </a:moveTo>
                  <a:lnTo>
                    <a:pt x="4276" y="7751"/>
                  </a:lnTo>
                  <a:lnTo>
                    <a:pt x="4276" y="7751"/>
                  </a:lnTo>
                  <a:cubicBezTo>
                    <a:pt x="4276" y="6390"/>
                    <a:pt x="4078" y="5054"/>
                    <a:pt x="3703" y="3875"/>
                  </a:cubicBezTo>
                  <a:cubicBezTo>
                    <a:pt x="3328" y="2697"/>
                    <a:pt x="2788" y="1719"/>
                    <a:pt x="2138" y="1038"/>
                  </a:cubicBezTo>
                  <a:cubicBezTo>
                    <a:pt x="1488" y="358"/>
                    <a:pt x="751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 txBox="1"/>
            <p:nvPr/>
          </p:nvSpPr>
          <p:spPr>
            <a:xfrm>
              <a:off x="6948360" y="3241800"/>
              <a:ext cx="12794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terbi DF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 Delay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 txBox="1"/>
            <p:nvPr/>
          </p:nvSpPr>
          <p:spPr>
            <a:xfrm>
              <a:off x="7077240" y="3773520"/>
              <a:ext cx="127944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iterbi DF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Delay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 flipH="1">
              <a:off x="6256440" y="2978280"/>
              <a:ext cx="512640" cy="39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H="1">
              <a:off x="6319800" y="3508200"/>
              <a:ext cx="577800" cy="40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6384960" y="3973680"/>
              <a:ext cx="641160" cy="465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7" name=""/>
          <p:cNvSpPr txBox="1"/>
          <p:nvPr/>
        </p:nvSpPr>
        <p:spPr>
          <a:xfrm>
            <a:off x="824040" y="776160"/>
            <a:ext cx="7237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PERFORMANCE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 txBox="1"/>
          <p:nvPr/>
        </p:nvSpPr>
        <p:spPr>
          <a:xfrm>
            <a:off x="669960" y="2803680"/>
            <a:ext cx="28512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erbi-DFE rapidl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es optima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SE with a smal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decis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9" name=""/>
          <p:cNvGrpSpPr/>
          <p:nvPr/>
        </p:nvGrpSpPr>
        <p:grpSpPr>
          <a:xfrm>
            <a:off x="1355760" y="1828800"/>
            <a:ext cx="6188040" cy="2911680"/>
            <a:chOff x="1355760" y="1828800"/>
            <a:chExt cx="6188040" cy="2911680"/>
          </a:xfrm>
        </p:grpSpPr>
        <p:sp>
          <p:nvSpPr>
            <p:cNvPr id="3660" name=""/>
            <p:cNvSpPr/>
            <p:nvPr/>
          </p:nvSpPr>
          <p:spPr>
            <a:xfrm>
              <a:off x="2590920" y="25146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666880" y="2590920"/>
              <a:ext cx="15264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H="1">
              <a:off x="2666880" y="2590920"/>
              <a:ext cx="15264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057400" y="2666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2743200" y="28195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3505320" y="2133720"/>
              <a:ext cx="1752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 txBox="1"/>
            <p:nvPr/>
          </p:nvSpPr>
          <p:spPr>
            <a:xfrm>
              <a:off x="5013360" y="3017880"/>
              <a:ext cx="92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029200" y="2971800"/>
              <a:ext cx="9144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5486400" y="26668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 txBox="1"/>
            <p:nvPr/>
          </p:nvSpPr>
          <p:spPr>
            <a:xfrm>
              <a:off x="5241960" y="18748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L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R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 txBox="1"/>
            <p:nvPr/>
          </p:nvSpPr>
          <p:spPr>
            <a:xfrm>
              <a:off x="6613560" y="1874880"/>
              <a:ext cx="92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MB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5257800" y="1828800"/>
              <a:ext cx="91440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553080" y="1828800"/>
              <a:ext cx="9907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172200" y="21337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4648320" y="42670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4724280" y="44197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4800600" y="43434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4800600" y="266688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5486400" y="35053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 flipH="1">
              <a:off x="4952880" y="44197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 txBox="1"/>
            <p:nvPr/>
          </p:nvSpPr>
          <p:spPr>
            <a:xfrm>
              <a:off x="2422440" y="4008600"/>
              <a:ext cx="8780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C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2362320" y="3962520"/>
              <a:ext cx="9144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3276720" y="44197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 txBox="1"/>
            <p:nvPr/>
          </p:nvSpPr>
          <p:spPr>
            <a:xfrm>
              <a:off x="5013360" y="4465800"/>
              <a:ext cx="23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 txBox="1"/>
            <p:nvPr/>
          </p:nvSpPr>
          <p:spPr>
            <a:xfrm>
              <a:off x="4556160" y="385596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 txBox="1"/>
            <p:nvPr/>
          </p:nvSpPr>
          <p:spPr>
            <a:xfrm>
              <a:off x="1355760" y="2560680"/>
              <a:ext cx="557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/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 txBox="1"/>
            <p:nvPr/>
          </p:nvSpPr>
          <p:spPr>
            <a:xfrm>
              <a:off x="3641760" y="446580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 txBox="1"/>
            <p:nvPr/>
          </p:nvSpPr>
          <p:spPr>
            <a:xfrm>
              <a:off x="3946680" y="3398760"/>
              <a:ext cx="430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886200" y="3352680"/>
              <a:ext cx="60948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038480" y="25146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4114800" y="26668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191120" y="2590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2895480" y="2666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 flipH="1">
              <a:off x="4495680" y="37339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 flipV="1">
              <a:off x="4191120" y="2819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 txBox="1"/>
            <p:nvPr/>
          </p:nvSpPr>
          <p:spPr>
            <a:xfrm>
              <a:off x="3108240" y="2484360"/>
              <a:ext cx="785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TERB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124080" y="2438280"/>
              <a:ext cx="6858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809880" y="2666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4343400" y="266688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 flipV="1">
              <a:off x="3505320" y="21337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 txBox="1"/>
            <p:nvPr/>
          </p:nvSpPr>
          <p:spPr>
            <a:xfrm>
              <a:off x="3489480" y="1874880"/>
              <a:ext cx="1192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ceback S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 txBox="1"/>
            <p:nvPr/>
          </p:nvSpPr>
          <p:spPr>
            <a:xfrm>
              <a:off x="4251240" y="2865600"/>
              <a:ext cx="23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2" name=""/>
          <p:cNvSpPr txBox="1"/>
          <p:nvPr/>
        </p:nvSpPr>
        <p:spPr>
          <a:xfrm>
            <a:off x="1812960" y="776160"/>
            <a:ext cx="5508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ERBI-DFE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 txBox="1"/>
          <p:nvPr/>
        </p:nvSpPr>
        <p:spPr>
          <a:xfrm>
            <a:off x="1050840" y="5089680"/>
            <a:ext cx="7291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erbi complexity can be varied by trading memo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for real-time comp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4" name=""/>
          <p:cNvGrpSpPr/>
          <p:nvPr/>
        </p:nvGrpSpPr>
        <p:grpSpPr>
          <a:xfrm>
            <a:off x="603360" y="1219320"/>
            <a:ext cx="3797280" cy="4628880"/>
            <a:chOff x="603360" y="1219320"/>
            <a:chExt cx="3797280" cy="4628880"/>
          </a:xfrm>
        </p:grpSpPr>
        <p:sp>
          <p:nvSpPr>
            <p:cNvPr id="3705" name=""/>
            <p:cNvSpPr/>
            <p:nvPr/>
          </p:nvSpPr>
          <p:spPr>
            <a:xfrm>
              <a:off x="762120" y="2209680"/>
              <a:ext cx="3638520" cy="363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1231920" y="2473200"/>
              <a:ext cx="2814840" cy="2959560"/>
            </a:xfrm>
            <a:custGeom>
              <a:avLst/>
              <a:gdLst/>
              <a:ahLst/>
              <a:rect l="0" t="0" r="r" b="b"/>
              <a:pathLst>
                <a:path w="7819" h="8221">
                  <a:moveTo>
                    <a:pt x="0" y="8221"/>
                  </a:moveTo>
                  <a:lnTo>
                    <a:pt x="0" y="0"/>
                  </a:lnTo>
                  <a:lnTo>
                    <a:pt x="7819" y="0"/>
                  </a:lnTo>
                  <a:lnTo>
                    <a:pt x="7819" y="8221"/>
                  </a:lnTo>
                  <a:lnTo>
                    <a:pt x="0" y="82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1231920" y="2473200"/>
              <a:ext cx="2814840" cy="2959560"/>
            </a:xfrm>
            <a:custGeom>
              <a:avLst/>
              <a:gdLst/>
              <a:ahLst/>
              <a:rect l="0" t="0" r="r" b="b"/>
              <a:pathLst>
                <a:path fill="none" w="7819" h="8221">
                  <a:moveTo>
                    <a:pt x="0" y="8221"/>
                  </a:moveTo>
                  <a:lnTo>
                    <a:pt x="0" y="0"/>
                  </a:lnTo>
                  <a:lnTo>
                    <a:pt x="7819" y="0"/>
                  </a:lnTo>
                  <a:lnTo>
                    <a:pt x="7819" y="8221"/>
                  </a:lnTo>
                  <a:lnTo>
                    <a:pt x="0" y="822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V="1">
              <a:off x="1231920" y="247320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 flipV="1">
              <a:off x="1940040" y="247320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V="1">
              <a:off x="2638440" y="247320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V="1">
              <a:off x="3346560" y="247320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 flipV="1">
              <a:off x="4046400" y="247320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1231920" y="543240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231920" y="514044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1231920" y="483876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1231920" y="454644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1231920" y="424512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1231920" y="395280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1231920" y="366084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231920" y="335916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231920" y="306720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231920" y="276552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231920" y="247320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1231920" y="543240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231920" y="247320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1231920" y="247320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4046400" y="247320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231920" y="543240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V="1">
              <a:off x="1231920" y="247320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V="1">
              <a:off x="1231920" y="54054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31920" y="24732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 txBox="1"/>
            <p:nvPr/>
          </p:nvSpPr>
          <p:spPr>
            <a:xfrm>
              <a:off x="1101600" y="5407200"/>
              <a:ext cx="247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V="1">
              <a:off x="1940040" y="54054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940040" y="24732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 txBox="1"/>
            <p:nvPr/>
          </p:nvSpPr>
          <p:spPr>
            <a:xfrm>
              <a:off x="1776240" y="540720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V="1">
              <a:off x="2638440" y="54054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638440" y="24732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 txBox="1"/>
            <p:nvPr/>
          </p:nvSpPr>
          <p:spPr>
            <a:xfrm>
              <a:off x="2452680" y="5407200"/>
              <a:ext cx="3747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V="1">
              <a:off x="3346560" y="54054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3346560" y="24732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 txBox="1"/>
            <p:nvPr/>
          </p:nvSpPr>
          <p:spPr>
            <a:xfrm>
              <a:off x="3160800" y="5407200"/>
              <a:ext cx="3747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V="1">
              <a:off x="4046400" y="5405400"/>
              <a:ext cx="0" cy="27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4046400" y="24732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 txBox="1"/>
            <p:nvPr/>
          </p:nvSpPr>
          <p:spPr>
            <a:xfrm>
              <a:off x="3859200" y="5407200"/>
              <a:ext cx="3747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31920" y="54324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H="1">
              <a:off x="4022640" y="54324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 txBox="1"/>
            <p:nvPr/>
          </p:nvSpPr>
          <p:spPr>
            <a:xfrm>
              <a:off x="1036800" y="5294160"/>
              <a:ext cx="247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31920" y="514044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4022640" y="514044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 txBox="1"/>
            <p:nvPr/>
          </p:nvSpPr>
          <p:spPr>
            <a:xfrm>
              <a:off x="1036800" y="5002200"/>
              <a:ext cx="2476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231920" y="483876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 flipH="1">
              <a:off x="4022640" y="483876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 txBox="1"/>
            <p:nvPr/>
          </p:nvSpPr>
          <p:spPr>
            <a:xfrm>
              <a:off x="977760" y="470052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231920" y="454644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H="1">
              <a:off x="4022640" y="454644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 txBox="1"/>
            <p:nvPr/>
          </p:nvSpPr>
          <p:spPr>
            <a:xfrm>
              <a:off x="977760" y="440856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1231920" y="424512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 flipH="1">
              <a:off x="4022640" y="424512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 txBox="1"/>
            <p:nvPr/>
          </p:nvSpPr>
          <p:spPr>
            <a:xfrm>
              <a:off x="977760" y="410688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31920" y="39528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H="1">
              <a:off x="4022640" y="39528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 txBox="1"/>
            <p:nvPr/>
          </p:nvSpPr>
          <p:spPr>
            <a:xfrm>
              <a:off x="977760" y="381492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31920" y="366084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 flipH="1">
              <a:off x="4022640" y="366084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 txBox="1"/>
            <p:nvPr/>
          </p:nvSpPr>
          <p:spPr>
            <a:xfrm>
              <a:off x="977760" y="352260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231920" y="335916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H="1">
              <a:off x="4022640" y="335916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 txBox="1"/>
            <p:nvPr/>
          </p:nvSpPr>
          <p:spPr>
            <a:xfrm>
              <a:off x="977760" y="322092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1231920" y="30672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H="1">
              <a:off x="4022640" y="30672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 txBox="1"/>
            <p:nvPr/>
          </p:nvSpPr>
          <p:spPr>
            <a:xfrm>
              <a:off x="977760" y="292896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1231920" y="276552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 flipH="1">
              <a:off x="4022640" y="276552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 txBox="1"/>
            <p:nvPr/>
          </p:nvSpPr>
          <p:spPr>
            <a:xfrm>
              <a:off x="977760" y="262728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1231920" y="24732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 flipH="1">
              <a:off x="4022640" y="2473200"/>
              <a:ext cx="2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 txBox="1"/>
            <p:nvPr/>
          </p:nvSpPr>
          <p:spPr>
            <a:xfrm>
              <a:off x="977760" y="2335320"/>
              <a:ext cx="31104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1231920" y="543240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231920" y="2473200"/>
              <a:ext cx="281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 flipV="1">
              <a:off x="1231920" y="247320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V="1">
              <a:off x="4046400" y="2473200"/>
              <a:ext cx="0" cy="295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 flipV="1">
              <a:off x="1940040" y="2068560"/>
              <a:ext cx="698400" cy="3071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1940040" y="1266840"/>
              <a:ext cx="1300680" cy="4043880"/>
            </a:xfrm>
            <a:custGeom>
              <a:avLst/>
              <a:gdLst/>
              <a:ahLst/>
              <a:rect l="0" t="0" r="r" b="b"/>
              <a:pathLst>
                <a:path fill="none" w="3613" h="11233">
                  <a:moveTo>
                    <a:pt x="0" y="11233"/>
                  </a:moveTo>
                  <a:lnTo>
                    <a:pt x="1941" y="7122"/>
                  </a:lnTo>
                  <a:lnTo>
                    <a:pt x="361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2638440" y="3359160"/>
              <a:ext cx="708120" cy="1658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638440" y="2887560"/>
              <a:ext cx="1408320" cy="2310120"/>
            </a:xfrm>
            <a:custGeom>
              <a:avLst/>
              <a:gdLst/>
              <a:ahLst/>
              <a:rect l="0" t="0" r="r" b="b"/>
              <a:pathLst>
                <a:path fill="none" w="3912" h="6417">
                  <a:moveTo>
                    <a:pt x="0" y="6417"/>
                  </a:moveTo>
                  <a:lnTo>
                    <a:pt x="1967" y="5107"/>
                  </a:lnTo>
                  <a:lnTo>
                    <a:pt x="3912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 flipV="1">
              <a:off x="3346560" y="4189320"/>
              <a:ext cx="699840" cy="649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 flipV="1">
              <a:off x="3346560" y="4896000"/>
              <a:ext cx="699840" cy="66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 txBox="1"/>
            <p:nvPr/>
          </p:nvSpPr>
          <p:spPr>
            <a:xfrm>
              <a:off x="1900080" y="5557680"/>
              <a:ext cx="151128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RMS Delay Spread (nsec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 txBox="1"/>
            <p:nvPr/>
          </p:nvSpPr>
          <p:spPr>
            <a:xfrm>
              <a:off x="603360" y="3963960"/>
              <a:ext cx="5526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% P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 txBox="1"/>
            <p:nvPr/>
          </p:nvSpPr>
          <p:spPr>
            <a:xfrm>
              <a:off x="1308240" y="2749680"/>
              <a:ext cx="12510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,4,6,8,10 FB Tap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438280" y="1219320"/>
              <a:ext cx="838080" cy="1219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 txBox="1"/>
            <p:nvPr/>
          </p:nvSpPr>
          <p:spPr>
            <a:xfrm>
              <a:off x="2065320" y="2184480"/>
              <a:ext cx="115560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4-State MLSE DF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3" name=""/>
          <p:cNvGrpSpPr/>
          <p:nvPr/>
        </p:nvGrpSpPr>
        <p:grpSpPr>
          <a:xfrm>
            <a:off x="4299120" y="1295280"/>
            <a:ext cx="3835440" cy="4550040"/>
            <a:chOff x="4299120" y="1295280"/>
            <a:chExt cx="3835440" cy="4550040"/>
          </a:xfrm>
        </p:grpSpPr>
        <p:sp>
          <p:nvSpPr>
            <p:cNvPr id="3794" name=""/>
            <p:cNvSpPr/>
            <p:nvPr/>
          </p:nvSpPr>
          <p:spPr>
            <a:xfrm>
              <a:off x="4419720" y="2195640"/>
              <a:ext cx="3714840" cy="3649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4897440" y="2462040"/>
              <a:ext cx="2872080" cy="2965680"/>
            </a:xfrm>
            <a:custGeom>
              <a:avLst/>
              <a:gdLst/>
              <a:ahLst/>
              <a:rect l="0" t="0" r="r" b="b"/>
              <a:pathLst>
                <a:path w="7978" h="8238">
                  <a:moveTo>
                    <a:pt x="0" y="8238"/>
                  </a:moveTo>
                  <a:lnTo>
                    <a:pt x="0" y="0"/>
                  </a:lnTo>
                  <a:lnTo>
                    <a:pt x="7978" y="0"/>
                  </a:lnTo>
                  <a:lnTo>
                    <a:pt x="7978" y="8238"/>
                  </a:lnTo>
                  <a:lnTo>
                    <a:pt x="0" y="8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4897440" y="2462040"/>
              <a:ext cx="2872080" cy="2965680"/>
            </a:xfrm>
            <a:custGeom>
              <a:avLst/>
              <a:gdLst/>
              <a:ahLst/>
              <a:rect l="0" t="0" r="r" b="b"/>
              <a:pathLst>
                <a:path fill="none" w="7978" h="8238">
                  <a:moveTo>
                    <a:pt x="0" y="8238"/>
                  </a:moveTo>
                  <a:lnTo>
                    <a:pt x="0" y="0"/>
                  </a:lnTo>
                  <a:lnTo>
                    <a:pt x="7978" y="0"/>
                  </a:lnTo>
                  <a:lnTo>
                    <a:pt x="7978" y="8238"/>
                  </a:lnTo>
                  <a:lnTo>
                    <a:pt x="0" y="823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V="1">
              <a:off x="4897440" y="2462040"/>
              <a:ext cx="0" cy="296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 flipV="1">
              <a:off x="5619600" y="2462040"/>
              <a:ext cx="0" cy="296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V="1">
              <a:off x="6334200" y="2462040"/>
              <a:ext cx="0" cy="296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 flipV="1">
              <a:off x="7054920" y="2462040"/>
              <a:ext cx="0" cy="296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V="1">
              <a:off x="7769160" y="2462040"/>
              <a:ext cx="0" cy="296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4897440" y="542772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4897440" y="513396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4897440" y="483408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4897440" y="454032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4897440" y="423720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897440" y="394488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897440" y="365112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897440" y="334980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4897440" y="305604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4897440" y="275436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4897440" y="246204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97440" y="542772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4897440" y="246204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 flipV="1">
              <a:off x="4897440" y="2462040"/>
              <a:ext cx="0" cy="296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 flipV="1">
              <a:off x="7769160" y="2462040"/>
              <a:ext cx="0" cy="296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97440" y="542772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V="1">
              <a:off x="4897440" y="2462040"/>
              <a:ext cx="0" cy="296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 flipV="1">
              <a:off x="4897440" y="53928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4897440" y="24620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 txBox="1"/>
            <p:nvPr/>
          </p:nvSpPr>
          <p:spPr>
            <a:xfrm>
              <a:off x="4768920" y="5410080"/>
              <a:ext cx="241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 flipV="1">
              <a:off x="5619600" y="53928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619600" y="24620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 txBox="1"/>
            <p:nvPr/>
          </p:nvSpPr>
          <p:spPr>
            <a:xfrm>
              <a:off x="5457960" y="541008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V="1">
              <a:off x="6334200" y="53928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334200" y="24620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 txBox="1"/>
            <p:nvPr/>
          </p:nvSpPr>
          <p:spPr>
            <a:xfrm>
              <a:off x="6148440" y="5410080"/>
              <a:ext cx="3538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 flipV="1">
              <a:off x="7054920" y="53928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054920" y="24620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 txBox="1"/>
            <p:nvPr/>
          </p:nvSpPr>
          <p:spPr>
            <a:xfrm>
              <a:off x="6869160" y="5410080"/>
              <a:ext cx="3538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 flipV="1">
              <a:off x="7769160" y="5392800"/>
              <a:ext cx="0" cy="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769160" y="24620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 txBox="1"/>
            <p:nvPr/>
          </p:nvSpPr>
          <p:spPr>
            <a:xfrm>
              <a:off x="7583400" y="5410080"/>
              <a:ext cx="3538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897440" y="542772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 flipH="1">
              <a:off x="7736040" y="542772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 txBox="1"/>
            <p:nvPr/>
          </p:nvSpPr>
          <p:spPr>
            <a:xfrm>
              <a:off x="4703760" y="5302080"/>
              <a:ext cx="241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897440" y="51339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 flipH="1">
              <a:off x="7736040" y="513396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 txBox="1"/>
            <p:nvPr/>
          </p:nvSpPr>
          <p:spPr>
            <a:xfrm>
              <a:off x="4703760" y="5010120"/>
              <a:ext cx="241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897440" y="48340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H="1">
              <a:off x="7736040" y="483408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 txBox="1"/>
            <p:nvPr/>
          </p:nvSpPr>
          <p:spPr>
            <a:xfrm>
              <a:off x="4646520" y="470700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897440" y="454032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 flipH="1">
              <a:off x="7736040" y="454032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 txBox="1"/>
            <p:nvPr/>
          </p:nvSpPr>
          <p:spPr>
            <a:xfrm>
              <a:off x="4646520" y="441324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897440" y="42372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 flipH="1">
              <a:off x="7736040" y="423720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 txBox="1"/>
            <p:nvPr/>
          </p:nvSpPr>
          <p:spPr>
            <a:xfrm>
              <a:off x="4646520" y="411156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4897440" y="394488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 flipH="1">
              <a:off x="7736040" y="394488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 txBox="1"/>
            <p:nvPr/>
          </p:nvSpPr>
          <p:spPr>
            <a:xfrm>
              <a:off x="4646520" y="381780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4897440" y="365112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 flipH="1">
              <a:off x="7736040" y="365112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 txBox="1"/>
            <p:nvPr/>
          </p:nvSpPr>
          <p:spPr>
            <a:xfrm>
              <a:off x="4646520" y="352440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4897440" y="334980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 flipH="1">
              <a:off x="7736040" y="334980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 txBox="1"/>
            <p:nvPr/>
          </p:nvSpPr>
          <p:spPr>
            <a:xfrm>
              <a:off x="4646520" y="322416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4897440" y="30560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H="1">
              <a:off x="7736040" y="305604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 txBox="1"/>
            <p:nvPr/>
          </p:nvSpPr>
          <p:spPr>
            <a:xfrm>
              <a:off x="4646520" y="293040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4897440" y="275436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 flipH="1">
              <a:off x="7736040" y="275436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 txBox="1"/>
            <p:nvPr/>
          </p:nvSpPr>
          <p:spPr>
            <a:xfrm>
              <a:off x="4646520" y="262872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4897440" y="2462040"/>
              <a:ext cx="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H="1">
              <a:off x="7736040" y="2462040"/>
              <a:ext cx="33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 txBox="1"/>
            <p:nvPr/>
          </p:nvSpPr>
          <p:spPr>
            <a:xfrm>
              <a:off x="4646520" y="2335320"/>
              <a:ext cx="2970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4897440" y="542772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4897440" y="2462040"/>
              <a:ext cx="2871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V="1">
              <a:off x="4897440" y="2462040"/>
              <a:ext cx="0" cy="296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 flipV="1">
              <a:off x="7769160" y="2462040"/>
              <a:ext cx="0" cy="296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V="1">
              <a:off x="5619600" y="2576520"/>
              <a:ext cx="714600" cy="2673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5619600" y="1306440"/>
              <a:ext cx="1395720" cy="4059720"/>
            </a:xfrm>
            <a:custGeom>
              <a:avLst/>
              <a:gdLst/>
              <a:ahLst/>
              <a:rect l="0" t="0" r="r" b="b"/>
              <a:pathLst>
                <a:path fill="none" w="3877" h="11277">
                  <a:moveTo>
                    <a:pt x="0" y="11277"/>
                  </a:moveTo>
                  <a:lnTo>
                    <a:pt x="1985" y="8489"/>
                  </a:lnTo>
                  <a:lnTo>
                    <a:pt x="387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6334200" y="1306440"/>
              <a:ext cx="1427400" cy="4007160"/>
            </a:xfrm>
            <a:custGeom>
              <a:avLst/>
              <a:gdLst/>
              <a:ahLst/>
              <a:rect l="0" t="0" r="r" b="b"/>
              <a:pathLst>
                <a:path fill="none" w="3965" h="11131">
                  <a:moveTo>
                    <a:pt x="0" y="11131"/>
                  </a:moveTo>
                  <a:lnTo>
                    <a:pt x="2003" y="9799"/>
                  </a:lnTo>
                  <a:lnTo>
                    <a:pt x="396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 flipV="1">
              <a:off x="7054920" y="3944880"/>
              <a:ext cx="714240" cy="118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V="1">
              <a:off x="7054920" y="4834080"/>
              <a:ext cx="714240" cy="415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7054920" y="5133960"/>
              <a:ext cx="714240" cy="115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 txBox="1"/>
            <p:nvPr/>
          </p:nvSpPr>
          <p:spPr>
            <a:xfrm>
              <a:off x="5611680" y="5551560"/>
              <a:ext cx="136368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MS Delay Spread (nsec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 txBox="1"/>
            <p:nvPr/>
          </p:nvSpPr>
          <p:spPr>
            <a:xfrm>
              <a:off x="4299120" y="3979800"/>
              <a:ext cx="511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% P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 txBox="1"/>
            <p:nvPr/>
          </p:nvSpPr>
          <p:spPr>
            <a:xfrm>
              <a:off x="5060880" y="2762280"/>
              <a:ext cx="11336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2,4,6,8,10 FB Tap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6781680" y="1295280"/>
              <a:ext cx="990720" cy="112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 txBox="1"/>
            <p:nvPr/>
          </p:nvSpPr>
          <p:spPr>
            <a:xfrm>
              <a:off x="5818320" y="2193840"/>
              <a:ext cx="11048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-State MLSE DF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2" name=""/>
          <p:cNvSpPr txBox="1"/>
          <p:nvPr/>
        </p:nvSpPr>
        <p:spPr>
          <a:xfrm>
            <a:off x="1508040" y="700200"/>
            <a:ext cx="6051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PERFORMANCE VITERBI-D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 txBox="1"/>
          <p:nvPr/>
        </p:nvSpPr>
        <p:spPr>
          <a:xfrm>
            <a:off x="838080" y="1325520"/>
            <a:ext cx="524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sh correlation gain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bounded using chip eye cl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"/>
          <p:cNvSpPr txBox="1"/>
          <p:nvPr/>
        </p:nvSpPr>
        <p:spPr>
          <a:xfrm>
            <a:off x="1432080" y="974880"/>
            <a:ext cx="6245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ATH PERFORMANC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 txBox="1"/>
          <p:nvPr/>
        </p:nvSpPr>
        <p:spPr>
          <a:xfrm>
            <a:off x="1432080" y="1477800"/>
            <a:ext cx="3532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PER is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PER is often accep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6" name="" descr=""/>
          <p:cNvPicPr/>
          <p:nvPr/>
        </p:nvPicPr>
        <p:blipFill>
          <a:blip r:embed="rId1"/>
          <a:stretch/>
        </p:blipFill>
        <p:spPr>
          <a:xfrm>
            <a:off x="1320840" y="2424240"/>
            <a:ext cx="648324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4613400" y="2584440"/>
            <a:ext cx="3435480" cy="3206880"/>
            <a:chOff x="4613400" y="2584440"/>
            <a:chExt cx="3435480" cy="3206880"/>
          </a:xfrm>
        </p:grpSpPr>
        <p:grpSp>
          <p:nvGrpSpPr>
            <p:cNvPr id="76" name=""/>
            <p:cNvGrpSpPr/>
            <p:nvPr/>
          </p:nvGrpSpPr>
          <p:grpSpPr>
            <a:xfrm>
              <a:off x="4613400" y="2584440"/>
              <a:ext cx="3311280" cy="3206880"/>
              <a:chOff x="4613400" y="2584440"/>
              <a:chExt cx="3311280" cy="3206880"/>
            </a:xfrm>
          </p:grpSpPr>
          <p:sp>
            <p:nvSpPr>
              <p:cNvPr id="77" name=""/>
              <p:cNvSpPr/>
              <p:nvPr/>
            </p:nvSpPr>
            <p:spPr>
              <a:xfrm>
                <a:off x="4813200" y="2590920"/>
                <a:ext cx="3111480" cy="32004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213520" y="2828880"/>
                <a:ext cx="2406960" cy="1089360"/>
              </a:xfrm>
              <a:custGeom>
                <a:avLst/>
                <a:gdLst/>
                <a:ahLst/>
                <a:rect l="0" t="0" r="r" b="b"/>
                <a:pathLst>
                  <a:path w="6686" h="3026">
                    <a:moveTo>
                      <a:pt x="0" y="3026"/>
                    </a:moveTo>
                    <a:lnTo>
                      <a:pt x="0" y="0"/>
                    </a:lnTo>
                    <a:lnTo>
                      <a:pt x="6686" y="0"/>
                    </a:lnTo>
                    <a:lnTo>
                      <a:pt x="6686" y="3026"/>
                    </a:lnTo>
                    <a:lnTo>
                      <a:pt x="0" y="30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213520" y="2828880"/>
                <a:ext cx="2406960" cy="1089360"/>
              </a:xfrm>
              <a:custGeom>
                <a:avLst/>
                <a:gdLst/>
                <a:ahLst/>
                <a:rect l="0" t="0" r="r" b="b"/>
                <a:pathLst>
                  <a:path fill="none" w="6686" h="3026">
                    <a:moveTo>
                      <a:pt x="0" y="3026"/>
                    </a:moveTo>
                    <a:lnTo>
                      <a:pt x="0" y="0"/>
                    </a:lnTo>
                    <a:lnTo>
                      <a:pt x="6686" y="0"/>
                    </a:lnTo>
                    <a:lnTo>
                      <a:pt x="6686" y="3026"/>
                    </a:lnTo>
                    <a:lnTo>
                      <a:pt x="0" y="302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521352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555948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589752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624528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658980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693432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727560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762012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213520" y="391788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213520" y="355752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213520" y="318924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213520" y="282888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213520" y="391788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13520" y="282888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521352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762012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13520" y="391788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521352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V="1">
                <a:off x="5213520" y="389268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13520" y="2828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5091120" y="390060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5559480" y="389268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59480" y="2828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5435640" y="390060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5897520" y="389268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97520" y="2828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5775480" y="390060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6245280" y="389268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45280" y="2828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6119640" y="390060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6589800" y="389268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589800" y="2828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6465960" y="390060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934320" y="389268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34320" y="2828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6811920" y="390060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7275600" y="389268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75600" y="2828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7149960" y="390060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7620120" y="389268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20120" y="2828880"/>
                <a:ext cx="0" cy="2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7497720" y="390060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213520" y="391788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7601040" y="391788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4929120" y="3805200"/>
                <a:ext cx="31608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.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213520" y="355752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7601040" y="355752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5035680" y="34448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13520" y="318924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601040" y="318924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4959360" y="3076560"/>
                <a:ext cx="29052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13520" y="282888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7601040" y="282888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5035680" y="271620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13520" y="391788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213520" y="282888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521352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7620120" y="282888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213520" y="2828880"/>
                <a:ext cx="2151360" cy="762480"/>
              </a:xfrm>
              <a:custGeom>
                <a:avLst/>
                <a:gdLst/>
                <a:ahLst/>
                <a:rect l="0" t="0" r="r" b="b"/>
                <a:pathLst>
                  <a:path fill="none" w="5976" h="2118">
                    <a:moveTo>
                      <a:pt x="0" y="2093"/>
                    </a:moveTo>
                    <a:lnTo>
                      <a:pt x="118" y="2118"/>
                    </a:lnTo>
                    <a:lnTo>
                      <a:pt x="232" y="1981"/>
                    </a:lnTo>
                    <a:lnTo>
                      <a:pt x="365" y="1568"/>
                    </a:lnTo>
                    <a:lnTo>
                      <a:pt x="484" y="886"/>
                    </a:lnTo>
                    <a:lnTo>
                      <a:pt x="598" y="269"/>
                    </a:lnTo>
                    <a:lnTo>
                      <a:pt x="711" y="0"/>
                    </a:lnTo>
                    <a:lnTo>
                      <a:pt x="845" y="249"/>
                    </a:lnTo>
                    <a:lnTo>
                      <a:pt x="963" y="886"/>
                    </a:lnTo>
                    <a:lnTo>
                      <a:pt x="1077" y="1568"/>
                    </a:lnTo>
                    <a:lnTo>
                      <a:pt x="1191" y="1981"/>
                    </a:lnTo>
                    <a:lnTo>
                      <a:pt x="1309" y="2118"/>
                    </a:lnTo>
                    <a:lnTo>
                      <a:pt x="1443" y="2072"/>
                    </a:lnTo>
                    <a:lnTo>
                      <a:pt x="1556" y="2027"/>
                    </a:lnTo>
                    <a:lnTo>
                      <a:pt x="1675" y="2001"/>
                    </a:lnTo>
                    <a:lnTo>
                      <a:pt x="1789" y="2027"/>
                    </a:lnTo>
                    <a:lnTo>
                      <a:pt x="1902" y="2027"/>
                    </a:lnTo>
                    <a:lnTo>
                      <a:pt x="2036" y="2027"/>
                    </a:lnTo>
                    <a:lnTo>
                      <a:pt x="2154" y="2027"/>
                    </a:lnTo>
                    <a:lnTo>
                      <a:pt x="2268" y="2027"/>
                    </a:lnTo>
                    <a:lnTo>
                      <a:pt x="2382" y="2027"/>
                    </a:lnTo>
                    <a:lnTo>
                      <a:pt x="2500" y="2027"/>
                    </a:lnTo>
                    <a:lnTo>
                      <a:pt x="2634" y="2027"/>
                    </a:lnTo>
                    <a:lnTo>
                      <a:pt x="2747" y="2027"/>
                    </a:lnTo>
                    <a:lnTo>
                      <a:pt x="2866" y="2027"/>
                    </a:lnTo>
                    <a:lnTo>
                      <a:pt x="2980" y="2047"/>
                    </a:lnTo>
                    <a:lnTo>
                      <a:pt x="3114" y="2027"/>
                    </a:lnTo>
                    <a:lnTo>
                      <a:pt x="3228" y="2027"/>
                    </a:lnTo>
                    <a:lnTo>
                      <a:pt x="3346" y="2001"/>
                    </a:lnTo>
                    <a:lnTo>
                      <a:pt x="3460" y="2001"/>
                    </a:lnTo>
                    <a:lnTo>
                      <a:pt x="3574" y="2001"/>
                    </a:lnTo>
                    <a:lnTo>
                      <a:pt x="3712" y="2027"/>
                    </a:lnTo>
                    <a:lnTo>
                      <a:pt x="3826" y="2027"/>
                    </a:lnTo>
                    <a:lnTo>
                      <a:pt x="3939" y="2027"/>
                    </a:lnTo>
                    <a:lnTo>
                      <a:pt x="4058" y="2027"/>
                    </a:lnTo>
                    <a:lnTo>
                      <a:pt x="4192" y="2027"/>
                    </a:lnTo>
                    <a:lnTo>
                      <a:pt x="4305" y="2027"/>
                    </a:lnTo>
                    <a:lnTo>
                      <a:pt x="4419" y="2027"/>
                    </a:lnTo>
                    <a:lnTo>
                      <a:pt x="4537" y="2027"/>
                    </a:lnTo>
                    <a:lnTo>
                      <a:pt x="4651" y="2027"/>
                    </a:lnTo>
                    <a:lnTo>
                      <a:pt x="4785" y="2027"/>
                    </a:lnTo>
                    <a:lnTo>
                      <a:pt x="4903" y="2027"/>
                    </a:lnTo>
                    <a:lnTo>
                      <a:pt x="5017" y="2001"/>
                    </a:lnTo>
                    <a:lnTo>
                      <a:pt x="5131" y="2001"/>
                    </a:lnTo>
                    <a:lnTo>
                      <a:pt x="5249" y="2001"/>
                    </a:lnTo>
                    <a:lnTo>
                      <a:pt x="5383" y="2027"/>
                    </a:lnTo>
                    <a:lnTo>
                      <a:pt x="5496" y="2047"/>
                    </a:lnTo>
                    <a:lnTo>
                      <a:pt x="5610" y="2047"/>
                    </a:lnTo>
                    <a:lnTo>
                      <a:pt x="5729" y="2047"/>
                    </a:lnTo>
                    <a:lnTo>
                      <a:pt x="5842" y="2047"/>
                    </a:lnTo>
                    <a:lnTo>
                      <a:pt x="5976" y="202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4692600" y="3390840"/>
                <a:ext cx="3319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al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5823000" y="2584440"/>
                <a:ext cx="100980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W Impulse Response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213520" y="4334040"/>
                <a:ext cx="2406960" cy="1089360"/>
              </a:xfrm>
              <a:custGeom>
                <a:avLst/>
                <a:gdLst/>
                <a:ahLst/>
                <a:rect l="0" t="0" r="r" b="b"/>
                <a:pathLst>
                  <a:path w="6686" h="3026">
                    <a:moveTo>
                      <a:pt x="0" y="3026"/>
                    </a:moveTo>
                    <a:lnTo>
                      <a:pt x="0" y="0"/>
                    </a:lnTo>
                    <a:lnTo>
                      <a:pt x="6686" y="0"/>
                    </a:lnTo>
                    <a:lnTo>
                      <a:pt x="6686" y="3026"/>
                    </a:lnTo>
                    <a:lnTo>
                      <a:pt x="0" y="30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213520" y="4334040"/>
                <a:ext cx="2406960" cy="1089360"/>
              </a:xfrm>
              <a:custGeom>
                <a:avLst/>
                <a:gdLst/>
                <a:ahLst/>
                <a:rect l="0" t="0" r="r" b="b"/>
                <a:pathLst>
                  <a:path fill="none" w="6686" h="3026">
                    <a:moveTo>
                      <a:pt x="0" y="3026"/>
                    </a:moveTo>
                    <a:lnTo>
                      <a:pt x="0" y="0"/>
                    </a:lnTo>
                    <a:lnTo>
                      <a:pt x="6686" y="0"/>
                    </a:lnTo>
                    <a:lnTo>
                      <a:pt x="6686" y="3026"/>
                    </a:lnTo>
                    <a:lnTo>
                      <a:pt x="0" y="302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21352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555948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589752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624528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658980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693432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727560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762012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13520" y="542304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13520" y="515304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213520" y="488304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13520" y="460368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13520" y="433404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213520" y="542304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13520" y="433404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521352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762012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13520" y="542304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21352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5213520" y="539748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213520" y="4334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5091120" y="54086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5559480" y="539748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59480" y="4334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5435640" y="54086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5897520" y="539748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97520" y="4334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 txBox="1"/>
              <p:nvPr/>
            </p:nvSpPr>
            <p:spPr>
              <a:xfrm>
                <a:off x="5775480" y="54086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6245280" y="539748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45280" y="4334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6119640" y="54086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6589800" y="539748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589800" y="4334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6465960" y="54086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6934320" y="539748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934320" y="4334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6811920" y="54086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7275600" y="539748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75600" y="4334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 txBox="1"/>
              <p:nvPr/>
            </p:nvSpPr>
            <p:spPr>
              <a:xfrm>
                <a:off x="7149960" y="54086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7620120" y="5397480"/>
                <a:ext cx="0" cy="2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620120" y="4334040"/>
                <a:ext cx="0" cy="2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 txBox="1"/>
              <p:nvPr/>
            </p:nvSpPr>
            <p:spPr>
              <a:xfrm>
                <a:off x="7497720" y="540864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13520" y="542304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7601040" y="542304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4929120" y="5310360"/>
                <a:ext cx="31608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.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213520" y="515304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7601040" y="515304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4881600" y="5038560"/>
                <a:ext cx="35712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0.0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213520" y="488304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7601040" y="488304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5035680" y="4770360"/>
                <a:ext cx="2271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213520" y="460368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601040" y="460368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4910040" y="4492800"/>
                <a:ext cx="33192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05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13520" y="433404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7601040" y="4334040"/>
                <a:ext cx="19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4959360" y="4221000"/>
                <a:ext cx="29052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1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13520" y="542304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13520" y="4334040"/>
                <a:ext cx="24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521352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7620120" y="4334040"/>
                <a:ext cx="0" cy="108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13520" y="4432320"/>
                <a:ext cx="2151360" cy="892440"/>
              </a:xfrm>
              <a:custGeom>
                <a:avLst/>
                <a:gdLst/>
                <a:ahLst/>
                <a:rect l="0" t="0" r="r" b="b"/>
                <a:pathLst>
                  <a:path fill="none" w="5976" h="2479">
                    <a:moveTo>
                      <a:pt x="0" y="1091"/>
                    </a:moveTo>
                    <a:lnTo>
                      <a:pt x="118" y="1157"/>
                    </a:lnTo>
                    <a:lnTo>
                      <a:pt x="232" y="1524"/>
                    </a:lnTo>
                    <a:lnTo>
                      <a:pt x="365" y="2113"/>
                    </a:lnTo>
                    <a:lnTo>
                      <a:pt x="484" y="2479"/>
                    </a:lnTo>
                    <a:lnTo>
                      <a:pt x="598" y="2159"/>
                    </a:lnTo>
                    <a:lnTo>
                      <a:pt x="711" y="1250"/>
                    </a:lnTo>
                    <a:lnTo>
                      <a:pt x="845" y="319"/>
                    </a:lnTo>
                    <a:lnTo>
                      <a:pt x="963" y="0"/>
                    </a:lnTo>
                    <a:lnTo>
                      <a:pt x="1077" y="340"/>
                    </a:lnTo>
                    <a:lnTo>
                      <a:pt x="1191" y="909"/>
                    </a:lnTo>
                    <a:lnTo>
                      <a:pt x="1309" y="1321"/>
                    </a:lnTo>
                    <a:lnTo>
                      <a:pt x="1443" y="1387"/>
                    </a:lnTo>
                    <a:lnTo>
                      <a:pt x="1556" y="1295"/>
                    </a:lnTo>
                    <a:lnTo>
                      <a:pt x="1675" y="1228"/>
                    </a:lnTo>
                    <a:lnTo>
                      <a:pt x="1789" y="1228"/>
                    </a:lnTo>
                    <a:lnTo>
                      <a:pt x="1902" y="1228"/>
                    </a:lnTo>
                    <a:lnTo>
                      <a:pt x="2036" y="1203"/>
                    </a:lnTo>
                    <a:lnTo>
                      <a:pt x="2154" y="1203"/>
                    </a:lnTo>
                    <a:lnTo>
                      <a:pt x="2268" y="1203"/>
                    </a:lnTo>
                    <a:lnTo>
                      <a:pt x="2382" y="1228"/>
                    </a:lnTo>
                    <a:lnTo>
                      <a:pt x="2500" y="1250"/>
                    </a:lnTo>
                    <a:lnTo>
                      <a:pt x="2634" y="1275"/>
                    </a:lnTo>
                    <a:lnTo>
                      <a:pt x="2747" y="1250"/>
                    </a:lnTo>
                    <a:lnTo>
                      <a:pt x="2866" y="1203"/>
                    </a:lnTo>
                    <a:lnTo>
                      <a:pt x="2980" y="1203"/>
                    </a:lnTo>
                    <a:lnTo>
                      <a:pt x="3114" y="1228"/>
                    </a:lnTo>
                    <a:lnTo>
                      <a:pt x="3228" y="1228"/>
                    </a:lnTo>
                    <a:lnTo>
                      <a:pt x="3346" y="1228"/>
                    </a:lnTo>
                    <a:lnTo>
                      <a:pt x="3460" y="1228"/>
                    </a:lnTo>
                    <a:lnTo>
                      <a:pt x="3574" y="1250"/>
                    </a:lnTo>
                    <a:lnTo>
                      <a:pt x="3712" y="1295"/>
                    </a:lnTo>
                    <a:lnTo>
                      <a:pt x="3826" y="1341"/>
                    </a:lnTo>
                    <a:lnTo>
                      <a:pt x="3939" y="1387"/>
                    </a:lnTo>
                    <a:lnTo>
                      <a:pt x="4058" y="1433"/>
                    </a:lnTo>
                    <a:lnTo>
                      <a:pt x="4192" y="1433"/>
                    </a:lnTo>
                    <a:lnTo>
                      <a:pt x="4305" y="1387"/>
                    </a:lnTo>
                    <a:lnTo>
                      <a:pt x="4419" y="1295"/>
                    </a:lnTo>
                    <a:lnTo>
                      <a:pt x="4537" y="1203"/>
                    </a:lnTo>
                    <a:lnTo>
                      <a:pt x="4651" y="1203"/>
                    </a:lnTo>
                    <a:lnTo>
                      <a:pt x="4785" y="1275"/>
                    </a:lnTo>
                    <a:lnTo>
                      <a:pt x="4903" y="1367"/>
                    </a:lnTo>
                    <a:lnTo>
                      <a:pt x="5017" y="1367"/>
                    </a:lnTo>
                    <a:lnTo>
                      <a:pt x="5131" y="1250"/>
                    </a:lnTo>
                    <a:lnTo>
                      <a:pt x="5249" y="1071"/>
                    </a:lnTo>
                    <a:lnTo>
                      <a:pt x="5383" y="954"/>
                    </a:lnTo>
                    <a:lnTo>
                      <a:pt x="5496" y="1071"/>
                    </a:lnTo>
                    <a:lnTo>
                      <a:pt x="5610" y="1367"/>
                    </a:lnTo>
                    <a:lnTo>
                      <a:pt x="5729" y="1753"/>
                    </a:lnTo>
                    <a:lnTo>
                      <a:pt x="5842" y="1956"/>
                    </a:lnTo>
                    <a:lnTo>
                      <a:pt x="5976" y="186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 txBox="1"/>
              <p:nvPr/>
            </p:nvSpPr>
            <p:spPr>
              <a:xfrm>
                <a:off x="6064200" y="5530680"/>
                <a:ext cx="603360" cy="18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hip number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4613400" y="4896000"/>
                <a:ext cx="3762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mag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H="1">
              <a:off x="7391520" y="4648320"/>
              <a:ext cx="75960" cy="38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6461280" y="4289400"/>
              <a:ext cx="15876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rd Transit Ec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7162920" y="3657600"/>
              <a:ext cx="30456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 txBox="1"/>
          <p:nvPr/>
        </p:nvSpPr>
        <p:spPr>
          <a:xfrm>
            <a:off x="5165640" y="2239920"/>
            <a:ext cx="242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62120" y="2590920"/>
            <a:ext cx="3429000" cy="3276720"/>
            <a:chOff x="762120" y="2590920"/>
            <a:chExt cx="3429000" cy="3276720"/>
          </a:xfrm>
        </p:grpSpPr>
        <p:sp>
          <p:nvSpPr>
            <p:cNvPr id="213" name=""/>
            <p:cNvSpPr/>
            <p:nvPr/>
          </p:nvSpPr>
          <p:spPr>
            <a:xfrm>
              <a:off x="762120" y="2590920"/>
              <a:ext cx="3429000" cy="3276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06360" y="2836800"/>
              <a:ext cx="2653200" cy="2662560"/>
            </a:xfrm>
            <a:custGeom>
              <a:avLst/>
              <a:gdLst/>
              <a:ahLst/>
              <a:rect l="0" t="0" r="r" b="b"/>
              <a:pathLst>
                <a:path w="7370" h="7396">
                  <a:moveTo>
                    <a:pt x="0" y="7396"/>
                  </a:moveTo>
                  <a:lnTo>
                    <a:pt x="0" y="0"/>
                  </a:lnTo>
                  <a:lnTo>
                    <a:pt x="7370" y="0"/>
                  </a:lnTo>
                  <a:lnTo>
                    <a:pt x="7370" y="7396"/>
                  </a:lnTo>
                  <a:lnTo>
                    <a:pt x="0" y="73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06360" y="2836800"/>
              <a:ext cx="2653200" cy="2662560"/>
            </a:xfrm>
            <a:custGeom>
              <a:avLst/>
              <a:gdLst/>
              <a:ahLst/>
              <a:rect l="0" t="0" r="r" b="b"/>
              <a:pathLst>
                <a:path fill="none" w="7370" h="7396">
                  <a:moveTo>
                    <a:pt x="0" y="7396"/>
                  </a:moveTo>
                  <a:lnTo>
                    <a:pt x="0" y="0"/>
                  </a:lnTo>
                  <a:lnTo>
                    <a:pt x="7370" y="0"/>
                  </a:lnTo>
                  <a:lnTo>
                    <a:pt x="7370" y="7396"/>
                  </a:lnTo>
                  <a:lnTo>
                    <a:pt x="0" y="739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20636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47492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73988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200016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26692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53512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80044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06540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32748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59244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85920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06360" y="549900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06360" y="511488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06360" y="473724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06360" y="435456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06360" y="397656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06360" y="359568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06360" y="321948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06360" y="283680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206360" y="549900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06360" y="283680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120636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85920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06360" y="549900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120636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206360" y="5467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6360" y="28368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1035000" y="5470560"/>
              <a:ext cx="257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5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474920" y="5467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74920" y="28368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1300320" y="5470560"/>
              <a:ext cx="257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1739880" y="5467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739880" y="28368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1566720" y="5470560"/>
              <a:ext cx="257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000160" y="5467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00160" y="28368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1827360" y="5470560"/>
              <a:ext cx="257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266920" y="5467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266920" y="28368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2093760" y="5470560"/>
              <a:ext cx="257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2535120" y="5467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535120" y="28368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2403360" y="5470560"/>
              <a:ext cx="2127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800440" y="5467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00440" y="28368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2647800" y="5470560"/>
              <a:ext cx="2412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065400" y="5467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65400" y="28368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913120" y="5470560"/>
              <a:ext cx="2412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3327480" y="5467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27480" y="28368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3174840" y="5470560"/>
              <a:ext cx="2412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592440" y="5467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92440" y="28368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3440160" y="5470560"/>
              <a:ext cx="2412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859200" y="5467320"/>
              <a:ext cx="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59200" y="2836800"/>
              <a:ext cx="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3708360" y="5470560"/>
              <a:ext cx="2412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06360" y="549900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3832200" y="549900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974880" y="5402160"/>
              <a:ext cx="257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5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06360" y="51148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832200" y="51148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974880" y="5019840"/>
              <a:ext cx="257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06360" y="473724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3832200" y="473724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974880" y="4643280"/>
              <a:ext cx="257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5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06360" y="435456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3832200" y="43545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974880" y="4260960"/>
              <a:ext cx="257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06360" y="397656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3832200" y="397656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 txBox="1"/>
            <p:nvPr/>
          </p:nvSpPr>
          <p:spPr>
            <a:xfrm>
              <a:off x="974880" y="3884760"/>
              <a:ext cx="257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5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06360" y="35956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3832200" y="35956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 txBox="1"/>
            <p:nvPr/>
          </p:nvSpPr>
          <p:spPr>
            <a:xfrm>
              <a:off x="974880" y="3500280"/>
              <a:ext cx="257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06360" y="321948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3832200" y="321948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 txBox="1"/>
            <p:nvPr/>
          </p:nvSpPr>
          <p:spPr>
            <a:xfrm>
              <a:off x="1011240" y="312408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5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206360" y="2836800"/>
              <a:ext cx="28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3832200" y="2836800"/>
              <a:ext cx="27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1035000" y="2739960"/>
              <a:ext cx="21276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06360" y="549900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206360" y="2836800"/>
              <a:ext cx="26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20636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859200" y="2836800"/>
              <a:ext cx="0" cy="266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63680" y="2836800"/>
              <a:ext cx="2332440" cy="2379960"/>
            </a:xfrm>
            <a:custGeom>
              <a:avLst/>
              <a:gdLst/>
              <a:ahLst/>
              <a:rect l="0" t="0" r="r" b="b"/>
              <a:pathLst>
                <a:path fill="none" w="6479" h="6611">
                  <a:moveTo>
                    <a:pt x="0" y="5038"/>
                  </a:moveTo>
                  <a:lnTo>
                    <a:pt x="16" y="4881"/>
                  </a:lnTo>
                  <a:lnTo>
                    <a:pt x="16" y="4772"/>
                  </a:lnTo>
                  <a:lnTo>
                    <a:pt x="32" y="4673"/>
                  </a:lnTo>
                  <a:lnTo>
                    <a:pt x="32" y="4626"/>
                  </a:lnTo>
                  <a:lnTo>
                    <a:pt x="32" y="4595"/>
                  </a:lnTo>
                  <a:lnTo>
                    <a:pt x="49" y="4579"/>
                  </a:lnTo>
                  <a:lnTo>
                    <a:pt x="49" y="4595"/>
                  </a:lnTo>
                  <a:lnTo>
                    <a:pt x="59" y="4626"/>
                  </a:lnTo>
                  <a:lnTo>
                    <a:pt x="59" y="4689"/>
                  </a:lnTo>
                  <a:lnTo>
                    <a:pt x="59" y="4772"/>
                  </a:lnTo>
                  <a:lnTo>
                    <a:pt x="76" y="4897"/>
                  </a:lnTo>
                  <a:lnTo>
                    <a:pt x="76" y="5053"/>
                  </a:lnTo>
                  <a:lnTo>
                    <a:pt x="92" y="5277"/>
                  </a:lnTo>
                  <a:lnTo>
                    <a:pt x="92" y="5579"/>
                  </a:lnTo>
                  <a:lnTo>
                    <a:pt x="109" y="6006"/>
                  </a:lnTo>
                  <a:lnTo>
                    <a:pt x="109" y="6277"/>
                  </a:lnTo>
                  <a:lnTo>
                    <a:pt x="109" y="5928"/>
                  </a:lnTo>
                  <a:lnTo>
                    <a:pt x="119" y="5532"/>
                  </a:lnTo>
                  <a:lnTo>
                    <a:pt x="119" y="5230"/>
                  </a:lnTo>
                  <a:lnTo>
                    <a:pt x="136" y="5022"/>
                  </a:lnTo>
                  <a:lnTo>
                    <a:pt x="136" y="4866"/>
                  </a:lnTo>
                  <a:lnTo>
                    <a:pt x="152" y="4756"/>
                  </a:lnTo>
                  <a:lnTo>
                    <a:pt x="152" y="4673"/>
                  </a:lnTo>
                  <a:lnTo>
                    <a:pt x="152" y="4610"/>
                  </a:lnTo>
                  <a:lnTo>
                    <a:pt x="169" y="4579"/>
                  </a:lnTo>
                  <a:lnTo>
                    <a:pt x="185" y="4595"/>
                  </a:lnTo>
                  <a:lnTo>
                    <a:pt x="185" y="4626"/>
                  </a:lnTo>
                  <a:lnTo>
                    <a:pt x="185" y="4689"/>
                  </a:lnTo>
                  <a:lnTo>
                    <a:pt x="196" y="4788"/>
                  </a:lnTo>
                  <a:lnTo>
                    <a:pt x="196" y="4897"/>
                  </a:lnTo>
                  <a:lnTo>
                    <a:pt x="212" y="5069"/>
                  </a:lnTo>
                  <a:lnTo>
                    <a:pt x="212" y="5293"/>
                  </a:lnTo>
                  <a:lnTo>
                    <a:pt x="229" y="5626"/>
                  </a:lnTo>
                  <a:lnTo>
                    <a:pt x="229" y="6053"/>
                  </a:lnTo>
                  <a:lnTo>
                    <a:pt x="229" y="6277"/>
                  </a:lnTo>
                  <a:lnTo>
                    <a:pt x="245" y="5881"/>
                  </a:lnTo>
                  <a:lnTo>
                    <a:pt x="245" y="5501"/>
                  </a:lnTo>
                  <a:lnTo>
                    <a:pt x="256" y="5215"/>
                  </a:lnTo>
                  <a:lnTo>
                    <a:pt x="256" y="5006"/>
                  </a:lnTo>
                  <a:lnTo>
                    <a:pt x="256" y="4850"/>
                  </a:lnTo>
                  <a:lnTo>
                    <a:pt x="272" y="4741"/>
                  </a:lnTo>
                  <a:lnTo>
                    <a:pt x="272" y="4657"/>
                  </a:lnTo>
                  <a:lnTo>
                    <a:pt x="288" y="4610"/>
                  </a:lnTo>
                  <a:lnTo>
                    <a:pt x="288" y="4579"/>
                  </a:lnTo>
                  <a:lnTo>
                    <a:pt x="305" y="4595"/>
                  </a:lnTo>
                  <a:lnTo>
                    <a:pt x="305" y="4626"/>
                  </a:lnTo>
                  <a:lnTo>
                    <a:pt x="316" y="4689"/>
                  </a:lnTo>
                  <a:lnTo>
                    <a:pt x="316" y="4788"/>
                  </a:lnTo>
                  <a:lnTo>
                    <a:pt x="332" y="4913"/>
                  </a:lnTo>
                  <a:lnTo>
                    <a:pt x="332" y="5084"/>
                  </a:lnTo>
                  <a:lnTo>
                    <a:pt x="348" y="5324"/>
                  </a:lnTo>
                  <a:lnTo>
                    <a:pt x="348" y="5657"/>
                  </a:lnTo>
                  <a:lnTo>
                    <a:pt x="348" y="6085"/>
                  </a:lnTo>
                  <a:lnTo>
                    <a:pt x="365" y="6210"/>
                  </a:lnTo>
                  <a:lnTo>
                    <a:pt x="365" y="5814"/>
                  </a:lnTo>
                  <a:lnTo>
                    <a:pt x="381" y="5433"/>
                  </a:lnTo>
                  <a:lnTo>
                    <a:pt x="381" y="5168"/>
                  </a:lnTo>
                  <a:lnTo>
                    <a:pt x="381" y="4975"/>
                  </a:lnTo>
                  <a:lnTo>
                    <a:pt x="392" y="4834"/>
                  </a:lnTo>
                  <a:lnTo>
                    <a:pt x="392" y="4720"/>
                  </a:lnTo>
                  <a:lnTo>
                    <a:pt x="408" y="4642"/>
                  </a:lnTo>
                  <a:lnTo>
                    <a:pt x="408" y="4595"/>
                  </a:lnTo>
                  <a:lnTo>
                    <a:pt x="425" y="4564"/>
                  </a:lnTo>
                  <a:lnTo>
                    <a:pt x="425" y="4579"/>
                  </a:lnTo>
                  <a:lnTo>
                    <a:pt x="441" y="4626"/>
                  </a:lnTo>
                  <a:lnTo>
                    <a:pt x="441" y="4689"/>
                  </a:lnTo>
                  <a:lnTo>
                    <a:pt x="452" y="4803"/>
                  </a:lnTo>
                  <a:lnTo>
                    <a:pt x="452" y="4928"/>
                  </a:lnTo>
                  <a:lnTo>
                    <a:pt x="452" y="5121"/>
                  </a:lnTo>
                  <a:lnTo>
                    <a:pt x="468" y="5371"/>
                  </a:lnTo>
                  <a:lnTo>
                    <a:pt x="468" y="5736"/>
                  </a:lnTo>
                  <a:lnTo>
                    <a:pt x="485" y="6194"/>
                  </a:lnTo>
                  <a:lnTo>
                    <a:pt x="501" y="5736"/>
                  </a:lnTo>
                  <a:lnTo>
                    <a:pt x="501" y="5371"/>
                  </a:lnTo>
                  <a:lnTo>
                    <a:pt x="501" y="5100"/>
                  </a:lnTo>
                  <a:lnTo>
                    <a:pt x="512" y="4913"/>
                  </a:lnTo>
                  <a:lnTo>
                    <a:pt x="512" y="4788"/>
                  </a:lnTo>
                  <a:lnTo>
                    <a:pt x="528" y="4673"/>
                  </a:lnTo>
                  <a:lnTo>
                    <a:pt x="528" y="4610"/>
                  </a:lnTo>
                  <a:lnTo>
                    <a:pt x="545" y="4564"/>
                  </a:lnTo>
                  <a:lnTo>
                    <a:pt x="545" y="4532"/>
                  </a:lnTo>
                  <a:lnTo>
                    <a:pt x="561" y="4548"/>
                  </a:lnTo>
                  <a:lnTo>
                    <a:pt x="561" y="4595"/>
                  </a:lnTo>
                  <a:lnTo>
                    <a:pt x="577" y="4673"/>
                  </a:lnTo>
                  <a:lnTo>
                    <a:pt x="577" y="4772"/>
                  </a:lnTo>
                  <a:lnTo>
                    <a:pt x="577" y="4913"/>
                  </a:lnTo>
                  <a:lnTo>
                    <a:pt x="588" y="5100"/>
                  </a:lnTo>
                  <a:lnTo>
                    <a:pt x="588" y="5371"/>
                  </a:lnTo>
                  <a:lnTo>
                    <a:pt x="605" y="5751"/>
                  </a:lnTo>
                  <a:lnTo>
                    <a:pt x="605" y="6324"/>
                  </a:lnTo>
                  <a:lnTo>
                    <a:pt x="621" y="6340"/>
                  </a:lnTo>
                  <a:lnTo>
                    <a:pt x="621" y="5751"/>
                  </a:lnTo>
                  <a:lnTo>
                    <a:pt x="621" y="5355"/>
                  </a:lnTo>
                  <a:lnTo>
                    <a:pt x="637" y="5084"/>
                  </a:lnTo>
                  <a:lnTo>
                    <a:pt x="637" y="4897"/>
                  </a:lnTo>
                  <a:lnTo>
                    <a:pt x="648" y="4756"/>
                  </a:lnTo>
                  <a:lnTo>
                    <a:pt x="648" y="4642"/>
                  </a:lnTo>
                  <a:lnTo>
                    <a:pt x="648" y="4579"/>
                  </a:lnTo>
                  <a:lnTo>
                    <a:pt x="665" y="4532"/>
                  </a:lnTo>
                  <a:lnTo>
                    <a:pt x="665" y="4501"/>
                  </a:lnTo>
                  <a:lnTo>
                    <a:pt x="681" y="4517"/>
                  </a:lnTo>
                  <a:lnTo>
                    <a:pt x="697" y="4548"/>
                  </a:lnTo>
                  <a:lnTo>
                    <a:pt x="697" y="4610"/>
                  </a:lnTo>
                  <a:lnTo>
                    <a:pt x="697" y="4704"/>
                  </a:lnTo>
                  <a:lnTo>
                    <a:pt x="708" y="4834"/>
                  </a:lnTo>
                  <a:lnTo>
                    <a:pt x="708" y="5006"/>
                  </a:lnTo>
                  <a:lnTo>
                    <a:pt x="725" y="5246"/>
                  </a:lnTo>
                  <a:lnTo>
                    <a:pt x="725" y="5579"/>
                  </a:lnTo>
                  <a:lnTo>
                    <a:pt x="741" y="6053"/>
                  </a:lnTo>
                  <a:lnTo>
                    <a:pt x="741" y="6371"/>
                  </a:lnTo>
                  <a:lnTo>
                    <a:pt x="741" y="5913"/>
                  </a:lnTo>
                  <a:lnTo>
                    <a:pt x="757" y="5480"/>
                  </a:lnTo>
                  <a:lnTo>
                    <a:pt x="757" y="5199"/>
                  </a:lnTo>
                  <a:lnTo>
                    <a:pt x="768" y="4975"/>
                  </a:lnTo>
                  <a:lnTo>
                    <a:pt x="768" y="4834"/>
                  </a:lnTo>
                  <a:lnTo>
                    <a:pt x="768" y="4704"/>
                  </a:lnTo>
                  <a:lnTo>
                    <a:pt x="785" y="4626"/>
                  </a:lnTo>
                  <a:lnTo>
                    <a:pt x="785" y="4579"/>
                  </a:lnTo>
                  <a:lnTo>
                    <a:pt x="801" y="4548"/>
                  </a:lnTo>
                  <a:lnTo>
                    <a:pt x="817" y="4564"/>
                  </a:lnTo>
                  <a:lnTo>
                    <a:pt x="817" y="4610"/>
                  </a:lnTo>
                  <a:lnTo>
                    <a:pt x="817" y="4673"/>
                  </a:lnTo>
                  <a:lnTo>
                    <a:pt x="834" y="4772"/>
                  </a:lnTo>
                  <a:lnTo>
                    <a:pt x="834" y="4897"/>
                  </a:lnTo>
                  <a:lnTo>
                    <a:pt x="845" y="5053"/>
                  </a:lnTo>
                  <a:lnTo>
                    <a:pt x="845" y="5277"/>
                  </a:lnTo>
                  <a:lnTo>
                    <a:pt x="845" y="5548"/>
                  </a:lnTo>
                  <a:lnTo>
                    <a:pt x="861" y="5782"/>
                  </a:lnTo>
                  <a:lnTo>
                    <a:pt x="877" y="5548"/>
                  </a:lnTo>
                  <a:lnTo>
                    <a:pt x="877" y="5277"/>
                  </a:lnTo>
                  <a:lnTo>
                    <a:pt x="894" y="5069"/>
                  </a:lnTo>
                  <a:lnTo>
                    <a:pt x="894" y="4897"/>
                  </a:lnTo>
                  <a:lnTo>
                    <a:pt x="894" y="4772"/>
                  </a:lnTo>
                  <a:lnTo>
                    <a:pt x="905" y="4673"/>
                  </a:lnTo>
                  <a:lnTo>
                    <a:pt x="905" y="4610"/>
                  </a:lnTo>
                  <a:lnTo>
                    <a:pt x="921" y="4579"/>
                  </a:lnTo>
                  <a:lnTo>
                    <a:pt x="937" y="4564"/>
                  </a:lnTo>
                  <a:lnTo>
                    <a:pt x="937" y="4595"/>
                  </a:lnTo>
                  <a:lnTo>
                    <a:pt x="937" y="4657"/>
                  </a:lnTo>
                  <a:lnTo>
                    <a:pt x="954" y="4741"/>
                  </a:lnTo>
                  <a:lnTo>
                    <a:pt x="954" y="4850"/>
                  </a:lnTo>
                  <a:lnTo>
                    <a:pt x="965" y="5006"/>
                  </a:lnTo>
                  <a:lnTo>
                    <a:pt x="965" y="5215"/>
                  </a:lnTo>
                  <a:lnTo>
                    <a:pt x="965" y="5480"/>
                  </a:lnTo>
                  <a:lnTo>
                    <a:pt x="981" y="5782"/>
                  </a:lnTo>
                  <a:lnTo>
                    <a:pt x="981" y="5866"/>
                  </a:lnTo>
                  <a:lnTo>
                    <a:pt x="997" y="5626"/>
                  </a:lnTo>
                  <a:lnTo>
                    <a:pt x="997" y="5324"/>
                  </a:lnTo>
                  <a:lnTo>
                    <a:pt x="1014" y="5069"/>
                  </a:lnTo>
                  <a:lnTo>
                    <a:pt x="1014" y="4897"/>
                  </a:lnTo>
                  <a:lnTo>
                    <a:pt x="1014" y="4741"/>
                  </a:lnTo>
                  <a:lnTo>
                    <a:pt x="1030" y="4642"/>
                  </a:lnTo>
                  <a:lnTo>
                    <a:pt x="1030" y="4564"/>
                  </a:lnTo>
                  <a:lnTo>
                    <a:pt x="1041" y="4501"/>
                  </a:lnTo>
                  <a:lnTo>
                    <a:pt x="1041" y="4485"/>
                  </a:lnTo>
                  <a:lnTo>
                    <a:pt x="1041" y="4470"/>
                  </a:lnTo>
                  <a:lnTo>
                    <a:pt x="1057" y="4485"/>
                  </a:lnTo>
                  <a:lnTo>
                    <a:pt x="1057" y="4532"/>
                  </a:lnTo>
                  <a:lnTo>
                    <a:pt x="1074" y="4595"/>
                  </a:lnTo>
                  <a:lnTo>
                    <a:pt x="1074" y="4689"/>
                  </a:lnTo>
                  <a:lnTo>
                    <a:pt x="1090" y="4819"/>
                  </a:lnTo>
                  <a:lnTo>
                    <a:pt x="1090" y="5006"/>
                  </a:lnTo>
                  <a:lnTo>
                    <a:pt x="1090" y="5262"/>
                  </a:lnTo>
                  <a:lnTo>
                    <a:pt x="1101" y="5626"/>
                  </a:lnTo>
                  <a:lnTo>
                    <a:pt x="1101" y="6178"/>
                  </a:lnTo>
                  <a:lnTo>
                    <a:pt x="1117" y="6277"/>
                  </a:lnTo>
                  <a:lnTo>
                    <a:pt x="1117" y="5704"/>
                  </a:lnTo>
                  <a:lnTo>
                    <a:pt x="1134" y="5293"/>
                  </a:lnTo>
                  <a:lnTo>
                    <a:pt x="1134" y="5006"/>
                  </a:lnTo>
                  <a:lnTo>
                    <a:pt x="1134" y="4803"/>
                  </a:lnTo>
                  <a:lnTo>
                    <a:pt x="1150" y="4657"/>
                  </a:lnTo>
                  <a:lnTo>
                    <a:pt x="1150" y="4532"/>
                  </a:lnTo>
                  <a:lnTo>
                    <a:pt x="1161" y="4454"/>
                  </a:lnTo>
                  <a:lnTo>
                    <a:pt x="1161" y="4407"/>
                  </a:lnTo>
                  <a:lnTo>
                    <a:pt x="1161" y="4355"/>
                  </a:lnTo>
                  <a:lnTo>
                    <a:pt x="1177" y="4355"/>
                  </a:lnTo>
                  <a:lnTo>
                    <a:pt x="1194" y="4392"/>
                  </a:lnTo>
                  <a:lnTo>
                    <a:pt x="1194" y="4439"/>
                  </a:lnTo>
                  <a:lnTo>
                    <a:pt x="1210" y="4517"/>
                  </a:lnTo>
                  <a:lnTo>
                    <a:pt x="1210" y="4610"/>
                  </a:lnTo>
                  <a:lnTo>
                    <a:pt x="1210" y="4741"/>
                  </a:lnTo>
                  <a:lnTo>
                    <a:pt x="1226" y="4928"/>
                  </a:lnTo>
                  <a:lnTo>
                    <a:pt x="1226" y="5168"/>
                  </a:lnTo>
                  <a:lnTo>
                    <a:pt x="1237" y="5480"/>
                  </a:lnTo>
                  <a:lnTo>
                    <a:pt x="1237" y="5866"/>
                  </a:lnTo>
                  <a:lnTo>
                    <a:pt x="1237" y="5975"/>
                  </a:lnTo>
                  <a:lnTo>
                    <a:pt x="1254" y="5626"/>
                  </a:lnTo>
                  <a:lnTo>
                    <a:pt x="1254" y="5293"/>
                  </a:lnTo>
                  <a:lnTo>
                    <a:pt x="1270" y="5038"/>
                  </a:lnTo>
                  <a:lnTo>
                    <a:pt x="1270" y="4850"/>
                  </a:lnTo>
                  <a:lnTo>
                    <a:pt x="1286" y="4720"/>
                  </a:lnTo>
                  <a:lnTo>
                    <a:pt x="1286" y="4610"/>
                  </a:lnTo>
                  <a:lnTo>
                    <a:pt x="1286" y="4548"/>
                  </a:lnTo>
                  <a:lnTo>
                    <a:pt x="1297" y="4501"/>
                  </a:lnTo>
                  <a:lnTo>
                    <a:pt x="1314" y="4485"/>
                  </a:lnTo>
                  <a:lnTo>
                    <a:pt x="1314" y="4517"/>
                  </a:lnTo>
                  <a:lnTo>
                    <a:pt x="1330" y="4548"/>
                  </a:lnTo>
                  <a:lnTo>
                    <a:pt x="1330" y="4626"/>
                  </a:lnTo>
                  <a:lnTo>
                    <a:pt x="1330" y="4704"/>
                  </a:lnTo>
                  <a:lnTo>
                    <a:pt x="1346" y="4834"/>
                  </a:lnTo>
                  <a:lnTo>
                    <a:pt x="1346" y="4975"/>
                  </a:lnTo>
                  <a:lnTo>
                    <a:pt x="1357" y="5121"/>
                  </a:lnTo>
                  <a:lnTo>
                    <a:pt x="1357" y="5262"/>
                  </a:lnTo>
                  <a:lnTo>
                    <a:pt x="1357" y="5324"/>
                  </a:lnTo>
                  <a:lnTo>
                    <a:pt x="1374" y="5277"/>
                  </a:lnTo>
                  <a:lnTo>
                    <a:pt x="1374" y="5152"/>
                  </a:lnTo>
                  <a:lnTo>
                    <a:pt x="1390" y="4991"/>
                  </a:lnTo>
                  <a:lnTo>
                    <a:pt x="1390" y="4866"/>
                  </a:lnTo>
                  <a:lnTo>
                    <a:pt x="1406" y="4756"/>
                  </a:lnTo>
                  <a:lnTo>
                    <a:pt x="1406" y="4673"/>
                  </a:lnTo>
                  <a:lnTo>
                    <a:pt x="1406" y="4610"/>
                  </a:lnTo>
                  <a:lnTo>
                    <a:pt x="1423" y="4579"/>
                  </a:lnTo>
                  <a:lnTo>
                    <a:pt x="1434" y="4564"/>
                  </a:lnTo>
                  <a:lnTo>
                    <a:pt x="1434" y="4579"/>
                  </a:lnTo>
                  <a:lnTo>
                    <a:pt x="1434" y="4626"/>
                  </a:lnTo>
                  <a:lnTo>
                    <a:pt x="1450" y="4689"/>
                  </a:lnTo>
                  <a:lnTo>
                    <a:pt x="1450" y="4788"/>
                  </a:lnTo>
                  <a:lnTo>
                    <a:pt x="1466" y="4881"/>
                  </a:lnTo>
                  <a:lnTo>
                    <a:pt x="1466" y="4991"/>
                  </a:lnTo>
                  <a:lnTo>
                    <a:pt x="1483" y="5069"/>
                  </a:lnTo>
                  <a:lnTo>
                    <a:pt x="1483" y="5100"/>
                  </a:lnTo>
                  <a:lnTo>
                    <a:pt x="1483" y="5069"/>
                  </a:lnTo>
                  <a:lnTo>
                    <a:pt x="1494" y="4975"/>
                  </a:lnTo>
                  <a:lnTo>
                    <a:pt x="1494" y="4866"/>
                  </a:lnTo>
                  <a:lnTo>
                    <a:pt x="1510" y="4756"/>
                  </a:lnTo>
                  <a:lnTo>
                    <a:pt x="1510" y="4642"/>
                  </a:lnTo>
                  <a:lnTo>
                    <a:pt x="1526" y="4564"/>
                  </a:lnTo>
                  <a:lnTo>
                    <a:pt x="1526" y="4517"/>
                  </a:lnTo>
                  <a:lnTo>
                    <a:pt x="1526" y="4470"/>
                  </a:lnTo>
                  <a:lnTo>
                    <a:pt x="1543" y="4454"/>
                  </a:lnTo>
                  <a:lnTo>
                    <a:pt x="1554" y="4485"/>
                  </a:lnTo>
                  <a:lnTo>
                    <a:pt x="1554" y="4517"/>
                  </a:lnTo>
                  <a:lnTo>
                    <a:pt x="1554" y="4595"/>
                  </a:lnTo>
                  <a:lnTo>
                    <a:pt x="1570" y="4689"/>
                  </a:lnTo>
                  <a:lnTo>
                    <a:pt x="1570" y="4819"/>
                  </a:lnTo>
                  <a:lnTo>
                    <a:pt x="1586" y="4959"/>
                  </a:lnTo>
                  <a:lnTo>
                    <a:pt x="1586" y="5100"/>
                  </a:lnTo>
                  <a:lnTo>
                    <a:pt x="1603" y="5215"/>
                  </a:lnTo>
                  <a:lnTo>
                    <a:pt x="1603" y="5069"/>
                  </a:lnTo>
                  <a:lnTo>
                    <a:pt x="1619" y="4897"/>
                  </a:lnTo>
                  <a:lnTo>
                    <a:pt x="1619" y="4741"/>
                  </a:lnTo>
                  <a:lnTo>
                    <a:pt x="1631" y="4579"/>
                  </a:lnTo>
                  <a:lnTo>
                    <a:pt x="1631" y="4470"/>
                  </a:lnTo>
                  <a:lnTo>
                    <a:pt x="1631" y="4376"/>
                  </a:lnTo>
                  <a:lnTo>
                    <a:pt x="1647" y="4308"/>
                  </a:lnTo>
                  <a:lnTo>
                    <a:pt x="1647" y="4261"/>
                  </a:lnTo>
                  <a:lnTo>
                    <a:pt x="1664" y="4230"/>
                  </a:lnTo>
                  <a:lnTo>
                    <a:pt x="1680" y="4246"/>
                  </a:lnTo>
                  <a:lnTo>
                    <a:pt x="1680" y="4277"/>
                  </a:lnTo>
                  <a:lnTo>
                    <a:pt x="1680" y="4340"/>
                  </a:lnTo>
                  <a:lnTo>
                    <a:pt x="1691" y="4439"/>
                  </a:lnTo>
                  <a:lnTo>
                    <a:pt x="1691" y="4564"/>
                  </a:lnTo>
                  <a:lnTo>
                    <a:pt x="1707" y="4741"/>
                  </a:lnTo>
                  <a:lnTo>
                    <a:pt x="1707" y="4975"/>
                  </a:lnTo>
                  <a:lnTo>
                    <a:pt x="1724" y="5308"/>
                  </a:lnTo>
                  <a:lnTo>
                    <a:pt x="1724" y="5767"/>
                  </a:lnTo>
                  <a:lnTo>
                    <a:pt x="1724" y="5928"/>
                  </a:lnTo>
                  <a:lnTo>
                    <a:pt x="1740" y="5465"/>
                  </a:lnTo>
                  <a:lnTo>
                    <a:pt x="1740" y="5069"/>
                  </a:lnTo>
                  <a:lnTo>
                    <a:pt x="1751" y="4788"/>
                  </a:lnTo>
                  <a:lnTo>
                    <a:pt x="1751" y="4595"/>
                  </a:lnTo>
                  <a:lnTo>
                    <a:pt x="1751" y="4439"/>
                  </a:lnTo>
                  <a:lnTo>
                    <a:pt x="1767" y="4324"/>
                  </a:lnTo>
                  <a:lnTo>
                    <a:pt x="1767" y="4230"/>
                  </a:lnTo>
                  <a:lnTo>
                    <a:pt x="1784" y="4168"/>
                  </a:lnTo>
                  <a:lnTo>
                    <a:pt x="1784" y="4136"/>
                  </a:lnTo>
                  <a:lnTo>
                    <a:pt x="1800" y="4105"/>
                  </a:lnTo>
                  <a:lnTo>
                    <a:pt x="1816" y="4121"/>
                  </a:lnTo>
                  <a:lnTo>
                    <a:pt x="1816" y="4152"/>
                  </a:lnTo>
                  <a:lnTo>
                    <a:pt x="1827" y="4199"/>
                  </a:lnTo>
                  <a:lnTo>
                    <a:pt x="1827" y="4230"/>
                  </a:lnTo>
                  <a:lnTo>
                    <a:pt x="1827" y="4277"/>
                  </a:lnTo>
                  <a:lnTo>
                    <a:pt x="1844" y="4324"/>
                  </a:lnTo>
                  <a:lnTo>
                    <a:pt x="1844" y="4355"/>
                  </a:lnTo>
                  <a:lnTo>
                    <a:pt x="1860" y="4407"/>
                  </a:lnTo>
                  <a:lnTo>
                    <a:pt x="1860" y="4439"/>
                  </a:lnTo>
                  <a:lnTo>
                    <a:pt x="1876" y="4485"/>
                  </a:lnTo>
                  <a:lnTo>
                    <a:pt x="1876" y="4532"/>
                  </a:lnTo>
                  <a:lnTo>
                    <a:pt x="1876" y="4610"/>
                  </a:lnTo>
                  <a:lnTo>
                    <a:pt x="1887" y="4741"/>
                  </a:lnTo>
                  <a:lnTo>
                    <a:pt x="1887" y="4913"/>
                  </a:lnTo>
                  <a:lnTo>
                    <a:pt x="1904" y="5215"/>
                  </a:lnTo>
                  <a:lnTo>
                    <a:pt x="1904" y="5782"/>
                  </a:lnTo>
                  <a:lnTo>
                    <a:pt x="1920" y="6449"/>
                  </a:lnTo>
                  <a:lnTo>
                    <a:pt x="1920" y="5387"/>
                  </a:lnTo>
                  <a:lnTo>
                    <a:pt x="1920" y="4803"/>
                  </a:lnTo>
                  <a:lnTo>
                    <a:pt x="1936" y="4407"/>
                  </a:lnTo>
                  <a:lnTo>
                    <a:pt x="1936" y="4105"/>
                  </a:lnTo>
                  <a:lnTo>
                    <a:pt x="1947" y="3866"/>
                  </a:lnTo>
                  <a:lnTo>
                    <a:pt x="1947" y="3678"/>
                  </a:lnTo>
                  <a:lnTo>
                    <a:pt x="1947" y="3517"/>
                  </a:lnTo>
                  <a:lnTo>
                    <a:pt x="1963" y="3376"/>
                  </a:lnTo>
                  <a:lnTo>
                    <a:pt x="1963" y="3266"/>
                  </a:lnTo>
                  <a:lnTo>
                    <a:pt x="1980" y="3167"/>
                  </a:lnTo>
                  <a:lnTo>
                    <a:pt x="1980" y="3073"/>
                  </a:lnTo>
                  <a:lnTo>
                    <a:pt x="1996" y="3010"/>
                  </a:lnTo>
                  <a:lnTo>
                    <a:pt x="1996" y="2963"/>
                  </a:lnTo>
                  <a:lnTo>
                    <a:pt x="1996" y="2917"/>
                  </a:lnTo>
                  <a:lnTo>
                    <a:pt x="2013" y="2885"/>
                  </a:lnTo>
                  <a:lnTo>
                    <a:pt x="2013" y="2864"/>
                  </a:lnTo>
                  <a:lnTo>
                    <a:pt x="2023" y="2849"/>
                  </a:lnTo>
                  <a:lnTo>
                    <a:pt x="2040" y="2864"/>
                  </a:lnTo>
                  <a:lnTo>
                    <a:pt x="2040" y="2885"/>
                  </a:lnTo>
                  <a:lnTo>
                    <a:pt x="2056" y="2864"/>
                  </a:lnTo>
                  <a:lnTo>
                    <a:pt x="2056" y="2849"/>
                  </a:lnTo>
                  <a:lnTo>
                    <a:pt x="2073" y="2818"/>
                  </a:lnTo>
                  <a:lnTo>
                    <a:pt x="2073" y="2771"/>
                  </a:lnTo>
                  <a:lnTo>
                    <a:pt x="2073" y="2693"/>
                  </a:lnTo>
                  <a:lnTo>
                    <a:pt x="2083" y="2614"/>
                  </a:lnTo>
                  <a:lnTo>
                    <a:pt x="2083" y="2536"/>
                  </a:lnTo>
                  <a:lnTo>
                    <a:pt x="2100" y="2437"/>
                  </a:lnTo>
                  <a:lnTo>
                    <a:pt x="2100" y="2359"/>
                  </a:lnTo>
                  <a:lnTo>
                    <a:pt x="2116" y="2281"/>
                  </a:lnTo>
                  <a:lnTo>
                    <a:pt x="2116" y="2203"/>
                  </a:lnTo>
                  <a:lnTo>
                    <a:pt x="2116" y="2140"/>
                  </a:lnTo>
                  <a:lnTo>
                    <a:pt x="2133" y="2073"/>
                  </a:lnTo>
                  <a:lnTo>
                    <a:pt x="2133" y="2026"/>
                  </a:lnTo>
                  <a:lnTo>
                    <a:pt x="2143" y="1995"/>
                  </a:lnTo>
                  <a:lnTo>
                    <a:pt x="2143" y="1963"/>
                  </a:lnTo>
                  <a:lnTo>
                    <a:pt x="2143" y="1932"/>
                  </a:lnTo>
                  <a:lnTo>
                    <a:pt x="2160" y="1916"/>
                  </a:lnTo>
                  <a:lnTo>
                    <a:pt x="2176" y="1901"/>
                  </a:lnTo>
                  <a:lnTo>
                    <a:pt x="2193" y="1901"/>
                  </a:lnTo>
                  <a:lnTo>
                    <a:pt x="2209" y="1885"/>
                  </a:lnTo>
                  <a:lnTo>
                    <a:pt x="2220" y="1870"/>
                  </a:lnTo>
                  <a:lnTo>
                    <a:pt x="2220" y="1838"/>
                  </a:lnTo>
                  <a:lnTo>
                    <a:pt x="2220" y="1791"/>
                  </a:lnTo>
                  <a:lnTo>
                    <a:pt x="2236" y="1739"/>
                  </a:lnTo>
                  <a:lnTo>
                    <a:pt x="2236" y="1692"/>
                  </a:lnTo>
                  <a:lnTo>
                    <a:pt x="2252" y="1630"/>
                  </a:lnTo>
                  <a:lnTo>
                    <a:pt x="2252" y="1583"/>
                  </a:lnTo>
                  <a:lnTo>
                    <a:pt x="2269" y="1521"/>
                  </a:lnTo>
                  <a:lnTo>
                    <a:pt x="2269" y="1474"/>
                  </a:lnTo>
                  <a:lnTo>
                    <a:pt x="2269" y="1427"/>
                  </a:lnTo>
                  <a:lnTo>
                    <a:pt x="2280" y="1380"/>
                  </a:lnTo>
                  <a:lnTo>
                    <a:pt x="2280" y="1343"/>
                  </a:lnTo>
                  <a:lnTo>
                    <a:pt x="2296" y="1312"/>
                  </a:lnTo>
                  <a:lnTo>
                    <a:pt x="2296" y="1281"/>
                  </a:lnTo>
                  <a:lnTo>
                    <a:pt x="2312" y="1265"/>
                  </a:lnTo>
                  <a:lnTo>
                    <a:pt x="2312" y="1250"/>
                  </a:lnTo>
                  <a:lnTo>
                    <a:pt x="2329" y="1234"/>
                  </a:lnTo>
                  <a:lnTo>
                    <a:pt x="2340" y="1218"/>
                  </a:lnTo>
                  <a:lnTo>
                    <a:pt x="2356" y="1218"/>
                  </a:lnTo>
                  <a:lnTo>
                    <a:pt x="2372" y="1203"/>
                  </a:lnTo>
                  <a:lnTo>
                    <a:pt x="2372" y="1187"/>
                  </a:lnTo>
                  <a:lnTo>
                    <a:pt x="2389" y="1156"/>
                  </a:lnTo>
                  <a:lnTo>
                    <a:pt x="2389" y="1140"/>
                  </a:lnTo>
                  <a:lnTo>
                    <a:pt x="2389" y="1109"/>
                  </a:lnTo>
                  <a:lnTo>
                    <a:pt x="2400" y="1062"/>
                  </a:lnTo>
                  <a:lnTo>
                    <a:pt x="2400" y="1031"/>
                  </a:lnTo>
                  <a:lnTo>
                    <a:pt x="2416" y="994"/>
                  </a:lnTo>
                  <a:lnTo>
                    <a:pt x="2416" y="963"/>
                  </a:lnTo>
                  <a:lnTo>
                    <a:pt x="2416" y="916"/>
                  </a:lnTo>
                  <a:lnTo>
                    <a:pt x="2432" y="901"/>
                  </a:lnTo>
                  <a:lnTo>
                    <a:pt x="2432" y="869"/>
                  </a:lnTo>
                  <a:lnTo>
                    <a:pt x="2449" y="838"/>
                  </a:lnTo>
                  <a:lnTo>
                    <a:pt x="2449" y="823"/>
                  </a:lnTo>
                  <a:lnTo>
                    <a:pt x="2465" y="807"/>
                  </a:lnTo>
                  <a:lnTo>
                    <a:pt x="2465" y="791"/>
                  </a:lnTo>
                  <a:lnTo>
                    <a:pt x="2476" y="776"/>
                  </a:lnTo>
                  <a:lnTo>
                    <a:pt x="2492" y="776"/>
                  </a:lnTo>
                  <a:lnTo>
                    <a:pt x="2509" y="776"/>
                  </a:lnTo>
                  <a:lnTo>
                    <a:pt x="2525" y="776"/>
                  </a:lnTo>
                  <a:lnTo>
                    <a:pt x="2536" y="760"/>
                  </a:lnTo>
                  <a:lnTo>
                    <a:pt x="2536" y="744"/>
                  </a:lnTo>
                  <a:lnTo>
                    <a:pt x="2536" y="729"/>
                  </a:lnTo>
                  <a:lnTo>
                    <a:pt x="2552" y="713"/>
                  </a:lnTo>
                  <a:lnTo>
                    <a:pt x="2552" y="698"/>
                  </a:lnTo>
                  <a:lnTo>
                    <a:pt x="2569" y="666"/>
                  </a:lnTo>
                  <a:lnTo>
                    <a:pt x="2569" y="651"/>
                  </a:lnTo>
                  <a:lnTo>
                    <a:pt x="2585" y="635"/>
                  </a:lnTo>
                  <a:lnTo>
                    <a:pt x="2585" y="599"/>
                  </a:lnTo>
                  <a:lnTo>
                    <a:pt x="2585" y="583"/>
                  </a:lnTo>
                  <a:lnTo>
                    <a:pt x="2596" y="567"/>
                  </a:lnTo>
                  <a:lnTo>
                    <a:pt x="2596" y="552"/>
                  </a:lnTo>
                  <a:lnTo>
                    <a:pt x="2612" y="536"/>
                  </a:lnTo>
                  <a:lnTo>
                    <a:pt x="2612" y="520"/>
                  </a:lnTo>
                  <a:lnTo>
                    <a:pt x="2629" y="505"/>
                  </a:lnTo>
                  <a:lnTo>
                    <a:pt x="2645" y="489"/>
                  </a:lnTo>
                  <a:lnTo>
                    <a:pt x="2661" y="474"/>
                  </a:lnTo>
                  <a:lnTo>
                    <a:pt x="2672" y="458"/>
                  </a:lnTo>
                  <a:lnTo>
                    <a:pt x="2689" y="442"/>
                  </a:lnTo>
                  <a:lnTo>
                    <a:pt x="2689" y="427"/>
                  </a:lnTo>
                  <a:lnTo>
                    <a:pt x="2705" y="411"/>
                  </a:lnTo>
                  <a:lnTo>
                    <a:pt x="2705" y="395"/>
                  </a:lnTo>
                  <a:lnTo>
                    <a:pt x="2705" y="380"/>
                  </a:lnTo>
                  <a:lnTo>
                    <a:pt x="2721" y="364"/>
                  </a:lnTo>
                  <a:lnTo>
                    <a:pt x="2721" y="349"/>
                  </a:lnTo>
                  <a:lnTo>
                    <a:pt x="2732" y="333"/>
                  </a:lnTo>
                  <a:lnTo>
                    <a:pt x="2749" y="317"/>
                  </a:lnTo>
                  <a:lnTo>
                    <a:pt x="2765" y="302"/>
                  </a:lnTo>
                  <a:lnTo>
                    <a:pt x="2781" y="302"/>
                  </a:lnTo>
                  <a:lnTo>
                    <a:pt x="2792" y="317"/>
                  </a:lnTo>
                  <a:lnTo>
                    <a:pt x="2809" y="317"/>
                  </a:lnTo>
                  <a:lnTo>
                    <a:pt x="2825" y="302"/>
                  </a:lnTo>
                  <a:lnTo>
                    <a:pt x="2841" y="286"/>
                  </a:lnTo>
                  <a:lnTo>
                    <a:pt x="2858" y="270"/>
                  </a:lnTo>
                  <a:lnTo>
                    <a:pt x="2858" y="255"/>
                  </a:lnTo>
                  <a:lnTo>
                    <a:pt x="2869" y="234"/>
                  </a:lnTo>
                  <a:lnTo>
                    <a:pt x="2869" y="218"/>
                  </a:lnTo>
                  <a:lnTo>
                    <a:pt x="2885" y="203"/>
                  </a:lnTo>
                  <a:lnTo>
                    <a:pt x="2901" y="187"/>
                  </a:lnTo>
                  <a:lnTo>
                    <a:pt x="2901" y="171"/>
                  </a:lnTo>
                  <a:lnTo>
                    <a:pt x="2918" y="156"/>
                  </a:lnTo>
                  <a:lnTo>
                    <a:pt x="2929" y="156"/>
                  </a:lnTo>
                  <a:lnTo>
                    <a:pt x="2945" y="156"/>
                  </a:lnTo>
                  <a:lnTo>
                    <a:pt x="2961" y="156"/>
                  </a:lnTo>
                  <a:lnTo>
                    <a:pt x="2978" y="140"/>
                  </a:lnTo>
                  <a:lnTo>
                    <a:pt x="2989" y="125"/>
                  </a:lnTo>
                  <a:lnTo>
                    <a:pt x="3005" y="109"/>
                  </a:lnTo>
                  <a:lnTo>
                    <a:pt x="3021" y="93"/>
                  </a:lnTo>
                  <a:lnTo>
                    <a:pt x="3038" y="93"/>
                  </a:lnTo>
                  <a:lnTo>
                    <a:pt x="3054" y="78"/>
                  </a:lnTo>
                  <a:lnTo>
                    <a:pt x="3065" y="78"/>
                  </a:lnTo>
                  <a:lnTo>
                    <a:pt x="3081" y="93"/>
                  </a:lnTo>
                  <a:lnTo>
                    <a:pt x="3098" y="93"/>
                  </a:lnTo>
                  <a:lnTo>
                    <a:pt x="3114" y="93"/>
                  </a:lnTo>
                  <a:lnTo>
                    <a:pt x="3125" y="93"/>
                  </a:lnTo>
                  <a:lnTo>
                    <a:pt x="3141" y="78"/>
                  </a:lnTo>
                  <a:lnTo>
                    <a:pt x="3158" y="62"/>
                  </a:lnTo>
                  <a:lnTo>
                    <a:pt x="3174" y="46"/>
                  </a:lnTo>
                  <a:lnTo>
                    <a:pt x="3185" y="31"/>
                  </a:lnTo>
                  <a:lnTo>
                    <a:pt x="3201" y="31"/>
                  </a:lnTo>
                  <a:lnTo>
                    <a:pt x="3218" y="46"/>
                  </a:lnTo>
                  <a:lnTo>
                    <a:pt x="3234" y="62"/>
                  </a:lnTo>
                  <a:lnTo>
                    <a:pt x="3250" y="78"/>
                  </a:lnTo>
                  <a:lnTo>
                    <a:pt x="3261" y="93"/>
                  </a:lnTo>
                  <a:lnTo>
                    <a:pt x="3278" y="93"/>
                  </a:lnTo>
                  <a:lnTo>
                    <a:pt x="3294" y="78"/>
                  </a:lnTo>
                  <a:lnTo>
                    <a:pt x="3310" y="62"/>
                  </a:lnTo>
                  <a:lnTo>
                    <a:pt x="3310" y="46"/>
                  </a:lnTo>
                  <a:lnTo>
                    <a:pt x="3321" y="31"/>
                  </a:lnTo>
                  <a:lnTo>
                    <a:pt x="3338" y="15"/>
                  </a:lnTo>
                  <a:lnTo>
                    <a:pt x="3354" y="0"/>
                  </a:lnTo>
                  <a:lnTo>
                    <a:pt x="3370" y="0"/>
                  </a:lnTo>
                  <a:lnTo>
                    <a:pt x="3381" y="15"/>
                  </a:lnTo>
                  <a:lnTo>
                    <a:pt x="3398" y="31"/>
                  </a:lnTo>
                  <a:lnTo>
                    <a:pt x="3414" y="46"/>
                  </a:lnTo>
                  <a:lnTo>
                    <a:pt x="3430" y="46"/>
                  </a:lnTo>
                  <a:lnTo>
                    <a:pt x="3447" y="31"/>
                  </a:lnTo>
                  <a:lnTo>
                    <a:pt x="3458" y="31"/>
                  </a:lnTo>
                  <a:lnTo>
                    <a:pt x="3474" y="15"/>
                  </a:lnTo>
                  <a:lnTo>
                    <a:pt x="3490" y="15"/>
                  </a:lnTo>
                  <a:lnTo>
                    <a:pt x="3507" y="15"/>
                  </a:lnTo>
                  <a:lnTo>
                    <a:pt x="3518" y="31"/>
                  </a:lnTo>
                  <a:lnTo>
                    <a:pt x="3534" y="46"/>
                  </a:lnTo>
                  <a:lnTo>
                    <a:pt x="3534" y="62"/>
                  </a:lnTo>
                  <a:lnTo>
                    <a:pt x="3550" y="78"/>
                  </a:lnTo>
                  <a:lnTo>
                    <a:pt x="3567" y="93"/>
                  </a:lnTo>
                  <a:lnTo>
                    <a:pt x="3578" y="93"/>
                  </a:lnTo>
                  <a:lnTo>
                    <a:pt x="3594" y="93"/>
                  </a:lnTo>
                  <a:lnTo>
                    <a:pt x="3610" y="78"/>
                  </a:lnTo>
                  <a:lnTo>
                    <a:pt x="3627" y="62"/>
                  </a:lnTo>
                  <a:lnTo>
                    <a:pt x="3643" y="62"/>
                  </a:lnTo>
                  <a:lnTo>
                    <a:pt x="3654" y="62"/>
                  </a:lnTo>
                  <a:lnTo>
                    <a:pt x="3670" y="78"/>
                  </a:lnTo>
                  <a:lnTo>
                    <a:pt x="3670" y="93"/>
                  </a:lnTo>
                  <a:lnTo>
                    <a:pt x="3687" y="109"/>
                  </a:lnTo>
                  <a:lnTo>
                    <a:pt x="3687" y="125"/>
                  </a:lnTo>
                  <a:lnTo>
                    <a:pt x="3703" y="140"/>
                  </a:lnTo>
                  <a:lnTo>
                    <a:pt x="3703" y="156"/>
                  </a:lnTo>
                  <a:lnTo>
                    <a:pt x="3714" y="171"/>
                  </a:lnTo>
                  <a:lnTo>
                    <a:pt x="3714" y="187"/>
                  </a:lnTo>
                  <a:lnTo>
                    <a:pt x="3730" y="203"/>
                  </a:lnTo>
                  <a:lnTo>
                    <a:pt x="3747" y="187"/>
                  </a:lnTo>
                  <a:lnTo>
                    <a:pt x="3763" y="171"/>
                  </a:lnTo>
                  <a:lnTo>
                    <a:pt x="3774" y="156"/>
                  </a:lnTo>
                  <a:lnTo>
                    <a:pt x="3790" y="156"/>
                  </a:lnTo>
                  <a:lnTo>
                    <a:pt x="3807" y="171"/>
                  </a:lnTo>
                  <a:lnTo>
                    <a:pt x="3823" y="187"/>
                  </a:lnTo>
                  <a:lnTo>
                    <a:pt x="3834" y="203"/>
                  </a:lnTo>
                  <a:lnTo>
                    <a:pt x="3834" y="218"/>
                  </a:lnTo>
                  <a:lnTo>
                    <a:pt x="3834" y="234"/>
                  </a:lnTo>
                  <a:lnTo>
                    <a:pt x="3850" y="270"/>
                  </a:lnTo>
                  <a:lnTo>
                    <a:pt x="3850" y="286"/>
                  </a:lnTo>
                  <a:lnTo>
                    <a:pt x="3867" y="302"/>
                  </a:lnTo>
                  <a:lnTo>
                    <a:pt x="3867" y="317"/>
                  </a:lnTo>
                  <a:lnTo>
                    <a:pt x="3883" y="333"/>
                  </a:lnTo>
                  <a:lnTo>
                    <a:pt x="3899" y="349"/>
                  </a:lnTo>
                  <a:lnTo>
                    <a:pt x="3910" y="349"/>
                  </a:lnTo>
                  <a:lnTo>
                    <a:pt x="3926" y="333"/>
                  </a:lnTo>
                  <a:lnTo>
                    <a:pt x="3943" y="349"/>
                  </a:lnTo>
                  <a:lnTo>
                    <a:pt x="3959" y="364"/>
                  </a:lnTo>
                  <a:lnTo>
                    <a:pt x="3970" y="380"/>
                  </a:lnTo>
                  <a:lnTo>
                    <a:pt x="3970" y="395"/>
                  </a:lnTo>
                  <a:lnTo>
                    <a:pt x="3986" y="427"/>
                  </a:lnTo>
                  <a:lnTo>
                    <a:pt x="3986" y="442"/>
                  </a:lnTo>
                  <a:lnTo>
                    <a:pt x="3986" y="474"/>
                  </a:lnTo>
                  <a:lnTo>
                    <a:pt x="4003" y="505"/>
                  </a:lnTo>
                  <a:lnTo>
                    <a:pt x="4003" y="520"/>
                  </a:lnTo>
                  <a:lnTo>
                    <a:pt x="4019" y="552"/>
                  </a:lnTo>
                  <a:lnTo>
                    <a:pt x="4019" y="567"/>
                  </a:lnTo>
                  <a:lnTo>
                    <a:pt x="4030" y="583"/>
                  </a:lnTo>
                  <a:lnTo>
                    <a:pt x="4030" y="599"/>
                  </a:lnTo>
                  <a:lnTo>
                    <a:pt x="4046" y="614"/>
                  </a:lnTo>
                  <a:lnTo>
                    <a:pt x="4063" y="599"/>
                  </a:lnTo>
                  <a:lnTo>
                    <a:pt x="4079" y="583"/>
                  </a:lnTo>
                  <a:lnTo>
                    <a:pt x="4096" y="583"/>
                  </a:lnTo>
                  <a:lnTo>
                    <a:pt x="4106" y="599"/>
                  </a:lnTo>
                  <a:lnTo>
                    <a:pt x="4106" y="614"/>
                  </a:lnTo>
                  <a:lnTo>
                    <a:pt x="4123" y="635"/>
                  </a:lnTo>
                  <a:lnTo>
                    <a:pt x="4123" y="666"/>
                  </a:lnTo>
                  <a:lnTo>
                    <a:pt x="4139" y="682"/>
                  </a:lnTo>
                  <a:lnTo>
                    <a:pt x="4139" y="729"/>
                  </a:lnTo>
                  <a:lnTo>
                    <a:pt x="4156" y="760"/>
                  </a:lnTo>
                  <a:lnTo>
                    <a:pt x="4156" y="807"/>
                  </a:lnTo>
                  <a:lnTo>
                    <a:pt x="4156" y="838"/>
                  </a:lnTo>
                  <a:lnTo>
                    <a:pt x="4166" y="885"/>
                  </a:lnTo>
                  <a:lnTo>
                    <a:pt x="4166" y="932"/>
                  </a:lnTo>
                  <a:lnTo>
                    <a:pt x="4183" y="979"/>
                  </a:lnTo>
                  <a:lnTo>
                    <a:pt x="4183" y="1015"/>
                  </a:lnTo>
                  <a:lnTo>
                    <a:pt x="4183" y="1047"/>
                  </a:lnTo>
                  <a:lnTo>
                    <a:pt x="4199" y="1078"/>
                  </a:lnTo>
                  <a:lnTo>
                    <a:pt x="4215" y="1093"/>
                  </a:lnTo>
                  <a:lnTo>
                    <a:pt x="4226" y="1078"/>
                  </a:lnTo>
                  <a:lnTo>
                    <a:pt x="4243" y="1062"/>
                  </a:lnTo>
                  <a:lnTo>
                    <a:pt x="4259" y="1062"/>
                  </a:lnTo>
                  <a:lnTo>
                    <a:pt x="4275" y="1078"/>
                  </a:lnTo>
                  <a:lnTo>
                    <a:pt x="4275" y="1093"/>
                  </a:lnTo>
                  <a:lnTo>
                    <a:pt x="4275" y="1109"/>
                  </a:lnTo>
                  <a:lnTo>
                    <a:pt x="4292" y="1140"/>
                  </a:lnTo>
                  <a:lnTo>
                    <a:pt x="4292" y="1172"/>
                  </a:lnTo>
                  <a:lnTo>
                    <a:pt x="4303" y="1218"/>
                  </a:lnTo>
                  <a:lnTo>
                    <a:pt x="4303" y="1250"/>
                  </a:lnTo>
                  <a:lnTo>
                    <a:pt x="4303" y="1312"/>
                  </a:lnTo>
                  <a:lnTo>
                    <a:pt x="4319" y="1359"/>
                  </a:lnTo>
                  <a:lnTo>
                    <a:pt x="4319" y="1427"/>
                  </a:lnTo>
                  <a:lnTo>
                    <a:pt x="4335" y="1474"/>
                  </a:lnTo>
                  <a:lnTo>
                    <a:pt x="4335" y="1521"/>
                  </a:lnTo>
                  <a:lnTo>
                    <a:pt x="4352" y="1567"/>
                  </a:lnTo>
                  <a:lnTo>
                    <a:pt x="4352" y="1614"/>
                  </a:lnTo>
                  <a:lnTo>
                    <a:pt x="4352" y="1646"/>
                  </a:lnTo>
                  <a:lnTo>
                    <a:pt x="4363" y="1661"/>
                  </a:lnTo>
                  <a:lnTo>
                    <a:pt x="4379" y="1677"/>
                  </a:lnTo>
                  <a:lnTo>
                    <a:pt x="4395" y="1677"/>
                  </a:lnTo>
                  <a:lnTo>
                    <a:pt x="4412" y="1692"/>
                  </a:lnTo>
                  <a:lnTo>
                    <a:pt x="4423" y="1708"/>
                  </a:lnTo>
                  <a:lnTo>
                    <a:pt x="4423" y="1724"/>
                  </a:lnTo>
                  <a:lnTo>
                    <a:pt x="4423" y="1760"/>
                  </a:lnTo>
                  <a:lnTo>
                    <a:pt x="4439" y="1807"/>
                  </a:lnTo>
                  <a:lnTo>
                    <a:pt x="4439" y="1854"/>
                  </a:lnTo>
                  <a:lnTo>
                    <a:pt x="4455" y="1901"/>
                  </a:lnTo>
                  <a:lnTo>
                    <a:pt x="4455" y="1963"/>
                  </a:lnTo>
                  <a:lnTo>
                    <a:pt x="4472" y="2026"/>
                  </a:lnTo>
                  <a:lnTo>
                    <a:pt x="4472" y="2104"/>
                  </a:lnTo>
                  <a:lnTo>
                    <a:pt x="4472" y="2187"/>
                  </a:lnTo>
                  <a:lnTo>
                    <a:pt x="4488" y="2265"/>
                  </a:lnTo>
                  <a:lnTo>
                    <a:pt x="4488" y="2344"/>
                  </a:lnTo>
                  <a:lnTo>
                    <a:pt x="4499" y="2422"/>
                  </a:lnTo>
                  <a:lnTo>
                    <a:pt x="4499" y="2505"/>
                  </a:lnTo>
                  <a:lnTo>
                    <a:pt x="4499" y="2552"/>
                  </a:lnTo>
                  <a:lnTo>
                    <a:pt x="4515" y="2583"/>
                  </a:lnTo>
                  <a:lnTo>
                    <a:pt x="4515" y="2614"/>
                  </a:lnTo>
                  <a:lnTo>
                    <a:pt x="4532" y="2630"/>
                  </a:lnTo>
                  <a:lnTo>
                    <a:pt x="4548" y="2646"/>
                  </a:lnTo>
                  <a:lnTo>
                    <a:pt x="4559" y="2661"/>
                  </a:lnTo>
                  <a:lnTo>
                    <a:pt x="4559" y="2693"/>
                  </a:lnTo>
                  <a:lnTo>
                    <a:pt x="4575" y="2739"/>
                  </a:lnTo>
                  <a:lnTo>
                    <a:pt x="4575" y="2786"/>
                  </a:lnTo>
                  <a:lnTo>
                    <a:pt x="4575" y="2849"/>
                  </a:lnTo>
                  <a:lnTo>
                    <a:pt x="4592" y="2932"/>
                  </a:lnTo>
                  <a:lnTo>
                    <a:pt x="4592" y="3026"/>
                  </a:lnTo>
                  <a:lnTo>
                    <a:pt x="4608" y="3151"/>
                  </a:lnTo>
                  <a:lnTo>
                    <a:pt x="4608" y="3297"/>
                  </a:lnTo>
                  <a:lnTo>
                    <a:pt x="4619" y="3454"/>
                  </a:lnTo>
                  <a:lnTo>
                    <a:pt x="4619" y="3662"/>
                  </a:lnTo>
                  <a:lnTo>
                    <a:pt x="4619" y="3881"/>
                  </a:lnTo>
                  <a:lnTo>
                    <a:pt x="4635" y="4152"/>
                  </a:lnTo>
                  <a:lnTo>
                    <a:pt x="4635" y="4392"/>
                  </a:lnTo>
                  <a:lnTo>
                    <a:pt x="4652" y="4485"/>
                  </a:lnTo>
                  <a:lnTo>
                    <a:pt x="4652" y="4392"/>
                  </a:lnTo>
                  <a:lnTo>
                    <a:pt x="4668" y="4215"/>
                  </a:lnTo>
                  <a:lnTo>
                    <a:pt x="4668" y="4058"/>
                  </a:lnTo>
                  <a:lnTo>
                    <a:pt x="4668" y="3928"/>
                  </a:lnTo>
                  <a:lnTo>
                    <a:pt x="4684" y="3850"/>
                  </a:lnTo>
                  <a:lnTo>
                    <a:pt x="4684" y="3787"/>
                  </a:lnTo>
                  <a:lnTo>
                    <a:pt x="4695" y="3756"/>
                  </a:lnTo>
                  <a:lnTo>
                    <a:pt x="4712" y="3787"/>
                  </a:lnTo>
                  <a:lnTo>
                    <a:pt x="4712" y="3834"/>
                  </a:lnTo>
                  <a:lnTo>
                    <a:pt x="4728" y="3881"/>
                  </a:lnTo>
                  <a:lnTo>
                    <a:pt x="4728" y="3944"/>
                  </a:lnTo>
                  <a:lnTo>
                    <a:pt x="4744" y="4027"/>
                  </a:lnTo>
                  <a:lnTo>
                    <a:pt x="4744" y="4090"/>
                  </a:lnTo>
                  <a:lnTo>
                    <a:pt x="4744" y="4152"/>
                  </a:lnTo>
                  <a:lnTo>
                    <a:pt x="4755" y="4215"/>
                  </a:lnTo>
                  <a:lnTo>
                    <a:pt x="4755" y="4261"/>
                  </a:lnTo>
                  <a:lnTo>
                    <a:pt x="4772" y="4277"/>
                  </a:lnTo>
                  <a:lnTo>
                    <a:pt x="4772" y="4293"/>
                  </a:lnTo>
                  <a:lnTo>
                    <a:pt x="4788" y="4308"/>
                  </a:lnTo>
                  <a:lnTo>
                    <a:pt x="4788" y="4324"/>
                  </a:lnTo>
                  <a:lnTo>
                    <a:pt x="4804" y="4340"/>
                  </a:lnTo>
                  <a:lnTo>
                    <a:pt x="4804" y="4392"/>
                  </a:lnTo>
                  <a:lnTo>
                    <a:pt x="4815" y="4439"/>
                  </a:lnTo>
                  <a:lnTo>
                    <a:pt x="4815" y="4501"/>
                  </a:lnTo>
                  <a:lnTo>
                    <a:pt x="4815" y="4595"/>
                  </a:lnTo>
                  <a:lnTo>
                    <a:pt x="4832" y="4689"/>
                  </a:lnTo>
                  <a:lnTo>
                    <a:pt x="4832" y="4788"/>
                  </a:lnTo>
                  <a:lnTo>
                    <a:pt x="4848" y="4866"/>
                  </a:lnTo>
                  <a:lnTo>
                    <a:pt x="4848" y="4897"/>
                  </a:lnTo>
                  <a:lnTo>
                    <a:pt x="4865" y="4866"/>
                  </a:lnTo>
                  <a:lnTo>
                    <a:pt x="4865" y="4803"/>
                  </a:lnTo>
                  <a:lnTo>
                    <a:pt x="4865" y="4704"/>
                  </a:lnTo>
                  <a:lnTo>
                    <a:pt x="4882" y="4610"/>
                  </a:lnTo>
                  <a:lnTo>
                    <a:pt x="4882" y="4532"/>
                  </a:lnTo>
                  <a:lnTo>
                    <a:pt x="4893" y="4470"/>
                  </a:lnTo>
                  <a:lnTo>
                    <a:pt x="4893" y="4423"/>
                  </a:lnTo>
                  <a:lnTo>
                    <a:pt x="4893" y="4392"/>
                  </a:lnTo>
                  <a:lnTo>
                    <a:pt x="4909" y="4376"/>
                  </a:lnTo>
                  <a:lnTo>
                    <a:pt x="4925" y="4407"/>
                  </a:lnTo>
                  <a:lnTo>
                    <a:pt x="4925" y="4439"/>
                  </a:lnTo>
                  <a:lnTo>
                    <a:pt x="4942" y="4485"/>
                  </a:lnTo>
                  <a:lnTo>
                    <a:pt x="4942" y="4548"/>
                  </a:lnTo>
                  <a:lnTo>
                    <a:pt x="4942" y="4626"/>
                  </a:lnTo>
                  <a:lnTo>
                    <a:pt x="4953" y="4704"/>
                  </a:lnTo>
                  <a:lnTo>
                    <a:pt x="4953" y="4772"/>
                  </a:lnTo>
                  <a:lnTo>
                    <a:pt x="4969" y="4803"/>
                  </a:lnTo>
                  <a:lnTo>
                    <a:pt x="4969" y="4772"/>
                  </a:lnTo>
                  <a:lnTo>
                    <a:pt x="4985" y="4704"/>
                  </a:lnTo>
                  <a:lnTo>
                    <a:pt x="4985" y="4642"/>
                  </a:lnTo>
                  <a:lnTo>
                    <a:pt x="5002" y="4595"/>
                  </a:lnTo>
                  <a:lnTo>
                    <a:pt x="5002" y="4548"/>
                  </a:lnTo>
                  <a:lnTo>
                    <a:pt x="5013" y="4517"/>
                  </a:lnTo>
                  <a:lnTo>
                    <a:pt x="5013" y="4501"/>
                  </a:lnTo>
                  <a:lnTo>
                    <a:pt x="5029" y="4532"/>
                  </a:lnTo>
                  <a:lnTo>
                    <a:pt x="5029" y="4579"/>
                  </a:lnTo>
                  <a:lnTo>
                    <a:pt x="5045" y="4642"/>
                  </a:lnTo>
                  <a:lnTo>
                    <a:pt x="5045" y="4741"/>
                  </a:lnTo>
                  <a:lnTo>
                    <a:pt x="5062" y="4866"/>
                  </a:lnTo>
                  <a:lnTo>
                    <a:pt x="5062" y="5022"/>
                  </a:lnTo>
                  <a:lnTo>
                    <a:pt x="5062" y="5183"/>
                  </a:lnTo>
                  <a:lnTo>
                    <a:pt x="5078" y="5277"/>
                  </a:lnTo>
                  <a:lnTo>
                    <a:pt x="5078" y="5262"/>
                  </a:lnTo>
                  <a:lnTo>
                    <a:pt x="5089" y="5137"/>
                  </a:lnTo>
                  <a:lnTo>
                    <a:pt x="5089" y="4944"/>
                  </a:lnTo>
                  <a:lnTo>
                    <a:pt x="5089" y="4788"/>
                  </a:lnTo>
                  <a:lnTo>
                    <a:pt x="5105" y="4626"/>
                  </a:lnTo>
                  <a:lnTo>
                    <a:pt x="5105" y="4517"/>
                  </a:lnTo>
                  <a:lnTo>
                    <a:pt x="5122" y="4423"/>
                  </a:lnTo>
                  <a:lnTo>
                    <a:pt x="5122" y="4355"/>
                  </a:lnTo>
                  <a:lnTo>
                    <a:pt x="5138" y="4308"/>
                  </a:lnTo>
                  <a:lnTo>
                    <a:pt x="5138" y="4277"/>
                  </a:lnTo>
                  <a:lnTo>
                    <a:pt x="5138" y="4261"/>
                  </a:lnTo>
                  <a:lnTo>
                    <a:pt x="5149" y="4277"/>
                  </a:lnTo>
                  <a:lnTo>
                    <a:pt x="5149" y="4308"/>
                  </a:lnTo>
                  <a:lnTo>
                    <a:pt x="5165" y="4376"/>
                  </a:lnTo>
                  <a:lnTo>
                    <a:pt x="5165" y="4454"/>
                  </a:lnTo>
                  <a:lnTo>
                    <a:pt x="5165" y="4564"/>
                  </a:lnTo>
                  <a:lnTo>
                    <a:pt x="5182" y="4704"/>
                  </a:lnTo>
                  <a:lnTo>
                    <a:pt x="5182" y="4913"/>
                  </a:lnTo>
                  <a:lnTo>
                    <a:pt x="5198" y="5199"/>
                  </a:lnTo>
                  <a:lnTo>
                    <a:pt x="5198" y="5579"/>
                  </a:lnTo>
                  <a:lnTo>
                    <a:pt x="5209" y="6022"/>
                  </a:lnTo>
                  <a:lnTo>
                    <a:pt x="5209" y="5881"/>
                  </a:lnTo>
                  <a:lnTo>
                    <a:pt x="5209" y="5418"/>
                  </a:lnTo>
                  <a:lnTo>
                    <a:pt x="5225" y="5084"/>
                  </a:lnTo>
                  <a:lnTo>
                    <a:pt x="5225" y="4850"/>
                  </a:lnTo>
                  <a:lnTo>
                    <a:pt x="5242" y="4673"/>
                  </a:lnTo>
                  <a:lnTo>
                    <a:pt x="5242" y="4548"/>
                  </a:lnTo>
                  <a:lnTo>
                    <a:pt x="5258" y="4454"/>
                  </a:lnTo>
                  <a:lnTo>
                    <a:pt x="5258" y="4392"/>
                  </a:lnTo>
                  <a:lnTo>
                    <a:pt x="5258" y="4340"/>
                  </a:lnTo>
                  <a:lnTo>
                    <a:pt x="5274" y="4324"/>
                  </a:lnTo>
                  <a:lnTo>
                    <a:pt x="5274" y="4340"/>
                  </a:lnTo>
                  <a:lnTo>
                    <a:pt x="5285" y="4376"/>
                  </a:lnTo>
                  <a:lnTo>
                    <a:pt x="5285" y="4423"/>
                  </a:lnTo>
                  <a:lnTo>
                    <a:pt x="5285" y="4501"/>
                  </a:lnTo>
                  <a:lnTo>
                    <a:pt x="5302" y="4610"/>
                  </a:lnTo>
                  <a:lnTo>
                    <a:pt x="5302" y="4756"/>
                  </a:lnTo>
                  <a:lnTo>
                    <a:pt x="5318" y="4944"/>
                  </a:lnTo>
                  <a:lnTo>
                    <a:pt x="5318" y="5215"/>
                  </a:lnTo>
                  <a:lnTo>
                    <a:pt x="5334" y="5548"/>
                  </a:lnTo>
                  <a:lnTo>
                    <a:pt x="5334" y="5866"/>
                  </a:lnTo>
                  <a:lnTo>
                    <a:pt x="5334" y="5736"/>
                  </a:lnTo>
                  <a:lnTo>
                    <a:pt x="5345" y="5371"/>
                  </a:lnTo>
                  <a:lnTo>
                    <a:pt x="5345" y="5084"/>
                  </a:lnTo>
                  <a:lnTo>
                    <a:pt x="5362" y="4866"/>
                  </a:lnTo>
                  <a:lnTo>
                    <a:pt x="5362" y="4689"/>
                  </a:lnTo>
                  <a:lnTo>
                    <a:pt x="5362" y="4579"/>
                  </a:lnTo>
                  <a:lnTo>
                    <a:pt x="5378" y="4485"/>
                  </a:lnTo>
                  <a:lnTo>
                    <a:pt x="5378" y="4423"/>
                  </a:lnTo>
                  <a:lnTo>
                    <a:pt x="5394" y="4392"/>
                  </a:lnTo>
                  <a:lnTo>
                    <a:pt x="5394" y="4376"/>
                  </a:lnTo>
                  <a:lnTo>
                    <a:pt x="5405" y="4392"/>
                  </a:lnTo>
                  <a:lnTo>
                    <a:pt x="5405" y="4423"/>
                  </a:lnTo>
                  <a:lnTo>
                    <a:pt x="5405" y="4485"/>
                  </a:lnTo>
                  <a:lnTo>
                    <a:pt x="5422" y="4564"/>
                  </a:lnTo>
                  <a:lnTo>
                    <a:pt x="5422" y="4673"/>
                  </a:lnTo>
                  <a:lnTo>
                    <a:pt x="5438" y="4834"/>
                  </a:lnTo>
                  <a:lnTo>
                    <a:pt x="5438" y="5053"/>
                  </a:lnTo>
                  <a:lnTo>
                    <a:pt x="5454" y="5340"/>
                  </a:lnTo>
                  <a:lnTo>
                    <a:pt x="5454" y="5704"/>
                  </a:lnTo>
                  <a:lnTo>
                    <a:pt x="5454" y="5960"/>
                  </a:lnTo>
                  <a:lnTo>
                    <a:pt x="5465" y="5720"/>
                  </a:lnTo>
                  <a:lnTo>
                    <a:pt x="5465" y="5355"/>
                  </a:lnTo>
                  <a:lnTo>
                    <a:pt x="5482" y="5069"/>
                  </a:lnTo>
                  <a:lnTo>
                    <a:pt x="5482" y="4866"/>
                  </a:lnTo>
                  <a:lnTo>
                    <a:pt x="5482" y="4704"/>
                  </a:lnTo>
                  <a:lnTo>
                    <a:pt x="5498" y="4595"/>
                  </a:lnTo>
                  <a:lnTo>
                    <a:pt x="5498" y="4501"/>
                  </a:lnTo>
                  <a:lnTo>
                    <a:pt x="5514" y="4454"/>
                  </a:lnTo>
                  <a:lnTo>
                    <a:pt x="5514" y="4423"/>
                  </a:lnTo>
                  <a:lnTo>
                    <a:pt x="5531" y="4439"/>
                  </a:lnTo>
                  <a:lnTo>
                    <a:pt x="5531" y="4470"/>
                  </a:lnTo>
                  <a:lnTo>
                    <a:pt x="5542" y="4532"/>
                  </a:lnTo>
                  <a:lnTo>
                    <a:pt x="5542" y="4626"/>
                  </a:lnTo>
                  <a:lnTo>
                    <a:pt x="5558" y="4772"/>
                  </a:lnTo>
                  <a:lnTo>
                    <a:pt x="5558" y="4944"/>
                  </a:lnTo>
                  <a:lnTo>
                    <a:pt x="5558" y="5199"/>
                  </a:lnTo>
                  <a:lnTo>
                    <a:pt x="5574" y="5564"/>
                  </a:lnTo>
                  <a:lnTo>
                    <a:pt x="5574" y="6100"/>
                  </a:lnTo>
                  <a:lnTo>
                    <a:pt x="5591" y="6324"/>
                  </a:lnTo>
                  <a:lnTo>
                    <a:pt x="5591" y="5736"/>
                  </a:lnTo>
                  <a:lnTo>
                    <a:pt x="5601" y="5308"/>
                  </a:lnTo>
                  <a:lnTo>
                    <a:pt x="5601" y="5022"/>
                  </a:lnTo>
                  <a:lnTo>
                    <a:pt x="5601" y="4819"/>
                  </a:lnTo>
                  <a:lnTo>
                    <a:pt x="5618" y="4673"/>
                  </a:lnTo>
                  <a:lnTo>
                    <a:pt x="5618" y="4564"/>
                  </a:lnTo>
                  <a:lnTo>
                    <a:pt x="5634" y="4485"/>
                  </a:lnTo>
                  <a:lnTo>
                    <a:pt x="5634" y="4439"/>
                  </a:lnTo>
                  <a:lnTo>
                    <a:pt x="5651" y="4407"/>
                  </a:lnTo>
                  <a:lnTo>
                    <a:pt x="5651" y="4392"/>
                  </a:lnTo>
                  <a:lnTo>
                    <a:pt x="5651" y="4407"/>
                  </a:lnTo>
                  <a:lnTo>
                    <a:pt x="5661" y="4454"/>
                  </a:lnTo>
                  <a:lnTo>
                    <a:pt x="5661" y="4517"/>
                  </a:lnTo>
                  <a:lnTo>
                    <a:pt x="5678" y="4595"/>
                  </a:lnTo>
                  <a:lnTo>
                    <a:pt x="5678" y="4720"/>
                  </a:lnTo>
                  <a:lnTo>
                    <a:pt x="5678" y="4897"/>
                  </a:lnTo>
                  <a:lnTo>
                    <a:pt x="5694" y="5121"/>
                  </a:lnTo>
                  <a:lnTo>
                    <a:pt x="5694" y="5449"/>
                  </a:lnTo>
                  <a:lnTo>
                    <a:pt x="5711" y="5975"/>
                  </a:lnTo>
                  <a:lnTo>
                    <a:pt x="5711" y="6611"/>
                  </a:lnTo>
                  <a:lnTo>
                    <a:pt x="5727" y="6022"/>
                  </a:lnTo>
                  <a:lnTo>
                    <a:pt x="5727" y="5480"/>
                  </a:lnTo>
                  <a:lnTo>
                    <a:pt x="5727" y="5152"/>
                  </a:lnTo>
                  <a:lnTo>
                    <a:pt x="5738" y="4928"/>
                  </a:lnTo>
                  <a:lnTo>
                    <a:pt x="5738" y="4772"/>
                  </a:lnTo>
                  <a:lnTo>
                    <a:pt x="5754" y="4642"/>
                  </a:lnTo>
                  <a:lnTo>
                    <a:pt x="5754" y="4564"/>
                  </a:lnTo>
                  <a:lnTo>
                    <a:pt x="5754" y="4501"/>
                  </a:lnTo>
                  <a:lnTo>
                    <a:pt x="5771" y="4470"/>
                  </a:lnTo>
                  <a:lnTo>
                    <a:pt x="5771" y="4454"/>
                  </a:lnTo>
                  <a:lnTo>
                    <a:pt x="5787" y="4470"/>
                  </a:lnTo>
                  <a:lnTo>
                    <a:pt x="5787" y="4501"/>
                  </a:lnTo>
                  <a:lnTo>
                    <a:pt x="5798" y="4564"/>
                  </a:lnTo>
                  <a:lnTo>
                    <a:pt x="5798" y="4657"/>
                  </a:lnTo>
                  <a:lnTo>
                    <a:pt x="5798" y="4772"/>
                  </a:lnTo>
                  <a:lnTo>
                    <a:pt x="5814" y="4928"/>
                  </a:lnTo>
                  <a:lnTo>
                    <a:pt x="5814" y="5152"/>
                  </a:lnTo>
                  <a:lnTo>
                    <a:pt x="5831" y="5449"/>
                  </a:lnTo>
                  <a:lnTo>
                    <a:pt x="5831" y="5881"/>
                  </a:lnTo>
                  <a:lnTo>
                    <a:pt x="5847" y="6246"/>
                  </a:lnTo>
                  <a:lnTo>
                    <a:pt x="5847" y="5913"/>
                  </a:lnTo>
                  <a:lnTo>
                    <a:pt x="5847" y="5501"/>
                  </a:lnTo>
                  <a:lnTo>
                    <a:pt x="5858" y="5183"/>
                  </a:lnTo>
                  <a:lnTo>
                    <a:pt x="5858" y="4975"/>
                  </a:lnTo>
                  <a:lnTo>
                    <a:pt x="5874" y="4819"/>
                  </a:lnTo>
                  <a:lnTo>
                    <a:pt x="5874" y="4689"/>
                  </a:lnTo>
                  <a:lnTo>
                    <a:pt x="5874" y="4610"/>
                  </a:lnTo>
                  <a:lnTo>
                    <a:pt x="5890" y="4564"/>
                  </a:lnTo>
                  <a:lnTo>
                    <a:pt x="5890" y="4532"/>
                  </a:lnTo>
                  <a:lnTo>
                    <a:pt x="5907" y="4517"/>
                  </a:lnTo>
                  <a:lnTo>
                    <a:pt x="5907" y="4532"/>
                  </a:lnTo>
                  <a:lnTo>
                    <a:pt x="5923" y="4564"/>
                  </a:lnTo>
                  <a:lnTo>
                    <a:pt x="5923" y="4626"/>
                  </a:lnTo>
                  <a:lnTo>
                    <a:pt x="5923" y="4720"/>
                  </a:lnTo>
                  <a:lnTo>
                    <a:pt x="5934" y="4850"/>
                  </a:lnTo>
                  <a:lnTo>
                    <a:pt x="5934" y="5006"/>
                  </a:lnTo>
                  <a:lnTo>
                    <a:pt x="5950" y="5230"/>
                  </a:lnTo>
                  <a:lnTo>
                    <a:pt x="5950" y="5532"/>
                  </a:lnTo>
                  <a:lnTo>
                    <a:pt x="5950" y="5897"/>
                  </a:lnTo>
                  <a:lnTo>
                    <a:pt x="5967" y="6069"/>
                  </a:lnTo>
                  <a:lnTo>
                    <a:pt x="5967" y="5767"/>
                  </a:lnTo>
                  <a:lnTo>
                    <a:pt x="5983" y="5433"/>
                  </a:lnTo>
                  <a:lnTo>
                    <a:pt x="5983" y="5168"/>
                  </a:lnTo>
                  <a:lnTo>
                    <a:pt x="5994" y="4975"/>
                  </a:lnTo>
                  <a:lnTo>
                    <a:pt x="5994" y="4819"/>
                  </a:lnTo>
                  <a:lnTo>
                    <a:pt x="5994" y="4720"/>
                  </a:lnTo>
                  <a:lnTo>
                    <a:pt x="6010" y="4642"/>
                  </a:lnTo>
                  <a:lnTo>
                    <a:pt x="6010" y="4595"/>
                  </a:lnTo>
                  <a:lnTo>
                    <a:pt x="6027" y="4564"/>
                  </a:lnTo>
                  <a:lnTo>
                    <a:pt x="6043" y="4595"/>
                  </a:lnTo>
                  <a:lnTo>
                    <a:pt x="6043" y="4642"/>
                  </a:lnTo>
                  <a:lnTo>
                    <a:pt x="6043" y="4704"/>
                  </a:lnTo>
                  <a:lnTo>
                    <a:pt x="6054" y="4819"/>
                  </a:lnTo>
                  <a:lnTo>
                    <a:pt x="6054" y="4944"/>
                  </a:lnTo>
                  <a:lnTo>
                    <a:pt x="6070" y="5137"/>
                  </a:lnTo>
                  <a:lnTo>
                    <a:pt x="6070" y="5387"/>
                  </a:lnTo>
                  <a:lnTo>
                    <a:pt x="6070" y="5720"/>
                  </a:lnTo>
                  <a:lnTo>
                    <a:pt x="6087" y="6053"/>
                  </a:lnTo>
                  <a:lnTo>
                    <a:pt x="6087" y="6006"/>
                  </a:lnTo>
                  <a:lnTo>
                    <a:pt x="6103" y="5642"/>
                  </a:lnTo>
                  <a:lnTo>
                    <a:pt x="6103" y="5324"/>
                  </a:lnTo>
                  <a:lnTo>
                    <a:pt x="6119" y="5084"/>
                  </a:lnTo>
                  <a:lnTo>
                    <a:pt x="6119" y="4913"/>
                  </a:lnTo>
                  <a:lnTo>
                    <a:pt x="6119" y="4788"/>
                  </a:lnTo>
                  <a:lnTo>
                    <a:pt x="6130" y="4689"/>
                  </a:lnTo>
                  <a:lnTo>
                    <a:pt x="6130" y="4626"/>
                  </a:lnTo>
                  <a:lnTo>
                    <a:pt x="6147" y="4579"/>
                  </a:lnTo>
                  <a:lnTo>
                    <a:pt x="6147" y="4564"/>
                  </a:lnTo>
                  <a:lnTo>
                    <a:pt x="6163" y="4595"/>
                  </a:lnTo>
                  <a:lnTo>
                    <a:pt x="6163" y="4642"/>
                  </a:lnTo>
                  <a:lnTo>
                    <a:pt x="6179" y="4720"/>
                  </a:lnTo>
                  <a:lnTo>
                    <a:pt x="6179" y="4834"/>
                  </a:lnTo>
                  <a:lnTo>
                    <a:pt x="6190" y="4975"/>
                  </a:lnTo>
                  <a:lnTo>
                    <a:pt x="6190" y="5183"/>
                  </a:lnTo>
                  <a:lnTo>
                    <a:pt x="6190" y="5449"/>
                  </a:lnTo>
                  <a:lnTo>
                    <a:pt x="6207" y="5829"/>
                  </a:lnTo>
                  <a:lnTo>
                    <a:pt x="6207" y="6194"/>
                  </a:lnTo>
                  <a:lnTo>
                    <a:pt x="6223" y="6038"/>
                  </a:lnTo>
                  <a:lnTo>
                    <a:pt x="6223" y="5626"/>
                  </a:lnTo>
                  <a:lnTo>
                    <a:pt x="6239" y="5308"/>
                  </a:lnTo>
                  <a:lnTo>
                    <a:pt x="6239" y="5069"/>
                  </a:lnTo>
                  <a:lnTo>
                    <a:pt x="6239" y="4897"/>
                  </a:lnTo>
                  <a:lnTo>
                    <a:pt x="6250" y="4772"/>
                  </a:lnTo>
                  <a:lnTo>
                    <a:pt x="6250" y="4689"/>
                  </a:lnTo>
                  <a:lnTo>
                    <a:pt x="6267" y="4626"/>
                  </a:lnTo>
                  <a:lnTo>
                    <a:pt x="6267" y="4579"/>
                  </a:lnTo>
                  <a:lnTo>
                    <a:pt x="6267" y="4564"/>
                  </a:lnTo>
                  <a:lnTo>
                    <a:pt x="6283" y="4579"/>
                  </a:lnTo>
                  <a:lnTo>
                    <a:pt x="6283" y="4610"/>
                  </a:lnTo>
                  <a:lnTo>
                    <a:pt x="6299" y="4657"/>
                  </a:lnTo>
                  <a:lnTo>
                    <a:pt x="6299" y="4741"/>
                  </a:lnTo>
                  <a:lnTo>
                    <a:pt x="6316" y="4850"/>
                  </a:lnTo>
                  <a:lnTo>
                    <a:pt x="6316" y="5006"/>
                  </a:lnTo>
                  <a:lnTo>
                    <a:pt x="6316" y="5215"/>
                  </a:lnTo>
                  <a:lnTo>
                    <a:pt x="6327" y="5501"/>
                  </a:lnTo>
                  <a:lnTo>
                    <a:pt x="6327" y="5881"/>
                  </a:lnTo>
                  <a:lnTo>
                    <a:pt x="6343" y="6246"/>
                  </a:lnTo>
                  <a:lnTo>
                    <a:pt x="6343" y="6006"/>
                  </a:lnTo>
                  <a:lnTo>
                    <a:pt x="6343" y="5595"/>
                  </a:lnTo>
                  <a:lnTo>
                    <a:pt x="6359" y="5293"/>
                  </a:lnTo>
                  <a:lnTo>
                    <a:pt x="6359" y="5053"/>
                  </a:lnTo>
                  <a:lnTo>
                    <a:pt x="6376" y="4897"/>
                  </a:lnTo>
                  <a:lnTo>
                    <a:pt x="6376" y="4772"/>
                  </a:lnTo>
                  <a:lnTo>
                    <a:pt x="6387" y="4689"/>
                  </a:lnTo>
                  <a:lnTo>
                    <a:pt x="6387" y="4626"/>
                  </a:lnTo>
                  <a:lnTo>
                    <a:pt x="6387" y="4579"/>
                  </a:lnTo>
                  <a:lnTo>
                    <a:pt x="6403" y="4579"/>
                  </a:lnTo>
                  <a:lnTo>
                    <a:pt x="6419" y="4610"/>
                  </a:lnTo>
                  <a:lnTo>
                    <a:pt x="6419" y="4673"/>
                  </a:lnTo>
                  <a:lnTo>
                    <a:pt x="6436" y="4756"/>
                  </a:lnTo>
                  <a:lnTo>
                    <a:pt x="6436" y="4881"/>
                  </a:lnTo>
                  <a:lnTo>
                    <a:pt x="6436" y="5038"/>
                  </a:lnTo>
                  <a:lnTo>
                    <a:pt x="6447" y="5246"/>
                  </a:lnTo>
                  <a:lnTo>
                    <a:pt x="6447" y="5548"/>
                  </a:lnTo>
                  <a:lnTo>
                    <a:pt x="6463" y="5944"/>
                  </a:lnTo>
                  <a:lnTo>
                    <a:pt x="6463" y="6277"/>
                  </a:lnTo>
                  <a:lnTo>
                    <a:pt x="6463" y="5975"/>
                  </a:lnTo>
                  <a:lnTo>
                    <a:pt x="6479" y="5564"/>
                  </a:lnTo>
                  <a:lnTo>
                    <a:pt x="6479" y="526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255760" y="5562720"/>
              <a:ext cx="42372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 (MHz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816120" y="4170240"/>
              <a:ext cx="262080" cy="168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2082960" y="2651040"/>
              <a:ext cx="66204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W Freq Respons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 txBox="1"/>
          <p:nvPr/>
        </p:nvSpPr>
        <p:spPr>
          <a:xfrm>
            <a:off x="1584360" y="2239920"/>
            <a:ext cx="201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q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660680" y="547560"/>
            <a:ext cx="595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W FILTER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432080" y="1203480"/>
            <a:ext cx="5437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btained from lab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echo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7" name=""/>
          <p:cNvGrpSpPr/>
          <p:nvPr/>
        </p:nvGrpSpPr>
        <p:grpSpPr>
          <a:xfrm>
            <a:off x="2209680" y="1722600"/>
            <a:ext cx="3886200" cy="2773080"/>
            <a:chOff x="2209680" y="1722600"/>
            <a:chExt cx="3886200" cy="2773080"/>
          </a:xfrm>
        </p:grpSpPr>
        <p:sp>
          <p:nvSpPr>
            <p:cNvPr id="3888" name=""/>
            <p:cNvSpPr/>
            <p:nvPr/>
          </p:nvSpPr>
          <p:spPr>
            <a:xfrm flipV="1">
              <a:off x="2819520" y="2666880"/>
              <a:ext cx="2590560" cy="1143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2819520" y="3048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2209680" y="380988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5410080" y="190512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4800600" y="26668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 flipV="1">
              <a:off x="3809880" y="259092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 flipV="1">
              <a:off x="4114800" y="2819520"/>
              <a:ext cx="7632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4419720" y="3124080"/>
              <a:ext cx="380880" cy="76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H="1" flipV="1">
              <a:off x="3429000" y="3048120"/>
              <a:ext cx="152280" cy="4572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 flipH="1" flipV="1">
              <a:off x="4495680" y="2971800"/>
              <a:ext cx="152640" cy="763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 txBox="1"/>
            <p:nvPr/>
          </p:nvSpPr>
          <p:spPr>
            <a:xfrm>
              <a:off x="3260880" y="3855960"/>
              <a:ext cx="5824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 txBox="1"/>
            <p:nvPr/>
          </p:nvSpPr>
          <p:spPr>
            <a:xfrm>
              <a:off x="2422440" y="2789280"/>
              <a:ext cx="5983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 txBox="1"/>
            <p:nvPr/>
          </p:nvSpPr>
          <p:spPr>
            <a:xfrm>
              <a:off x="3260880" y="1722600"/>
              <a:ext cx="103032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UL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PON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H="1">
              <a:off x="4800600" y="2895480"/>
              <a:ext cx="7632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V="1">
              <a:off x="4343400" y="3505320"/>
              <a:ext cx="114300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 txBox="1"/>
            <p:nvPr/>
          </p:nvSpPr>
          <p:spPr>
            <a:xfrm>
              <a:off x="4861080" y="3932280"/>
              <a:ext cx="4968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4" name=""/>
          <p:cNvGrpSpPr/>
          <p:nvPr/>
        </p:nvGrpSpPr>
        <p:grpSpPr>
          <a:xfrm>
            <a:off x="1050840" y="2727360"/>
            <a:ext cx="7026480" cy="2470320"/>
            <a:chOff x="1050840" y="2727360"/>
            <a:chExt cx="7026480" cy="2470320"/>
          </a:xfrm>
        </p:grpSpPr>
        <p:sp>
          <p:nvSpPr>
            <p:cNvPr id="3905" name=""/>
            <p:cNvSpPr/>
            <p:nvPr/>
          </p:nvSpPr>
          <p:spPr>
            <a:xfrm>
              <a:off x="2286000" y="29718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2362320" y="304812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H="1">
              <a:off x="2362320" y="3048120"/>
              <a:ext cx="1522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1752480" y="3124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V="1">
              <a:off x="2438280" y="32767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038480" y="3124080"/>
              <a:ext cx="1752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 txBox="1"/>
            <p:nvPr/>
          </p:nvSpPr>
          <p:spPr>
            <a:xfrm>
              <a:off x="4708440" y="3475080"/>
              <a:ext cx="92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4724280" y="3429000"/>
              <a:ext cx="91440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181480" y="31240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 txBox="1"/>
            <p:nvPr/>
          </p:nvSpPr>
          <p:spPr>
            <a:xfrm>
              <a:off x="5775480" y="286560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LS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RR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 txBox="1"/>
            <p:nvPr/>
          </p:nvSpPr>
          <p:spPr>
            <a:xfrm>
              <a:off x="7147080" y="2865600"/>
              <a:ext cx="92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MB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5791320" y="2819520"/>
              <a:ext cx="91440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7086600" y="2819520"/>
              <a:ext cx="9907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6705720" y="3124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343400" y="47242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419720" y="487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4495680" y="48006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4495680" y="312408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5181480" y="3962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H="1">
              <a:off x="4648320" y="48769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 txBox="1"/>
            <p:nvPr/>
          </p:nvSpPr>
          <p:spPr>
            <a:xfrm>
              <a:off x="2117880" y="4465800"/>
              <a:ext cx="87804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GC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RRI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2057400" y="4419720"/>
              <a:ext cx="9144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H="1">
              <a:off x="2971800" y="48769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 txBox="1"/>
            <p:nvPr/>
          </p:nvSpPr>
          <p:spPr>
            <a:xfrm>
              <a:off x="4708440" y="4923000"/>
              <a:ext cx="235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 txBox="1"/>
            <p:nvPr/>
          </p:nvSpPr>
          <p:spPr>
            <a:xfrm>
              <a:off x="4251240" y="431316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 txBox="1"/>
            <p:nvPr/>
          </p:nvSpPr>
          <p:spPr>
            <a:xfrm>
              <a:off x="1050840" y="3017880"/>
              <a:ext cx="5572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/Q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 txBox="1"/>
            <p:nvPr/>
          </p:nvSpPr>
          <p:spPr>
            <a:xfrm>
              <a:off x="3336840" y="4923000"/>
              <a:ext cx="5572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rr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 txBox="1"/>
            <p:nvPr/>
          </p:nvSpPr>
          <p:spPr>
            <a:xfrm>
              <a:off x="3641760" y="3855960"/>
              <a:ext cx="430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581280" y="3809880"/>
              <a:ext cx="60948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733920" y="29718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809880" y="3124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3886200" y="304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590920" y="3124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 flipH="1">
              <a:off x="4191120" y="4191120"/>
              <a:ext cx="990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V="1">
              <a:off x="3886200" y="3276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 txBox="1"/>
            <p:nvPr/>
          </p:nvSpPr>
          <p:spPr>
            <a:xfrm>
              <a:off x="2955960" y="2941560"/>
              <a:ext cx="430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895480" y="2895480"/>
              <a:ext cx="609480" cy="533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3505320" y="31240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 txBox="1"/>
            <p:nvPr/>
          </p:nvSpPr>
          <p:spPr>
            <a:xfrm>
              <a:off x="3489480" y="2789280"/>
              <a:ext cx="272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 txBox="1"/>
            <p:nvPr/>
          </p:nvSpPr>
          <p:spPr>
            <a:xfrm>
              <a:off x="3946680" y="3274920"/>
              <a:ext cx="252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 txBox="1"/>
            <p:nvPr/>
          </p:nvSpPr>
          <p:spPr>
            <a:xfrm>
              <a:off x="5927760" y="2727360"/>
              <a:ext cx="5572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 txBox="1"/>
            <p:nvPr/>
          </p:nvSpPr>
          <p:spPr>
            <a:xfrm>
              <a:off x="7299360" y="2727360"/>
              <a:ext cx="55728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181480" y="419112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 txBox="1"/>
            <p:nvPr/>
          </p:nvSpPr>
          <p:spPr>
            <a:xfrm>
              <a:off x="6918480" y="3780000"/>
              <a:ext cx="920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MB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9" name=""/>
          <p:cNvSpPr txBox="1"/>
          <p:nvPr/>
        </p:nvSpPr>
        <p:spPr>
          <a:xfrm>
            <a:off x="1355760" y="1081080"/>
            <a:ext cx="6881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UTION TO HIGHER DATA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5257800" y="3179880"/>
            <a:ext cx="2923920" cy="2798640"/>
            <a:chOff x="5257800" y="3179880"/>
            <a:chExt cx="2923920" cy="2798640"/>
          </a:xfrm>
        </p:grpSpPr>
        <p:sp>
          <p:nvSpPr>
            <p:cNvPr id="310" name=""/>
            <p:cNvSpPr/>
            <p:nvPr/>
          </p:nvSpPr>
          <p:spPr>
            <a:xfrm>
              <a:off x="5410080" y="3200400"/>
              <a:ext cx="2771640" cy="2778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65760" y="3405240"/>
              <a:ext cx="2145240" cy="2257560"/>
            </a:xfrm>
            <a:custGeom>
              <a:avLst/>
              <a:gdLst/>
              <a:ahLst/>
              <a:rect l="0" t="0" r="r" b="b"/>
              <a:pathLst>
                <a:path w="5959" h="6271">
                  <a:moveTo>
                    <a:pt x="0" y="6271"/>
                  </a:moveTo>
                  <a:lnTo>
                    <a:pt x="0" y="0"/>
                  </a:lnTo>
                  <a:lnTo>
                    <a:pt x="5959" y="0"/>
                  </a:lnTo>
                  <a:lnTo>
                    <a:pt x="5959" y="6271"/>
                  </a:lnTo>
                  <a:lnTo>
                    <a:pt x="0" y="62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65760" y="3405240"/>
              <a:ext cx="2145240" cy="2257560"/>
            </a:xfrm>
            <a:custGeom>
              <a:avLst/>
              <a:gdLst/>
              <a:ahLst/>
              <a:rect l="0" t="0" r="r" b="b"/>
              <a:pathLst>
                <a:path fill="none" w="5959" h="6271">
                  <a:moveTo>
                    <a:pt x="0" y="6271"/>
                  </a:moveTo>
                  <a:lnTo>
                    <a:pt x="0" y="0"/>
                  </a:lnTo>
                  <a:lnTo>
                    <a:pt x="5959" y="0"/>
                  </a:lnTo>
                  <a:lnTo>
                    <a:pt x="5959" y="6271"/>
                  </a:lnTo>
                  <a:lnTo>
                    <a:pt x="0" y="627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76576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12288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47856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84216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19784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755496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791064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765760" y="566244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65760" y="528948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65760" y="490860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765760" y="453384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65760" y="416088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65760" y="378000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65760" y="340524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765760" y="566244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65760" y="340524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76576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791064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65760" y="566244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76576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765760" y="564048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65760" y="3405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5589720" y="564372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122880" y="564048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22880" y="3405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5985000" y="5643720"/>
              <a:ext cx="263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478560" y="564048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78560" y="3405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 txBox="1"/>
            <p:nvPr/>
          </p:nvSpPr>
          <p:spPr>
            <a:xfrm>
              <a:off x="6302520" y="564372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6842160" y="564048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842160" y="3405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 txBox="1"/>
            <p:nvPr/>
          </p:nvSpPr>
          <p:spPr>
            <a:xfrm>
              <a:off x="6730920" y="56437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7197840" y="564048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197840" y="3405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7048440" y="564372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7554960" y="564048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54960" y="3405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 txBox="1"/>
            <p:nvPr/>
          </p:nvSpPr>
          <p:spPr>
            <a:xfrm>
              <a:off x="7442280" y="56437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910640" y="564048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10640" y="3405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7759800" y="564372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65760" y="566244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7891560" y="56624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5505480" y="555480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65760" y="528948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91560" y="52894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5576760" y="5181480"/>
              <a:ext cx="263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65760" y="490860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91560" y="49086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 txBox="1"/>
            <p:nvPr/>
          </p:nvSpPr>
          <p:spPr>
            <a:xfrm>
              <a:off x="5505480" y="480060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65760" y="453384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891560" y="45338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 txBox="1"/>
            <p:nvPr/>
          </p:nvSpPr>
          <p:spPr>
            <a:xfrm>
              <a:off x="5603760" y="44258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65760" y="416088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891560" y="41608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 txBox="1"/>
            <p:nvPr/>
          </p:nvSpPr>
          <p:spPr>
            <a:xfrm>
              <a:off x="5532480" y="405288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765760" y="378000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7891560" y="37800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5603760" y="36720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65760" y="340524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891560" y="34052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5532480" y="329724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65760" y="566244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65760" y="3405240"/>
              <a:ext cx="2144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6576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910640" y="3405240"/>
              <a:ext cx="0" cy="225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12200" y="53848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7612200" y="53848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31120" y="5062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7431120" y="5062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32520" y="358920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032520" y="358920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70680" y="3763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6070680" y="3763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75440" y="3749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6175440" y="3749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32720" y="3763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7632720" y="3763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327800" y="385272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7327800" y="385272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26040" y="53546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026040" y="53546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00640" y="51134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200640" y="51134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29360" y="36990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6129360" y="36990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58080" y="379404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058080" y="379404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194520" y="39258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6194520" y="39258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464600" y="536256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464600" y="536256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07120" y="50403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6207120" y="50403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19920" y="387504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819920" y="387504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34280" y="54072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334280" y="54072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32680" y="5040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6232680" y="5040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02400" y="385272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502400" y="385272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57920" y="539892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5857920" y="539892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29520" y="51274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329520" y="51274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64400" y="36990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7664400" y="36990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59480" y="36687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7359480" y="36687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167520" y="3676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167520" y="3676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6080" y="3727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696080" y="3727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489800" y="39117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489800" y="39117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32720" y="52592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632720" y="52592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58280" y="362592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658280" y="362592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05560" y="396252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405560" y="396252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15160" y="53989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5915160" y="53989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129360" y="5164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6129360" y="5164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58080" y="370692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058080" y="370692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38800" y="38307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6238800" y="38307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6240" y="3925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626240" y="3925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21480" y="53481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521480" y="53481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08880" y="49957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508880" y="49957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039000" y="38084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6039000" y="38084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91360" y="53262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291360" y="53262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437600" y="3808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437600" y="3808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902200" y="523728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5902200" y="523728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110280" y="37432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6110280" y="37432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13600" y="5522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213600" y="5522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96280" y="52308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496280" y="52308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48440" y="53481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6148440" y="53481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754760" y="53038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7754760" y="53038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80160" y="510552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580160" y="510552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9240" y="37576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7599240" y="37576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21480" y="52372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521480" y="52372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72440" y="36846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372440" y="36846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83120" y="54579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5883120" y="54579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38800" y="53323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6238800" y="53323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02400" y="52228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7502400" y="52228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954760" y="358128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5954760" y="358128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103800" y="37576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6103800" y="37576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67360" y="3844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5967360" y="3844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38800" y="52308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238800" y="52308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723080" y="36259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7723080" y="36259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0160" y="39560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580160" y="39560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431120" y="53118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431120" y="53118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32680" y="5083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6232680" y="5083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61240" y="36990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7761240" y="36990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508880" y="380196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508880" y="380196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399440" y="36622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7399440" y="36622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35680" y="366876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5935680" y="366876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78400" y="3763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6278400" y="3763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18320" y="403560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618320" y="403560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574040" y="52592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7574040" y="52592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515360" y="35672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515360" y="35672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26040" y="37432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026040" y="37432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91360" y="3757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291360" y="3757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593120" y="4021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7593120" y="4021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353360" y="519444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7353360" y="519444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45120" y="37576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045120" y="37576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148440" y="53038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6148440" y="53038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97680" y="359568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6097680" y="359568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26040" y="40132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026040" y="40132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19720" y="521640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219720" y="521640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48480" y="3763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7548480" y="3763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35680" y="53848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935680" y="53848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394320" y="5083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394320" y="5083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96080" y="3889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7696080" y="3889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508880" y="54072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7508880" y="54072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31120" y="52084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7431120" y="52084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19920" y="507672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019920" y="507672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10440" y="366228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10440" y="366228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574040" y="404352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7574040" y="404352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89800" y="51721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489800" y="51721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456320" y="35164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456320" y="35164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75440" y="3749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175440" y="3749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34440" y="37209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34440" y="37209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45120" y="396252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045120" y="396252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83480" y="54799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683480" y="54799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12040" y="50990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412040" y="50990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51400" y="3844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251400" y="3844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21480" y="53038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7521480" y="53038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915160" y="37209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915160" y="37209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45120" y="54864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045120" y="54864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12000" y="5275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012000" y="5275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10280" y="53546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6110280" y="53546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51600" y="53118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6051600" y="53118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097680" y="52894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6097680" y="52894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58080" y="52592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058080" y="52592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5280" y="52959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245280" y="52959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670880" y="52959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7670880" y="52959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405560" y="50101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7405560" y="50101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99040" y="36910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999040" y="36910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245280" y="52531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6245280" y="52531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70720" y="35449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470720" y="35449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051600" y="397044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6051600" y="397044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89800" y="53704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7489800" y="53704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175440" y="5083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6175440" y="5083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586640" y="38307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586640" y="38307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08680" y="5245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5908680" y="5245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23040" y="37800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6323040" y="37800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424640" y="529596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7424640" y="529596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67520" y="35164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167520" y="35164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61440" y="379404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7561440" y="379404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51600" y="3838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6051600" y="3838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723080" y="54579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723080" y="54579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40760" y="52592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7340760" y="52592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64200" y="53118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064200" y="53118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91360" y="54072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6291360" y="54072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89960" y="51865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689960" y="51865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542360" y="36036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542360" y="36036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40760" y="3859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340760" y="3859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22880" y="513540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6122880" y="513540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554960" y="358920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554960" y="358920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70680" y="3816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070680" y="3816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689960" y="39625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7689960" y="39625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02600" y="54072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7302600" y="54072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51400" y="50626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6251400" y="50626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8640" y="3940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48640" y="3940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502400" y="54658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7502400" y="54658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599240" y="52671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7599240" y="52671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67560" y="53402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567560" y="53402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31120" y="50688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7431120" y="50688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79960" y="36259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5979960" y="36259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979960" y="39704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979960" y="39704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921280" y="54133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5921280" y="54133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19720" y="53323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6219720" y="53323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89960" y="53848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689960" y="53848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464600" y="505476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464600" y="505476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213600" y="37638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6213600" y="37638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489800" y="521640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489800" y="521640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03800" y="353052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6103800" y="353052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477200" y="39844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7477200" y="39844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837400" y="53481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5837400" y="53481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161040" y="528948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161040" y="528948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219720" y="54133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219720" y="54133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6960" y="53704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7716960" y="53704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72440" y="5275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7372440" y="5275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81560" y="523728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6181560" y="523728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96080" y="53182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96080" y="53182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315200" y="52531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315200" y="52531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54760" y="52592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954760" y="52592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232680" y="53546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6232680" y="53546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70720" y="51134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>
              <a:off x="7470720" y="51134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96080" y="3757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>
              <a:off x="5896080" y="3757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51400" y="52671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6251400" y="52671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70880" y="3559320"/>
              <a:ext cx="252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670880" y="3559320"/>
              <a:ext cx="252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48480" y="37353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548480" y="37353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586640" y="365436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586640" y="365436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612200" y="37069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612200" y="37069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05560" y="36766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405560" y="36766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22880" y="397656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>
              <a:off x="6122880" y="397656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527960" y="53038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7527960" y="53038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54560" y="36543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6154560" y="36543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16960" y="40654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716960" y="40654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521480" y="52228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521480" y="52228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70720" y="37274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7470720" y="37274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21280" y="545004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5921280" y="545004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122880" y="52894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122880" y="52894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70680" y="52228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070680" y="52228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59680" y="3668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6259680" y="3668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77200" y="3757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477200" y="3757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15160" y="35672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915160" y="35672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089760" y="3859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089760" y="3859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00640" y="54435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6200640" y="54435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593120" y="511344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7593120" y="511344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992920" y="382284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992920" y="382284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343560" y="52754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343560" y="52754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704000" y="35956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704000" y="35956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59480" y="36990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359480" y="36990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935680" y="38163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5935680" y="38163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22880" y="52308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6122880" y="52308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238800" y="38307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238800" y="38307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96080" y="53769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96080" y="53769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431120" y="35226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431120" y="35226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5520" y="3897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6005520" y="3897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232680" y="53989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6232680" y="53989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716960" y="5164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716960" y="5164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554960" y="385272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7554960" y="385272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86640" y="545004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586640" y="545004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39200" y="504036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7639200" y="504036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580160" y="382284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580160" y="382284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96280" y="54720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496280" y="54720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61440" y="52959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7561440" y="52959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554960" y="53704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554960" y="53704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86640" y="51418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86640" y="51418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78560" y="3816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378560" y="3816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045120" y="54579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045120" y="54579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496280" y="5083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96280" y="5083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877000" y="3822840"/>
              <a:ext cx="252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5877000" y="3822840"/>
              <a:ext cx="252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45120" y="54579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045120" y="545796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245280" y="513540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245280" y="513540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83480" y="38527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7683480" y="38527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89800" y="542124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7489800" y="542124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456320" y="51721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7456320" y="51721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19920" y="507672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019920" y="507672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089760" y="3816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089760" y="3816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61240" y="550872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961240" y="550872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051600" y="5062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6051600" y="5062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238800" y="38671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6238800" y="38671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677000" y="5245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677000" y="5245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437600" y="34718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437600" y="34718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188040" y="37069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6188040" y="37069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15360" y="366228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515360" y="366228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927760" y="36990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5927760" y="369900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51400" y="3970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6251400" y="3970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632720" y="55166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632720" y="55166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470720" y="50626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7470720" y="50626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272280" y="36622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6272280" y="366228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36040" y="379404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736040" y="379404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294680" y="3844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294680" y="3844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921280" y="53704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5921280" y="537048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278400" y="534816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6278400" y="534816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521480" y="53989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521480" y="53989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86440" y="51134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5986440" y="511344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343560" y="36622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343560" y="36622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99440" y="391176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399440" y="391176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51600" y="533232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051600" y="533232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723080" y="53118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723080" y="53118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561440" y="5318280"/>
              <a:ext cx="252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7561440" y="5318280"/>
              <a:ext cx="252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508880" y="507672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508880" y="507672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999040" y="3595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999040" y="3595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012000" y="39337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012000" y="393372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41960" y="52531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141960" y="52531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689960" y="36399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7689960" y="36399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48480" y="3763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7548480" y="3763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31120" y="38084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431120" y="38084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81560" y="52084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6181560" y="52084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761240" y="36399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761240" y="363996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315200" y="39988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315200" y="39988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92920" y="517860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5992920" y="517860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141960" y="36320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141960" y="36320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005520" y="399240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6005520" y="399240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00640" y="54720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6200640" y="54720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736040" y="514980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7736040" y="514980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32720" y="35956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632720" y="35956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651800" y="37130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651800" y="37130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586640" y="36622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586640" y="3662280"/>
              <a:ext cx="2556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27960" y="3889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7527960" y="388944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54960" y="525312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554960" y="525312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24640" y="38084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424640" y="38084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979960" y="53118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5979960" y="53118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310440" y="36687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6310440" y="36687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12040" y="40435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7412040" y="404352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64400" y="534816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5864400" y="5348160"/>
              <a:ext cx="252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329520" y="53402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329520" y="53402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34440" y="51418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7534440" y="51418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979960" y="377208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5979960" y="377208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251400" y="54943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251400" y="54943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450200" y="52228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450200" y="52228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135840" y="53038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135840" y="53038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542360" y="53038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7542360" y="53038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967360" y="5068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5967360" y="5068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03800" y="377208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6103800" y="377208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154560" y="52959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6154560" y="52959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58280" y="3749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7658280" y="3749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527960" y="52531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7527960" y="52531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632720" y="36846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7632720" y="36846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92960" y="54277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7392960" y="54277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188040" y="504684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6188040" y="504684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42160" y="37576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742160" y="37576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88200" y="3735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7288200" y="37353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16760" y="389736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6116760" y="389736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632720" y="54658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632720" y="546588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80160" y="50911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7580160" y="50911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651800" y="388152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7651800" y="388152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359480" y="54435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H="1">
              <a:off x="7359480" y="54435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94520" y="5062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194520" y="506268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489800" y="38815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7489800" y="38815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57920" y="5237280"/>
              <a:ext cx="252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flipH="1">
              <a:off x="5857920" y="5237280"/>
              <a:ext cx="252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29520" y="36259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6329520" y="36259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612200" y="38307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H="1">
              <a:off x="7612200" y="383076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542360" y="364824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7542360" y="364824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18320" y="37130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7618320" y="37130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567560" y="38815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7567560" y="388152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618320" y="52531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>
              <a:off x="7618320" y="5253120"/>
              <a:ext cx="270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605720" y="3844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7605720" y="3844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405560" y="53118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7405560" y="5311800"/>
              <a:ext cx="2556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967360" y="3763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5967360" y="3763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226200" y="5581800"/>
              <a:ext cx="252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6226200" y="5581800"/>
              <a:ext cx="252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645320" y="51418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645320" y="51418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599240" y="3676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599240" y="3676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399440" y="36846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399440" y="3684600"/>
              <a:ext cx="2520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154560" y="366228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6154560" y="3662280"/>
              <a:ext cx="27000" cy="28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502400" y="37130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7502400" y="37130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>
              <a:off x="6413400" y="3179880"/>
              <a:ext cx="9000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w Constell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>
              <a:off x="6665760" y="5761080"/>
              <a:ext cx="3668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 txBox="1"/>
            <p:nvPr/>
          </p:nvSpPr>
          <p:spPr>
            <a:xfrm>
              <a:off x="5257800" y="4518000"/>
              <a:ext cx="380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265400" y="3192480"/>
            <a:ext cx="2955960" cy="2782800"/>
            <a:chOff x="1265400" y="3192480"/>
            <a:chExt cx="2955960" cy="2782800"/>
          </a:xfrm>
        </p:grpSpPr>
        <p:sp>
          <p:nvSpPr>
            <p:cNvPr id="977" name=""/>
            <p:cNvSpPr/>
            <p:nvPr/>
          </p:nvSpPr>
          <p:spPr>
            <a:xfrm>
              <a:off x="1447920" y="3200400"/>
              <a:ext cx="2773440" cy="2774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06480" y="3403440"/>
              <a:ext cx="2140200" cy="951120"/>
            </a:xfrm>
            <a:custGeom>
              <a:avLst/>
              <a:gdLst/>
              <a:ahLst/>
              <a:rect l="0" t="0" r="r" b="b"/>
              <a:pathLst>
                <a:path w="5945" h="2642">
                  <a:moveTo>
                    <a:pt x="0" y="2642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42"/>
                  </a:lnTo>
                  <a:lnTo>
                    <a:pt x="0" y="26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806480" y="3403440"/>
              <a:ext cx="2140200" cy="951120"/>
            </a:xfrm>
            <a:custGeom>
              <a:avLst/>
              <a:gdLst/>
              <a:ahLst/>
              <a:rect l="0" t="0" r="r" b="b"/>
              <a:pathLst>
                <a:path fill="none" w="5945" h="2642">
                  <a:moveTo>
                    <a:pt x="0" y="2642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42"/>
                  </a:lnTo>
                  <a:lnTo>
                    <a:pt x="0" y="264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V="1">
              <a:off x="180648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211140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241776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272412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302904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333540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364176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394668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806480" y="435456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806480" y="403848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806480" y="371808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806480" y="340344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806480" y="435456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806480" y="340344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180648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394668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806480" y="435456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180648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V="1">
              <a:off x="1806480" y="4332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806480" y="340344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 txBox="1"/>
            <p:nvPr/>
          </p:nvSpPr>
          <p:spPr>
            <a:xfrm>
              <a:off x="1693800" y="43387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2111400" y="4332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111400" y="340344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 txBox="1"/>
            <p:nvPr/>
          </p:nvSpPr>
          <p:spPr>
            <a:xfrm>
              <a:off x="2000160" y="43387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2417760" y="4332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417760" y="340344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 txBox="1"/>
            <p:nvPr/>
          </p:nvSpPr>
          <p:spPr>
            <a:xfrm>
              <a:off x="2306520" y="43387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2724120" y="4332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724120" y="340344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 txBox="1"/>
            <p:nvPr/>
          </p:nvSpPr>
          <p:spPr>
            <a:xfrm>
              <a:off x="2611440" y="43387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V="1">
              <a:off x="3029040" y="4332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029040" y="340344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 txBox="1"/>
            <p:nvPr/>
          </p:nvSpPr>
          <p:spPr>
            <a:xfrm>
              <a:off x="2917800" y="43387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3335400" y="4332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35400" y="340344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 txBox="1"/>
            <p:nvPr/>
          </p:nvSpPr>
          <p:spPr>
            <a:xfrm>
              <a:off x="3224160" y="43387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3641760" y="4332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641760" y="340344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 txBox="1"/>
            <p:nvPr/>
          </p:nvSpPr>
          <p:spPr>
            <a:xfrm>
              <a:off x="3529080" y="43387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3946680" y="433224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946680" y="340344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 txBox="1"/>
            <p:nvPr/>
          </p:nvSpPr>
          <p:spPr>
            <a:xfrm>
              <a:off x="3835440" y="43387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806480" y="43545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3927600" y="43545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 txBox="1"/>
            <p:nvPr/>
          </p:nvSpPr>
          <p:spPr>
            <a:xfrm>
              <a:off x="1544760" y="4254480"/>
              <a:ext cx="3160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806480" y="40384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3927600" y="40384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 txBox="1"/>
            <p:nvPr/>
          </p:nvSpPr>
          <p:spPr>
            <a:xfrm>
              <a:off x="1641600" y="39402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806480" y="37180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3927600" y="37180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 txBox="1"/>
            <p:nvPr/>
          </p:nvSpPr>
          <p:spPr>
            <a:xfrm>
              <a:off x="1569960" y="361944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806480" y="34034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3927600" y="34034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1641600" y="33037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806480" y="435456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806480" y="340344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180648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3946680" y="340344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806480" y="3403440"/>
              <a:ext cx="2102040" cy="741600"/>
            </a:xfrm>
            <a:custGeom>
              <a:avLst/>
              <a:gdLst/>
              <a:ahLst/>
              <a:rect l="0" t="0" r="r" b="b"/>
              <a:pathLst>
                <a:path fill="none" w="5839" h="2060">
                  <a:moveTo>
                    <a:pt x="0" y="1689"/>
                  </a:moveTo>
                  <a:lnTo>
                    <a:pt x="105" y="1632"/>
                  </a:lnTo>
                  <a:lnTo>
                    <a:pt x="216" y="1535"/>
                  </a:lnTo>
                  <a:lnTo>
                    <a:pt x="321" y="1398"/>
                  </a:lnTo>
                  <a:lnTo>
                    <a:pt x="432" y="1204"/>
                  </a:lnTo>
                  <a:lnTo>
                    <a:pt x="520" y="970"/>
                  </a:lnTo>
                  <a:lnTo>
                    <a:pt x="630" y="718"/>
                  </a:lnTo>
                  <a:lnTo>
                    <a:pt x="740" y="463"/>
                  </a:lnTo>
                  <a:lnTo>
                    <a:pt x="846" y="233"/>
                  </a:lnTo>
                  <a:lnTo>
                    <a:pt x="956" y="74"/>
                  </a:lnTo>
                  <a:lnTo>
                    <a:pt x="1062" y="0"/>
                  </a:lnTo>
                  <a:lnTo>
                    <a:pt x="1172" y="39"/>
                  </a:lnTo>
                  <a:lnTo>
                    <a:pt x="1283" y="171"/>
                  </a:lnTo>
                  <a:lnTo>
                    <a:pt x="1371" y="427"/>
                  </a:lnTo>
                  <a:lnTo>
                    <a:pt x="1481" y="736"/>
                  </a:lnTo>
                  <a:lnTo>
                    <a:pt x="1587" y="1085"/>
                  </a:lnTo>
                  <a:lnTo>
                    <a:pt x="1697" y="1416"/>
                  </a:lnTo>
                  <a:lnTo>
                    <a:pt x="1807" y="1707"/>
                  </a:lnTo>
                  <a:lnTo>
                    <a:pt x="1913" y="1901"/>
                  </a:lnTo>
                  <a:lnTo>
                    <a:pt x="2024" y="2038"/>
                  </a:lnTo>
                  <a:lnTo>
                    <a:pt x="2129" y="2060"/>
                  </a:lnTo>
                  <a:lnTo>
                    <a:pt x="2222" y="2038"/>
                  </a:lnTo>
                  <a:lnTo>
                    <a:pt x="2328" y="1963"/>
                  </a:lnTo>
                  <a:lnTo>
                    <a:pt x="2438" y="1866"/>
                  </a:lnTo>
                  <a:lnTo>
                    <a:pt x="2548" y="1764"/>
                  </a:lnTo>
                  <a:lnTo>
                    <a:pt x="2654" y="1707"/>
                  </a:lnTo>
                  <a:lnTo>
                    <a:pt x="2764" y="1689"/>
                  </a:lnTo>
                  <a:lnTo>
                    <a:pt x="2870" y="1689"/>
                  </a:lnTo>
                  <a:lnTo>
                    <a:pt x="2981" y="1707"/>
                  </a:lnTo>
                  <a:lnTo>
                    <a:pt x="3074" y="1747"/>
                  </a:lnTo>
                  <a:lnTo>
                    <a:pt x="3180" y="1786"/>
                  </a:lnTo>
                  <a:lnTo>
                    <a:pt x="3290" y="1804"/>
                  </a:lnTo>
                  <a:lnTo>
                    <a:pt x="3396" y="1826"/>
                  </a:lnTo>
                  <a:lnTo>
                    <a:pt x="3506" y="1826"/>
                  </a:lnTo>
                  <a:lnTo>
                    <a:pt x="3616" y="1804"/>
                  </a:lnTo>
                  <a:lnTo>
                    <a:pt x="3722" y="1786"/>
                  </a:lnTo>
                  <a:lnTo>
                    <a:pt x="3833" y="1764"/>
                  </a:lnTo>
                  <a:lnTo>
                    <a:pt x="3921" y="1764"/>
                  </a:lnTo>
                  <a:lnTo>
                    <a:pt x="4031" y="1764"/>
                  </a:lnTo>
                  <a:lnTo>
                    <a:pt x="4137" y="1764"/>
                  </a:lnTo>
                  <a:lnTo>
                    <a:pt x="4247" y="1764"/>
                  </a:lnTo>
                  <a:lnTo>
                    <a:pt x="4357" y="1764"/>
                  </a:lnTo>
                  <a:lnTo>
                    <a:pt x="4463" y="1786"/>
                  </a:lnTo>
                  <a:lnTo>
                    <a:pt x="4573" y="1786"/>
                  </a:lnTo>
                  <a:lnTo>
                    <a:pt x="4679" y="1786"/>
                  </a:lnTo>
                  <a:lnTo>
                    <a:pt x="4772" y="1786"/>
                  </a:lnTo>
                  <a:lnTo>
                    <a:pt x="4882" y="1786"/>
                  </a:lnTo>
                  <a:lnTo>
                    <a:pt x="4988" y="1786"/>
                  </a:lnTo>
                  <a:lnTo>
                    <a:pt x="5098" y="1786"/>
                  </a:lnTo>
                  <a:lnTo>
                    <a:pt x="5204" y="1786"/>
                  </a:lnTo>
                  <a:lnTo>
                    <a:pt x="5314" y="1804"/>
                  </a:lnTo>
                  <a:lnTo>
                    <a:pt x="5424" y="1804"/>
                  </a:lnTo>
                  <a:lnTo>
                    <a:pt x="5530" y="1804"/>
                  </a:lnTo>
                  <a:lnTo>
                    <a:pt x="5623" y="1804"/>
                  </a:lnTo>
                  <a:lnTo>
                    <a:pt x="5729" y="1786"/>
                  </a:lnTo>
                  <a:lnTo>
                    <a:pt x="5839" y="178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 txBox="1"/>
            <p:nvPr/>
          </p:nvSpPr>
          <p:spPr>
            <a:xfrm>
              <a:off x="2247840" y="3192480"/>
              <a:ext cx="1154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/Demod Filter Respon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 txBox="1"/>
            <p:nvPr/>
          </p:nvSpPr>
          <p:spPr>
            <a:xfrm>
              <a:off x="1317600" y="3870360"/>
              <a:ext cx="3412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806480" y="4710240"/>
              <a:ext cx="2140200" cy="951120"/>
            </a:xfrm>
            <a:custGeom>
              <a:avLst/>
              <a:gdLst/>
              <a:ahLst/>
              <a:rect l="0" t="0" r="r" b="b"/>
              <a:pathLst>
                <a:path w="5945" h="2642">
                  <a:moveTo>
                    <a:pt x="0" y="2642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42"/>
                  </a:lnTo>
                  <a:lnTo>
                    <a:pt x="0" y="26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806480" y="4710240"/>
              <a:ext cx="2140200" cy="951120"/>
            </a:xfrm>
            <a:custGeom>
              <a:avLst/>
              <a:gdLst/>
              <a:ahLst/>
              <a:rect l="0" t="0" r="r" b="b"/>
              <a:pathLst>
                <a:path fill="none" w="5945" h="2642">
                  <a:moveTo>
                    <a:pt x="0" y="2642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42"/>
                  </a:lnTo>
                  <a:lnTo>
                    <a:pt x="0" y="264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180648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211140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241776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272412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302904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333540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364176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394668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806480" y="566100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806480" y="542448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806480" y="518652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06480" y="494820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806480" y="471024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806480" y="566100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806480" y="471024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V="1">
              <a:off x="180648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394668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806480" y="566100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180648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1806480" y="56404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806480" y="47102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 txBox="1"/>
            <p:nvPr/>
          </p:nvSpPr>
          <p:spPr>
            <a:xfrm>
              <a:off x="1693800" y="5646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2111400" y="56404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111400" y="47102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 txBox="1"/>
            <p:nvPr/>
          </p:nvSpPr>
          <p:spPr>
            <a:xfrm>
              <a:off x="2000160" y="5646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417760" y="56404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417760" y="47102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 txBox="1"/>
            <p:nvPr/>
          </p:nvSpPr>
          <p:spPr>
            <a:xfrm>
              <a:off x="2306520" y="5646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2724120" y="56404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724120" y="47102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 txBox="1"/>
            <p:nvPr/>
          </p:nvSpPr>
          <p:spPr>
            <a:xfrm>
              <a:off x="2611440" y="5646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3029040" y="56404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029040" y="47102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 txBox="1"/>
            <p:nvPr/>
          </p:nvSpPr>
          <p:spPr>
            <a:xfrm>
              <a:off x="2917800" y="5646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3335400" y="56404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35400" y="47102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 txBox="1"/>
            <p:nvPr/>
          </p:nvSpPr>
          <p:spPr>
            <a:xfrm>
              <a:off x="3224160" y="5646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3641760" y="56404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41760" y="47102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 txBox="1"/>
            <p:nvPr/>
          </p:nvSpPr>
          <p:spPr>
            <a:xfrm>
              <a:off x="3529080" y="5646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3946680" y="564048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946680" y="471024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 txBox="1"/>
            <p:nvPr/>
          </p:nvSpPr>
          <p:spPr>
            <a:xfrm>
              <a:off x="3835440" y="56466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806480" y="56610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3927600" y="56610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 txBox="1"/>
            <p:nvPr/>
          </p:nvSpPr>
          <p:spPr>
            <a:xfrm>
              <a:off x="1544760" y="5562720"/>
              <a:ext cx="3160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806480" y="54244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H="1">
              <a:off x="3927600" y="54244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 txBox="1"/>
            <p:nvPr/>
          </p:nvSpPr>
          <p:spPr>
            <a:xfrm>
              <a:off x="1498680" y="5324400"/>
              <a:ext cx="3571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0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806480" y="51865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3927600" y="51865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 txBox="1"/>
            <p:nvPr/>
          </p:nvSpPr>
          <p:spPr>
            <a:xfrm>
              <a:off x="1641600" y="508788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806480" y="49482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3927600" y="49482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 txBox="1"/>
            <p:nvPr/>
          </p:nvSpPr>
          <p:spPr>
            <a:xfrm>
              <a:off x="1525680" y="4849920"/>
              <a:ext cx="3319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0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806480" y="47102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3927600" y="47102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 txBox="1"/>
            <p:nvPr/>
          </p:nvSpPr>
          <p:spPr>
            <a:xfrm>
              <a:off x="1569960" y="461160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806480" y="566100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06480" y="4710240"/>
              <a:ext cx="2140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180648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3946680" y="471024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806480" y="4802040"/>
              <a:ext cx="2102040" cy="643320"/>
            </a:xfrm>
            <a:custGeom>
              <a:avLst/>
              <a:gdLst/>
              <a:ahLst/>
              <a:rect l="0" t="0" r="r" b="b"/>
              <a:pathLst>
                <a:path fill="none" w="5839" h="1787">
                  <a:moveTo>
                    <a:pt x="0" y="1182"/>
                  </a:moveTo>
                  <a:lnTo>
                    <a:pt x="105" y="1279"/>
                  </a:lnTo>
                  <a:lnTo>
                    <a:pt x="216" y="1399"/>
                  </a:lnTo>
                  <a:lnTo>
                    <a:pt x="321" y="1532"/>
                  </a:lnTo>
                  <a:lnTo>
                    <a:pt x="432" y="1651"/>
                  </a:lnTo>
                  <a:lnTo>
                    <a:pt x="520" y="1748"/>
                  </a:lnTo>
                  <a:lnTo>
                    <a:pt x="630" y="1787"/>
                  </a:lnTo>
                  <a:lnTo>
                    <a:pt x="740" y="1730"/>
                  </a:lnTo>
                  <a:lnTo>
                    <a:pt x="846" y="1593"/>
                  </a:lnTo>
                  <a:lnTo>
                    <a:pt x="956" y="1360"/>
                  </a:lnTo>
                  <a:lnTo>
                    <a:pt x="1062" y="1068"/>
                  </a:lnTo>
                  <a:lnTo>
                    <a:pt x="1172" y="737"/>
                  </a:lnTo>
                  <a:lnTo>
                    <a:pt x="1283" y="423"/>
                  </a:lnTo>
                  <a:lnTo>
                    <a:pt x="1371" y="171"/>
                  </a:lnTo>
                  <a:lnTo>
                    <a:pt x="1481" y="17"/>
                  </a:lnTo>
                  <a:lnTo>
                    <a:pt x="1587" y="0"/>
                  </a:lnTo>
                  <a:lnTo>
                    <a:pt x="1697" y="114"/>
                  </a:lnTo>
                  <a:lnTo>
                    <a:pt x="1807" y="308"/>
                  </a:lnTo>
                  <a:lnTo>
                    <a:pt x="1913" y="583"/>
                  </a:lnTo>
                  <a:lnTo>
                    <a:pt x="2024" y="852"/>
                  </a:lnTo>
                  <a:lnTo>
                    <a:pt x="2129" y="1085"/>
                  </a:lnTo>
                  <a:lnTo>
                    <a:pt x="2222" y="1240"/>
                  </a:lnTo>
                  <a:lnTo>
                    <a:pt x="2328" y="1319"/>
                  </a:lnTo>
                  <a:lnTo>
                    <a:pt x="2438" y="1319"/>
                  </a:lnTo>
                  <a:lnTo>
                    <a:pt x="2548" y="1240"/>
                  </a:lnTo>
                  <a:lnTo>
                    <a:pt x="2654" y="1143"/>
                  </a:lnTo>
                  <a:lnTo>
                    <a:pt x="2764" y="1046"/>
                  </a:lnTo>
                  <a:lnTo>
                    <a:pt x="2870" y="971"/>
                  </a:lnTo>
                  <a:lnTo>
                    <a:pt x="2981" y="931"/>
                  </a:lnTo>
                  <a:lnTo>
                    <a:pt x="3074" y="931"/>
                  </a:lnTo>
                  <a:lnTo>
                    <a:pt x="3180" y="988"/>
                  </a:lnTo>
                  <a:lnTo>
                    <a:pt x="3290" y="1046"/>
                  </a:lnTo>
                  <a:lnTo>
                    <a:pt x="3396" y="1143"/>
                  </a:lnTo>
                  <a:lnTo>
                    <a:pt x="3506" y="1222"/>
                  </a:lnTo>
                  <a:lnTo>
                    <a:pt x="3616" y="1301"/>
                  </a:lnTo>
                  <a:lnTo>
                    <a:pt x="3722" y="1360"/>
                  </a:lnTo>
                  <a:lnTo>
                    <a:pt x="3833" y="1399"/>
                  </a:lnTo>
                  <a:lnTo>
                    <a:pt x="3921" y="1417"/>
                  </a:lnTo>
                  <a:lnTo>
                    <a:pt x="4031" y="1417"/>
                  </a:lnTo>
                  <a:lnTo>
                    <a:pt x="4137" y="1399"/>
                  </a:lnTo>
                  <a:lnTo>
                    <a:pt x="4247" y="1377"/>
                  </a:lnTo>
                  <a:lnTo>
                    <a:pt x="4357" y="1337"/>
                  </a:lnTo>
                  <a:lnTo>
                    <a:pt x="4463" y="1279"/>
                  </a:lnTo>
                  <a:lnTo>
                    <a:pt x="4573" y="1240"/>
                  </a:lnTo>
                  <a:lnTo>
                    <a:pt x="4679" y="1182"/>
                  </a:lnTo>
                  <a:lnTo>
                    <a:pt x="4772" y="1165"/>
                  </a:lnTo>
                  <a:lnTo>
                    <a:pt x="4882" y="1143"/>
                  </a:lnTo>
                  <a:lnTo>
                    <a:pt x="4988" y="1165"/>
                  </a:lnTo>
                  <a:lnTo>
                    <a:pt x="5098" y="1222"/>
                  </a:lnTo>
                  <a:lnTo>
                    <a:pt x="5204" y="1301"/>
                  </a:lnTo>
                  <a:lnTo>
                    <a:pt x="5314" y="1399"/>
                  </a:lnTo>
                  <a:lnTo>
                    <a:pt x="5424" y="1474"/>
                  </a:lnTo>
                  <a:lnTo>
                    <a:pt x="5530" y="1532"/>
                  </a:lnTo>
                  <a:lnTo>
                    <a:pt x="5623" y="1571"/>
                  </a:lnTo>
                  <a:lnTo>
                    <a:pt x="5729" y="1554"/>
                  </a:lnTo>
                  <a:lnTo>
                    <a:pt x="5839" y="1496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 txBox="1"/>
            <p:nvPr/>
          </p:nvSpPr>
          <p:spPr>
            <a:xfrm>
              <a:off x="1265400" y="5178600"/>
              <a:ext cx="3538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>
              <a:off x="2521080" y="5757840"/>
              <a:ext cx="6588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*chipR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"/>
          <p:cNvSpPr txBox="1"/>
          <p:nvPr/>
        </p:nvSpPr>
        <p:spPr>
          <a:xfrm>
            <a:off x="1660680" y="623880"/>
            <a:ext cx="593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-TO-END MODEM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1355760" y="6004080"/>
            <a:ext cx="287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uls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5699160" y="60040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127160" y="1279440"/>
            <a:ext cx="68104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m filter distortion is multipl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effect must be included 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fingers are convolved with this respons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causing multi-chip-wide fin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 txBox="1"/>
          <p:nvPr/>
        </p:nvSpPr>
        <p:spPr>
          <a:xfrm>
            <a:off x="1965240" y="852480"/>
            <a:ext cx="5716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RETE MULTIPATH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822240" y="1889280"/>
            <a:ext cx="3046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d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aying Rayle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1279440" y="4479840"/>
            <a:ext cx="69166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ultipath 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ely spaced arri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used 8 samples/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kept components until all &gt; 30 dB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4251240" y="1828800"/>
            <a:ext cx="3801960" cy="2095560"/>
            <a:chOff x="4251240" y="1828800"/>
            <a:chExt cx="3801960" cy="2095560"/>
          </a:xfrm>
        </p:grpSpPr>
        <p:sp>
          <p:nvSpPr>
            <p:cNvPr id="1116" name=""/>
            <p:cNvSpPr/>
            <p:nvPr/>
          </p:nvSpPr>
          <p:spPr>
            <a:xfrm>
              <a:off x="4800600" y="1828800"/>
              <a:ext cx="2514960" cy="1371960"/>
            </a:xfrm>
            <a:custGeom>
              <a:avLst/>
              <a:gdLst/>
              <a:ahLst/>
              <a:rect l="0" t="0" r="r" b="b"/>
              <a:pathLst>
                <a:path fill="none" w="6986" h="3811">
                  <a:moveTo>
                    <a:pt x="0" y="0"/>
                  </a:moveTo>
                  <a:lnTo>
                    <a:pt x="0" y="0"/>
                  </a:lnTo>
                  <a:cubicBezTo>
                    <a:pt x="0" y="669"/>
                    <a:pt x="323" y="1326"/>
                    <a:pt x="936" y="1905"/>
                  </a:cubicBezTo>
                  <a:cubicBezTo>
                    <a:pt x="1549" y="2484"/>
                    <a:pt x="2431" y="2966"/>
                    <a:pt x="3493" y="3300"/>
                  </a:cubicBezTo>
                  <a:cubicBezTo>
                    <a:pt x="4555" y="3635"/>
                    <a:pt x="5760" y="3811"/>
                    <a:pt x="6986" y="3811"/>
                  </a:cubicBezTo>
                  <a:lnTo>
                    <a:pt x="6986" y="3811"/>
                  </a:lnTo>
                </a:path>
              </a:pathLst>
            </a:cu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800600" y="1976400"/>
              <a:ext cx="0" cy="1376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952880" y="2347920"/>
              <a:ext cx="0" cy="1004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05520" y="2514600"/>
              <a:ext cx="0" cy="8380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257800" y="2666880"/>
              <a:ext cx="0" cy="685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410080" y="2743200"/>
              <a:ext cx="0" cy="6094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562720" y="2852640"/>
              <a:ext cx="0" cy="500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715000" y="2933640"/>
              <a:ext cx="0" cy="419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867280" y="2995560"/>
              <a:ext cx="0" cy="357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019920" y="3033720"/>
              <a:ext cx="0" cy="318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172200" y="3076560"/>
              <a:ext cx="0" cy="276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477120" y="3171960"/>
              <a:ext cx="0" cy="180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629400" y="3191040"/>
              <a:ext cx="0" cy="161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781680" y="320976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934320" y="320976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24280" y="3352680"/>
              <a:ext cx="3048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324480" y="312912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 txBox="1"/>
            <p:nvPr/>
          </p:nvSpPr>
          <p:spPr>
            <a:xfrm>
              <a:off x="6093000" y="1998720"/>
              <a:ext cx="131436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arianc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velo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V="1">
              <a:off x="5334120" y="2362320"/>
              <a:ext cx="6858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>
              <a:off x="7451640" y="3427560"/>
              <a:ext cx="601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>
              <a:off x="5394240" y="3557520"/>
              <a:ext cx="627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rm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>
              <a:off x="4556160" y="3427560"/>
              <a:ext cx="297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48320" y="2895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V="1">
              <a:off x="55627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>
              <a:off x="4251240" y="2741760"/>
              <a:ext cx="46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.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"/>
          <p:cNvGrpSpPr/>
          <p:nvPr/>
        </p:nvGrpSpPr>
        <p:grpSpPr>
          <a:xfrm>
            <a:off x="811080" y="2786040"/>
            <a:ext cx="3684600" cy="3157560"/>
            <a:chOff x="811080" y="2786040"/>
            <a:chExt cx="3684600" cy="3157560"/>
          </a:xfrm>
        </p:grpSpPr>
        <p:sp>
          <p:nvSpPr>
            <p:cNvPr id="1142" name=""/>
            <p:cNvSpPr/>
            <p:nvPr/>
          </p:nvSpPr>
          <p:spPr>
            <a:xfrm>
              <a:off x="1100160" y="2822400"/>
              <a:ext cx="3395520" cy="3121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530360" y="3051000"/>
              <a:ext cx="2634120" cy="1072080"/>
            </a:xfrm>
            <a:custGeom>
              <a:avLst/>
              <a:gdLst/>
              <a:ahLst/>
              <a:rect l="0" t="0" r="r" b="b"/>
              <a:pathLst>
                <a:path w="7317" h="2978">
                  <a:moveTo>
                    <a:pt x="0" y="2978"/>
                  </a:moveTo>
                  <a:lnTo>
                    <a:pt x="0" y="0"/>
                  </a:lnTo>
                  <a:lnTo>
                    <a:pt x="7317" y="0"/>
                  </a:lnTo>
                  <a:lnTo>
                    <a:pt x="7317" y="2978"/>
                  </a:lnTo>
                  <a:lnTo>
                    <a:pt x="0" y="29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530360" y="3051000"/>
              <a:ext cx="2634120" cy="1072080"/>
            </a:xfrm>
            <a:custGeom>
              <a:avLst/>
              <a:gdLst/>
              <a:ahLst/>
              <a:rect l="0" t="0" r="r" b="b"/>
              <a:pathLst>
                <a:path fill="none" w="7317" h="2978">
                  <a:moveTo>
                    <a:pt x="0" y="2978"/>
                  </a:moveTo>
                  <a:lnTo>
                    <a:pt x="0" y="0"/>
                  </a:lnTo>
                  <a:lnTo>
                    <a:pt x="7317" y="0"/>
                  </a:lnTo>
                  <a:lnTo>
                    <a:pt x="7317" y="2978"/>
                  </a:lnTo>
                  <a:lnTo>
                    <a:pt x="0" y="297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153036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97172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240660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284652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28788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372096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16412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530360" y="412272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530360" y="385272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530360" y="359100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530360" y="332100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530360" y="305100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530360" y="412272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1530360" y="305100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153036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416412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530360" y="412272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53036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530360" y="409716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30360" y="305100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 txBox="1"/>
            <p:nvPr/>
          </p:nvSpPr>
          <p:spPr>
            <a:xfrm>
              <a:off x="1373040" y="40878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1971720" y="409716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971720" y="305100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 txBox="1"/>
            <p:nvPr/>
          </p:nvSpPr>
          <p:spPr>
            <a:xfrm>
              <a:off x="1814400" y="40878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2406600" y="409716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06600" y="305100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>
              <a:off x="2246400" y="40878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2846520" y="409716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46520" y="305100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 txBox="1"/>
            <p:nvPr/>
          </p:nvSpPr>
          <p:spPr>
            <a:xfrm>
              <a:off x="2689200" y="40878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287880" y="409716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287880" y="305100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 txBox="1"/>
            <p:nvPr/>
          </p:nvSpPr>
          <p:spPr>
            <a:xfrm>
              <a:off x="3130560" y="40878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3720960" y="409716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720960" y="305100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 txBox="1"/>
            <p:nvPr/>
          </p:nvSpPr>
          <p:spPr>
            <a:xfrm>
              <a:off x="3524400" y="408780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4164120" y="409716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64120" y="305100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 txBox="1"/>
            <p:nvPr/>
          </p:nvSpPr>
          <p:spPr>
            <a:xfrm>
              <a:off x="3965400" y="408780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530360" y="412272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4132440" y="412272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 txBox="1"/>
            <p:nvPr/>
          </p:nvSpPr>
          <p:spPr>
            <a:xfrm>
              <a:off x="1147680" y="398952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30360" y="385272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H="1">
              <a:off x="4132440" y="385272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 txBox="1"/>
            <p:nvPr/>
          </p:nvSpPr>
          <p:spPr>
            <a:xfrm>
              <a:off x="1295280" y="371628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530360" y="359100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>
              <a:off x="4132440" y="35910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 txBox="1"/>
            <p:nvPr/>
          </p:nvSpPr>
          <p:spPr>
            <a:xfrm>
              <a:off x="1185840" y="345600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530360" y="332100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H="1">
              <a:off x="4132440" y="33210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 txBox="1"/>
            <p:nvPr/>
          </p:nvSpPr>
          <p:spPr>
            <a:xfrm>
              <a:off x="1185840" y="318780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530360" y="305100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4132440" y="305100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 txBox="1"/>
            <p:nvPr/>
          </p:nvSpPr>
          <p:spPr>
            <a:xfrm>
              <a:off x="1185840" y="291780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530360" y="412272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530360" y="305100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153036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4164120" y="3051000"/>
              <a:ext cx="0" cy="1071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530360" y="3386160"/>
              <a:ext cx="2416680" cy="630720"/>
            </a:xfrm>
            <a:custGeom>
              <a:avLst/>
              <a:gdLst/>
              <a:ahLst/>
              <a:rect l="0" t="0" r="r" b="b"/>
              <a:pathLst>
                <a:path fill="none" w="6713" h="1752">
                  <a:moveTo>
                    <a:pt x="0" y="1250"/>
                  </a:moveTo>
                  <a:lnTo>
                    <a:pt x="81" y="1067"/>
                  </a:lnTo>
                  <a:lnTo>
                    <a:pt x="162" y="933"/>
                  </a:lnTo>
                  <a:lnTo>
                    <a:pt x="221" y="0"/>
                  </a:lnTo>
                  <a:lnTo>
                    <a:pt x="302" y="1111"/>
                  </a:lnTo>
                  <a:lnTo>
                    <a:pt x="383" y="317"/>
                  </a:lnTo>
                  <a:lnTo>
                    <a:pt x="464" y="1111"/>
                  </a:lnTo>
                  <a:lnTo>
                    <a:pt x="545" y="839"/>
                  </a:lnTo>
                  <a:lnTo>
                    <a:pt x="599" y="977"/>
                  </a:lnTo>
                  <a:lnTo>
                    <a:pt x="680" y="386"/>
                  </a:lnTo>
                  <a:lnTo>
                    <a:pt x="767" y="1752"/>
                  </a:lnTo>
                  <a:lnTo>
                    <a:pt x="848" y="1727"/>
                  </a:lnTo>
                  <a:lnTo>
                    <a:pt x="929" y="1136"/>
                  </a:lnTo>
                  <a:lnTo>
                    <a:pt x="983" y="933"/>
                  </a:lnTo>
                  <a:lnTo>
                    <a:pt x="1064" y="1250"/>
                  </a:lnTo>
                  <a:lnTo>
                    <a:pt x="1145" y="1385"/>
                  </a:lnTo>
                  <a:lnTo>
                    <a:pt x="1226" y="774"/>
                  </a:lnTo>
                  <a:lnTo>
                    <a:pt x="1286" y="1499"/>
                  </a:lnTo>
                  <a:lnTo>
                    <a:pt x="1367" y="1047"/>
                  </a:lnTo>
                  <a:lnTo>
                    <a:pt x="1448" y="730"/>
                  </a:lnTo>
                  <a:lnTo>
                    <a:pt x="1529" y="1181"/>
                  </a:lnTo>
                  <a:lnTo>
                    <a:pt x="1610" y="1524"/>
                  </a:lnTo>
                  <a:lnTo>
                    <a:pt x="1664" y="705"/>
                  </a:lnTo>
                  <a:lnTo>
                    <a:pt x="1746" y="1499"/>
                  </a:lnTo>
                  <a:lnTo>
                    <a:pt x="1832" y="1250"/>
                  </a:lnTo>
                  <a:lnTo>
                    <a:pt x="1913" y="1136"/>
                  </a:lnTo>
                  <a:lnTo>
                    <a:pt x="1995" y="1067"/>
                  </a:lnTo>
                  <a:lnTo>
                    <a:pt x="2049" y="1321"/>
                  </a:lnTo>
                  <a:lnTo>
                    <a:pt x="2130" y="1181"/>
                  </a:lnTo>
                  <a:lnTo>
                    <a:pt x="2211" y="1593"/>
                  </a:lnTo>
                  <a:lnTo>
                    <a:pt x="2292" y="1295"/>
                  </a:lnTo>
                  <a:lnTo>
                    <a:pt x="2378" y="1410"/>
                  </a:lnTo>
                  <a:lnTo>
                    <a:pt x="2432" y="1544"/>
                  </a:lnTo>
                  <a:lnTo>
                    <a:pt x="2513" y="1161"/>
                  </a:lnTo>
                  <a:lnTo>
                    <a:pt x="2594" y="1111"/>
                  </a:lnTo>
                  <a:lnTo>
                    <a:pt x="2675" y="1270"/>
                  </a:lnTo>
                  <a:lnTo>
                    <a:pt x="2756" y="1435"/>
                  </a:lnTo>
                  <a:lnTo>
                    <a:pt x="2811" y="1047"/>
                  </a:lnTo>
                  <a:lnTo>
                    <a:pt x="2892" y="1341"/>
                  </a:lnTo>
                  <a:lnTo>
                    <a:pt x="2978" y="1206"/>
                  </a:lnTo>
                  <a:lnTo>
                    <a:pt x="3059" y="1321"/>
                  </a:lnTo>
                  <a:lnTo>
                    <a:pt x="3113" y="1181"/>
                  </a:lnTo>
                  <a:lnTo>
                    <a:pt x="3194" y="1270"/>
                  </a:lnTo>
                  <a:lnTo>
                    <a:pt x="3275" y="1341"/>
                  </a:lnTo>
                  <a:lnTo>
                    <a:pt x="3356" y="1295"/>
                  </a:lnTo>
                  <a:lnTo>
                    <a:pt x="3437" y="1321"/>
                  </a:lnTo>
                  <a:lnTo>
                    <a:pt x="3497" y="1206"/>
                  </a:lnTo>
                  <a:lnTo>
                    <a:pt x="3578" y="1250"/>
                  </a:lnTo>
                  <a:lnTo>
                    <a:pt x="3659" y="1270"/>
                  </a:lnTo>
                  <a:lnTo>
                    <a:pt x="3740" y="1341"/>
                  </a:lnTo>
                  <a:lnTo>
                    <a:pt x="3821" y="1341"/>
                  </a:lnTo>
                  <a:lnTo>
                    <a:pt x="3875" y="1270"/>
                  </a:lnTo>
                  <a:lnTo>
                    <a:pt x="3956" y="1225"/>
                  </a:lnTo>
                  <a:lnTo>
                    <a:pt x="4043" y="1341"/>
                  </a:lnTo>
                  <a:lnTo>
                    <a:pt x="4124" y="1365"/>
                  </a:lnTo>
                  <a:lnTo>
                    <a:pt x="4205" y="1225"/>
                  </a:lnTo>
                  <a:lnTo>
                    <a:pt x="4259" y="1295"/>
                  </a:lnTo>
                  <a:lnTo>
                    <a:pt x="4340" y="1321"/>
                  </a:lnTo>
                  <a:lnTo>
                    <a:pt x="4421" y="1341"/>
                  </a:lnTo>
                  <a:lnTo>
                    <a:pt x="4502" y="1270"/>
                  </a:lnTo>
                  <a:lnTo>
                    <a:pt x="4588" y="1250"/>
                  </a:lnTo>
                  <a:lnTo>
                    <a:pt x="4642" y="1250"/>
                  </a:lnTo>
                  <a:lnTo>
                    <a:pt x="4723" y="1295"/>
                  </a:lnTo>
                  <a:lnTo>
                    <a:pt x="4805" y="1295"/>
                  </a:lnTo>
                  <a:lnTo>
                    <a:pt x="4886" y="1250"/>
                  </a:lnTo>
                  <a:lnTo>
                    <a:pt x="4940" y="1270"/>
                  </a:lnTo>
                  <a:lnTo>
                    <a:pt x="5021" y="1341"/>
                  </a:lnTo>
                  <a:lnTo>
                    <a:pt x="5108" y="1295"/>
                  </a:lnTo>
                  <a:lnTo>
                    <a:pt x="5189" y="1250"/>
                  </a:lnTo>
                  <a:lnTo>
                    <a:pt x="5270" y="1321"/>
                  </a:lnTo>
                  <a:lnTo>
                    <a:pt x="5324" y="1295"/>
                  </a:lnTo>
                  <a:lnTo>
                    <a:pt x="5405" y="1321"/>
                  </a:lnTo>
                  <a:lnTo>
                    <a:pt x="5486" y="1270"/>
                  </a:lnTo>
                  <a:lnTo>
                    <a:pt x="5567" y="1321"/>
                  </a:lnTo>
                  <a:lnTo>
                    <a:pt x="5654" y="1295"/>
                  </a:lnTo>
                  <a:lnTo>
                    <a:pt x="5708" y="1321"/>
                  </a:lnTo>
                  <a:lnTo>
                    <a:pt x="5789" y="1295"/>
                  </a:lnTo>
                  <a:lnTo>
                    <a:pt x="5870" y="1295"/>
                  </a:lnTo>
                  <a:lnTo>
                    <a:pt x="5951" y="1295"/>
                  </a:lnTo>
                  <a:lnTo>
                    <a:pt x="6032" y="1295"/>
                  </a:lnTo>
                  <a:lnTo>
                    <a:pt x="6086" y="1321"/>
                  </a:lnTo>
                  <a:lnTo>
                    <a:pt x="6167" y="1321"/>
                  </a:lnTo>
                  <a:lnTo>
                    <a:pt x="6254" y="1295"/>
                  </a:lnTo>
                  <a:lnTo>
                    <a:pt x="6335" y="1295"/>
                  </a:lnTo>
                  <a:lnTo>
                    <a:pt x="6416" y="1295"/>
                  </a:lnTo>
                  <a:lnTo>
                    <a:pt x="6470" y="1321"/>
                  </a:lnTo>
                  <a:lnTo>
                    <a:pt x="6551" y="1295"/>
                  </a:lnTo>
                  <a:lnTo>
                    <a:pt x="6632" y="1295"/>
                  </a:lnTo>
                  <a:lnTo>
                    <a:pt x="6713" y="129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 txBox="1"/>
            <p:nvPr/>
          </p:nvSpPr>
          <p:spPr>
            <a:xfrm>
              <a:off x="2316240" y="4218120"/>
              <a:ext cx="7383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*chipR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 txBox="1"/>
            <p:nvPr/>
          </p:nvSpPr>
          <p:spPr>
            <a:xfrm>
              <a:off x="819000" y="3656160"/>
              <a:ext cx="4208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 w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 txBox="1"/>
            <p:nvPr/>
          </p:nvSpPr>
          <p:spPr>
            <a:xfrm>
              <a:off x="2297160" y="2786040"/>
              <a:ext cx="7873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ftali Chan I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530360" y="4524480"/>
              <a:ext cx="2634120" cy="1060920"/>
            </a:xfrm>
            <a:custGeom>
              <a:avLst/>
              <a:gdLst/>
              <a:ahLst/>
              <a:rect l="0" t="0" r="r" b="b"/>
              <a:pathLst>
                <a:path w="7317" h="2947">
                  <a:moveTo>
                    <a:pt x="0" y="2947"/>
                  </a:moveTo>
                  <a:lnTo>
                    <a:pt x="0" y="0"/>
                  </a:lnTo>
                  <a:lnTo>
                    <a:pt x="7317" y="0"/>
                  </a:lnTo>
                  <a:lnTo>
                    <a:pt x="7317" y="2947"/>
                  </a:lnTo>
                  <a:lnTo>
                    <a:pt x="0" y="29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530360" y="4524480"/>
              <a:ext cx="2634120" cy="1060920"/>
            </a:xfrm>
            <a:custGeom>
              <a:avLst/>
              <a:gdLst/>
              <a:ahLst/>
              <a:rect l="0" t="0" r="r" b="b"/>
              <a:pathLst>
                <a:path fill="none" w="7317" h="2947">
                  <a:moveTo>
                    <a:pt x="0" y="2947"/>
                  </a:moveTo>
                  <a:lnTo>
                    <a:pt x="0" y="0"/>
                  </a:lnTo>
                  <a:lnTo>
                    <a:pt x="7317" y="0"/>
                  </a:lnTo>
                  <a:lnTo>
                    <a:pt x="7317" y="2947"/>
                  </a:lnTo>
                  <a:lnTo>
                    <a:pt x="0" y="294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153036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V="1">
              <a:off x="197172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V="1">
              <a:off x="240660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V="1">
              <a:off x="284652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328788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372096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V="1">
              <a:off x="416412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530360" y="558468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530360" y="532296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530360" y="505296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530360" y="479268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530360" y="452448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530360" y="558468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530360" y="452448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153036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416412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530360" y="558468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153036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1530360" y="55594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530360" y="45244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 txBox="1"/>
            <p:nvPr/>
          </p:nvSpPr>
          <p:spPr>
            <a:xfrm>
              <a:off x="1373040" y="5548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971720" y="55594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971720" y="45244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 txBox="1"/>
            <p:nvPr/>
          </p:nvSpPr>
          <p:spPr>
            <a:xfrm>
              <a:off x="1814400" y="5548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2406600" y="55594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406600" y="45244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 txBox="1"/>
            <p:nvPr/>
          </p:nvSpPr>
          <p:spPr>
            <a:xfrm>
              <a:off x="2246400" y="5548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2846520" y="55594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846520" y="45244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 txBox="1"/>
            <p:nvPr/>
          </p:nvSpPr>
          <p:spPr>
            <a:xfrm>
              <a:off x="2689200" y="5548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3287880" y="55594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87880" y="45244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 txBox="1"/>
            <p:nvPr/>
          </p:nvSpPr>
          <p:spPr>
            <a:xfrm>
              <a:off x="3130560" y="5548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V="1">
              <a:off x="3720960" y="55594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720960" y="45244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 txBox="1"/>
            <p:nvPr/>
          </p:nvSpPr>
          <p:spPr>
            <a:xfrm>
              <a:off x="3524400" y="554832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4164120" y="555948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164120" y="45244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 txBox="1"/>
            <p:nvPr/>
          </p:nvSpPr>
          <p:spPr>
            <a:xfrm>
              <a:off x="3965400" y="5548320"/>
              <a:ext cx="282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1530360" y="558468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>
              <a:off x="4132440" y="558468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 txBox="1"/>
            <p:nvPr/>
          </p:nvSpPr>
          <p:spPr>
            <a:xfrm>
              <a:off x="1147680" y="545004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30360" y="53229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4132440" y="532296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 txBox="1"/>
            <p:nvPr/>
          </p:nvSpPr>
          <p:spPr>
            <a:xfrm>
              <a:off x="1147680" y="518940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530360" y="505296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H="1">
              <a:off x="4132440" y="505296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 txBox="1"/>
            <p:nvPr/>
          </p:nvSpPr>
          <p:spPr>
            <a:xfrm>
              <a:off x="1295280" y="491976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1530360" y="479268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>
              <a:off x="4132440" y="479268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 txBox="1"/>
            <p:nvPr/>
          </p:nvSpPr>
          <p:spPr>
            <a:xfrm>
              <a:off x="1185840" y="465768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530360" y="4524480"/>
              <a:ext cx="2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4132440" y="4524480"/>
              <a:ext cx="31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 txBox="1"/>
            <p:nvPr/>
          </p:nvSpPr>
          <p:spPr>
            <a:xfrm>
              <a:off x="1185840" y="438768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530360" y="558468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530360" y="4524480"/>
              <a:ext cx="2633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153036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4164120" y="4524480"/>
              <a:ext cx="0" cy="1060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530360" y="4660920"/>
              <a:ext cx="2416680" cy="670320"/>
            </a:xfrm>
            <a:custGeom>
              <a:avLst/>
              <a:gdLst/>
              <a:ahLst/>
              <a:rect l="0" t="0" r="r" b="b"/>
              <a:pathLst>
                <a:path fill="none" w="6713" h="1862">
                  <a:moveTo>
                    <a:pt x="0" y="975"/>
                  </a:moveTo>
                  <a:lnTo>
                    <a:pt x="81" y="956"/>
                  </a:lnTo>
                  <a:lnTo>
                    <a:pt x="162" y="1546"/>
                  </a:lnTo>
                  <a:lnTo>
                    <a:pt x="221" y="1838"/>
                  </a:lnTo>
                  <a:lnTo>
                    <a:pt x="302" y="1297"/>
                  </a:lnTo>
                  <a:lnTo>
                    <a:pt x="383" y="163"/>
                  </a:lnTo>
                  <a:lnTo>
                    <a:pt x="464" y="0"/>
                  </a:lnTo>
                  <a:lnTo>
                    <a:pt x="545" y="1862"/>
                  </a:lnTo>
                  <a:lnTo>
                    <a:pt x="599" y="886"/>
                  </a:lnTo>
                  <a:lnTo>
                    <a:pt x="680" y="1114"/>
                  </a:lnTo>
                  <a:lnTo>
                    <a:pt x="767" y="1045"/>
                  </a:lnTo>
                  <a:lnTo>
                    <a:pt x="848" y="728"/>
                  </a:lnTo>
                  <a:lnTo>
                    <a:pt x="929" y="1521"/>
                  </a:lnTo>
                  <a:lnTo>
                    <a:pt x="983" y="1501"/>
                  </a:lnTo>
                  <a:lnTo>
                    <a:pt x="1064" y="975"/>
                  </a:lnTo>
                  <a:lnTo>
                    <a:pt x="1145" y="975"/>
                  </a:lnTo>
                  <a:lnTo>
                    <a:pt x="1226" y="1183"/>
                  </a:lnTo>
                  <a:lnTo>
                    <a:pt x="1286" y="1159"/>
                  </a:lnTo>
                  <a:lnTo>
                    <a:pt x="1367" y="817"/>
                  </a:lnTo>
                  <a:lnTo>
                    <a:pt x="1448" y="1272"/>
                  </a:lnTo>
                  <a:lnTo>
                    <a:pt x="1529" y="1134"/>
                  </a:lnTo>
                  <a:lnTo>
                    <a:pt x="1610" y="911"/>
                  </a:lnTo>
                  <a:lnTo>
                    <a:pt x="1664" y="1025"/>
                  </a:lnTo>
                  <a:lnTo>
                    <a:pt x="1746" y="728"/>
                  </a:lnTo>
                  <a:lnTo>
                    <a:pt x="1832" y="1089"/>
                  </a:lnTo>
                  <a:lnTo>
                    <a:pt x="1913" y="1089"/>
                  </a:lnTo>
                  <a:lnTo>
                    <a:pt x="1995" y="1159"/>
                  </a:lnTo>
                  <a:lnTo>
                    <a:pt x="2049" y="1183"/>
                  </a:lnTo>
                  <a:lnTo>
                    <a:pt x="2130" y="931"/>
                  </a:lnTo>
                  <a:lnTo>
                    <a:pt x="2211" y="1317"/>
                  </a:lnTo>
                  <a:lnTo>
                    <a:pt x="2292" y="1134"/>
                  </a:lnTo>
                  <a:lnTo>
                    <a:pt x="2378" y="1476"/>
                  </a:lnTo>
                  <a:lnTo>
                    <a:pt x="2432" y="975"/>
                  </a:lnTo>
                  <a:lnTo>
                    <a:pt x="2513" y="1025"/>
                  </a:lnTo>
                  <a:lnTo>
                    <a:pt x="2594" y="975"/>
                  </a:lnTo>
                  <a:lnTo>
                    <a:pt x="2675" y="1203"/>
                  </a:lnTo>
                  <a:lnTo>
                    <a:pt x="2756" y="1089"/>
                  </a:lnTo>
                  <a:lnTo>
                    <a:pt x="2811" y="1089"/>
                  </a:lnTo>
                  <a:lnTo>
                    <a:pt x="2892" y="1272"/>
                  </a:lnTo>
                  <a:lnTo>
                    <a:pt x="2978" y="1248"/>
                  </a:lnTo>
                  <a:lnTo>
                    <a:pt x="3059" y="1159"/>
                  </a:lnTo>
                  <a:lnTo>
                    <a:pt x="3113" y="975"/>
                  </a:lnTo>
                  <a:lnTo>
                    <a:pt x="3194" y="931"/>
                  </a:lnTo>
                  <a:lnTo>
                    <a:pt x="3275" y="1070"/>
                  </a:lnTo>
                  <a:lnTo>
                    <a:pt x="3356" y="1203"/>
                  </a:lnTo>
                  <a:lnTo>
                    <a:pt x="3437" y="1070"/>
                  </a:lnTo>
                  <a:lnTo>
                    <a:pt x="3497" y="1070"/>
                  </a:lnTo>
                  <a:lnTo>
                    <a:pt x="3578" y="1089"/>
                  </a:lnTo>
                  <a:lnTo>
                    <a:pt x="3659" y="1089"/>
                  </a:lnTo>
                  <a:lnTo>
                    <a:pt x="3740" y="1183"/>
                  </a:lnTo>
                  <a:lnTo>
                    <a:pt x="3821" y="1159"/>
                  </a:lnTo>
                  <a:lnTo>
                    <a:pt x="3875" y="1045"/>
                  </a:lnTo>
                  <a:lnTo>
                    <a:pt x="3956" y="1089"/>
                  </a:lnTo>
                  <a:lnTo>
                    <a:pt x="4043" y="1159"/>
                  </a:lnTo>
                  <a:lnTo>
                    <a:pt x="4124" y="1114"/>
                  </a:lnTo>
                  <a:lnTo>
                    <a:pt x="4205" y="1114"/>
                  </a:lnTo>
                  <a:lnTo>
                    <a:pt x="4259" y="1070"/>
                  </a:lnTo>
                  <a:lnTo>
                    <a:pt x="4340" y="1089"/>
                  </a:lnTo>
                  <a:lnTo>
                    <a:pt x="4421" y="1089"/>
                  </a:lnTo>
                  <a:lnTo>
                    <a:pt x="4502" y="1070"/>
                  </a:lnTo>
                  <a:lnTo>
                    <a:pt x="4588" y="1114"/>
                  </a:lnTo>
                  <a:lnTo>
                    <a:pt x="4642" y="1089"/>
                  </a:lnTo>
                  <a:lnTo>
                    <a:pt x="4723" y="1089"/>
                  </a:lnTo>
                  <a:lnTo>
                    <a:pt x="4805" y="1070"/>
                  </a:lnTo>
                  <a:lnTo>
                    <a:pt x="4886" y="1045"/>
                  </a:lnTo>
                  <a:lnTo>
                    <a:pt x="4940" y="1089"/>
                  </a:lnTo>
                  <a:lnTo>
                    <a:pt x="5021" y="1089"/>
                  </a:lnTo>
                  <a:lnTo>
                    <a:pt x="5108" y="1089"/>
                  </a:lnTo>
                  <a:lnTo>
                    <a:pt x="5189" y="1089"/>
                  </a:lnTo>
                  <a:lnTo>
                    <a:pt x="5270" y="1114"/>
                  </a:lnTo>
                  <a:lnTo>
                    <a:pt x="5324" y="1089"/>
                  </a:lnTo>
                  <a:lnTo>
                    <a:pt x="5405" y="1089"/>
                  </a:lnTo>
                  <a:lnTo>
                    <a:pt x="5486" y="1089"/>
                  </a:lnTo>
                  <a:lnTo>
                    <a:pt x="5567" y="1089"/>
                  </a:lnTo>
                  <a:lnTo>
                    <a:pt x="5654" y="1089"/>
                  </a:lnTo>
                  <a:lnTo>
                    <a:pt x="5708" y="1089"/>
                  </a:lnTo>
                  <a:lnTo>
                    <a:pt x="5789" y="1089"/>
                  </a:lnTo>
                  <a:lnTo>
                    <a:pt x="5870" y="1089"/>
                  </a:lnTo>
                  <a:lnTo>
                    <a:pt x="5951" y="1089"/>
                  </a:lnTo>
                  <a:lnTo>
                    <a:pt x="6032" y="1089"/>
                  </a:lnTo>
                  <a:lnTo>
                    <a:pt x="6086" y="1070"/>
                  </a:lnTo>
                  <a:lnTo>
                    <a:pt x="6167" y="1089"/>
                  </a:lnTo>
                  <a:lnTo>
                    <a:pt x="6254" y="1114"/>
                  </a:lnTo>
                  <a:lnTo>
                    <a:pt x="6335" y="1114"/>
                  </a:lnTo>
                  <a:lnTo>
                    <a:pt x="6416" y="1089"/>
                  </a:lnTo>
                  <a:lnTo>
                    <a:pt x="6470" y="1089"/>
                  </a:lnTo>
                  <a:lnTo>
                    <a:pt x="6551" y="1089"/>
                  </a:lnTo>
                  <a:lnTo>
                    <a:pt x="6632" y="1070"/>
                  </a:lnTo>
                  <a:lnTo>
                    <a:pt x="6713" y="10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 txBox="1"/>
            <p:nvPr/>
          </p:nvSpPr>
          <p:spPr>
            <a:xfrm>
              <a:off x="2316240" y="5680080"/>
              <a:ext cx="7383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*chipR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 txBox="1"/>
            <p:nvPr/>
          </p:nvSpPr>
          <p:spPr>
            <a:xfrm>
              <a:off x="811080" y="5121360"/>
              <a:ext cx="4366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 w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0" name=""/>
          <p:cNvSpPr txBox="1"/>
          <p:nvPr/>
        </p:nvSpPr>
        <p:spPr>
          <a:xfrm>
            <a:off x="1738440" y="547560"/>
            <a:ext cx="601344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NSEC RMS DEL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 DECAY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1432080" y="1584360"/>
            <a:ext cx="48211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ulse response spans  6-8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herent BW ~0.5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4695840" y="2712960"/>
            <a:ext cx="3381120" cy="3230640"/>
            <a:chOff x="4695840" y="2712960"/>
            <a:chExt cx="3381120" cy="3230640"/>
          </a:xfrm>
        </p:grpSpPr>
        <p:grpSp>
          <p:nvGrpSpPr>
            <p:cNvPr id="1273" name=""/>
            <p:cNvGrpSpPr/>
            <p:nvPr/>
          </p:nvGrpSpPr>
          <p:grpSpPr>
            <a:xfrm>
              <a:off x="4695840" y="2712960"/>
              <a:ext cx="3381120" cy="3230640"/>
              <a:chOff x="4695840" y="2712960"/>
              <a:chExt cx="3381120" cy="3230640"/>
            </a:xfrm>
          </p:grpSpPr>
          <p:sp>
            <p:nvSpPr>
              <p:cNvPr id="1274" name=""/>
              <p:cNvSpPr/>
              <p:nvPr/>
            </p:nvSpPr>
            <p:spPr>
              <a:xfrm>
                <a:off x="4809960" y="2747880"/>
                <a:ext cx="3267000" cy="3195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227560" y="2984400"/>
                <a:ext cx="2527560" cy="2594160"/>
              </a:xfrm>
              <a:custGeom>
                <a:avLst/>
                <a:gdLst/>
                <a:ahLst/>
                <a:rect l="0" t="0" r="r" b="b"/>
                <a:pathLst>
                  <a:path w="7021" h="7206">
                    <a:moveTo>
                      <a:pt x="0" y="7206"/>
                    </a:moveTo>
                    <a:lnTo>
                      <a:pt x="0" y="0"/>
                    </a:lnTo>
                    <a:lnTo>
                      <a:pt x="7021" y="0"/>
                    </a:lnTo>
                    <a:lnTo>
                      <a:pt x="7021" y="7206"/>
                    </a:lnTo>
                    <a:lnTo>
                      <a:pt x="0" y="72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227560" y="2984400"/>
                <a:ext cx="2527560" cy="2594160"/>
              </a:xfrm>
              <a:custGeom>
                <a:avLst/>
                <a:gdLst/>
                <a:ahLst/>
                <a:rect l="0" t="0" r="r" b="b"/>
                <a:pathLst>
                  <a:path fill="none" w="7021" h="7206">
                    <a:moveTo>
                      <a:pt x="0" y="7206"/>
                    </a:moveTo>
                    <a:lnTo>
                      <a:pt x="0" y="0"/>
                    </a:lnTo>
                    <a:lnTo>
                      <a:pt x="7021" y="0"/>
                    </a:lnTo>
                    <a:lnTo>
                      <a:pt x="7021" y="7206"/>
                    </a:lnTo>
                    <a:lnTo>
                      <a:pt x="0" y="7206"/>
                    </a:lnTo>
                  </a:path>
                </a:pathLst>
              </a:custGeom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5227560" y="2984400"/>
                <a:ext cx="0" cy="259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V="1">
                <a:off x="5857920" y="2984400"/>
                <a:ext cx="0" cy="259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494400" y="2984400"/>
                <a:ext cx="0" cy="259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V="1">
                <a:off x="7124760" y="2984400"/>
                <a:ext cx="0" cy="259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7754760" y="2984400"/>
                <a:ext cx="0" cy="259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227560" y="557856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227560" y="532296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227560" y="505944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227560" y="480384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227560" y="454032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227560" y="428616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227560" y="402264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227560" y="376560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227560" y="350532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227560" y="324972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227560" y="298440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227560" y="557856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227560" y="298440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V="1">
                <a:off x="5227560" y="2984400"/>
                <a:ext cx="0" cy="259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7754760" y="2984400"/>
                <a:ext cx="0" cy="259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227560" y="557856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5227560" y="2984400"/>
                <a:ext cx="0" cy="259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5227560" y="55515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227560" y="298440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 txBox="1"/>
              <p:nvPr/>
            </p:nvSpPr>
            <p:spPr>
              <a:xfrm>
                <a:off x="5049720" y="5541840"/>
                <a:ext cx="263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5857920" y="55515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857920" y="298440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 txBox="1"/>
              <p:nvPr/>
            </p:nvSpPr>
            <p:spPr>
              <a:xfrm>
                <a:off x="5676840" y="5541840"/>
                <a:ext cx="263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6494400" y="55515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494400" y="298440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 txBox="1"/>
              <p:nvPr/>
            </p:nvSpPr>
            <p:spPr>
              <a:xfrm>
                <a:off x="6346800" y="5541840"/>
                <a:ext cx="2332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7124760" y="55515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124760" y="298440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 txBox="1"/>
              <p:nvPr/>
            </p:nvSpPr>
            <p:spPr>
              <a:xfrm>
                <a:off x="6977160" y="5541840"/>
                <a:ext cx="2332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7754760" y="555156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7754760" y="2984400"/>
                <a:ext cx="0" cy="2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 txBox="1"/>
              <p:nvPr/>
            </p:nvSpPr>
            <p:spPr>
              <a:xfrm>
                <a:off x="7607160" y="5541840"/>
                <a:ext cx="2332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227560" y="557856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>
                <a:off x="7731000" y="557856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 txBox="1"/>
              <p:nvPr/>
            </p:nvSpPr>
            <p:spPr>
              <a:xfrm>
                <a:off x="4932360" y="5442120"/>
                <a:ext cx="312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227560" y="532296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7731000" y="532296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 txBox="1"/>
              <p:nvPr/>
            </p:nvSpPr>
            <p:spPr>
              <a:xfrm>
                <a:off x="4932360" y="5184720"/>
                <a:ext cx="312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227560" y="505944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7731000" y="505944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 txBox="1"/>
              <p:nvPr/>
            </p:nvSpPr>
            <p:spPr>
              <a:xfrm>
                <a:off x="4932360" y="4923000"/>
                <a:ext cx="312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227560" y="480384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>
                <a:off x="7731000" y="480384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 txBox="1"/>
              <p:nvPr/>
            </p:nvSpPr>
            <p:spPr>
              <a:xfrm>
                <a:off x="4932360" y="4667400"/>
                <a:ext cx="312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227560" y="454032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 flipH="1">
                <a:off x="7731000" y="454032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 txBox="1"/>
              <p:nvPr/>
            </p:nvSpPr>
            <p:spPr>
              <a:xfrm>
                <a:off x="4986360" y="4403880"/>
                <a:ext cx="263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8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227560" y="428616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H="1">
                <a:off x="7731000" y="428616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 txBox="1"/>
              <p:nvPr/>
            </p:nvSpPr>
            <p:spPr>
              <a:xfrm>
                <a:off x="4986360" y="4149720"/>
                <a:ext cx="263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6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227560" y="402264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H="1">
                <a:off x="7731000" y="402264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 txBox="1"/>
              <p:nvPr/>
            </p:nvSpPr>
            <p:spPr>
              <a:xfrm>
                <a:off x="4986360" y="3886200"/>
                <a:ext cx="263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227560" y="376560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7731000" y="376560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 txBox="1"/>
              <p:nvPr/>
            </p:nvSpPr>
            <p:spPr>
              <a:xfrm>
                <a:off x="4986360" y="3629160"/>
                <a:ext cx="26352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227560" y="350532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7731000" y="350532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 txBox="1"/>
              <p:nvPr/>
            </p:nvSpPr>
            <p:spPr>
              <a:xfrm>
                <a:off x="5018040" y="3365640"/>
                <a:ext cx="2332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227560" y="324972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7731000" y="324972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 txBox="1"/>
              <p:nvPr/>
            </p:nvSpPr>
            <p:spPr>
              <a:xfrm>
                <a:off x="5018040" y="3111480"/>
                <a:ext cx="2332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227560" y="298440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7731000" y="2984400"/>
                <a:ext cx="23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 txBox="1"/>
              <p:nvPr/>
            </p:nvSpPr>
            <p:spPr>
              <a:xfrm>
                <a:off x="5018040" y="2847960"/>
                <a:ext cx="23328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227560" y="557856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227560" y="2984400"/>
                <a:ext cx="252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5227560" y="2984400"/>
                <a:ext cx="0" cy="259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7754760" y="2984400"/>
                <a:ext cx="0" cy="259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227560" y="3147840"/>
                <a:ext cx="2527560" cy="2225880"/>
              </a:xfrm>
              <a:custGeom>
                <a:avLst/>
                <a:gdLst/>
                <a:ahLst/>
                <a:rect l="0" t="0" r="r" b="b"/>
                <a:pathLst>
                  <a:path fill="none" w="7021" h="6183">
                    <a:moveTo>
                      <a:pt x="0" y="1790"/>
                    </a:moveTo>
                    <a:lnTo>
                      <a:pt x="0" y="1932"/>
                    </a:lnTo>
                    <a:lnTo>
                      <a:pt x="20" y="2074"/>
                    </a:lnTo>
                    <a:lnTo>
                      <a:pt x="20" y="2241"/>
                    </a:lnTo>
                    <a:lnTo>
                      <a:pt x="20" y="2429"/>
                    </a:lnTo>
                    <a:lnTo>
                      <a:pt x="46" y="2642"/>
                    </a:lnTo>
                    <a:lnTo>
                      <a:pt x="46" y="2901"/>
                    </a:lnTo>
                    <a:lnTo>
                      <a:pt x="46" y="3160"/>
                    </a:lnTo>
                    <a:lnTo>
                      <a:pt x="67" y="3399"/>
                    </a:lnTo>
                    <a:lnTo>
                      <a:pt x="67" y="3541"/>
                    </a:lnTo>
                    <a:lnTo>
                      <a:pt x="67" y="3495"/>
                    </a:lnTo>
                    <a:lnTo>
                      <a:pt x="67" y="3231"/>
                    </a:lnTo>
                    <a:lnTo>
                      <a:pt x="88" y="2901"/>
                    </a:lnTo>
                    <a:lnTo>
                      <a:pt x="88" y="2596"/>
                    </a:lnTo>
                    <a:lnTo>
                      <a:pt x="88" y="2312"/>
                    </a:lnTo>
                    <a:lnTo>
                      <a:pt x="109" y="2054"/>
                    </a:lnTo>
                    <a:lnTo>
                      <a:pt x="109" y="1815"/>
                    </a:lnTo>
                    <a:lnTo>
                      <a:pt x="109" y="1628"/>
                    </a:lnTo>
                    <a:lnTo>
                      <a:pt x="129" y="1460"/>
                    </a:lnTo>
                    <a:lnTo>
                      <a:pt x="129" y="1318"/>
                    </a:lnTo>
                    <a:lnTo>
                      <a:pt x="129" y="1201"/>
                    </a:lnTo>
                    <a:lnTo>
                      <a:pt x="155" y="1085"/>
                    </a:lnTo>
                    <a:lnTo>
                      <a:pt x="155" y="988"/>
                    </a:lnTo>
                    <a:lnTo>
                      <a:pt x="155" y="897"/>
                    </a:lnTo>
                    <a:lnTo>
                      <a:pt x="176" y="826"/>
                    </a:lnTo>
                    <a:lnTo>
                      <a:pt x="176" y="755"/>
                    </a:lnTo>
                    <a:lnTo>
                      <a:pt x="176" y="704"/>
                    </a:lnTo>
                    <a:lnTo>
                      <a:pt x="176" y="659"/>
                    </a:lnTo>
                    <a:lnTo>
                      <a:pt x="197" y="633"/>
                    </a:lnTo>
                    <a:lnTo>
                      <a:pt x="197" y="613"/>
                    </a:lnTo>
                    <a:lnTo>
                      <a:pt x="197" y="588"/>
                    </a:lnTo>
                    <a:lnTo>
                      <a:pt x="218" y="562"/>
                    </a:lnTo>
                    <a:lnTo>
                      <a:pt x="238" y="588"/>
                    </a:lnTo>
                    <a:lnTo>
                      <a:pt x="238" y="613"/>
                    </a:lnTo>
                    <a:lnTo>
                      <a:pt x="264" y="633"/>
                    </a:lnTo>
                    <a:lnTo>
                      <a:pt x="264" y="659"/>
                    </a:lnTo>
                    <a:lnTo>
                      <a:pt x="264" y="704"/>
                    </a:lnTo>
                    <a:lnTo>
                      <a:pt x="285" y="755"/>
                    </a:lnTo>
                    <a:lnTo>
                      <a:pt x="285" y="826"/>
                    </a:lnTo>
                    <a:lnTo>
                      <a:pt x="285" y="917"/>
                    </a:lnTo>
                    <a:lnTo>
                      <a:pt x="285" y="1014"/>
                    </a:lnTo>
                    <a:lnTo>
                      <a:pt x="306" y="1130"/>
                    </a:lnTo>
                    <a:lnTo>
                      <a:pt x="306" y="1298"/>
                    </a:lnTo>
                    <a:lnTo>
                      <a:pt x="306" y="1460"/>
                    </a:lnTo>
                    <a:lnTo>
                      <a:pt x="327" y="1699"/>
                    </a:lnTo>
                    <a:lnTo>
                      <a:pt x="327" y="1957"/>
                    </a:lnTo>
                    <a:lnTo>
                      <a:pt x="327" y="2312"/>
                    </a:lnTo>
                    <a:lnTo>
                      <a:pt x="353" y="2759"/>
                    </a:lnTo>
                    <a:lnTo>
                      <a:pt x="353" y="3353"/>
                    </a:lnTo>
                    <a:lnTo>
                      <a:pt x="353" y="4296"/>
                    </a:lnTo>
                    <a:lnTo>
                      <a:pt x="373" y="5899"/>
                    </a:lnTo>
                    <a:lnTo>
                      <a:pt x="373" y="4814"/>
                    </a:lnTo>
                    <a:lnTo>
                      <a:pt x="373" y="3774"/>
                    </a:lnTo>
                    <a:lnTo>
                      <a:pt x="394" y="3186"/>
                    </a:lnTo>
                    <a:lnTo>
                      <a:pt x="394" y="2784"/>
                    </a:lnTo>
                    <a:lnTo>
                      <a:pt x="394" y="2500"/>
                    </a:lnTo>
                    <a:lnTo>
                      <a:pt x="394" y="2287"/>
                    </a:lnTo>
                    <a:lnTo>
                      <a:pt x="415" y="2125"/>
                    </a:lnTo>
                    <a:lnTo>
                      <a:pt x="415" y="1983"/>
                    </a:lnTo>
                    <a:lnTo>
                      <a:pt x="415" y="1861"/>
                    </a:lnTo>
                    <a:lnTo>
                      <a:pt x="436" y="1770"/>
                    </a:lnTo>
                    <a:lnTo>
                      <a:pt x="436" y="1699"/>
                    </a:lnTo>
                    <a:lnTo>
                      <a:pt x="436" y="1628"/>
                    </a:lnTo>
                    <a:lnTo>
                      <a:pt x="462" y="1582"/>
                    </a:lnTo>
                    <a:lnTo>
                      <a:pt x="462" y="1531"/>
                    </a:lnTo>
                    <a:lnTo>
                      <a:pt x="462" y="1511"/>
                    </a:lnTo>
                    <a:lnTo>
                      <a:pt x="482" y="1460"/>
                    </a:lnTo>
                    <a:lnTo>
                      <a:pt x="503" y="1440"/>
                    </a:lnTo>
                    <a:lnTo>
                      <a:pt x="524" y="1460"/>
                    </a:lnTo>
                    <a:lnTo>
                      <a:pt x="545" y="1486"/>
                    </a:lnTo>
                    <a:lnTo>
                      <a:pt x="545" y="1511"/>
                    </a:lnTo>
                    <a:lnTo>
                      <a:pt x="571" y="1531"/>
                    </a:lnTo>
                    <a:lnTo>
                      <a:pt x="571" y="1557"/>
                    </a:lnTo>
                    <a:lnTo>
                      <a:pt x="571" y="1582"/>
                    </a:lnTo>
                    <a:lnTo>
                      <a:pt x="591" y="1602"/>
                    </a:lnTo>
                    <a:lnTo>
                      <a:pt x="591" y="1628"/>
                    </a:lnTo>
                    <a:lnTo>
                      <a:pt x="591" y="1653"/>
                    </a:lnTo>
                    <a:lnTo>
                      <a:pt x="612" y="1673"/>
                    </a:lnTo>
                    <a:lnTo>
                      <a:pt x="612" y="1719"/>
                    </a:lnTo>
                    <a:lnTo>
                      <a:pt x="612" y="1744"/>
                    </a:lnTo>
                    <a:lnTo>
                      <a:pt x="633" y="1770"/>
                    </a:lnTo>
                    <a:lnTo>
                      <a:pt x="633" y="1790"/>
                    </a:lnTo>
                    <a:lnTo>
                      <a:pt x="633" y="1815"/>
                    </a:lnTo>
                    <a:lnTo>
                      <a:pt x="633" y="1841"/>
                    </a:lnTo>
                    <a:lnTo>
                      <a:pt x="654" y="1861"/>
                    </a:lnTo>
                    <a:lnTo>
                      <a:pt x="680" y="1841"/>
                    </a:lnTo>
                    <a:lnTo>
                      <a:pt x="680" y="1815"/>
                    </a:lnTo>
                    <a:lnTo>
                      <a:pt x="700" y="1770"/>
                    </a:lnTo>
                    <a:lnTo>
                      <a:pt x="700" y="1744"/>
                    </a:lnTo>
                    <a:lnTo>
                      <a:pt x="700" y="1699"/>
                    </a:lnTo>
                    <a:lnTo>
                      <a:pt x="721" y="1673"/>
                    </a:lnTo>
                    <a:lnTo>
                      <a:pt x="721" y="1628"/>
                    </a:lnTo>
                    <a:lnTo>
                      <a:pt x="742" y="1602"/>
                    </a:lnTo>
                    <a:lnTo>
                      <a:pt x="742" y="1582"/>
                    </a:lnTo>
                    <a:lnTo>
                      <a:pt x="742" y="1602"/>
                    </a:lnTo>
                    <a:lnTo>
                      <a:pt x="768" y="1628"/>
                    </a:lnTo>
                    <a:lnTo>
                      <a:pt x="768" y="1673"/>
                    </a:lnTo>
                    <a:lnTo>
                      <a:pt x="768" y="1699"/>
                    </a:lnTo>
                    <a:lnTo>
                      <a:pt x="789" y="1744"/>
                    </a:lnTo>
                    <a:lnTo>
                      <a:pt x="789" y="1790"/>
                    </a:lnTo>
                    <a:lnTo>
                      <a:pt x="789" y="1841"/>
                    </a:lnTo>
                    <a:lnTo>
                      <a:pt x="810" y="1861"/>
                    </a:lnTo>
                    <a:lnTo>
                      <a:pt x="830" y="1841"/>
                    </a:lnTo>
                    <a:lnTo>
                      <a:pt x="830" y="1790"/>
                    </a:lnTo>
                    <a:lnTo>
                      <a:pt x="830" y="1744"/>
                    </a:lnTo>
                    <a:lnTo>
                      <a:pt x="851" y="1699"/>
                    </a:lnTo>
                    <a:lnTo>
                      <a:pt x="851" y="1628"/>
                    </a:lnTo>
                    <a:lnTo>
                      <a:pt x="851" y="1582"/>
                    </a:lnTo>
                    <a:lnTo>
                      <a:pt x="851" y="1531"/>
                    </a:lnTo>
                    <a:lnTo>
                      <a:pt x="877" y="1486"/>
                    </a:lnTo>
                    <a:lnTo>
                      <a:pt x="877" y="1460"/>
                    </a:lnTo>
                    <a:lnTo>
                      <a:pt x="877" y="1440"/>
                    </a:lnTo>
                    <a:lnTo>
                      <a:pt x="898" y="1415"/>
                    </a:lnTo>
                    <a:lnTo>
                      <a:pt x="898" y="1440"/>
                    </a:lnTo>
                    <a:lnTo>
                      <a:pt x="919" y="1460"/>
                    </a:lnTo>
                    <a:lnTo>
                      <a:pt x="919" y="1511"/>
                    </a:lnTo>
                    <a:lnTo>
                      <a:pt x="919" y="1582"/>
                    </a:lnTo>
                    <a:lnTo>
                      <a:pt x="939" y="1653"/>
                    </a:lnTo>
                    <a:lnTo>
                      <a:pt x="939" y="1744"/>
                    </a:lnTo>
                    <a:lnTo>
                      <a:pt x="939" y="1841"/>
                    </a:lnTo>
                    <a:lnTo>
                      <a:pt x="960" y="1932"/>
                    </a:lnTo>
                    <a:lnTo>
                      <a:pt x="960" y="2028"/>
                    </a:lnTo>
                    <a:lnTo>
                      <a:pt x="960" y="2099"/>
                    </a:lnTo>
                    <a:lnTo>
                      <a:pt x="986" y="2145"/>
                    </a:lnTo>
                    <a:lnTo>
                      <a:pt x="1007" y="2170"/>
                    </a:lnTo>
                    <a:lnTo>
                      <a:pt x="1007" y="2196"/>
                    </a:lnTo>
                    <a:lnTo>
                      <a:pt x="1007" y="2216"/>
                    </a:lnTo>
                    <a:lnTo>
                      <a:pt x="1028" y="2287"/>
                    </a:lnTo>
                    <a:lnTo>
                      <a:pt x="1028" y="2358"/>
                    </a:lnTo>
                    <a:lnTo>
                      <a:pt x="1028" y="2500"/>
                    </a:lnTo>
                    <a:lnTo>
                      <a:pt x="1048" y="2642"/>
                    </a:lnTo>
                    <a:lnTo>
                      <a:pt x="1048" y="2809"/>
                    </a:lnTo>
                    <a:lnTo>
                      <a:pt x="1048" y="2997"/>
                    </a:lnTo>
                    <a:lnTo>
                      <a:pt x="1069" y="3160"/>
                    </a:lnTo>
                    <a:lnTo>
                      <a:pt x="1069" y="3257"/>
                    </a:lnTo>
                    <a:lnTo>
                      <a:pt x="1069" y="3231"/>
                    </a:lnTo>
                    <a:lnTo>
                      <a:pt x="1095" y="3140"/>
                    </a:lnTo>
                    <a:lnTo>
                      <a:pt x="1095" y="2972"/>
                    </a:lnTo>
                    <a:lnTo>
                      <a:pt x="1095" y="2784"/>
                    </a:lnTo>
                    <a:lnTo>
                      <a:pt x="1095" y="2596"/>
                    </a:lnTo>
                    <a:lnTo>
                      <a:pt x="1116" y="2403"/>
                    </a:lnTo>
                    <a:lnTo>
                      <a:pt x="1116" y="2216"/>
                    </a:lnTo>
                    <a:lnTo>
                      <a:pt x="1116" y="2003"/>
                    </a:lnTo>
                    <a:lnTo>
                      <a:pt x="1137" y="1815"/>
                    </a:lnTo>
                    <a:lnTo>
                      <a:pt x="1137" y="1628"/>
                    </a:lnTo>
                    <a:lnTo>
                      <a:pt x="1137" y="1440"/>
                    </a:lnTo>
                    <a:lnTo>
                      <a:pt x="1157" y="1273"/>
                    </a:lnTo>
                    <a:lnTo>
                      <a:pt x="1157" y="1105"/>
                    </a:lnTo>
                    <a:lnTo>
                      <a:pt x="1157" y="943"/>
                    </a:lnTo>
                    <a:lnTo>
                      <a:pt x="1178" y="801"/>
                    </a:lnTo>
                    <a:lnTo>
                      <a:pt x="1178" y="684"/>
                    </a:lnTo>
                    <a:lnTo>
                      <a:pt x="1178" y="588"/>
                    </a:lnTo>
                    <a:lnTo>
                      <a:pt x="1204" y="491"/>
                    </a:lnTo>
                    <a:lnTo>
                      <a:pt x="1204" y="400"/>
                    </a:lnTo>
                    <a:lnTo>
                      <a:pt x="1204" y="329"/>
                    </a:lnTo>
                    <a:lnTo>
                      <a:pt x="1204" y="284"/>
                    </a:lnTo>
                    <a:lnTo>
                      <a:pt x="1225" y="233"/>
                    </a:lnTo>
                    <a:lnTo>
                      <a:pt x="1225" y="213"/>
                    </a:lnTo>
                    <a:lnTo>
                      <a:pt x="1246" y="187"/>
                    </a:lnTo>
                    <a:lnTo>
                      <a:pt x="1266" y="213"/>
                    </a:lnTo>
                    <a:lnTo>
                      <a:pt x="1266" y="233"/>
                    </a:lnTo>
                    <a:lnTo>
                      <a:pt x="1266" y="258"/>
                    </a:lnTo>
                    <a:lnTo>
                      <a:pt x="1292" y="304"/>
                    </a:lnTo>
                    <a:lnTo>
                      <a:pt x="1292" y="329"/>
                    </a:lnTo>
                    <a:lnTo>
                      <a:pt x="1292" y="375"/>
                    </a:lnTo>
                    <a:lnTo>
                      <a:pt x="1313" y="400"/>
                    </a:lnTo>
                    <a:lnTo>
                      <a:pt x="1313" y="426"/>
                    </a:lnTo>
                    <a:lnTo>
                      <a:pt x="1334" y="446"/>
                    </a:lnTo>
                    <a:lnTo>
                      <a:pt x="1334" y="426"/>
                    </a:lnTo>
                    <a:lnTo>
                      <a:pt x="1355" y="400"/>
                    </a:lnTo>
                    <a:lnTo>
                      <a:pt x="1355" y="375"/>
                    </a:lnTo>
                    <a:lnTo>
                      <a:pt x="1376" y="400"/>
                    </a:lnTo>
                    <a:lnTo>
                      <a:pt x="1376" y="426"/>
                    </a:lnTo>
                    <a:lnTo>
                      <a:pt x="1401" y="471"/>
                    </a:lnTo>
                    <a:lnTo>
                      <a:pt x="1401" y="491"/>
                    </a:lnTo>
                    <a:lnTo>
                      <a:pt x="1401" y="542"/>
                    </a:lnTo>
                    <a:lnTo>
                      <a:pt x="1422" y="588"/>
                    </a:lnTo>
                    <a:lnTo>
                      <a:pt x="1422" y="633"/>
                    </a:lnTo>
                    <a:lnTo>
                      <a:pt x="1443" y="659"/>
                    </a:lnTo>
                    <a:lnTo>
                      <a:pt x="1443" y="684"/>
                    </a:lnTo>
                    <a:lnTo>
                      <a:pt x="1464" y="659"/>
                    </a:lnTo>
                    <a:lnTo>
                      <a:pt x="1485" y="684"/>
                    </a:lnTo>
                    <a:lnTo>
                      <a:pt x="1511" y="704"/>
                    </a:lnTo>
                    <a:lnTo>
                      <a:pt x="1511" y="730"/>
                    </a:lnTo>
                    <a:lnTo>
                      <a:pt x="1511" y="755"/>
                    </a:lnTo>
                    <a:lnTo>
                      <a:pt x="1531" y="775"/>
                    </a:lnTo>
                    <a:lnTo>
                      <a:pt x="1531" y="826"/>
                    </a:lnTo>
                    <a:lnTo>
                      <a:pt x="1531" y="872"/>
                    </a:lnTo>
                    <a:lnTo>
                      <a:pt x="1552" y="917"/>
                    </a:lnTo>
                    <a:lnTo>
                      <a:pt x="1552" y="988"/>
                    </a:lnTo>
                    <a:lnTo>
                      <a:pt x="1552" y="1059"/>
                    </a:lnTo>
                    <a:lnTo>
                      <a:pt x="1552" y="1130"/>
                    </a:lnTo>
                    <a:lnTo>
                      <a:pt x="1573" y="1247"/>
                    </a:lnTo>
                    <a:lnTo>
                      <a:pt x="1573" y="1369"/>
                    </a:lnTo>
                    <a:lnTo>
                      <a:pt x="1573" y="1511"/>
                    </a:lnTo>
                    <a:lnTo>
                      <a:pt x="1594" y="1673"/>
                    </a:lnTo>
                    <a:lnTo>
                      <a:pt x="1594" y="1861"/>
                    </a:lnTo>
                    <a:lnTo>
                      <a:pt x="1594" y="2099"/>
                    </a:lnTo>
                    <a:lnTo>
                      <a:pt x="1620" y="2383"/>
                    </a:lnTo>
                    <a:lnTo>
                      <a:pt x="1620" y="2738"/>
                    </a:lnTo>
                    <a:lnTo>
                      <a:pt x="1620" y="3115"/>
                    </a:lnTo>
                    <a:lnTo>
                      <a:pt x="1640" y="3495"/>
                    </a:lnTo>
                    <a:lnTo>
                      <a:pt x="1640" y="3683"/>
                    </a:lnTo>
                    <a:lnTo>
                      <a:pt x="1640" y="3515"/>
                    </a:lnTo>
                    <a:lnTo>
                      <a:pt x="1661" y="3160"/>
                    </a:lnTo>
                    <a:lnTo>
                      <a:pt x="1661" y="2830"/>
                    </a:lnTo>
                    <a:lnTo>
                      <a:pt x="1661" y="2571"/>
                    </a:lnTo>
                    <a:lnTo>
                      <a:pt x="1661" y="2332"/>
                    </a:lnTo>
                    <a:lnTo>
                      <a:pt x="1682" y="2170"/>
                    </a:lnTo>
                    <a:lnTo>
                      <a:pt x="1682" y="2028"/>
                    </a:lnTo>
                    <a:lnTo>
                      <a:pt x="1682" y="1912"/>
                    </a:lnTo>
                    <a:lnTo>
                      <a:pt x="1708" y="1841"/>
                    </a:lnTo>
                    <a:lnTo>
                      <a:pt x="1708" y="1790"/>
                    </a:lnTo>
                    <a:lnTo>
                      <a:pt x="1708" y="1770"/>
                    </a:lnTo>
                    <a:lnTo>
                      <a:pt x="1729" y="1744"/>
                    </a:lnTo>
                    <a:lnTo>
                      <a:pt x="1749" y="1744"/>
                    </a:lnTo>
                    <a:lnTo>
                      <a:pt x="1770" y="1719"/>
                    </a:lnTo>
                    <a:lnTo>
                      <a:pt x="1791" y="1699"/>
                    </a:lnTo>
                    <a:lnTo>
                      <a:pt x="1791" y="1719"/>
                    </a:lnTo>
                    <a:lnTo>
                      <a:pt x="1791" y="1744"/>
                    </a:lnTo>
                    <a:lnTo>
                      <a:pt x="1791" y="1790"/>
                    </a:lnTo>
                    <a:lnTo>
                      <a:pt x="1817" y="1886"/>
                    </a:lnTo>
                    <a:lnTo>
                      <a:pt x="1817" y="2003"/>
                    </a:lnTo>
                    <a:lnTo>
                      <a:pt x="1817" y="2196"/>
                    </a:lnTo>
                    <a:lnTo>
                      <a:pt x="1838" y="2454"/>
                    </a:lnTo>
                    <a:lnTo>
                      <a:pt x="1838" y="2809"/>
                    </a:lnTo>
                    <a:lnTo>
                      <a:pt x="1838" y="3282"/>
                    </a:lnTo>
                    <a:lnTo>
                      <a:pt x="1858" y="3870"/>
                    </a:lnTo>
                    <a:lnTo>
                      <a:pt x="1858" y="4058"/>
                    </a:lnTo>
                    <a:lnTo>
                      <a:pt x="1858" y="3444"/>
                    </a:lnTo>
                    <a:lnTo>
                      <a:pt x="1879" y="2809"/>
                    </a:lnTo>
                    <a:lnTo>
                      <a:pt x="1879" y="2312"/>
                    </a:lnTo>
                    <a:lnTo>
                      <a:pt x="1879" y="1957"/>
                    </a:lnTo>
                    <a:lnTo>
                      <a:pt x="1900" y="1653"/>
                    </a:lnTo>
                    <a:lnTo>
                      <a:pt x="1900" y="1415"/>
                    </a:lnTo>
                    <a:lnTo>
                      <a:pt x="1900" y="1247"/>
                    </a:lnTo>
                    <a:lnTo>
                      <a:pt x="1900" y="1105"/>
                    </a:lnTo>
                    <a:lnTo>
                      <a:pt x="1926" y="988"/>
                    </a:lnTo>
                    <a:lnTo>
                      <a:pt x="1926" y="917"/>
                    </a:lnTo>
                    <a:lnTo>
                      <a:pt x="1926" y="872"/>
                    </a:lnTo>
                    <a:lnTo>
                      <a:pt x="1947" y="846"/>
                    </a:lnTo>
                    <a:lnTo>
                      <a:pt x="1947" y="872"/>
                    </a:lnTo>
                    <a:lnTo>
                      <a:pt x="1967" y="917"/>
                    </a:lnTo>
                    <a:lnTo>
                      <a:pt x="1967" y="988"/>
                    </a:lnTo>
                    <a:lnTo>
                      <a:pt x="1967" y="1059"/>
                    </a:lnTo>
                    <a:lnTo>
                      <a:pt x="1988" y="1156"/>
                    </a:lnTo>
                    <a:lnTo>
                      <a:pt x="1988" y="1247"/>
                    </a:lnTo>
                    <a:lnTo>
                      <a:pt x="1988" y="1369"/>
                    </a:lnTo>
                    <a:lnTo>
                      <a:pt x="2009" y="1486"/>
                    </a:lnTo>
                    <a:lnTo>
                      <a:pt x="2009" y="1628"/>
                    </a:lnTo>
                    <a:lnTo>
                      <a:pt x="2009" y="1770"/>
                    </a:lnTo>
                    <a:lnTo>
                      <a:pt x="2009" y="1912"/>
                    </a:lnTo>
                    <a:lnTo>
                      <a:pt x="2035" y="2074"/>
                    </a:lnTo>
                    <a:lnTo>
                      <a:pt x="2035" y="2216"/>
                    </a:lnTo>
                    <a:lnTo>
                      <a:pt x="2035" y="2332"/>
                    </a:lnTo>
                    <a:lnTo>
                      <a:pt x="2056" y="2403"/>
                    </a:lnTo>
                    <a:lnTo>
                      <a:pt x="2056" y="2383"/>
                    </a:lnTo>
                    <a:lnTo>
                      <a:pt x="2056" y="2287"/>
                    </a:lnTo>
                    <a:lnTo>
                      <a:pt x="2077" y="2125"/>
                    </a:lnTo>
                    <a:lnTo>
                      <a:pt x="2077" y="1932"/>
                    </a:lnTo>
                    <a:lnTo>
                      <a:pt x="2077" y="1744"/>
                    </a:lnTo>
                    <a:lnTo>
                      <a:pt x="2097" y="1582"/>
                    </a:lnTo>
                    <a:lnTo>
                      <a:pt x="2097" y="1440"/>
                    </a:lnTo>
                    <a:lnTo>
                      <a:pt x="2097" y="1318"/>
                    </a:lnTo>
                    <a:lnTo>
                      <a:pt x="2123" y="1227"/>
                    </a:lnTo>
                    <a:lnTo>
                      <a:pt x="2123" y="1156"/>
                    </a:lnTo>
                    <a:lnTo>
                      <a:pt x="2123" y="1105"/>
                    </a:lnTo>
                    <a:lnTo>
                      <a:pt x="2123" y="1059"/>
                    </a:lnTo>
                    <a:lnTo>
                      <a:pt x="2144" y="1039"/>
                    </a:lnTo>
                    <a:lnTo>
                      <a:pt x="2144" y="1014"/>
                    </a:lnTo>
                    <a:lnTo>
                      <a:pt x="2165" y="988"/>
                    </a:lnTo>
                    <a:lnTo>
                      <a:pt x="2165" y="968"/>
                    </a:lnTo>
                    <a:lnTo>
                      <a:pt x="2186" y="943"/>
                    </a:lnTo>
                    <a:lnTo>
                      <a:pt x="2206" y="917"/>
                    </a:lnTo>
                    <a:lnTo>
                      <a:pt x="2232" y="897"/>
                    </a:lnTo>
                    <a:lnTo>
                      <a:pt x="2253" y="872"/>
                    </a:lnTo>
                    <a:lnTo>
                      <a:pt x="2253" y="846"/>
                    </a:lnTo>
                    <a:lnTo>
                      <a:pt x="2253" y="826"/>
                    </a:lnTo>
                    <a:lnTo>
                      <a:pt x="2274" y="801"/>
                    </a:lnTo>
                    <a:lnTo>
                      <a:pt x="2274" y="775"/>
                    </a:lnTo>
                    <a:lnTo>
                      <a:pt x="2295" y="755"/>
                    </a:lnTo>
                    <a:lnTo>
                      <a:pt x="2295" y="775"/>
                    </a:lnTo>
                    <a:lnTo>
                      <a:pt x="2315" y="826"/>
                    </a:lnTo>
                    <a:lnTo>
                      <a:pt x="2315" y="872"/>
                    </a:lnTo>
                    <a:lnTo>
                      <a:pt x="2315" y="943"/>
                    </a:lnTo>
                    <a:lnTo>
                      <a:pt x="2341" y="1014"/>
                    </a:lnTo>
                    <a:lnTo>
                      <a:pt x="2341" y="1105"/>
                    </a:lnTo>
                    <a:lnTo>
                      <a:pt x="2341" y="1176"/>
                    </a:lnTo>
                    <a:lnTo>
                      <a:pt x="2362" y="1273"/>
                    </a:lnTo>
                    <a:lnTo>
                      <a:pt x="2362" y="1369"/>
                    </a:lnTo>
                    <a:lnTo>
                      <a:pt x="2362" y="1440"/>
                    </a:lnTo>
                    <a:lnTo>
                      <a:pt x="2362" y="1511"/>
                    </a:lnTo>
                    <a:lnTo>
                      <a:pt x="2383" y="1557"/>
                    </a:lnTo>
                    <a:lnTo>
                      <a:pt x="2383" y="1582"/>
                    </a:lnTo>
                    <a:lnTo>
                      <a:pt x="2383" y="1602"/>
                    </a:lnTo>
                    <a:lnTo>
                      <a:pt x="2404" y="1628"/>
                    </a:lnTo>
                    <a:lnTo>
                      <a:pt x="2424" y="1653"/>
                    </a:lnTo>
                    <a:lnTo>
                      <a:pt x="2450" y="1673"/>
                    </a:lnTo>
                    <a:lnTo>
                      <a:pt x="2471" y="1699"/>
                    </a:lnTo>
                    <a:lnTo>
                      <a:pt x="2471" y="1744"/>
                    </a:lnTo>
                    <a:lnTo>
                      <a:pt x="2471" y="1790"/>
                    </a:lnTo>
                    <a:lnTo>
                      <a:pt x="2471" y="1861"/>
                    </a:lnTo>
                    <a:lnTo>
                      <a:pt x="2492" y="1932"/>
                    </a:lnTo>
                    <a:lnTo>
                      <a:pt x="2492" y="2003"/>
                    </a:lnTo>
                    <a:lnTo>
                      <a:pt x="2492" y="2074"/>
                    </a:lnTo>
                    <a:lnTo>
                      <a:pt x="2513" y="2145"/>
                    </a:lnTo>
                    <a:lnTo>
                      <a:pt x="2513" y="2196"/>
                    </a:lnTo>
                    <a:lnTo>
                      <a:pt x="2513" y="2241"/>
                    </a:lnTo>
                    <a:lnTo>
                      <a:pt x="2539" y="2287"/>
                    </a:lnTo>
                    <a:lnTo>
                      <a:pt x="2539" y="2332"/>
                    </a:lnTo>
                    <a:lnTo>
                      <a:pt x="2539" y="2383"/>
                    </a:lnTo>
                    <a:lnTo>
                      <a:pt x="2559" y="2454"/>
                    </a:lnTo>
                    <a:lnTo>
                      <a:pt x="2559" y="2546"/>
                    </a:lnTo>
                    <a:lnTo>
                      <a:pt x="2559" y="2667"/>
                    </a:lnTo>
                    <a:lnTo>
                      <a:pt x="2580" y="2809"/>
                    </a:lnTo>
                    <a:lnTo>
                      <a:pt x="2580" y="2972"/>
                    </a:lnTo>
                    <a:lnTo>
                      <a:pt x="2580" y="3140"/>
                    </a:lnTo>
                    <a:lnTo>
                      <a:pt x="2580" y="3257"/>
                    </a:lnTo>
                    <a:lnTo>
                      <a:pt x="2601" y="3282"/>
                    </a:lnTo>
                    <a:lnTo>
                      <a:pt x="2601" y="3160"/>
                    </a:lnTo>
                    <a:lnTo>
                      <a:pt x="2601" y="2972"/>
                    </a:lnTo>
                    <a:lnTo>
                      <a:pt x="2622" y="2759"/>
                    </a:lnTo>
                    <a:lnTo>
                      <a:pt x="2622" y="2525"/>
                    </a:lnTo>
                    <a:lnTo>
                      <a:pt x="2622" y="2332"/>
                    </a:lnTo>
                    <a:lnTo>
                      <a:pt x="2648" y="2170"/>
                    </a:lnTo>
                    <a:lnTo>
                      <a:pt x="2648" y="2028"/>
                    </a:lnTo>
                    <a:lnTo>
                      <a:pt x="2648" y="1886"/>
                    </a:lnTo>
                    <a:lnTo>
                      <a:pt x="2668" y="1790"/>
                    </a:lnTo>
                    <a:lnTo>
                      <a:pt x="2668" y="1699"/>
                    </a:lnTo>
                    <a:lnTo>
                      <a:pt x="2668" y="1628"/>
                    </a:lnTo>
                    <a:lnTo>
                      <a:pt x="2689" y="1557"/>
                    </a:lnTo>
                    <a:lnTo>
                      <a:pt x="2689" y="1531"/>
                    </a:lnTo>
                    <a:lnTo>
                      <a:pt x="2689" y="1486"/>
                    </a:lnTo>
                    <a:lnTo>
                      <a:pt x="2710" y="1460"/>
                    </a:lnTo>
                    <a:lnTo>
                      <a:pt x="2710" y="1486"/>
                    </a:lnTo>
                    <a:lnTo>
                      <a:pt x="2731" y="1511"/>
                    </a:lnTo>
                    <a:lnTo>
                      <a:pt x="2731" y="1557"/>
                    </a:lnTo>
                    <a:lnTo>
                      <a:pt x="2731" y="1602"/>
                    </a:lnTo>
                    <a:lnTo>
                      <a:pt x="2757" y="1653"/>
                    </a:lnTo>
                    <a:lnTo>
                      <a:pt x="2757" y="1719"/>
                    </a:lnTo>
                    <a:lnTo>
                      <a:pt x="2757" y="1770"/>
                    </a:lnTo>
                    <a:lnTo>
                      <a:pt x="2777" y="1841"/>
                    </a:lnTo>
                    <a:lnTo>
                      <a:pt x="2777" y="1912"/>
                    </a:lnTo>
                    <a:lnTo>
                      <a:pt x="2777" y="1983"/>
                    </a:lnTo>
                    <a:lnTo>
                      <a:pt x="2798" y="2054"/>
                    </a:lnTo>
                    <a:lnTo>
                      <a:pt x="2798" y="2099"/>
                    </a:lnTo>
                    <a:lnTo>
                      <a:pt x="2798" y="2145"/>
                    </a:lnTo>
                    <a:lnTo>
                      <a:pt x="2819" y="2196"/>
                    </a:lnTo>
                    <a:lnTo>
                      <a:pt x="2819" y="2216"/>
                    </a:lnTo>
                    <a:lnTo>
                      <a:pt x="2819" y="2241"/>
                    </a:lnTo>
                    <a:lnTo>
                      <a:pt x="2840" y="2267"/>
                    </a:lnTo>
                    <a:lnTo>
                      <a:pt x="2866" y="2287"/>
                    </a:lnTo>
                    <a:lnTo>
                      <a:pt x="2866" y="2332"/>
                    </a:lnTo>
                    <a:lnTo>
                      <a:pt x="2866" y="2358"/>
                    </a:lnTo>
                    <a:lnTo>
                      <a:pt x="2887" y="2429"/>
                    </a:lnTo>
                    <a:lnTo>
                      <a:pt x="2887" y="2500"/>
                    </a:lnTo>
                    <a:lnTo>
                      <a:pt x="2887" y="2571"/>
                    </a:lnTo>
                    <a:lnTo>
                      <a:pt x="2907" y="2688"/>
                    </a:lnTo>
                    <a:lnTo>
                      <a:pt x="2907" y="2830"/>
                    </a:lnTo>
                    <a:lnTo>
                      <a:pt x="2907" y="2997"/>
                    </a:lnTo>
                    <a:lnTo>
                      <a:pt x="2928" y="3186"/>
                    </a:lnTo>
                    <a:lnTo>
                      <a:pt x="2928" y="3444"/>
                    </a:lnTo>
                    <a:lnTo>
                      <a:pt x="2928" y="3754"/>
                    </a:lnTo>
                    <a:lnTo>
                      <a:pt x="2928" y="4154"/>
                    </a:lnTo>
                    <a:lnTo>
                      <a:pt x="2954" y="4697"/>
                    </a:lnTo>
                    <a:lnTo>
                      <a:pt x="2954" y="5194"/>
                    </a:lnTo>
                    <a:lnTo>
                      <a:pt x="2954" y="5001"/>
                    </a:lnTo>
                    <a:lnTo>
                      <a:pt x="2975" y="4367"/>
                    </a:lnTo>
                    <a:lnTo>
                      <a:pt x="2975" y="3799"/>
                    </a:lnTo>
                    <a:lnTo>
                      <a:pt x="2975" y="3353"/>
                    </a:lnTo>
                    <a:lnTo>
                      <a:pt x="2996" y="2997"/>
                    </a:lnTo>
                    <a:lnTo>
                      <a:pt x="2996" y="2713"/>
                    </a:lnTo>
                    <a:lnTo>
                      <a:pt x="2996" y="2475"/>
                    </a:lnTo>
                    <a:lnTo>
                      <a:pt x="3016" y="2287"/>
                    </a:lnTo>
                    <a:lnTo>
                      <a:pt x="3016" y="2125"/>
                    </a:lnTo>
                    <a:lnTo>
                      <a:pt x="3016" y="2003"/>
                    </a:lnTo>
                    <a:lnTo>
                      <a:pt x="3037" y="1912"/>
                    </a:lnTo>
                    <a:lnTo>
                      <a:pt x="3037" y="1841"/>
                    </a:lnTo>
                    <a:lnTo>
                      <a:pt x="3037" y="1790"/>
                    </a:lnTo>
                    <a:lnTo>
                      <a:pt x="3037" y="1744"/>
                    </a:lnTo>
                    <a:lnTo>
                      <a:pt x="3063" y="1719"/>
                    </a:lnTo>
                    <a:lnTo>
                      <a:pt x="3063" y="1699"/>
                    </a:lnTo>
                    <a:lnTo>
                      <a:pt x="3063" y="1653"/>
                    </a:lnTo>
                    <a:lnTo>
                      <a:pt x="3084" y="1628"/>
                    </a:lnTo>
                    <a:lnTo>
                      <a:pt x="3084" y="1582"/>
                    </a:lnTo>
                    <a:lnTo>
                      <a:pt x="3084" y="1531"/>
                    </a:lnTo>
                    <a:lnTo>
                      <a:pt x="3105" y="1460"/>
                    </a:lnTo>
                    <a:lnTo>
                      <a:pt x="3105" y="1389"/>
                    </a:lnTo>
                    <a:lnTo>
                      <a:pt x="3105" y="1318"/>
                    </a:lnTo>
                    <a:lnTo>
                      <a:pt x="3125" y="1247"/>
                    </a:lnTo>
                    <a:lnTo>
                      <a:pt x="3125" y="1201"/>
                    </a:lnTo>
                    <a:lnTo>
                      <a:pt x="3125" y="1156"/>
                    </a:lnTo>
                    <a:lnTo>
                      <a:pt x="3146" y="1105"/>
                    </a:lnTo>
                    <a:lnTo>
                      <a:pt x="3146" y="1085"/>
                    </a:lnTo>
                    <a:lnTo>
                      <a:pt x="3172" y="1059"/>
                    </a:lnTo>
                    <a:lnTo>
                      <a:pt x="3172" y="1085"/>
                    </a:lnTo>
                    <a:lnTo>
                      <a:pt x="3172" y="1105"/>
                    </a:lnTo>
                    <a:lnTo>
                      <a:pt x="3172" y="1156"/>
                    </a:lnTo>
                    <a:lnTo>
                      <a:pt x="3193" y="1227"/>
                    </a:lnTo>
                    <a:lnTo>
                      <a:pt x="3193" y="1298"/>
                    </a:lnTo>
                    <a:lnTo>
                      <a:pt x="3193" y="1389"/>
                    </a:lnTo>
                    <a:lnTo>
                      <a:pt x="3214" y="1486"/>
                    </a:lnTo>
                    <a:lnTo>
                      <a:pt x="3214" y="1582"/>
                    </a:lnTo>
                    <a:lnTo>
                      <a:pt x="3214" y="1653"/>
                    </a:lnTo>
                    <a:lnTo>
                      <a:pt x="3234" y="1719"/>
                    </a:lnTo>
                    <a:lnTo>
                      <a:pt x="3234" y="1770"/>
                    </a:lnTo>
                    <a:lnTo>
                      <a:pt x="3255" y="1790"/>
                    </a:lnTo>
                    <a:lnTo>
                      <a:pt x="3255" y="1770"/>
                    </a:lnTo>
                    <a:lnTo>
                      <a:pt x="3255" y="1719"/>
                    </a:lnTo>
                    <a:lnTo>
                      <a:pt x="3281" y="1673"/>
                    </a:lnTo>
                    <a:lnTo>
                      <a:pt x="3281" y="1628"/>
                    </a:lnTo>
                    <a:lnTo>
                      <a:pt x="3281" y="1582"/>
                    </a:lnTo>
                    <a:lnTo>
                      <a:pt x="3281" y="1531"/>
                    </a:lnTo>
                    <a:lnTo>
                      <a:pt x="3302" y="1511"/>
                    </a:lnTo>
                    <a:lnTo>
                      <a:pt x="3302" y="1486"/>
                    </a:lnTo>
                    <a:lnTo>
                      <a:pt x="3302" y="1460"/>
                    </a:lnTo>
                    <a:lnTo>
                      <a:pt x="3323" y="1440"/>
                    </a:lnTo>
                    <a:lnTo>
                      <a:pt x="3323" y="1415"/>
                    </a:lnTo>
                    <a:lnTo>
                      <a:pt x="3323" y="1369"/>
                    </a:lnTo>
                    <a:lnTo>
                      <a:pt x="3343" y="1318"/>
                    </a:lnTo>
                    <a:lnTo>
                      <a:pt x="3343" y="1247"/>
                    </a:lnTo>
                    <a:lnTo>
                      <a:pt x="3343" y="1176"/>
                    </a:lnTo>
                    <a:lnTo>
                      <a:pt x="3369" y="1085"/>
                    </a:lnTo>
                    <a:lnTo>
                      <a:pt x="3369" y="1014"/>
                    </a:lnTo>
                    <a:lnTo>
                      <a:pt x="3369" y="943"/>
                    </a:lnTo>
                    <a:lnTo>
                      <a:pt x="3390" y="846"/>
                    </a:lnTo>
                    <a:lnTo>
                      <a:pt x="3390" y="775"/>
                    </a:lnTo>
                    <a:lnTo>
                      <a:pt x="3390" y="730"/>
                    </a:lnTo>
                    <a:lnTo>
                      <a:pt x="3390" y="659"/>
                    </a:lnTo>
                    <a:lnTo>
                      <a:pt x="3411" y="588"/>
                    </a:lnTo>
                    <a:lnTo>
                      <a:pt x="3411" y="517"/>
                    </a:lnTo>
                    <a:lnTo>
                      <a:pt x="3411" y="471"/>
                    </a:lnTo>
                    <a:lnTo>
                      <a:pt x="3432" y="400"/>
                    </a:lnTo>
                    <a:lnTo>
                      <a:pt x="3432" y="355"/>
                    </a:lnTo>
                    <a:lnTo>
                      <a:pt x="3432" y="284"/>
                    </a:lnTo>
                    <a:lnTo>
                      <a:pt x="3453" y="213"/>
                    </a:lnTo>
                    <a:lnTo>
                      <a:pt x="3453" y="162"/>
                    </a:lnTo>
                    <a:lnTo>
                      <a:pt x="3453" y="116"/>
                    </a:lnTo>
                    <a:lnTo>
                      <a:pt x="3478" y="71"/>
                    </a:lnTo>
                    <a:lnTo>
                      <a:pt x="3478" y="45"/>
                    </a:lnTo>
                    <a:lnTo>
                      <a:pt x="3478" y="0"/>
                    </a:lnTo>
                    <a:lnTo>
                      <a:pt x="3499" y="0"/>
                    </a:lnTo>
                    <a:lnTo>
                      <a:pt x="3521" y="20"/>
                    </a:lnTo>
                    <a:lnTo>
                      <a:pt x="3521" y="45"/>
                    </a:lnTo>
                    <a:lnTo>
                      <a:pt x="3521" y="71"/>
                    </a:lnTo>
                    <a:lnTo>
                      <a:pt x="3521" y="116"/>
                    </a:lnTo>
                    <a:lnTo>
                      <a:pt x="3542" y="187"/>
                    </a:lnTo>
                    <a:lnTo>
                      <a:pt x="3542" y="233"/>
                    </a:lnTo>
                    <a:lnTo>
                      <a:pt x="3542" y="304"/>
                    </a:lnTo>
                    <a:lnTo>
                      <a:pt x="3563" y="355"/>
                    </a:lnTo>
                    <a:lnTo>
                      <a:pt x="3563" y="426"/>
                    </a:lnTo>
                    <a:lnTo>
                      <a:pt x="3563" y="471"/>
                    </a:lnTo>
                    <a:lnTo>
                      <a:pt x="3589" y="491"/>
                    </a:lnTo>
                    <a:lnTo>
                      <a:pt x="3589" y="542"/>
                    </a:lnTo>
                    <a:lnTo>
                      <a:pt x="3609" y="562"/>
                    </a:lnTo>
                    <a:lnTo>
                      <a:pt x="3630" y="542"/>
                    </a:lnTo>
                    <a:lnTo>
                      <a:pt x="3651" y="562"/>
                    </a:lnTo>
                    <a:lnTo>
                      <a:pt x="3651" y="588"/>
                    </a:lnTo>
                    <a:lnTo>
                      <a:pt x="3651" y="613"/>
                    </a:lnTo>
                    <a:lnTo>
                      <a:pt x="3672" y="659"/>
                    </a:lnTo>
                    <a:lnTo>
                      <a:pt x="3672" y="704"/>
                    </a:lnTo>
                    <a:lnTo>
                      <a:pt x="3672" y="775"/>
                    </a:lnTo>
                    <a:lnTo>
                      <a:pt x="3698" y="846"/>
                    </a:lnTo>
                    <a:lnTo>
                      <a:pt x="3698" y="897"/>
                    </a:lnTo>
                    <a:lnTo>
                      <a:pt x="3698" y="968"/>
                    </a:lnTo>
                    <a:lnTo>
                      <a:pt x="3718" y="1039"/>
                    </a:lnTo>
                    <a:lnTo>
                      <a:pt x="3718" y="1085"/>
                    </a:lnTo>
                    <a:lnTo>
                      <a:pt x="3718" y="1130"/>
                    </a:lnTo>
                    <a:lnTo>
                      <a:pt x="3739" y="1176"/>
                    </a:lnTo>
                    <a:lnTo>
                      <a:pt x="3739" y="1227"/>
                    </a:lnTo>
                    <a:lnTo>
                      <a:pt x="3739" y="1298"/>
                    </a:lnTo>
                    <a:lnTo>
                      <a:pt x="3739" y="1369"/>
                    </a:lnTo>
                    <a:lnTo>
                      <a:pt x="3760" y="1460"/>
                    </a:lnTo>
                    <a:lnTo>
                      <a:pt x="3760" y="1557"/>
                    </a:lnTo>
                    <a:lnTo>
                      <a:pt x="3760" y="1673"/>
                    </a:lnTo>
                    <a:lnTo>
                      <a:pt x="3786" y="1790"/>
                    </a:lnTo>
                    <a:lnTo>
                      <a:pt x="3786" y="1912"/>
                    </a:lnTo>
                    <a:lnTo>
                      <a:pt x="3786" y="1983"/>
                    </a:lnTo>
                    <a:lnTo>
                      <a:pt x="3807" y="2003"/>
                    </a:lnTo>
                    <a:lnTo>
                      <a:pt x="3807" y="1932"/>
                    </a:lnTo>
                    <a:lnTo>
                      <a:pt x="3807" y="1790"/>
                    </a:lnTo>
                    <a:lnTo>
                      <a:pt x="3827" y="1628"/>
                    </a:lnTo>
                    <a:lnTo>
                      <a:pt x="3827" y="1460"/>
                    </a:lnTo>
                    <a:lnTo>
                      <a:pt x="3827" y="1298"/>
                    </a:lnTo>
                    <a:lnTo>
                      <a:pt x="3848" y="1130"/>
                    </a:lnTo>
                    <a:lnTo>
                      <a:pt x="3848" y="988"/>
                    </a:lnTo>
                    <a:lnTo>
                      <a:pt x="3848" y="872"/>
                    </a:lnTo>
                    <a:lnTo>
                      <a:pt x="3848" y="755"/>
                    </a:lnTo>
                    <a:lnTo>
                      <a:pt x="3869" y="659"/>
                    </a:lnTo>
                    <a:lnTo>
                      <a:pt x="3869" y="588"/>
                    </a:lnTo>
                    <a:lnTo>
                      <a:pt x="3869" y="517"/>
                    </a:lnTo>
                    <a:lnTo>
                      <a:pt x="3895" y="446"/>
                    </a:lnTo>
                    <a:lnTo>
                      <a:pt x="3895" y="400"/>
                    </a:lnTo>
                    <a:lnTo>
                      <a:pt x="3895" y="375"/>
                    </a:lnTo>
                    <a:lnTo>
                      <a:pt x="3916" y="355"/>
                    </a:lnTo>
                    <a:lnTo>
                      <a:pt x="3936" y="329"/>
                    </a:lnTo>
                    <a:lnTo>
                      <a:pt x="3936" y="355"/>
                    </a:lnTo>
                    <a:lnTo>
                      <a:pt x="3957" y="375"/>
                    </a:lnTo>
                    <a:lnTo>
                      <a:pt x="3957" y="400"/>
                    </a:lnTo>
                    <a:lnTo>
                      <a:pt x="3957" y="426"/>
                    </a:lnTo>
                    <a:lnTo>
                      <a:pt x="3978" y="446"/>
                    </a:lnTo>
                    <a:lnTo>
                      <a:pt x="3978" y="471"/>
                    </a:lnTo>
                    <a:lnTo>
                      <a:pt x="3978" y="491"/>
                    </a:lnTo>
                    <a:lnTo>
                      <a:pt x="4004" y="517"/>
                    </a:lnTo>
                    <a:lnTo>
                      <a:pt x="4004" y="542"/>
                    </a:lnTo>
                    <a:lnTo>
                      <a:pt x="4004" y="562"/>
                    </a:lnTo>
                    <a:lnTo>
                      <a:pt x="4025" y="588"/>
                    </a:lnTo>
                    <a:lnTo>
                      <a:pt x="4025" y="613"/>
                    </a:lnTo>
                    <a:lnTo>
                      <a:pt x="4025" y="633"/>
                    </a:lnTo>
                    <a:lnTo>
                      <a:pt x="4045" y="684"/>
                    </a:lnTo>
                    <a:lnTo>
                      <a:pt x="4045" y="704"/>
                    </a:lnTo>
                    <a:lnTo>
                      <a:pt x="4045" y="755"/>
                    </a:lnTo>
                    <a:lnTo>
                      <a:pt x="4066" y="775"/>
                    </a:lnTo>
                    <a:lnTo>
                      <a:pt x="4087" y="801"/>
                    </a:lnTo>
                    <a:lnTo>
                      <a:pt x="4113" y="775"/>
                    </a:lnTo>
                    <a:lnTo>
                      <a:pt x="4113" y="801"/>
                    </a:lnTo>
                    <a:lnTo>
                      <a:pt x="4113" y="826"/>
                    </a:lnTo>
                    <a:lnTo>
                      <a:pt x="4134" y="872"/>
                    </a:lnTo>
                    <a:lnTo>
                      <a:pt x="4134" y="917"/>
                    </a:lnTo>
                    <a:lnTo>
                      <a:pt x="4134" y="988"/>
                    </a:lnTo>
                    <a:lnTo>
                      <a:pt x="4155" y="1039"/>
                    </a:lnTo>
                    <a:lnTo>
                      <a:pt x="4155" y="1105"/>
                    </a:lnTo>
                    <a:lnTo>
                      <a:pt x="4155" y="1176"/>
                    </a:lnTo>
                    <a:lnTo>
                      <a:pt x="4175" y="1227"/>
                    </a:lnTo>
                    <a:lnTo>
                      <a:pt x="4175" y="1273"/>
                    </a:lnTo>
                    <a:lnTo>
                      <a:pt x="4175" y="1298"/>
                    </a:lnTo>
                    <a:lnTo>
                      <a:pt x="4201" y="1318"/>
                    </a:lnTo>
                    <a:lnTo>
                      <a:pt x="4201" y="1298"/>
                    </a:lnTo>
                    <a:lnTo>
                      <a:pt x="4201" y="1273"/>
                    </a:lnTo>
                    <a:lnTo>
                      <a:pt x="4222" y="1227"/>
                    </a:lnTo>
                    <a:lnTo>
                      <a:pt x="4222" y="1201"/>
                    </a:lnTo>
                    <a:lnTo>
                      <a:pt x="4243" y="1176"/>
                    </a:lnTo>
                    <a:lnTo>
                      <a:pt x="4243" y="1156"/>
                    </a:lnTo>
                    <a:lnTo>
                      <a:pt x="4264" y="1176"/>
                    </a:lnTo>
                    <a:lnTo>
                      <a:pt x="4264" y="1201"/>
                    </a:lnTo>
                    <a:lnTo>
                      <a:pt x="4264" y="1227"/>
                    </a:lnTo>
                    <a:lnTo>
                      <a:pt x="4284" y="1273"/>
                    </a:lnTo>
                    <a:lnTo>
                      <a:pt x="4284" y="1318"/>
                    </a:lnTo>
                    <a:lnTo>
                      <a:pt x="4284" y="1369"/>
                    </a:lnTo>
                    <a:lnTo>
                      <a:pt x="4310" y="1440"/>
                    </a:lnTo>
                    <a:lnTo>
                      <a:pt x="4310" y="1511"/>
                    </a:lnTo>
                    <a:lnTo>
                      <a:pt x="4310" y="1557"/>
                    </a:lnTo>
                    <a:lnTo>
                      <a:pt x="4310" y="1628"/>
                    </a:lnTo>
                    <a:lnTo>
                      <a:pt x="4331" y="1673"/>
                    </a:lnTo>
                    <a:lnTo>
                      <a:pt x="4331" y="1719"/>
                    </a:lnTo>
                    <a:lnTo>
                      <a:pt x="4331" y="1744"/>
                    </a:lnTo>
                    <a:lnTo>
                      <a:pt x="4352" y="1790"/>
                    </a:lnTo>
                    <a:lnTo>
                      <a:pt x="4352" y="1841"/>
                    </a:lnTo>
                    <a:lnTo>
                      <a:pt x="4352" y="1886"/>
                    </a:lnTo>
                    <a:lnTo>
                      <a:pt x="4373" y="1957"/>
                    </a:lnTo>
                    <a:lnTo>
                      <a:pt x="4373" y="2054"/>
                    </a:lnTo>
                    <a:lnTo>
                      <a:pt x="4373" y="2145"/>
                    </a:lnTo>
                    <a:lnTo>
                      <a:pt x="4393" y="2241"/>
                    </a:lnTo>
                    <a:lnTo>
                      <a:pt x="4393" y="2312"/>
                    </a:lnTo>
                    <a:lnTo>
                      <a:pt x="4393" y="2332"/>
                    </a:lnTo>
                    <a:lnTo>
                      <a:pt x="4419" y="2287"/>
                    </a:lnTo>
                    <a:lnTo>
                      <a:pt x="4419" y="2170"/>
                    </a:lnTo>
                    <a:lnTo>
                      <a:pt x="4419" y="2028"/>
                    </a:lnTo>
                    <a:lnTo>
                      <a:pt x="4440" y="1861"/>
                    </a:lnTo>
                    <a:lnTo>
                      <a:pt x="4440" y="1699"/>
                    </a:lnTo>
                    <a:lnTo>
                      <a:pt x="4440" y="1557"/>
                    </a:lnTo>
                    <a:lnTo>
                      <a:pt x="4440" y="1460"/>
                    </a:lnTo>
                    <a:lnTo>
                      <a:pt x="4461" y="1369"/>
                    </a:lnTo>
                    <a:lnTo>
                      <a:pt x="4461" y="1318"/>
                    </a:lnTo>
                    <a:lnTo>
                      <a:pt x="4461" y="1273"/>
                    </a:lnTo>
                    <a:lnTo>
                      <a:pt x="4482" y="1298"/>
                    </a:lnTo>
                    <a:lnTo>
                      <a:pt x="4482" y="1369"/>
                    </a:lnTo>
                    <a:lnTo>
                      <a:pt x="4502" y="1440"/>
                    </a:lnTo>
                    <a:lnTo>
                      <a:pt x="4502" y="1557"/>
                    </a:lnTo>
                    <a:lnTo>
                      <a:pt x="4502" y="1673"/>
                    </a:lnTo>
                    <a:lnTo>
                      <a:pt x="4528" y="1861"/>
                    </a:lnTo>
                    <a:lnTo>
                      <a:pt x="4528" y="2074"/>
                    </a:lnTo>
                    <a:lnTo>
                      <a:pt x="4528" y="2332"/>
                    </a:lnTo>
                    <a:lnTo>
                      <a:pt x="4549" y="2667"/>
                    </a:lnTo>
                    <a:lnTo>
                      <a:pt x="4549" y="3115"/>
                    </a:lnTo>
                    <a:lnTo>
                      <a:pt x="4549" y="3754"/>
                    </a:lnTo>
                    <a:lnTo>
                      <a:pt x="4549" y="4839"/>
                    </a:lnTo>
                    <a:lnTo>
                      <a:pt x="4570" y="6183"/>
                    </a:lnTo>
                    <a:lnTo>
                      <a:pt x="4570" y="4413"/>
                    </a:lnTo>
                    <a:lnTo>
                      <a:pt x="4570" y="3470"/>
                    </a:lnTo>
                    <a:lnTo>
                      <a:pt x="4591" y="2880"/>
                    </a:lnTo>
                    <a:lnTo>
                      <a:pt x="4591" y="2429"/>
                    </a:lnTo>
                    <a:lnTo>
                      <a:pt x="4591" y="2099"/>
                    </a:lnTo>
                    <a:lnTo>
                      <a:pt x="4617" y="1815"/>
                    </a:lnTo>
                    <a:lnTo>
                      <a:pt x="4617" y="1602"/>
                    </a:lnTo>
                    <a:lnTo>
                      <a:pt x="4617" y="1389"/>
                    </a:lnTo>
                    <a:lnTo>
                      <a:pt x="4637" y="1247"/>
                    </a:lnTo>
                    <a:lnTo>
                      <a:pt x="4637" y="1105"/>
                    </a:lnTo>
                    <a:lnTo>
                      <a:pt x="4637" y="988"/>
                    </a:lnTo>
                    <a:lnTo>
                      <a:pt x="4658" y="897"/>
                    </a:lnTo>
                    <a:lnTo>
                      <a:pt x="4658" y="801"/>
                    </a:lnTo>
                    <a:lnTo>
                      <a:pt x="4658" y="730"/>
                    </a:lnTo>
                    <a:lnTo>
                      <a:pt x="4658" y="684"/>
                    </a:lnTo>
                    <a:lnTo>
                      <a:pt x="4679" y="633"/>
                    </a:lnTo>
                    <a:lnTo>
                      <a:pt x="4679" y="613"/>
                    </a:lnTo>
                    <a:lnTo>
                      <a:pt x="4700" y="588"/>
                    </a:lnTo>
                    <a:lnTo>
                      <a:pt x="4700" y="562"/>
                    </a:lnTo>
                    <a:lnTo>
                      <a:pt x="4726" y="588"/>
                    </a:lnTo>
                    <a:lnTo>
                      <a:pt x="4726" y="613"/>
                    </a:lnTo>
                    <a:lnTo>
                      <a:pt x="4726" y="659"/>
                    </a:lnTo>
                    <a:lnTo>
                      <a:pt x="4746" y="684"/>
                    </a:lnTo>
                    <a:lnTo>
                      <a:pt x="4746" y="704"/>
                    </a:lnTo>
                    <a:lnTo>
                      <a:pt x="4746" y="755"/>
                    </a:lnTo>
                    <a:lnTo>
                      <a:pt x="4767" y="775"/>
                    </a:lnTo>
                    <a:lnTo>
                      <a:pt x="4767" y="801"/>
                    </a:lnTo>
                    <a:lnTo>
                      <a:pt x="4788" y="775"/>
                    </a:lnTo>
                    <a:lnTo>
                      <a:pt x="4788" y="730"/>
                    </a:lnTo>
                    <a:lnTo>
                      <a:pt x="4788" y="684"/>
                    </a:lnTo>
                    <a:lnTo>
                      <a:pt x="4809" y="659"/>
                    </a:lnTo>
                    <a:lnTo>
                      <a:pt x="4809" y="613"/>
                    </a:lnTo>
                    <a:lnTo>
                      <a:pt x="4809" y="562"/>
                    </a:lnTo>
                    <a:lnTo>
                      <a:pt x="4835" y="542"/>
                    </a:lnTo>
                    <a:lnTo>
                      <a:pt x="4856" y="517"/>
                    </a:lnTo>
                    <a:lnTo>
                      <a:pt x="4856" y="542"/>
                    </a:lnTo>
                    <a:lnTo>
                      <a:pt x="4876" y="562"/>
                    </a:lnTo>
                    <a:lnTo>
                      <a:pt x="4876" y="613"/>
                    </a:lnTo>
                    <a:lnTo>
                      <a:pt x="4876" y="659"/>
                    </a:lnTo>
                    <a:lnTo>
                      <a:pt x="4897" y="704"/>
                    </a:lnTo>
                    <a:lnTo>
                      <a:pt x="4897" y="755"/>
                    </a:lnTo>
                    <a:lnTo>
                      <a:pt x="4897" y="801"/>
                    </a:lnTo>
                    <a:lnTo>
                      <a:pt x="4897" y="826"/>
                    </a:lnTo>
                    <a:lnTo>
                      <a:pt x="4918" y="846"/>
                    </a:lnTo>
                    <a:lnTo>
                      <a:pt x="4918" y="872"/>
                    </a:lnTo>
                    <a:lnTo>
                      <a:pt x="4944" y="846"/>
                    </a:lnTo>
                    <a:lnTo>
                      <a:pt x="4944" y="801"/>
                    </a:lnTo>
                    <a:lnTo>
                      <a:pt x="4944" y="730"/>
                    </a:lnTo>
                    <a:lnTo>
                      <a:pt x="4965" y="633"/>
                    </a:lnTo>
                    <a:lnTo>
                      <a:pt x="4965" y="562"/>
                    </a:lnTo>
                    <a:lnTo>
                      <a:pt x="4965" y="471"/>
                    </a:lnTo>
                    <a:lnTo>
                      <a:pt x="4985" y="375"/>
                    </a:lnTo>
                    <a:lnTo>
                      <a:pt x="4985" y="304"/>
                    </a:lnTo>
                    <a:lnTo>
                      <a:pt x="4985" y="233"/>
                    </a:lnTo>
                    <a:lnTo>
                      <a:pt x="5006" y="162"/>
                    </a:lnTo>
                    <a:lnTo>
                      <a:pt x="5006" y="116"/>
                    </a:lnTo>
                    <a:lnTo>
                      <a:pt x="5006" y="91"/>
                    </a:lnTo>
                    <a:lnTo>
                      <a:pt x="5032" y="71"/>
                    </a:lnTo>
                    <a:lnTo>
                      <a:pt x="5032" y="91"/>
                    </a:lnTo>
                    <a:lnTo>
                      <a:pt x="5053" y="142"/>
                    </a:lnTo>
                    <a:lnTo>
                      <a:pt x="5053" y="187"/>
                    </a:lnTo>
                    <a:lnTo>
                      <a:pt x="5053" y="233"/>
                    </a:lnTo>
                    <a:lnTo>
                      <a:pt x="5074" y="284"/>
                    </a:lnTo>
                    <a:lnTo>
                      <a:pt x="5074" y="355"/>
                    </a:lnTo>
                    <a:lnTo>
                      <a:pt x="5074" y="400"/>
                    </a:lnTo>
                    <a:lnTo>
                      <a:pt x="5094" y="446"/>
                    </a:lnTo>
                    <a:lnTo>
                      <a:pt x="5094" y="491"/>
                    </a:lnTo>
                    <a:lnTo>
                      <a:pt x="5094" y="542"/>
                    </a:lnTo>
                    <a:lnTo>
                      <a:pt x="5115" y="562"/>
                    </a:lnTo>
                    <a:lnTo>
                      <a:pt x="5115" y="588"/>
                    </a:lnTo>
                    <a:lnTo>
                      <a:pt x="5115" y="613"/>
                    </a:lnTo>
                    <a:lnTo>
                      <a:pt x="5141" y="633"/>
                    </a:lnTo>
                    <a:lnTo>
                      <a:pt x="5141" y="659"/>
                    </a:lnTo>
                    <a:lnTo>
                      <a:pt x="5162" y="684"/>
                    </a:lnTo>
                    <a:lnTo>
                      <a:pt x="5162" y="704"/>
                    </a:lnTo>
                    <a:lnTo>
                      <a:pt x="5162" y="730"/>
                    </a:lnTo>
                    <a:lnTo>
                      <a:pt x="5183" y="755"/>
                    </a:lnTo>
                    <a:lnTo>
                      <a:pt x="5183" y="801"/>
                    </a:lnTo>
                    <a:lnTo>
                      <a:pt x="5183" y="826"/>
                    </a:lnTo>
                    <a:lnTo>
                      <a:pt x="5203" y="872"/>
                    </a:lnTo>
                    <a:lnTo>
                      <a:pt x="5203" y="943"/>
                    </a:lnTo>
                    <a:lnTo>
                      <a:pt x="5203" y="988"/>
                    </a:lnTo>
                    <a:lnTo>
                      <a:pt x="5224" y="1059"/>
                    </a:lnTo>
                    <a:lnTo>
                      <a:pt x="5224" y="1105"/>
                    </a:lnTo>
                    <a:lnTo>
                      <a:pt x="5224" y="1156"/>
                    </a:lnTo>
                    <a:lnTo>
                      <a:pt x="5224" y="1201"/>
                    </a:lnTo>
                    <a:lnTo>
                      <a:pt x="5250" y="1247"/>
                    </a:lnTo>
                    <a:lnTo>
                      <a:pt x="5250" y="1273"/>
                    </a:lnTo>
                    <a:lnTo>
                      <a:pt x="5250" y="1298"/>
                    </a:lnTo>
                    <a:lnTo>
                      <a:pt x="5271" y="1318"/>
                    </a:lnTo>
                    <a:lnTo>
                      <a:pt x="5271" y="1369"/>
                    </a:lnTo>
                    <a:lnTo>
                      <a:pt x="5292" y="1389"/>
                    </a:lnTo>
                    <a:lnTo>
                      <a:pt x="5292" y="1460"/>
                    </a:lnTo>
                    <a:lnTo>
                      <a:pt x="5292" y="1531"/>
                    </a:lnTo>
                    <a:lnTo>
                      <a:pt x="5312" y="1628"/>
                    </a:lnTo>
                    <a:lnTo>
                      <a:pt x="5312" y="1744"/>
                    </a:lnTo>
                    <a:lnTo>
                      <a:pt x="5312" y="1886"/>
                    </a:lnTo>
                    <a:lnTo>
                      <a:pt x="5333" y="2028"/>
                    </a:lnTo>
                    <a:lnTo>
                      <a:pt x="5333" y="2170"/>
                    </a:lnTo>
                    <a:lnTo>
                      <a:pt x="5333" y="2287"/>
                    </a:lnTo>
                    <a:lnTo>
                      <a:pt x="5359" y="2358"/>
                    </a:lnTo>
                    <a:lnTo>
                      <a:pt x="5359" y="2332"/>
                    </a:lnTo>
                    <a:lnTo>
                      <a:pt x="5359" y="2287"/>
                    </a:lnTo>
                    <a:lnTo>
                      <a:pt x="5359" y="2196"/>
                    </a:lnTo>
                    <a:lnTo>
                      <a:pt x="5380" y="2099"/>
                    </a:lnTo>
                    <a:lnTo>
                      <a:pt x="5380" y="2003"/>
                    </a:lnTo>
                    <a:lnTo>
                      <a:pt x="5380" y="1912"/>
                    </a:lnTo>
                    <a:lnTo>
                      <a:pt x="5401" y="1861"/>
                    </a:lnTo>
                    <a:lnTo>
                      <a:pt x="5401" y="1815"/>
                    </a:lnTo>
                    <a:lnTo>
                      <a:pt x="5401" y="1770"/>
                    </a:lnTo>
                    <a:lnTo>
                      <a:pt x="5421" y="1744"/>
                    </a:lnTo>
                    <a:lnTo>
                      <a:pt x="5421" y="1719"/>
                    </a:lnTo>
                    <a:lnTo>
                      <a:pt x="5447" y="1699"/>
                    </a:lnTo>
                    <a:lnTo>
                      <a:pt x="5447" y="1673"/>
                    </a:lnTo>
                    <a:lnTo>
                      <a:pt x="5468" y="1653"/>
                    </a:lnTo>
                    <a:lnTo>
                      <a:pt x="5468" y="1628"/>
                    </a:lnTo>
                    <a:lnTo>
                      <a:pt x="5468" y="1653"/>
                    </a:lnTo>
                    <a:lnTo>
                      <a:pt x="5489" y="1673"/>
                    </a:lnTo>
                    <a:lnTo>
                      <a:pt x="5489" y="1699"/>
                    </a:lnTo>
                    <a:lnTo>
                      <a:pt x="5489" y="1744"/>
                    </a:lnTo>
                    <a:lnTo>
                      <a:pt x="5510" y="1815"/>
                    </a:lnTo>
                    <a:lnTo>
                      <a:pt x="5510" y="1886"/>
                    </a:lnTo>
                    <a:lnTo>
                      <a:pt x="5510" y="1983"/>
                    </a:lnTo>
                    <a:lnTo>
                      <a:pt x="5531" y="2099"/>
                    </a:lnTo>
                    <a:lnTo>
                      <a:pt x="5531" y="2216"/>
                    </a:lnTo>
                    <a:lnTo>
                      <a:pt x="5531" y="2332"/>
                    </a:lnTo>
                    <a:lnTo>
                      <a:pt x="5556" y="2454"/>
                    </a:lnTo>
                    <a:lnTo>
                      <a:pt x="5556" y="2596"/>
                    </a:lnTo>
                    <a:lnTo>
                      <a:pt x="5556" y="2713"/>
                    </a:lnTo>
                    <a:lnTo>
                      <a:pt x="5577" y="2830"/>
                    </a:lnTo>
                    <a:lnTo>
                      <a:pt x="5577" y="2926"/>
                    </a:lnTo>
                    <a:lnTo>
                      <a:pt x="5577" y="3017"/>
                    </a:lnTo>
                    <a:lnTo>
                      <a:pt x="5577" y="3115"/>
                    </a:lnTo>
                    <a:lnTo>
                      <a:pt x="5598" y="3186"/>
                    </a:lnTo>
                    <a:lnTo>
                      <a:pt x="5598" y="3231"/>
                    </a:lnTo>
                    <a:lnTo>
                      <a:pt x="5598" y="3282"/>
                    </a:lnTo>
                    <a:lnTo>
                      <a:pt x="5619" y="3302"/>
                    </a:lnTo>
                    <a:lnTo>
                      <a:pt x="5619" y="3282"/>
                    </a:lnTo>
                    <a:lnTo>
                      <a:pt x="5640" y="3211"/>
                    </a:lnTo>
                    <a:lnTo>
                      <a:pt x="5640" y="3140"/>
                    </a:lnTo>
                    <a:lnTo>
                      <a:pt x="5640" y="3068"/>
                    </a:lnTo>
                    <a:lnTo>
                      <a:pt x="5666" y="2972"/>
                    </a:lnTo>
                    <a:lnTo>
                      <a:pt x="5666" y="2880"/>
                    </a:lnTo>
                    <a:lnTo>
                      <a:pt x="5666" y="2809"/>
                    </a:lnTo>
                    <a:lnTo>
                      <a:pt x="5686" y="2738"/>
                    </a:lnTo>
                    <a:lnTo>
                      <a:pt x="5686" y="2688"/>
                    </a:lnTo>
                    <a:lnTo>
                      <a:pt x="5707" y="2667"/>
                    </a:lnTo>
                    <a:lnTo>
                      <a:pt x="5707" y="2688"/>
                    </a:lnTo>
                    <a:lnTo>
                      <a:pt x="5707" y="2738"/>
                    </a:lnTo>
                    <a:lnTo>
                      <a:pt x="5728" y="2784"/>
                    </a:lnTo>
                    <a:lnTo>
                      <a:pt x="5728" y="2830"/>
                    </a:lnTo>
                    <a:lnTo>
                      <a:pt x="5728" y="2855"/>
                    </a:lnTo>
                    <a:lnTo>
                      <a:pt x="5749" y="2880"/>
                    </a:lnTo>
                    <a:lnTo>
                      <a:pt x="5749" y="2855"/>
                    </a:lnTo>
                    <a:lnTo>
                      <a:pt x="5775" y="2809"/>
                    </a:lnTo>
                    <a:lnTo>
                      <a:pt x="5775" y="2738"/>
                    </a:lnTo>
                    <a:lnTo>
                      <a:pt x="5775" y="2667"/>
                    </a:lnTo>
                    <a:lnTo>
                      <a:pt x="5795" y="2596"/>
                    </a:lnTo>
                    <a:lnTo>
                      <a:pt x="5795" y="2525"/>
                    </a:lnTo>
                    <a:lnTo>
                      <a:pt x="5795" y="2454"/>
                    </a:lnTo>
                    <a:lnTo>
                      <a:pt x="5816" y="2403"/>
                    </a:lnTo>
                    <a:lnTo>
                      <a:pt x="5816" y="2332"/>
                    </a:lnTo>
                    <a:lnTo>
                      <a:pt x="5816" y="2287"/>
                    </a:lnTo>
                    <a:lnTo>
                      <a:pt x="5816" y="2267"/>
                    </a:lnTo>
                    <a:lnTo>
                      <a:pt x="5837" y="2216"/>
                    </a:lnTo>
                    <a:lnTo>
                      <a:pt x="5837" y="2170"/>
                    </a:lnTo>
                    <a:lnTo>
                      <a:pt x="5837" y="2145"/>
                    </a:lnTo>
                    <a:lnTo>
                      <a:pt x="5858" y="2099"/>
                    </a:lnTo>
                    <a:lnTo>
                      <a:pt x="5858" y="2054"/>
                    </a:lnTo>
                    <a:lnTo>
                      <a:pt x="5858" y="2003"/>
                    </a:lnTo>
                    <a:lnTo>
                      <a:pt x="5884" y="1932"/>
                    </a:lnTo>
                    <a:lnTo>
                      <a:pt x="5884" y="1861"/>
                    </a:lnTo>
                    <a:lnTo>
                      <a:pt x="5884" y="1790"/>
                    </a:lnTo>
                    <a:lnTo>
                      <a:pt x="5904" y="1719"/>
                    </a:lnTo>
                    <a:lnTo>
                      <a:pt x="5904" y="1628"/>
                    </a:lnTo>
                    <a:lnTo>
                      <a:pt x="5904" y="1557"/>
                    </a:lnTo>
                    <a:lnTo>
                      <a:pt x="5925" y="1486"/>
                    </a:lnTo>
                    <a:lnTo>
                      <a:pt x="5925" y="1415"/>
                    </a:lnTo>
                    <a:lnTo>
                      <a:pt x="5925" y="1344"/>
                    </a:lnTo>
                    <a:lnTo>
                      <a:pt x="5925" y="1273"/>
                    </a:lnTo>
                    <a:lnTo>
                      <a:pt x="5946" y="1227"/>
                    </a:lnTo>
                    <a:lnTo>
                      <a:pt x="5946" y="1176"/>
                    </a:lnTo>
                    <a:lnTo>
                      <a:pt x="5946" y="1130"/>
                    </a:lnTo>
                    <a:lnTo>
                      <a:pt x="5972" y="1105"/>
                    </a:lnTo>
                    <a:lnTo>
                      <a:pt x="5972" y="1059"/>
                    </a:lnTo>
                    <a:lnTo>
                      <a:pt x="5972" y="1039"/>
                    </a:lnTo>
                    <a:lnTo>
                      <a:pt x="5993" y="988"/>
                    </a:lnTo>
                    <a:lnTo>
                      <a:pt x="5993" y="968"/>
                    </a:lnTo>
                    <a:lnTo>
                      <a:pt x="5993" y="943"/>
                    </a:lnTo>
                    <a:lnTo>
                      <a:pt x="6013" y="917"/>
                    </a:lnTo>
                    <a:lnTo>
                      <a:pt x="6013" y="897"/>
                    </a:lnTo>
                    <a:lnTo>
                      <a:pt x="6034" y="917"/>
                    </a:lnTo>
                    <a:lnTo>
                      <a:pt x="6034" y="943"/>
                    </a:lnTo>
                    <a:lnTo>
                      <a:pt x="6034" y="988"/>
                    </a:lnTo>
                    <a:lnTo>
                      <a:pt x="6034" y="1039"/>
                    </a:lnTo>
                    <a:lnTo>
                      <a:pt x="6055" y="1105"/>
                    </a:lnTo>
                    <a:lnTo>
                      <a:pt x="6055" y="1176"/>
                    </a:lnTo>
                    <a:lnTo>
                      <a:pt x="6055" y="1273"/>
                    </a:lnTo>
                    <a:lnTo>
                      <a:pt x="6081" y="1369"/>
                    </a:lnTo>
                    <a:lnTo>
                      <a:pt x="6081" y="1460"/>
                    </a:lnTo>
                    <a:lnTo>
                      <a:pt x="6081" y="1557"/>
                    </a:lnTo>
                    <a:lnTo>
                      <a:pt x="6102" y="1653"/>
                    </a:lnTo>
                    <a:lnTo>
                      <a:pt x="6102" y="1744"/>
                    </a:lnTo>
                    <a:lnTo>
                      <a:pt x="6102" y="1815"/>
                    </a:lnTo>
                    <a:lnTo>
                      <a:pt x="6122" y="1886"/>
                    </a:lnTo>
                    <a:lnTo>
                      <a:pt x="6122" y="1932"/>
                    </a:lnTo>
                    <a:lnTo>
                      <a:pt x="6122" y="1983"/>
                    </a:lnTo>
                    <a:lnTo>
                      <a:pt x="6143" y="2003"/>
                    </a:lnTo>
                    <a:lnTo>
                      <a:pt x="6143" y="2054"/>
                    </a:lnTo>
                    <a:lnTo>
                      <a:pt x="6143" y="2099"/>
                    </a:lnTo>
                    <a:lnTo>
                      <a:pt x="6164" y="2125"/>
                    </a:lnTo>
                    <a:lnTo>
                      <a:pt x="6164" y="2145"/>
                    </a:lnTo>
                    <a:lnTo>
                      <a:pt x="6164" y="2170"/>
                    </a:lnTo>
                    <a:lnTo>
                      <a:pt x="6164" y="2196"/>
                    </a:lnTo>
                    <a:lnTo>
                      <a:pt x="6190" y="2216"/>
                    </a:lnTo>
                    <a:lnTo>
                      <a:pt x="6190" y="2241"/>
                    </a:lnTo>
                    <a:lnTo>
                      <a:pt x="6190" y="2267"/>
                    </a:lnTo>
                    <a:lnTo>
                      <a:pt x="6211" y="2287"/>
                    </a:lnTo>
                    <a:lnTo>
                      <a:pt x="6211" y="2312"/>
                    </a:lnTo>
                    <a:lnTo>
                      <a:pt x="6211" y="2332"/>
                    </a:lnTo>
                    <a:lnTo>
                      <a:pt x="6232" y="2358"/>
                    </a:lnTo>
                    <a:lnTo>
                      <a:pt x="6232" y="2383"/>
                    </a:lnTo>
                    <a:lnTo>
                      <a:pt x="6252" y="2358"/>
                    </a:lnTo>
                    <a:lnTo>
                      <a:pt x="6252" y="2332"/>
                    </a:lnTo>
                    <a:lnTo>
                      <a:pt x="6252" y="2287"/>
                    </a:lnTo>
                    <a:lnTo>
                      <a:pt x="6273" y="2216"/>
                    </a:lnTo>
                    <a:lnTo>
                      <a:pt x="6273" y="2145"/>
                    </a:lnTo>
                    <a:lnTo>
                      <a:pt x="6273" y="2054"/>
                    </a:lnTo>
                    <a:lnTo>
                      <a:pt x="6273" y="1957"/>
                    </a:lnTo>
                    <a:lnTo>
                      <a:pt x="6299" y="1841"/>
                    </a:lnTo>
                    <a:lnTo>
                      <a:pt x="6299" y="1744"/>
                    </a:lnTo>
                    <a:lnTo>
                      <a:pt x="6299" y="1653"/>
                    </a:lnTo>
                    <a:lnTo>
                      <a:pt x="6320" y="1557"/>
                    </a:lnTo>
                    <a:lnTo>
                      <a:pt x="6320" y="1486"/>
                    </a:lnTo>
                    <a:lnTo>
                      <a:pt x="6320" y="1389"/>
                    </a:lnTo>
                    <a:lnTo>
                      <a:pt x="6341" y="1344"/>
                    </a:lnTo>
                    <a:lnTo>
                      <a:pt x="6341" y="1273"/>
                    </a:lnTo>
                    <a:lnTo>
                      <a:pt x="6341" y="1227"/>
                    </a:lnTo>
                    <a:lnTo>
                      <a:pt x="6361" y="1176"/>
                    </a:lnTo>
                    <a:lnTo>
                      <a:pt x="6361" y="1156"/>
                    </a:lnTo>
                    <a:lnTo>
                      <a:pt x="6361" y="1130"/>
                    </a:lnTo>
                    <a:lnTo>
                      <a:pt x="6387" y="1105"/>
                    </a:lnTo>
                    <a:lnTo>
                      <a:pt x="6408" y="1085"/>
                    </a:lnTo>
                    <a:lnTo>
                      <a:pt x="6429" y="1105"/>
                    </a:lnTo>
                    <a:lnTo>
                      <a:pt x="6450" y="1156"/>
                    </a:lnTo>
                    <a:lnTo>
                      <a:pt x="6450" y="1201"/>
                    </a:lnTo>
                    <a:lnTo>
                      <a:pt x="6450" y="1298"/>
                    </a:lnTo>
                    <a:lnTo>
                      <a:pt x="6470" y="1389"/>
                    </a:lnTo>
                    <a:lnTo>
                      <a:pt x="6470" y="1511"/>
                    </a:lnTo>
                    <a:lnTo>
                      <a:pt x="6470" y="1653"/>
                    </a:lnTo>
                    <a:lnTo>
                      <a:pt x="6496" y="1815"/>
                    </a:lnTo>
                    <a:lnTo>
                      <a:pt x="6496" y="2003"/>
                    </a:lnTo>
                    <a:lnTo>
                      <a:pt x="6496" y="2170"/>
                    </a:lnTo>
                    <a:lnTo>
                      <a:pt x="6496" y="2358"/>
                    </a:lnTo>
                    <a:lnTo>
                      <a:pt x="6517" y="2475"/>
                    </a:lnTo>
                    <a:lnTo>
                      <a:pt x="6517" y="2546"/>
                    </a:lnTo>
                    <a:lnTo>
                      <a:pt x="6538" y="2500"/>
                    </a:lnTo>
                    <a:lnTo>
                      <a:pt x="6538" y="2454"/>
                    </a:lnTo>
                    <a:lnTo>
                      <a:pt x="6538" y="2383"/>
                    </a:lnTo>
                    <a:lnTo>
                      <a:pt x="6559" y="2312"/>
                    </a:lnTo>
                    <a:lnTo>
                      <a:pt x="6559" y="2241"/>
                    </a:lnTo>
                    <a:lnTo>
                      <a:pt x="6559" y="2196"/>
                    </a:lnTo>
                    <a:lnTo>
                      <a:pt x="6579" y="2125"/>
                    </a:lnTo>
                    <a:lnTo>
                      <a:pt x="6579" y="2054"/>
                    </a:lnTo>
                    <a:lnTo>
                      <a:pt x="6579" y="1983"/>
                    </a:lnTo>
                    <a:lnTo>
                      <a:pt x="6605" y="1886"/>
                    </a:lnTo>
                    <a:lnTo>
                      <a:pt x="6605" y="1815"/>
                    </a:lnTo>
                    <a:lnTo>
                      <a:pt x="6605" y="1744"/>
                    </a:lnTo>
                    <a:lnTo>
                      <a:pt x="6626" y="1673"/>
                    </a:lnTo>
                    <a:lnTo>
                      <a:pt x="6626" y="1628"/>
                    </a:lnTo>
                    <a:lnTo>
                      <a:pt x="6626" y="1582"/>
                    </a:lnTo>
                    <a:lnTo>
                      <a:pt x="6626" y="1557"/>
                    </a:lnTo>
                    <a:lnTo>
                      <a:pt x="6647" y="1531"/>
                    </a:lnTo>
                    <a:lnTo>
                      <a:pt x="6668" y="1511"/>
                    </a:lnTo>
                    <a:lnTo>
                      <a:pt x="6668" y="1486"/>
                    </a:lnTo>
                    <a:lnTo>
                      <a:pt x="6668" y="1460"/>
                    </a:lnTo>
                    <a:lnTo>
                      <a:pt x="6688" y="1415"/>
                    </a:lnTo>
                    <a:lnTo>
                      <a:pt x="6688" y="1369"/>
                    </a:lnTo>
                    <a:lnTo>
                      <a:pt x="6688" y="1318"/>
                    </a:lnTo>
                    <a:lnTo>
                      <a:pt x="6714" y="1247"/>
                    </a:lnTo>
                    <a:lnTo>
                      <a:pt x="6714" y="1201"/>
                    </a:lnTo>
                    <a:lnTo>
                      <a:pt x="6714" y="1130"/>
                    </a:lnTo>
                    <a:lnTo>
                      <a:pt x="6735" y="1085"/>
                    </a:lnTo>
                    <a:lnTo>
                      <a:pt x="6735" y="1039"/>
                    </a:lnTo>
                    <a:lnTo>
                      <a:pt x="6735" y="968"/>
                    </a:lnTo>
                    <a:lnTo>
                      <a:pt x="6735" y="917"/>
                    </a:lnTo>
                    <a:lnTo>
                      <a:pt x="6756" y="897"/>
                    </a:lnTo>
                    <a:lnTo>
                      <a:pt x="6756" y="846"/>
                    </a:lnTo>
                    <a:lnTo>
                      <a:pt x="6756" y="826"/>
                    </a:lnTo>
                    <a:lnTo>
                      <a:pt x="6777" y="801"/>
                    </a:lnTo>
                    <a:lnTo>
                      <a:pt x="6777" y="775"/>
                    </a:lnTo>
                    <a:lnTo>
                      <a:pt x="6803" y="755"/>
                    </a:lnTo>
                    <a:lnTo>
                      <a:pt x="6823" y="775"/>
                    </a:lnTo>
                    <a:lnTo>
                      <a:pt x="6844" y="801"/>
                    </a:lnTo>
                    <a:lnTo>
                      <a:pt x="6865" y="826"/>
                    </a:lnTo>
                    <a:lnTo>
                      <a:pt x="6886" y="846"/>
                    </a:lnTo>
                    <a:lnTo>
                      <a:pt x="6886" y="872"/>
                    </a:lnTo>
                    <a:lnTo>
                      <a:pt x="6886" y="917"/>
                    </a:lnTo>
                    <a:lnTo>
                      <a:pt x="6912" y="968"/>
                    </a:lnTo>
                    <a:lnTo>
                      <a:pt x="6912" y="1039"/>
                    </a:lnTo>
                    <a:lnTo>
                      <a:pt x="6912" y="1085"/>
                    </a:lnTo>
                    <a:lnTo>
                      <a:pt x="6933" y="1156"/>
                    </a:lnTo>
                    <a:lnTo>
                      <a:pt x="6933" y="1201"/>
                    </a:lnTo>
                    <a:lnTo>
                      <a:pt x="6933" y="1227"/>
                    </a:lnTo>
                    <a:lnTo>
                      <a:pt x="6953" y="1247"/>
                    </a:lnTo>
                    <a:lnTo>
                      <a:pt x="6953" y="1273"/>
                    </a:lnTo>
                    <a:lnTo>
                      <a:pt x="6953" y="1298"/>
                    </a:lnTo>
                    <a:lnTo>
                      <a:pt x="6974" y="1318"/>
                    </a:lnTo>
                    <a:lnTo>
                      <a:pt x="6974" y="1344"/>
                    </a:lnTo>
                    <a:lnTo>
                      <a:pt x="6974" y="1369"/>
                    </a:lnTo>
                    <a:lnTo>
                      <a:pt x="6995" y="1415"/>
                    </a:lnTo>
                    <a:lnTo>
                      <a:pt x="6995" y="1486"/>
                    </a:lnTo>
                    <a:lnTo>
                      <a:pt x="6995" y="1582"/>
                    </a:lnTo>
                    <a:lnTo>
                      <a:pt x="7021" y="1673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 txBox="1"/>
              <p:nvPr/>
            </p:nvSpPr>
            <p:spPr>
              <a:xfrm>
                <a:off x="4695840" y="4317840"/>
                <a:ext cx="29196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B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 txBox="1"/>
              <p:nvPr/>
            </p:nvSpPr>
            <p:spPr>
              <a:xfrm>
                <a:off x="6072120" y="5678640"/>
                <a:ext cx="71280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eq/chipRate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 txBox="1"/>
              <p:nvPr/>
            </p:nvSpPr>
            <p:spPr>
              <a:xfrm>
                <a:off x="5859360" y="2712960"/>
                <a:ext cx="1077840" cy="19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ftali Chan Spectrum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>
              <a:off x="5257800" y="4952880"/>
              <a:ext cx="2514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 txBox="1"/>
            <p:nvPr/>
          </p:nvSpPr>
          <p:spPr>
            <a:xfrm>
              <a:off x="6004080" y="4799160"/>
              <a:ext cx="88416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88 MH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7" name=""/>
          <p:cNvSpPr txBox="1"/>
          <p:nvPr/>
        </p:nvSpPr>
        <p:spPr>
          <a:xfrm>
            <a:off x="1736640" y="5897520"/>
            <a:ext cx="242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5470560" y="5897520"/>
            <a:ext cx="201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q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"/>
          <p:cNvGrpSpPr/>
          <p:nvPr/>
        </p:nvGrpSpPr>
        <p:grpSpPr>
          <a:xfrm>
            <a:off x="533520" y="2793960"/>
            <a:ext cx="2771640" cy="2795760"/>
            <a:chOff x="533520" y="2793960"/>
            <a:chExt cx="2771640" cy="2795760"/>
          </a:xfrm>
        </p:grpSpPr>
        <p:sp>
          <p:nvSpPr>
            <p:cNvPr id="1360" name=""/>
            <p:cNvSpPr/>
            <p:nvPr/>
          </p:nvSpPr>
          <p:spPr>
            <a:xfrm>
              <a:off x="533520" y="2819520"/>
              <a:ext cx="2771640" cy="2770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90640" y="3019320"/>
              <a:ext cx="2140200" cy="951120"/>
            </a:xfrm>
            <a:custGeom>
              <a:avLst/>
              <a:gdLst/>
              <a:ahLst/>
              <a:rect l="0" t="0" r="r" b="b"/>
              <a:pathLst>
                <a:path w="5945" h="2642">
                  <a:moveTo>
                    <a:pt x="0" y="2642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42"/>
                  </a:lnTo>
                  <a:lnTo>
                    <a:pt x="0" y="26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890640" y="3019320"/>
              <a:ext cx="2140200" cy="951120"/>
            </a:xfrm>
            <a:custGeom>
              <a:avLst/>
              <a:gdLst/>
              <a:ahLst/>
              <a:rect l="0" t="0" r="r" b="b"/>
              <a:pathLst>
                <a:path fill="none" w="5945" h="2642">
                  <a:moveTo>
                    <a:pt x="0" y="2642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42"/>
                  </a:lnTo>
                  <a:lnTo>
                    <a:pt x="0" y="264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V="1">
              <a:off x="890640" y="301932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427040" y="301932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V="1">
              <a:off x="1963800" y="301932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2494080" y="301932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3030480" y="301932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890640" y="397044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890640" y="373392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890640" y="349560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90640" y="325764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90640" y="301932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90640" y="397044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90640" y="301932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890640" y="301932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3030480" y="301932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890640" y="397044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890640" y="301932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890640" y="39481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90640" y="30193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 txBox="1"/>
            <p:nvPr/>
          </p:nvSpPr>
          <p:spPr>
            <a:xfrm>
              <a:off x="779400" y="39528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1427040" y="39481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427040" y="30193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 txBox="1"/>
            <p:nvPr/>
          </p:nvSpPr>
          <p:spPr>
            <a:xfrm>
              <a:off x="1316160" y="39528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1963800" y="39481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963800" y="30193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 txBox="1"/>
            <p:nvPr/>
          </p:nvSpPr>
          <p:spPr>
            <a:xfrm>
              <a:off x="1852560" y="39528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2494080" y="39481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494080" y="30193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 txBox="1"/>
            <p:nvPr/>
          </p:nvSpPr>
          <p:spPr>
            <a:xfrm>
              <a:off x="2382840" y="39528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3030480" y="39481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030480" y="301932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 txBox="1"/>
            <p:nvPr/>
          </p:nvSpPr>
          <p:spPr>
            <a:xfrm>
              <a:off x="2919240" y="39528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890640" y="39704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011400" y="39704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 txBox="1"/>
            <p:nvPr/>
          </p:nvSpPr>
          <p:spPr>
            <a:xfrm>
              <a:off x="703440" y="3863880"/>
              <a:ext cx="263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90640" y="37339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3011400" y="37339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 txBox="1"/>
            <p:nvPr/>
          </p:nvSpPr>
          <p:spPr>
            <a:xfrm>
              <a:off x="633240" y="362592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890640" y="34956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3011400" y="34956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 txBox="1"/>
            <p:nvPr/>
          </p:nvSpPr>
          <p:spPr>
            <a:xfrm>
              <a:off x="728640" y="338760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890640" y="32576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3011400" y="32576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 txBox="1"/>
            <p:nvPr/>
          </p:nvSpPr>
          <p:spPr>
            <a:xfrm>
              <a:off x="658800" y="315108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90640" y="30193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>
              <a:off x="3011400" y="30193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 txBox="1"/>
            <p:nvPr/>
          </p:nvSpPr>
          <p:spPr>
            <a:xfrm>
              <a:off x="728640" y="29131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90640" y="397044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90640" y="301932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890640" y="301932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3030480" y="301932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90640" y="3019320"/>
              <a:ext cx="2140200" cy="765360"/>
            </a:xfrm>
            <a:custGeom>
              <a:avLst/>
              <a:gdLst/>
              <a:ahLst/>
              <a:rect l="0" t="0" r="r" b="b"/>
              <a:pathLst>
                <a:path fill="none" w="5945" h="2126">
                  <a:moveTo>
                    <a:pt x="0" y="992"/>
                  </a:moveTo>
                  <a:lnTo>
                    <a:pt x="745" y="0"/>
                  </a:lnTo>
                  <a:lnTo>
                    <a:pt x="1490" y="2126"/>
                  </a:lnTo>
                  <a:lnTo>
                    <a:pt x="2235" y="1901"/>
                  </a:lnTo>
                  <a:lnTo>
                    <a:pt x="2981" y="1116"/>
                  </a:lnTo>
                  <a:lnTo>
                    <a:pt x="3709" y="1301"/>
                  </a:lnTo>
                  <a:lnTo>
                    <a:pt x="4454" y="1279"/>
                  </a:lnTo>
                  <a:lnTo>
                    <a:pt x="5200" y="1323"/>
                  </a:lnTo>
                  <a:lnTo>
                    <a:pt x="5945" y="13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 txBox="1"/>
            <p:nvPr/>
          </p:nvSpPr>
          <p:spPr>
            <a:xfrm>
              <a:off x="1687680" y="2793960"/>
              <a:ext cx="569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 Pul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90640" y="4327560"/>
              <a:ext cx="2140200" cy="943200"/>
            </a:xfrm>
            <a:custGeom>
              <a:avLst/>
              <a:gdLst/>
              <a:ahLst/>
              <a:rect l="0" t="0" r="r" b="b"/>
              <a:pathLst>
                <a:path w="5945" h="2620">
                  <a:moveTo>
                    <a:pt x="0" y="2620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20"/>
                  </a:lnTo>
                  <a:lnTo>
                    <a:pt x="0" y="26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90640" y="4327560"/>
              <a:ext cx="2140200" cy="943200"/>
            </a:xfrm>
            <a:custGeom>
              <a:avLst/>
              <a:gdLst/>
              <a:ahLst/>
              <a:rect l="0" t="0" r="r" b="b"/>
              <a:pathLst>
                <a:path fill="none" w="5945" h="2620">
                  <a:moveTo>
                    <a:pt x="0" y="2620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20"/>
                  </a:lnTo>
                  <a:lnTo>
                    <a:pt x="0" y="262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890640" y="432756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1427040" y="432756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1963800" y="432756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2494080" y="432756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3030480" y="432756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90640" y="527040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90640" y="503244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90640" y="480204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90640" y="456552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90640" y="432756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90640" y="527040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90640" y="432756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890640" y="432756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V="1">
              <a:off x="3030480" y="432756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90640" y="527040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890640" y="432756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V="1">
              <a:off x="890640" y="524844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890640" y="4327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 txBox="1"/>
            <p:nvPr/>
          </p:nvSpPr>
          <p:spPr>
            <a:xfrm>
              <a:off x="779400" y="52531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1427040" y="524844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427040" y="4327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 txBox="1"/>
            <p:nvPr/>
          </p:nvSpPr>
          <p:spPr>
            <a:xfrm>
              <a:off x="1316160" y="52531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V="1">
              <a:off x="1963800" y="524844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963800" y="4327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 txBox="1"/>
            <p:nvPr/>
          </p:nvSpPr>
          <p:spPr>
            <a:xfrm>
              <a:off x="1852560" y="52531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V="1">
              <a:off x="2494080" y="524844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494080" y="4327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 txBox="1"/>
            <p:nvPr/>
          </p:nvSpPr>
          <p:spPr>
            <a:xfrm>
              <a:off x="2382840" y="52531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3030480" y="524844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030480" y="4327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 txBox="1"/>
            <p:nvPr/>
          </p:nvSpPr>
          <p:spPr>
            <a:xfrm>
              <a:off x="2919240" y="52531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90640" y="52704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3011400" y="52704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 txBox="1"/>
            <p:nvPr/>
          </p:nvSpPr>
          <p:spPr>
            <a:xfrm>
              <a:off x="633240" y="516420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90640" y="50324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3011400" y="50324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 txBox="1"/>
            <p:nvPr/>
          </p:nvSpPr>
          <p:spPr>
            <a:xfrm>
              <a:off x="728640" y="492588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90640" y="48020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>
              <a:off x="3011400" y="48020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 txBox="1"/>
            <p:nvPr/>
          </p:nvSpPr>
          <p:spPr>
            <a:xfrm>
              <a:off x="658800" y="469584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890640" y="45655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>
              <a:off x="3011400" y="45655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 txBox="1"/>
            <p:nvPr/>
          </p:nvSpPr>
          <p:spPr>
            <a:xfrm>
              <a:off x="658800" y="445788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90640" y="43275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011400" y="43275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 txBox="1"/>
            <p:nvPr/>
          </p:nvSpPr>
          <p:spPr>
            <a:xfrm>
              <a:off x="658800" y="421956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90640" y="527040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90640" y="432756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890640" y="432756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3030480" y="4327560"/>
              <a:ext cx="0" cy="9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90640" y="4654440"/>
              <a:ext cx="2140200" cy="549720"/>
            </a:xfrm>
            <a:custGeom>
              <a:avLst/>
              <a:gdLst/>
              <a:ahLst/>
              <a:rect l="0" t="0" r="r" b="b"/>
              <a:pathLst>
                <a:path fill="none" w="5945" h="1527">
                  <a:moveTo>
                    <a:pt x="0" y="1302"/>
                  </a:moveTo>
                  <a:lnTo>
                    <a:pt x="745" y="1050"/>
                  </a:lnTo>
                  <a:lnTo>
                    <a:pt x="1490" y="0"/>
                  </a:lnTo>
                  <a:lnTo>
                    <a:pt x="2235" y="1094"/>
                  </a:lnTo>
                  <a:lnTo>
                    <a:pt x="2981" y="785"/>
                  </a:lnTo>
                  <a:lnTo>
                    <a:pt x="3709" y="1527"/>
                  </a:lnTo>
                  <a:lnTo>
                    <a:pt x="4454" y="1342"/>
                  </a:lnTo>
                  <a:lnTo>
                    <a:pt x="5200" y="909"/>
                  </a:lnTo>
                  <a:lnTo>
                    <a:pt x="5945" y="90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 txBox="1"/>
            <p:nvPr/>
          </p:nvSpPr>
          <p:spPr>
            <a:xfrm>
              <a:off x="1609560" y="5372280"/>
              <a:ext cx="7383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*chipR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3187800" y="2792520"/>
            <a:ext cx="2860560" cy="2800440"/>
            <a:chOff x="3187800" y="2792520"/>
            <a:chExt cx="2860560" cy="2800440"/>
          </a:xfrm>
        </p:grpSpPr>
        <p:sp>
          <p:nvSpPr>
            <p:cNvPr id="1470" name=""/>
            <p:cNvSpPr/>
            <p:nvPr/>
          </p:nvSpPr>
          <p:spPr>
            <a:xfrm>
              <a:off x="3276720" y="2819520"/>
              <a:ext cx="2771640" cy="2773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630600" y="3025800"/>
              <a:ext cx="2148120" cy="2250000"/>
            </a:xfrm>
            <a:custGeom>
              <a:avLst/>
              <a:gdLst/>
              <a:ahLst/>
              <a:rect l="0" t="0" r="r" b="b"/>
              <a:pathLst>
                <a:path w="5967" h="6250">
                  <a:moveTo>
                    <a:pt x="0" y="6250"/>
                  </a:moveTo>
                  <a:lnTo>
                    <a:pt x="0" y="0"/>
                  </a:lnTo>
                  <a:lnTo>
                    <a:pt x="5967" y="0"/>
                  </a:lnTo>
                  <a:lnTo>
                    <a:pt x="5967" y="6250"/>
                  </a:lnTo>
                  <a:lnTo>
                    <a:pt x="0" y="62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630600" y="3025800"/>
              <a:ext cx="2148120" cy="2250000"/>
            </a:xfrm>
            <a:custGeom>
              <a:avLst/>
              <a:gdLst/>
              <a:ahLst/>
              <a:rect l="0" t="0" r="r" b="b"/>
              <a:pathLst>
                <a:path fill="none" w="5967" h="6250">
                  <a:moveTo>
                    <a:pt x="0" y="6250"/>
                  </a:moveTo>
                  <a:lnTo>
                    <a:pt x="0" y="0"/>
                  </a:lnTo>
                  <a:lnTo>
                    <a:pt x="5967" y="0"/>
                  </a:lnTo>
                  <a:lnTo>
                    <a:pt x="5967" y="6250"/>
                  </a:lnTo>
                  <a:lnTo>
                    <a:pt x="0" y="625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363060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470844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577836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630600" y="527544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630600" y="452772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630600" y="377352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630600" y="302580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630600" y="527544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630600" y="302580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363060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577836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30600" y="527544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363060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630600" y="525132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30600" y="30258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 txBox="1"/>
            <p:nvPr/>
          </p:nvSpPr>
          <p:spPr>
            <a:xfrm>
              <a:off x="3456000" y="526428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4708440" y="525132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708440" y="30258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 txBox="1"/>
            <p:nvPr/>
          </p:nvSpPr>
          <p:spPr>
            <a:xfrm>
              <a:off x="4595760" y="526428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778360" y="525132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778360" y="30258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 txBox="1"/>
            <p:nvPr/>
          </p:nvSpPr>
          <p:spPr>
            <a:xfrm>
              <a:off x="5627520" y="526428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30600" y="527544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5759280" y="52754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 txBox="1"/>
            <p:nvPr/>
          </p:nvSpPr>
          <p:spPr>
            <a:xfrm>
              <a:off x="3397320" y="5168880"/>
              <a:ext cx="3128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630600" y="452772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5759280" y="45277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 txBox="1"/>
            <p:nvPr/>
          </p:nvSpPr>
          <p:spPr>
            <a:xfrm>
              <a:off x="3397320" y="4421160"/>
              <a:ext cx="3128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630600" y="377352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>
              <a:off x="5759280" y="37735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 txBox="1"/>
            <p:nvPr/>
          </p:nvSpPr>
          <p:spPr>
            <a:xfrm>
              <a:off x="3441600" y="3666960"/>
              <a:ext cx="263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630600" y="302580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5759280" y="30258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 txBox="1"/>
            <p:nvPr/>
          </p:nvSpPr>
          <p:spPr>
            <a:xfrm>
              <a:off x="3468600" y="29192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630600" y="527544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630600" y="302580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363060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577836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630600" y="3025800"/>
              <a:ext cx="2148120" cy="2146680"/>
            </a:xfrm>
            <a:custGeom>
              <a:avLst/>
              <a:gdLst/>
              <a:ahLst/>
              <a:rect l="0" t="0" r="r" b="b"/>
              <a:pathLst>
                <a:path fill="none" w="5967" h="5963">
                  <a:moveTo>
                    <a:pt x="0" y="3136"/>
                  </a:moveTo>
                  <a:lnTo>
                    <a:pt x="0" y="3180"/>
                  </a:lnTo>
                  <a:lnTo>
                    <a:pt x="17" y="3202"/>
                  </a:lnTo>
                  <a:lnTo>
                    <a:pt x="17" y="3224"/>
                  </a:lnTo>
                  <a:lnTo>
                    <a:pt x="17" y="3268"/>
                  </a:lnTo>
                  <a:lnTo>
                    <a:pt x="35" y="3290"/>
                  </a:lnTo>
                  <a:lnTo>
                    <a:pt x="35" y="3312"/>
                  </a:lnTo>
                  <a:lnTo>
                    <a:pt x="35" y="3334"/>
                  </a:lnTo>
                  <a:lnTo>
                    <a:pt x="57" y="3378"/>
                  </a:lnTo>
                  <a:lnTo>
                    <a:pt x="57" y="3400"/>
                  </a:lnTo>
                  <a:lnTo>
                    <a:pt x="57" y="3422"/>
                  </a:lnTo>
                  <a:lnTo>
                    <a:pt x="74" y="3444"/>
                  </a:lnTo>
                  <a:lnTo>
                    <a:pt x="74" y="3489"/>
                  </a:lnTo>
                  <a:lnTo>
                    <a:pt x="74" y="3511"/>
                  </a:lnTo>
                  <a:lnTo>
                    <a:pt x="92" y="3533"/>
                  </a:lnTo>
                  <a:lnTo>
                    <a:pt x="92" y="3555"/>
                  </a:lnTo>
                  <a:lnTo>
                    <a:pt x="92" y="3577"/>
                  </a:lnTo>
                  <a:lnTo>
                    <a:pt x="110" y="3599"/>
                  </a:lnTo>
                  <a:lnTo>
                    <a:pt x="110" y="3621"/>
                  </a:lnTo>
                  <a:lnTo>
                    <a:pt x="110" y="3643"/>
                  </a:lnTo>
                  <a:lnTo>
                    <a:pt x="127" y="3665"/>
                  </a:lnTo>
                  <a:lnTo>
                    <a:pt x="127" y="3687"/>
                  </a:lnTo>
                  <a:lnTo>
                    <a:pt x="127" y="3709"/>
                  </a:lnTo>
                  <a:lnTo>
                    <a:pt x="145" y="3731"/>
                  </a:lnTo>
                  <a:lnTo>
                    <a:pt x="145" y="3753"/>
                  </a:lnTo>
                  <a:lnTo>
                    <a:pt x="163" y="3775"/>
                  </a:lnTo>
                  <a:lnTo>
                    <a:pt x="163" y="3797"/>
                  </a:lnTo>
                  <a:lnTo>
                    <a:pt x="180" y="3819"/>
                  </a:lnTo>
                  <a:lnTo>
                    <a:pt x="198" y="3841"/>
                  </a:lnTo>
                  <a:lnTo>
                    <a:pt x="216" y="3863"/>
                  </a:lnTo>
                  <a:lnTo>
                    <a:pt x="233" y="3885"/>
                  </a:lnTo>
                  <a:lnTo>
                    <a:pt x="251" y="3885"/>
                  </a:lnTo>
                  <a:lnTo>
                    <a:pt x="268" y="3885"/>
                  </a:lnTo>
                  <a:lnTo>
                    <a:pt x="286" y="3863"/>
                  </a:lnTo>
                  <a:lnTo>
                    <a:pt x="304" y="3841"/>
                  </a:lnTo>
                  <a:lnTo>
                    <a:pt x="321" y="3819"/>
                  </a:lnTo>
                  <a:lnTo>
                    <a:pt x="343" y="3797"/>
                  </a:lnTo>
                  <a:lnTo>
                    <a:pt x="343" y="3775"/>
                  </a:lnTo>
                  <a:lnTo>
                    <a:pt x="361" y="3753"/>
                  </a:lnTo>
                  <a:lnTo>
                    <a:pt x="361" y="3731"/>
                  </a:lnTo>
                  <a:lnTo>
                    <a:pt x="379" y="3709"/>
                  </a:lnTo>
                  <a:lnTo>
                    <a:pt x="379" y="3687"/>
                  </a:lnTo>
                  <a:lnTo>
                    <a:pt x="396" y="3665"/>
                  </a:lnTo>
                  <a:lnTo>
                    <a:pt x="396" y="3643"/>
                  </a:lnTo>
                  <a:lnTo>
                    <a:pt x="396" y="3621"/>
                  </a:lnTo>
                  <a:lnTo>
                    <a:pt x="414" y="3599"/>
                  </a:lnTo>
                  <a:lnTo>
                    <a:pt x="414" y="3577"/>
                  </a:lnTo>
                  <a:lnTo>
                    <a:pt x="432" y="3555"/>
                  </a:lnTo>
                  <a:lnTo>
                    <a:pt x="432" y="3533"/>
                  </a:lnTo>
                  <a:lnTo>
                    <a:pt x="449" y="3511"/>
                  </a:lnTo>
                  <a:lnTo>
                    <a:pt x="449" y="3489"/>
                  </a:lnTo>
                  <a:lnTo>
                    <a:pt x="467" y="3467"/>
                  </a:lnTo>
                  <a:lnTo>
                    <a:pt x="467" y="3444"/>
                  </a:lnTo>
                  <a:lnTo>
                    <a:pt x="467" y="3422"/>
                  </a:lnTo>
                  <a:lnTo>
                    <a:pt x="485" y="3400"/>
                  </a:lnTo>
                  <a:lnTo>
                    <a:pt x="485" y="3378"/>
                  </a:lnTo>
                  <a:lnTo>
                    <a:pt x="502" y="3356"/>
                  </a:lnTo>
                  <a:lnTo>
                    <a:pt x="502" y="3334"/>
                  </a:lnTo>
                  <a:lnTo>
                    <a:pt x="520" y="3312"/>
                  </a:lnTo>
                  <a:lnTo>
                    <a:pt x="520" y="3290"/>
                  </a:lnTo>
                  <a:lnTo>
                    <a:pt x="520" y="3268"/>
                  </a:lnTo>
                  <a:lnTo>
                    <a:pt x="537" y="3246"/>
                  </a:lnTo>
                  <a:lnTo>
                    <a:pt x="537" y="3224"/>
                  </a:lnTo>
                  <a:lnTo>
                    <a:pt x="555" y="3202"/>
                  </a:lnTo>
                  <a:lnTo>
                    <a:pt x="555" y="3180"/>
                  </a:lnTo>
                  <a:lnTo>
                    <a:pt x="573" y="3158"/>
                  </a:lnTo>
                  <a:lnTo>
                    <a:pt x="573" y="3136"/>
                  </a:lnTo>
                  <a:lnTo>
                    <a:pt x="573" y="3114"/>
                  </a:lnTo>
                  <a:lnTo>
                    <a:pt x="590" y="3092"/>
                  </a:lnTo>
                  <a:lnTo>
                    <a:pt x="590" y="3070"/>
                  </a:lnTo>
                  <a:lnTo>
                    <a:pt x="590" y="3048"/>
                  </a:lnTo>
                  <a:lnTo>
                    <a:pt x="608" y="3026"/>
                  </a:lnTo>
                  <a:lnTo>
                    <a:pt x="608" y="3004"/>
                  </a:lnTo>
                  <a:lnTo>
                    <a:pt x="630" y="2981"/>
                  </a:lnTo>
                  <a:lnTo>
                    <a:pt x="630" y="2959"/>
                  </a:lnTo>
                  <a:lnTo>
                    <a:pt x="648" y="2937"/>
                  </a:lnTo>
                  <a:lnTo>
                    <a:pt x="648" y="2915"/>
                  </a:lnTo>
                  <a:lnTo>
                    <a:pt x="665" y="2893"/>
                  </a:lnTo>
                  <a:lnTo>
                    <a:pt x="665" y="2871"/>
                  </a:lnTo>
                  <a:lnTo>
                    <a:pt x="683" y="2849"/>
                  </a:lnTo>
                  <a:lnTo>
                    <a:pt x="683" y="2827"/>
                  </a:lnTo>
                  <a:lnTo>
                    <a:pt x="701" y="2805"/>
                  </a:lnTo>
                  <a:lnTo>
                    <a:pt x="701" y="2783"/>
                  </a:lnTo>
                  <a:lnTo>
                    <a:pt x="718" y="2761"/>
                  </a:lnTo>
                  <a:lnTo>
                    <a:pt x="718" y="2739"/>
                  </a:lnTo>
                  <a:lnTo>
                    <a:pt x="718" y="2717"/>
                  </a:lnTo>
                  <a:lnTo>
                    <a:pt x="736" y="2695"/>
                  </a:lnTo>
                  <a:lnTo>
                    <a:pt x="736" y="2673"/>
                  </a:lnTo>
                  <a:lnTo>
                    <a:pt x="754" y="2651"/>
                  </a:lnTo>
                  <a:lnTo>
                    <a:pt x="754" y="2629"/>
                  </a:lnTo>
                  <a:lnTo>
                    <a:pt x="771" y="2607"/>
                  </a:lnTo>
                  <a:lnTo>
                    <a:pt x="771" y="2585"/>
                  </a:lnTo>
                  <a:lnTo>
                    <a:pt x="771" y="2563"/>
                  </a:lnTo>
                  <a:lnTo>
                    <a:pt x="789" y="2541"/>
                  </a:lnTo>
                  <a:lnTo>
                    <a:pt x="789" y="2518"/>
                  </a:lnTo>
                  <a:lnTo>
                    <a:pt x="806" y="2496"/>
                  </a:lnTo>
                  <a:lnTo>
                    <a:pt x="806" y="2474"/>
                  </a:lnTo>
                  <a:lnTo>
                    <a:pt x="824" y="2452"/>
                  </a:lnTo>
                  <a:lnTo>
                    <a:pt x="824" y="2430"/>
                  </a:lnTo>
                  <a:lnTo>
                    <a:pt x="824" y="2408"/>
                  </a:lnTo>
                  <a:lnTo>
                    <a:pt x="842" y="2386"/>
                  </a:lnTo>
                  <a:lnTo>
                    <a:pt x="842" y="2364"/>
                  </a:lnTo>
                  <a:lnTo>
                    <a:pt x="842" y="2342"/>
                  </a:lnTo>
                  <a:lnTo>
                    <a:pt x="859" y="2320"/>
                  </a:lnTo>
                  <a:lnTo>
                    <a:pt x="859" y="2298"/>
                  </a:lnTo>
                  <a:lnTo>
                    <a:pt x="859" y="2276"/>
                  </a:lnTo>
                  <a:lnTo>
                    <a:pt x="877" y="2254"/>
                  </a:lnTo>
                  <a:lnTo>
                    <a:pt x="877" y="2232"/>
                  </a:lnTo>
                  <a:lnTo>
                    <a:pt x="877" y="2210"/>
                  </a:lnTo>
                  <a:lnTo>
                    <a:pt x="895" y="2188"/>
                  </a:lnTo>
                  <a:lnTo>
                    <a:pt x="895" y="2166"/>
                  </a:lnTo>
                  <a:lnTo>
                    <a:pt x="895" y="2144"/>
                  </a:lnTo>
                  <a:lnTo>
                    <a:pt x="917" y="2122"/>
                  </a:lnTo>
                  <a:lnTo>
                    <a:pt x="917" y="2100"/>
                  </a:lnTo>
                  <a:lnTo>
                    <a:pt x="917" y="2077"/>
                  </a:lnTo>
                  <a:lnTo>
                    <a:pt x="934" y="2055"/>
                  </a:lnTo>
                  <a:lnTo>
                    <a:pt x="934" y="2033"/>
                  </a:lnTo>
                  <a:lnTo>
                    <a:pt x="934" y="2011"/>
                  </a:lnTo>
                  <a:lnTo>
                    <a:pt x="952" y="1989"/>
                  </a:lnTo>
                  <a:lnTo>
                    <a:pt x="952" y="1967"/>
                  </a:lnTo>
                  <a:lnTo>
                    <a:pt x="952" y="1945"/>
                  </a:lnTo>
                  <a:lnTo>
                    <a:pt x="970" y="1923"/>
                  </a:lnTo>
                  <a:lnTo>
                    <a:pt x="970" y="1901"/>
                  </a:lnTo>
                  <a:lnTo>
                    <a:pt x="970" y="1879"/>
                  </a:lnTo>
                  <a:lnTo>
                    <a:pt x="987" y="1857"/>
                  </a:lnTo>
                  <a:lnTo>
                    <a:pt x="987" y="1835"/>
                  </a:lnTo>
                  <a:lnTo>
                    <a:pt x="987" y="1813"/>
                  </a:lnTo>
                  <a:lnTo>
                    <a:pt x="1005" y="1791"/>
                  </a:lnTo>
                  <a:lnTo>
                    <a:pt x="1005" y="1769"/>
                  </a:lnTo>
                  <a:lnTo>
                    <a:pt x="1005" y="1747"/>
                  </a:lnTo>
                  <a:lnTo>
                    <a:pt x="1023" y="1725"/>
                  </a:lnTo>
                  <a:lnTo>
                    <a:pt x="1023" y="1703"/>
                  </a:lnTo>
                  <a:lnTo>
                    <a:pt x="1023" y="1681"/>
                  </a:lnTo>
                  <a:lnTo>
                    <a:pt x="1040" y="1659"/>
                  </a:lnTo>
                  <a:lnTo>
                    <a:pt x="1040" y="1637"/>
                  </a:lnTo>
                  <a:lnTo>
                    <a:pt x="1040" y="1614"/>
                  </a:lnTo>
                  <a:lnTo>
                    <a:pt x="1058" y="1592"/>
                  </a:lnTo>
                  <a:lnTo>
                    <a:pt x="1058" y="1570"/>
                  </a:lnTo>
                  <a:lnTo>
                    <a:pt x="1058" y="1548"/>
                  </a:lnTo>
                  <a:lnTo>
                    <a:pt x="1075" y="1526"/>
                  </a:lnTo>
                  <a:lnTo>
                    <a:pt x="1075" y="1504"/>
                  </a:lnTo>
                  <a:lnTo>
                    <a:pt x="1075" y="1481"/>
                  </a:lnTo>
                  <a:lnTo>
                    <a:pt x="1075" y="1459"/>
                  </a:lnTo>
                  <a:lnTo>
                    <a:pt x="1093" y="1437"/>
                  </a:lnTo>
                  <a:lnTo>
                    <a:pt x="1093" y="1393"/>
                  </a:lnTo>
                  <a:lnTo>
                    <a:pt x="1093" y="1371"/>
                  </a:lnTo>
                  <a:lnTo>
                    <a:pt x="1111" y="1349"/>
                  </a:lnTo>
                  <a:lnTo>
                    <a:pt x="1111" y="1327"/>
                  </a:lnTo>
                  <a:lnTo>
                    <a:pt x="1111" y="1300"/>
                  </a:lnTo>
                  <a:lnTo>
                    <a:pt x="1128" y="1278"/>
                  </a:lnTo>
                  <a:lnTo>
                    <a:pt x="1128" y="1256"/>
                  </a:lnTo>
                  <a:lnTo>
                    <a:pt x="1146" y="1234"/>
                  </a:lnTo>
                  <a:lnTo>
                    <a:pt x="1146" y="1212"/>
                  </a:lnTo>
                  <a:lnTo>
                    <a:pt x="1146" y="1190"/>
                  </a:lnTo>
                  <a:lnTo>
                    <a:pt x="1164" y="1168"/>
                  </a:lnTo>
                  <a:lnTo>
                    <a:pt x="1164" y="1146"/>
                  </a:lnTo>
                  <a:lnTo>
                    <a:pt x="1164" y="1124"/>
                  </a:lnTo>
                  <a:lnTo>
                    <a:pt x="1181" y="1102"/>
                  </a:lnTo>
                  <a:lnTo>
                    <a:pt x="1181" y="1080"/>
                  </a:lnTo>
                  <a:lnTo>
                    <a:pt x="1181" y="1058"/>
                  </a:lnTo>
                  <a:lnTo>
                    <a:pt x="1199" y="1036"/>
                  </a:lnTo>
                  <a:lnTo>
                    <a:pt x="1199" y="1014"/>
                  </a:lnTo>
                  <a:lnTo>
                    <a:pt x="1221" y="992"/>
                  </a:lnTo>
                  <a:lnTo>
                    <a:pt x="1221" y="970"/>
                  </a:lnTo>
                  <a:lnTo>
                    <a:pt x="1221" y="948"/>
                  </a:lnTo>
                  <a:lnTo>
                    <a:pt x="1239" y="926"/>
                  </a:lnTo>
                  <a:lnTo>
                    <a:pt x="1239" y="903"/>
                  </a:lnTo>
                  <a:lnTo>
                    <a:pt x="1256" y="881"/>
                  </a:lnTo>
                  <a:lnTo>
                    <a:pt x="1256" y="859"/>
                  </a:lnTo>
                  <a:lnTo>
                    <a:pt x="1274" y="837"/>
                  </a:lnTo>
                  <a:lnTo>
                    <a:pt x="1274" y="815"/>
                  </a:lnTo>
                  <a:lnTo>
                    <a:pt x="1292" y="793"/>
                  </a:lnTo>
                  <a:lnTo>
                    <a:pt x="1292" y="771"/>
                  </a:lnTo>
                  <a:lnTo>
                    <a:pt x="1309" y="749"/>
                  </a:lnTo>
                  <a:lnTo>
                    <a:pt x="1309" y="727"/>
                  </a:lnTo>
                  <a:lnTo>
                    <a:pt x="1327" y="705"/>
                  </a:lnTo>
                  <a:lnTo>
                    <a:pt x="1327" y="683"/>
                  </a:lnTo>
                  <a:lnTo>
                    <a:pt x="1344" y="661"/>
                  </a:lnTo>
                  <a:lnTo>
                    <a:pt x="1362" y="639"/>
                  </a:lnTo>
                  <a:lnTo>
                    <a:pt x="1362" y="617"/>
                  </a:lnTo>
                  <a:lnTo>
                    <a:pt x="1380" y="595"/>
                  </a:lnTo>
                  <a:lnTo>
                    <a:pt x="1397" y="573"/>
                  </a:lnTo>
                  <a:lnTo>
                    <a:pt x="1415" y="551"/>
                  </a:lnTo>
                  <a:lnTo>
                    <a:pt x="1433" y="529"/>
                  </a:lnTo>
                  <a:lnTo>
                    <a:pt x="1450" y="529"/>
                  </a:lnTo>
                  <a:lnTo>
                    <a:pt x="1468" y="529"/>
                  </a:lnTo>
                  <a:lnTo>
                    <a:pt x="1486" y="529"/>
                  </a:lnTo>
                  <a:lnTo>
                    <a:pt x="1508" y="529"/>
                  </a:lnTo>
                  <a:lnTo>
                    <a:pt x="1525" y="529"/>
                  </a:lnTo>
                  <a:lnTo>
                    <a:pt x="1543" y="551"/>
                  </a:lnTo>
                  <a:lnTo>
                    <a:pt x="1561" y="573"/>
                  </a:lnTo>
                  <a:lnTo>
                    <a:pt x="1578" y="595"/>
                  </a:lnTo>
                  <a:lnTo>
                    <a:pt x="1596" y="617"/>
                  </a:lnTo>
                  <a:lnTo>
                    <a:pt x="1613" y="639"/>
                  </a:lnTo>
                  <a:lnTo>
                    <a:pt x="1631" y="661"/>
                  </a:lnTo>
                  <a:lnTo>
                    <a:pt x="1631" y="683"/>
                  </a:lnTo>
                  <a:lnTo>
                    <a:pt x="1649" y="705"/>
                  </a:lnTo>
                  <a:lnTo>
                    <a:pt x="1649" y="727"/>
                  </a:lnTo>
                  <a:lnTo>
                    <a:pt x="1666" y="749"/>
                  </a:lnTo>
                  <a:lnTo>
                    <a:pt x="1666" y="771"/>
                  </a:lnTo>
                  <a:lnTo>
                    <a:pt x="1684" y="793"/>
                  </a:lnTo>
                  <a:lnTo>
                    <a:pt x="1684" y="815"/>
                  </a:lnTo>
                  <a:lnTo>
                    <a:pt x="1702" y="837"/>
                  </a:lnTo>
                  <a:lnTo>
                    <a:pt x="1702" y="859"/>
                  </a:lnTo>
                  <a:lnTo>
                    <a:pt x="1702" y="881"/>
                  </a:lnTo>
                  <a:lnTo>
                    <a:pt x="1719" y="903"/>
                  </a:lnTo>
                  <a:lnTo>
                    <a:pt x="1719" y="926"/>
                  </a:lnTo>
                  <a:lnTo>
                    <a:pt x="1719" y="948"/>
                  </a:lnTo>
                  <a:lnTo>
                    <a:pt x="1737" y="970"/>
                  </a:lnTo>
                  <a:lnTo>
                    <a:pt x="1737" y="992"/>
                  </a:lnTo>
                  <a:lnTo>
                    <a:pt x="1737" y="1014"/>
                  </a:lnTo>
                  <a:lnTo>
                    <a:pt x="1755" y="1036"/>
                  </a:lnTo>
                  <a:lnTo>
                    <a:pt x="1755" y="1058"/>
                  </a:lnTo>
                  <a:lnTo>
                    <a:pt x="1755" y="1080"/>
                  </a:lnTo>
                  <a:lnTo>
                    <a:pt x="1772" y="1102"/>
                  </a:lnTo>
                  <a:lnTo>
                    <a:pt x="1772" y="1124"/>
                  </a:lnTo>
                  <a:lnTo>
                    <a:pt x="1772" y="1146"/>
                  </a:lnTo>
                  <a:lnTo>
                    <a:pt x="1794" y="1168"/>
                  </a:lnTo>
                  <a:lnTo>
                    <a:pt x="1794" y="1190"/>
                  </a:lnTo>
                  <a:lnTo>
                    <a:pt x="1794" y="1212"/>
                  </a:lnTo>
                  <a:lnTo>
                    <a:pt x="1794" y="1256"/>
                  </a:lnTo>
                  <a:lnTo>
                    <a:pt x="1812" y="1278"/>
                  </a:lnTo>
                  <a:lnTo>
                    <a:pt x="1812" y="1300"/>
                  </a:lnTo>
                  <a:lnTo>
                    <a:pt x="1812" y="1327"/>
                  </a:lnTo>
                  <a:lnTo>
                    <a:pt x="1830" y="1371"/>
                  </a:lnTo>
                  <a:lnTo>
                    <a:pt x="1830" y="1393"/>
                  </a:lnTo>
                  <a:lnTo>
                    <a:pt x="1830" y="1415"/>
                  </a:lnTo>
                  <a:lnTo>
                    <a:pt x="1847" y="1459"/>
                  </a:lnTo>
                  <a:lnTo>
                    <a:pt x="1847" y="1481"/>
                  </a:lnTo>
                  <a:lnTo>
                    <a:pt x="1847" y="1504"/>
                  </a:lnTo>
                  <a:lnTo>
                    <a:pt x="1865" y="1548"/>
                  </a:lnTo>
                  <a:lnTo>
                    <a:pt x="1865" y="1570"/>
                  </a:lnTo>
                  <a:lnTo>
                    <a:pt x="1865" y="1614"/>
                  </a:lnTo>
                  <a:lnTo>
                    <a:pt x="1882" y="1637"/>
                  </a:lnTo>
                  <a:lnTo>
                    <a:pt x="1882" y="1681"/>
                  </a:lnTo>
                  <a:lnTo>
                    <a:pt x="1882" y="1703"/>
                  </a:lnTo>
                  <a:lnTo>
                    <a:pt x="1900" y="1747"/>
                  </a:lnTo>
                  <a:lnTo>
                    <a:pt x="1900" y="1769"/>
                  </a:lnTo>
                  <a:lnTo>
                    <a:pt x="1900" y="1813"/>
                  </a:lnTo>
                  <a:lnTo>
                    <a:pt x="1918" y="1835"/>
                  </a:lnTo>
                  <a:lnTo>
                    <a:pt x="1918" y="1879"/>
                  </a:lnTo>
                  <a:lnTo>
                    <a:pt x="1918" y="1923"/>
                  </a:lnTo>
                  <a:lnTo>
                    <a:pt x="1935" y="1945"/>
                  </a:lnTo>
                  <a:lnTo>
                    <a:pt x="1935" y="1989"/>
                  </a:lnTo>
                  <a:lnTo>
                    <a:pt x="1935" y="2011"/>
                  </a:lnTo>
                  <a:lnTo>
                    <a:pt x="1953" y="2055"/>
                  </a:lnTo>
                  <a:lnTo>
                    <a:pt x="1953" y="2100"/>
                  </a:lnTo>
                  <a:lnTo>
                    <a:pt x="1953" y="2122"/>
                  </a:lnTo>
                  <a:lnTo>
                    <a:pt x="1971" y="2166"/>
                  </a:lnTo>
                  <a:lnTo>
                    <a:pt x="1971" y="2210"/>
                  </a:lnTo>
                  <a:lnTo>
                    <a:pt x="1971" y="2254"/>
                  </a:lnTo>
                  <a:lnTo>
                    <a:pt x="1988" y="2276"/>
                  </a:lnTo>
                  <a:lnTo>
                    <a:pt x="1988" y="2320"/>
                  </a:lnTo>
                  <a:lnTo>
                    <a:pt x="1988" y="2364"/>
                  </a:lnTo>
                  <a:lnTo>
                    <a:pt x="2006" y="2386"/>
                  </a:lnTo>
                  <a:lnTo>
                    <a:pt x="2006" y="2430"/>
                  </a:lnTo>
                  <a:lnTo>
                    <a:pt x="2006" y="2474"/>
                  </a:lnTo>
                  <a:lnTo>
                    <a:pt x="2024" y="2518"/>
                  </a:lnTo>
                  <a:lnTo>
                    <a:pt x="2024" y="2563"/>
                  </a:lnTo>
                  <a:lnTo>
                    <a:pt x="2024" y="2585"/>
                  </a:lnTo>
                  <a:lnTo>
                    <a:pt x="2024" y="2629"/>
                  </a:lnTo>
                  <a:lnTo>
                    <a:pt x="2041" y="2673"/>
                  </a:lnTo>
                  <a:lnTo>
                    <a:pt x="2041" y="2717"/>
                  </a:lnTo>
                  <a:lnTo>
                    <a:pt x="2041" y="2739"/>
                  </a:lnTo>
                  <a:lnTo>
                    <a:pt x="2059" y="2783"/>
                  </a:lnTo>
                  <a:lnTo>
                    <a:pt x="2059" y="2827"/>
                  </a:lnTo>
                  <a:lnTo>
                    <a:pt x="2059" y="2871"/>
                  </a:lnTo>
                  <a:lnTo>
                    <a:pt x="2076" y="2915"/>
                  </a:lnTo>
                  <a:lnTo>
                    <a:pt x="2076" y="2937"/>
                  </a:lnTo>
                  <a:lnTo>
                    <a:pt x="2076" y="2981"/>
                  </a:lnTo>
                  <a:lnTo>
                    <a:pt x="2099" y="3026"/>
                  </a:lnTo>
                  <a:lnTo>
                    <a:pt x="2099" y="3070"/>
                  </a:lnTo>
                  <a:lnTo>
                    <a:pt x="2099" y="3092"/>
                  </a:lnTo>
                  <a:lnTo>
                    <a:pt x="2116" y="3136"/>
                  </a:lnTo>
                  <a:lnTo>
                    <a:pt x="2116" y="3180"/>
                  </a:lnTo>
                  <a:lnTo>
                    <a:pt x="2116" y="3202"/>
                  </a:lnTo>
                  <a:lnTo>
                    <a:pt x="2134" y="3246"/>
                  </a:lnTo>
                  <a:lnTo>
                    <a:pt x="2134" y="3290"/>
                  </a:lnTo>
                  <a:lnTo>
                    <a:pt x="2134" y="3334"/>
                  </a:lnTo>
                  <a:lnTo>
                    <a:pt x="2151" y="3356"/>
                  </a:lnTo>
                  <a:lnTo>
                    <a:pt x="2151" y="3400"/>
                  </a:lnTo>
                  <a:lnTo>
                    <a:pt x="2151" y="3422"/>
                  </a:lnTo>
                  <a:lnTo>
                    <a:pt x="2169" y="3467"/>
                  </a:lnTo>
                  <a:lnTo>
                    <a:pt x="2169" y="3511"/>
                  </a:lnTo>
                  <a:lnTo>
                    <a:pt x="2169" y="3533"/>
                  </a:lnTo>
                  <a:lnTo>
                    <a:pt x="2187" y="3577"/>
                  </a:lnTo>
                  <a:lnTo>
                    <a:pt x="2187" y="3599"/>
                  </a:lnTo>
                  <a:lnTo>
                    <a:pt x="2187" y="3643"/>
                  </a:lnTo>
                  <a:lnTo>
                    <a:pt x="2204" y="3665"/>
                  </a:lnTo>
                  <a:lnTo>
                    <a:pt x="2204" y="3709"/>
                  </a:lnTo>
                  <a:lnTo>
                    <a:pt x="2204" y="3731"/>
                  </a:lnTo>
                  <a:lnTo>
                    <a:pt x="2222" y="3775"/>
                  </a:lnTo>
                  <a:lnTo>
                    <a:pt x="2222" y="3797"/>
                  </a:lnTo>
                  <a:lnTo>
                    <a:pt x="2222" y="3841"/>
                  </a:lnTo>
                  <a:lnTo>
                    <a:pt x="2240" y="3863"/>
                  </a:lnTo>
                  <a:lnTo>
                    <a:pt x="2240" y="3885"/>
                  </a:lnTo>
                  <a:lnTo>
                    <a:pt x="2240" y="3930"/>
                  </a:lnTo>
                  <a:lnTo>
                    <a:pt x="2257" y="3952"/>
                  </a:lnTo>
                  <a:lnTo>
                    <a:pt x="2257" y="3974"/>
                  </a:lnTo>
                  <a:lnTo>
                    <a:pt x="2257" y="4018"/>
                  </a:lnTo>
                  <a:lnTo>
                    <a:pt x="2275" y="4040"/>
                  </a:lnTo>
                  <a:lnTo>
                    <a:pt x="2275" y="4062"/>
                  </a:lnTo>
                  <a:lnTo>
                    <a:pt x="2275" y="4106"/>
                  </a:lnTo>
                  <a:lnTo>
                    <a:pt x="2275" y="4128"/>
                  </a:lnTo>
                  <a:lnTo>
                    <a:pt x="2293" y="4150"/>
                  </a:lnTo>
                  <a:lnTo>
                    <a:pt x="2293" y="4172"/>
                  </a:lnTo>
                  <a:lnTo>
                    <a:pt x="2293" y="4216"/>
                  </a:lnTo>
                  <a:lnTo>
                    <a:pt x="2310" y="4238"/>
                  </a:lnTo>
                  <a:lnTo>
                    <a:pt x="2310" y="4260"/>
                  </a:lnTo>
                  <a:lnTo>
                    <a:pt x="2310" y="4282"/>
                  </a:lnTo>
                  <a:lnTo>
                    <a:pt x="2328" y="4304"/>
                  </a:lnTo>
                  <a:lnTo>
                    <a:pt x="2328" y="4326"/>
                  </a:lnTo>
                  <a:lnTo>
                    <a:pt x="2328" y="4371"/>
                  </a:lnTo>
                  <a:lnTo>
                    <a:pt x="2345" y="4393"/>
                  </a:lnTo>
                  <a:lnTo>
                    <a:pt x="2345" y="4415"/>
                  </a:lnTo>
                  <a:lnTo>
                    <a:pt x="2345" y="4437"/>
                  </a:lnTo>
                  <a:lnTo>
                    <a:pt x="2363" y="4459"/>
                  </a:lnTo>
                  <a:lnTo>
                    <a:pt x="2363" y="4482"/>
                  </a:lnTo>
                  <a:lnTo>
                    <a:pt x="2363" y="4504"/>
                  </a:lnTo>
                  <a:lnTo>
                    <a:pt x="2385" y="4548"/>
                  </a:lnTo>
                  <a:lnTo>
                    <a:pt x="2385" y="4570"/>
                  </a:lnTo>
                  <a:lnTo>
                    <a:pt x="2385" y="4592"/>
                  </a:lnTo>
                  <a:lnTo>
                    <a:pt x="2403" y="4614"/>
                  </a:lnTo>
                  <a:lnTo>
                    <a:pt x="2403" y="4636"/>
                  </a:lnTo>
                  <a:lnTo>
                    <a:pt x="2403" y="4658"/>
                  </a:lnTo>
                  <a:lnTo>
                    <a:pt x="2420" y="4680"/>
                  </a:lnTo>
                  <a:lnTo>
                    <a:pt x="2420" y="4724"/>
                  </a:lnTo>
                  <a:lnTo>
                    <a:pt x="2420" y="4746"/>
                  </a:lnTo>
                  <a:lnTo>
                    <a:pt x="2438" y="4768"/>
                  </a:lnTo>
                  <a:lnTo>
                    <a:pt x="2438" y="4790"/>
                  </a:lnTo>
                  <a:lnTo>
                    <a:pt x="2438" y="4813"/>
                  </a:lnTo>
                  <a:lnTo>
                    <a:pt x="2456" y="4835"/>
                  </a:lnTo>
                  <a:lnTo>
                    <a:pt x="2456" y="4879"/>
                  </a:lnTo>
                  <a:lnTo>
                    <a:pt x="2456" y="4901"/>
                  </a:lnTo>
                  <a:lnTo>
                    <a:pt x="2473" y="4923"/>
                  </a:lnTo>
                  <a:lnTo>
                    <a:pt x="2473" y="4945"/>
                  </a:lnTo>
                  <a:lnTo>
                    <a:pt x="2473" y="4989"/>
                  </a:lnTo>
                  <a:lnTo>
                    <a:pt x="2491" y="5011"/>
                  </a:lnTo>
                  <a:lnTo>
                    <a:pt x="2491" y="5033"/>
                  </a:lnTo>
                  <a:lnTo>
                    <a:pt x="2491" y="5055"/>
                  </a:lnTo>
                  <a:lnTo>
                    <a:pt x="2509" y="5099"/>
                  </a:lnTo>
                  <a:lnTo>
                    <a:pt x="2509" y="5126"/>
                  </a:lnTo>
                  <a:lnTo>
                    <a:pt x="2509" y="5148"/>
                  </a:lnTo>
                  <a:lnTo>
                    <a:pt x="2509" y="5170"/>
                  </a:lnTo>
                  <a:lnTo>
                    <a:pt x="2526" y="5214"/>
                  </a:lnTo>
                  <a:lnTo>
                    <a:pt x="2526" y="5236"/>
                  </a:lnTo>
                  <a:lnTo>
                    <a:pt x="2526" y="5258"/>
                  </a:lnTo>
                  <a:lnTo>
                    <a:pt x="2544" y="5302"/>
                  </a:lnTo>
                  <a:lnTo>
                    <a:pt x="2544" y="5324"/>
                  </a:lnTo>
                  <a:lnTo>
                    <a:pt x="2544" y="5346"/>
                  </a:lnTo>
                  <a:lnTo>
                    <a:pt x="2562" y="5368"/>
                  </a:lnTo>
                  <a:lnTo>
                    <a:pt x="2562" y="5412"/>
                  </a:lnTo>
                  <a:lnTo>
                    <a:pt x="2562" y="5434"/>
                  </a:lnTo>
                  <a:lnTo>
                    <a:pt x="2579" y="5456"/>
                  </a:lnTo>
                  <a:lnTo>
                    <a:pt x="2579" y="5500"/>
                  </a:lnTo>
                  <a:lnTo>
                    <a:pt x="2579" y="5522"/>
                  </a:lnTo>
                  <a:lnTo>
                    <a:pt x="2597" y="5545"/>
                  </a:lnTo>
                  <a:lnTo>
                    <a:pt x="2597" y="5567"/>
                  </a:lnTo>
                  <a:lnTo>
                    <a:pt x="2597" y="5589"/>
                  </a:lnTo>
                  <a:lnTo>
                    <a:pt x="2614" y="5633"/>
                  </a:lnTo>
                  <a:lnTo>
                    <a:pt x="2614" y="5655"/>
                  </a:lnTo>
                  <a:lnTo>
                    <a:pt x="2614" y="5677"/>
                  </a:lnTo>
                  <a:lnTo>
                    <a:pt x="2632" y="5699"/>
                  </a:lnTo>
                  <a:lnTo>
                    <a:pt x="2632" y="5721"/>
                  </a:lnTo>
                  <a:lnTo>
                    <a:pt x="2632" y="5743"/>
                  </a:lnTo>
                  <a:lnTo>
                    <a:pt x="2650" y="5765"/>
                  </a:lnTo>
                  <a:lnTo>
                    <a:pt x="2650" y="5787"/>
                  </a:lnTo>
                  <a:lnTo>
                    <a:pt x="2650" y="5809"/>
                  </a:lnTo>
                  <a:lnTo>
                    <a:pt x="2672" y="5831"/>
                  </a:lnTo>
                  <a:lnTo>
                    <a:pt x="2672" y="5853"/>
                  </a:lnTo>
                  <a:lnTo>
                    <a:pt x="2689" y="5875"/>
                  </a:lnTo>
                  <a:lnTo>
                    <a:pt x="2689" y="5897"/>
                  </a:lnTo>
                  <a:lnTo>
                    <a:pt x="2707" y="5919"/>
                  </a:lnTo>
                  <a:lnTo>
                    <a:pt x="2725" y="5941"/>
                  </a:lnTo>
                  <a:lnTo>
                    <a:pt x="2742" y="5963"/>
                  </a:lnTo>
                  <a:lnTo>
                    <a:pt x="2760" y="5941"/>
                  </a:lnTo>
                  <a:lnTo>
                    <a:pt x="2778" y="5919"/>
                  </a:lnTo>
                  <a:lnTo>
                    <a:pt x="2795" y="5897"/>
                  </a:lnTo>
                  <a:lnTo>
                    <a:pt x="2813" y="5875"/>
                  </a:lnTo>
                  <a:lnTo>
                    <a:pt x="2813" y="5853"/>
                  </a:lnTo>
                  <a:lnTo>
                    <a:pt x="2831" y="5831"/>
                  </a:lnTo>
                  <a:lnTo>
                    <a:pt x="2831" y="5809"/>
                  </a:lnTo>
                  <a:lnTo>
                    <a:pt x="2831" y="5787"/>
                  </a:lnTo>
                  <a:lnTo>
                    <a:pt x="2848" y="5765"/>
                  </a:lnTo>
                  <a:lnTo>
                    <a:pt x="2848" y="5743"/>
                  </a:lnTo>
                  <a:lnTo>
                    <a:pt x="2848" y="5721"/>
                  </a:lnTo>
                  <a:lnTo>
                    <a:pt x="2866" y="5699"/>
                  </a:lnTo>
                  <a:lnTo>
                    <a:pt x="2866" y="5677"/>
                  </a:lnTo>
                  <a:lnTo>
                    <a:pt x="2866" y="5655"/>
                  </a:lnTo>
                  <a:lnTo>
                    <a:pt x="2883" y="5633"/>
                  </a:lnTo>
                  <a:lnTo>
                    <a:pt x="2883" y="5611"/>
                  </a:lnTo>
                  <a:lnTo>
                    <a:pt x="2883" y="5589"/>
                  </a:lnTo>
                  <a:lnTo>
                    <a:pt x="2901" y="5567"/>
                  </a:lnTo>
                  <a:lnTo>
                    <a:pt x="2901" y="5545"/>
                  </a:lnTo>
                  <a:lnTo>
                    <a:pt x="2901" y="5522"/>
                  </a:lnTo>
                  <a:lnTo>
                    <a:pt x="2919" y="5500"/>
                  </a:lnTo>
                  <a:lnTo>
                    <a:pt x="2919" y="5456"/>
                  </a:lnTo>
                  <a:lnTo>
                    <a:pt x="2919" y="5434"/>
                  </a:lnTo>
                  <a:lnTo>
                    <a:pt x="2936" y="5412"/>
                  </a:lnTo>
                  <a:lnTo>
                    <a:pt x="2936" y="5390"/>
                  </a:lnTo>
                  <a:lnTo>
                    <a:pt x="2936" y="5368"/>
                  </a:lnTo>
                  <a:lnTo>
                    <a:pt x="2954" y="5346"/>
                  </a:lnTo>
                  <a:lnTo>
                    <a:pt x="2954" y="5324"/>
                  </a:lnTo>
                  <a:lnTo>
                    <a:pt x="2954" y="5302"/>
                  </a:lnTo>
                  <a:lnTo>
                    <a:pt x="2976" y="5280"/>
                  </a:lnTo>
                  <a:lnTo>
                    <a:pt x="2976" y="5258"/>
                  </a:lnTo>
                  <a:lnTo>
                    <a:pt x="2976" y="5236"/>
                  </a:lnTo>
                  <a:lnTo>
                    <a:pt x="2995" y="5214"/>
                  </a:lnTo>
                  <a:lnTo>
                    <a:pt x="2995" y="5170"/>
                  </a:lnTo>
                  <a:lnTo>
                    <a:pt x="2995" y="5148"/>
                  </a:lnTo>
                  <a:lnTo>
                    <a:pt x="2995" y="5126"/>
                  </a:lnTo>
                  <a:lnTo>
                    <a:pt x="3012" y="5099"/>
                  </a:lnTo>
                  <a:lnTo>
                    <a:pt x="3012" y="5077"/>
                  </a:lnTo>
                  <a:lnTo>
                    <a:pt x="3012" y="5055"/>
                  </a:lnTo>
                  <a:lnTo>
                    <a:pt x="3030" y="5033"/>
                  </a:lnTo>
                  <a:lnTo>
                    <a:pt x="3030" y="5011"/>
                  </a:lnTo>
                  <a:lnTo>
                    <a:pt x="3048" y="4989"/>
                  </a:lnTo>
                  <a:lnTo>
                    <a:pt x="3048" y="4967"/>
                  </a:lnTo>
                  <a:lnTo>
                    <a:pt x="3048" y="4945"/>
                  </a:lnTo>
                  <a:lnTo>
                    <a:pt x="3065" y="4923"/>
                  </a:lnTo>
                  <a:lnTo>
                    <a:pt x="3065" y="4901"/>
                  </a:lnTo>
                  <a:lnTo>
                    <a:pt x="3065" y="4879"/>
                  </a:lnTo>
                  <a:lnTo>
                    <a:pt x="3083" y="4857"/>
                  </a:lnTo>
                  <a:lnTo>
                    <a:pt x="3083" y="4835"/>
                  </a:lnTo>
                  <a:lnTo>
                    <a:pt x="3083" y="4813"/>
                  </a:lnTo>
                  <a:lnTo>
                    <a:pt x="3101" y="4790"/>
                  </a:lnTo>
                  <a:lnTo>
                    <a:pt x="3101" y="4768"/>
                  </a:lnTo>
                  <a:lnTo>
                    <a:pt x="3101" y="4746"/>
                  </a:lnTo>
                  <a:lnTo>
                    <a:pt x="3118" y="4724"/>
                  </a:lnTo>
                  <a:lnTo>
                    <a:pt x="3118" y="4702"/>
                  </a:lnTo>
                  <a:lnTo>
                    <a:pt x="3136" y="4680"/>
                  </a:lnTo>
                  <a:lnTo>
                    <a:pt x="3136" y="4658"/>
                  </a:lnTo>
                  <a:lnTo>
                    <a:pt x="3136" y="4636"/>
                  </a:lnTo>
                  <a:lnTo>
                    <a:pt x="3153" y="4614"/>
                  </a:lnTo>
                  <a:lnTo>
                    <a:pt x="3153" y="4592"/>
                  </a:lnTo>
                  <a:lnTo>
                    <a:pt x="3153" y="4570"/>
                  </a:lnTo>
                  <a:lnTo>
                    <a:pt x="3171" y="4548"/>
                  </a:lnTo>
                  <a:lnTo>
                    <a:pt x="3171" y="4526"/>
                  </a:lnTo>
                  <a:lnTo>
                    <a:pt x="3171" y="4482"/>
                  </a:lnTo>
                  <a:lnTo>
                    <a:pt x="3189" y="4459"/>
                  </a:lnTo>
                  <a:lnTo>
                    <a:pt x="3189" y="4437"/>
                  </a:lnTo>
                  <a:lnTo>
                    <a:pt x="3189" y="4415"/>
                  </a:lnTo>
                  <a:lnTo>
                    <a:pt x="3206" y="4393"/>
                  </a:lnTo>
                  <a:lnTo>
                    <a:pt x="3206" y="4371"/>
                  </a:lnTo>
                  <a:lnTo>
                    <a:pt x="3206" y="4326"/>
                  </a:lnTo>
                  <a:lnTo>
                    <a:pt x="3224" y="4304"/>
                  </a:lnTo>
                  <a:lnTo>
                    <a:pt x="3224" y="4282"/>
                  </a:lnTo>
                  <a:lnTo>
                    <a:pt x="3224" y="4238"/>
                  </a:lnTo>
                  <a:lnTo>
                    <a:pt x="3224" y="4216"/>
                  </a:lnTo>
                  <a:lnTo>
                    <a:pt x="3242" y="4194"/>
                  </a:lnTo>
                  <a:lnTo>
                    <a:pt x="3242" y="4150"/>
                  </a:lnTo>
                  <a:lnTo>
                    <a:pt x="3242" y="4128"/>
                  </a:lnTo>
                  <a:lnTo>
                    <a:pt x="3264" y="4084"/>
                  </a:lnTo>
                  <a:lnTo>
                    <a:pt x="3264" y="4062"/>
                  </a:lnTo>
                  <a:lnTo>
                    <a:pt x="3264" y="4018"/>
                  </a:lnTo>
                  <a:lnTo>
                    <a:pt x="3281" y="3974"/>
                  </a:lnTo>
                  <a:lnTo>
                    <a:pt x="3281" y="3952"/>
                  </a:lnTo>
                  <a:lnTo>
                    <a:pt x="3281" y="3908"/>
                  </a:lnTo>
                  <a:lnTo>
                    <a:pt x="3299" y="3863"/>
                  </a:lnTo>
                  <a:lnTo>
                    <a:pt x="3299" y="3819"/>
                  </a:lnTo>
                  <a:lnTo>
                    <a:pt x="3299" y="3797"/>
                  </a:lnTo>
                  <a:lnTo>
                    <a:pt x="3317" y="3753"/>
                  </a:lnTo>
                  <a:lnTo>
                    <a:pt x="3317" y="3709"/>
                  </a:lnTo>
                  <a:lnTo>
                    <a:pt x="3317" y="3665"/>
                  </a:lnTo>
                  <a:lnTo>
                    <a:pt x="3334" y="3621"/>
                  </a:lnTo>
                  <a:lnTo>
                    <a:pt x="3334" y="3577"/>
                  </a:lnTo>
                  <a:lnTo>
                    <a:pt x="3334" y="3533"/>
                  </a:lnTo>
                  <a:lnTo>
                    <a:pt x="3352" y="3489"/>
                  </a:lnTo>
                  <a:lnTo>
                    <a:pt x="3352" y="3444"/>
                  </a:lnTo>
                  <a:lnTo>
                    <a:pt x="3352" y="3400"/>
                  </a:lnTo>
                  <a:lnTo>
                    <a:pt x="3370" y="3356"/>
                  </a:lnTo>
                  <a:lnTo>
                    <a:pt x="3370" y="3312"/>
                  </a:lnTo>
                  <a:lnTo>
                    <a:pt x="3370" y="3268"/>
                  </a:lnTo>
                  <a:lnTo>
                    <a:pt x="3387" y="3224"/>
                  </a:lnTo>
                  <a:lnTo>
                    <a:pt x="3387" y="3180"/>
                  </a:lnTo>
                  <a:lnTo>
                    <a:pt x="3387" y="3136"/>
                  </a:lnTo>
                  <a:lnTo>
                    <a:pt x="3405" y="3070"/>
                  </a:lnTo>
                  <a:lnTo>
                    <a:pt x="3405" y="3026"/>
                  </a:lnTo>
                  <a:lnTo>
                    <a:pt x="3405" y="2981"/>
                  </a:lnTo>
                  <a:lnTo>
                    <a:pt x="3422" y="2937"/>
                  </a:lnTo>
                  <a:lnTo>
                    <a:pt x="3422" y="2893"/>
                  </a:lnTo>
                  <a:lnTo>
                    <a:pt x="3422" y="2849"/>
                  </a:lnTo>
                  <a:lnTo>
                    <a:pt x="3440" y="2783"/>
                  </a:lnTo>
                  <a:lnTo>
                    <a:pt x="3440" y="2739"/>
                  </a:lnTo>
                  <a:lnTo>
                    <a:pt x="3440" y="2695"/>
                  </a:lnTo>
                  <a:lnTo>
                    <a:pt x="3458" y="2651"/>
                  </a:lnTo>
                  <a:lnTo>
                    <a:pt x="3458" y="2607"/>
                  </a:lnTo>
                  <a:lnTo>
                    <a:pt x="3458" y="2541"/>
                  </a:lnTo>
                  <a:lnTo>
                    <a:pt x="3458" y="2496"/>
                  </a:lnTo>
                  <a:lnTo>
                    <a:pt x="3475" y="2452"/>
                  </a:lnTo>
                  <a:lnTo>
                    <a:pt x="3475" y="2408"/>
                  </a:lnTo>
                  <a:lnTo>
                    <a:pt x="3475" y="2364"/>
                  </a:lnTo>
                  <a:lnTo>
                    <a:pt x="3493" y="2320"/>
                  </a:lnTo>
                  <a:lnTo>
                    <a:pt x="3493" y="2276"/>
                  </a:lnTo>
                  <a:lnTo>
                    <a:pt x="3493" y="2210"/>
                  </a:lnTo>
                  <a:lnTo>
                    <a:pt x="3511" y="2166"/>
                  </a:lnTo>
                  <a:lnTo>
                    <a:pt x="3511" y="2122"/>
                  </a:lnTo>
                  <a:lnTo>
                    <a:pt x="3511" y="2077"/>
                  </a:lnTo>
                  <a:lnTo>
                    <a:pt x="3528" y="2033"/>
                  </a:lnTo>
                  <a:lnTo>
                    <a:pt x="3528" y="1989"/>
                  </a:lnTo>
                  <a:lnTo>
                    <a:pt x="3528" y="1945"/>
                  </a:lnTo>
                  <a:lnTo>
                    <a:pt x="3550" y="1901"/>
                  </a:lnTo>
                  <a:lnTo>
                    <a:pt x="3550" y="1857"/>
                  </a:lnTo>
                  <a:lnTo>
                    <a:pt x="3550" y="1813"/>
                  </a:lnTo>
                  <a:lnTo>
                    <a:pt x="3568" y="1769"/>
                  </a:lnTo>
                  <a:lnTo>
                    <a:pt x="3568" y="1725"/>
                  </a:lnTo>
                  <a:lnTo>
                    <a:pt x="3568" y="1681"/>
                  </a:lnTo>
                  <a:lnTo>
                    <a:pt x="3586" y="1637"/>
                  </a:lnTo>
                  <a:lnTo>
                    <a:pt x="3586" y="1614"/>
                  </a:lnTo>
                  <a:lnTo>
                    <a:pt x="3586" y="1570"/>
                  </a:lnTo>
                  <a:lnTo>
                    <a:pt x="3603" y="1526"/>
                  </a:lnTo>
                  <a:lnTo>
                    <a:pt x="3603" y="1481"/>
                  </a:lnTo>
                  <a:lnTo>
                    <a:pt x="3603" y="1437"/>
                  </a:lnTo>
                  <a:lnTo>
                    <a:pt x="3621" y="1415"/>
                  </a:lnTo>
                  <a:lnTo>
                    <a:pt x="3621" y="1371"/>
                  </a:lnTo>
                  <a:lnTo>
                    <a:pt x="3621" y="1327"/>
                  </a:lnTo>
                  <a:lnTo>
                    <a:pt x="3639" y="1278"/>
                  </a:lnTo>
                  <a:lnTo>
                    <a:pt x="3639" y="1256"/>
                  </a:lnTo>
                  <a:lnTo>
                    <a:pt x="3639" y="1212"/>
                  </a:lnTo>
                  <a:lnTo>
                    <a:pt x="3656" y="1190"/>
                  </a:lnTo>
                  <a:lnTo>
                    <a:pt x="3656" y="1146"/>
                  </a:lnTo>
                  <a:lnTo>
                    <a:pt x="3656" y="1102"/>
                  </a:lnTo>
                  <a:lnTo>
                    <a:pt x="3674" y="1080"/>
                  </a:lnTo>
                  <a:lnTo>
                    <a:pt x="3674" y="1036"/>
                  </a:lnTo>
                  <a:lnTo>
                    <a:pt x="3674" y="1014"/>
                  </a:lnTo>
                  <a:lnTo>
                    <a:pt x="3691" y="970"/>
                  </a:lnTo>
                  <a:lnTo>
                    <a:pt x="3691" y="948"/>
                  </a:lnTo>
                  <a:lnTo>
                    <a:pt x="3691" y="903"/>
                  </a:lnTo>
                  <a:lnTo>
                    <a:pt x="3691" y="881"/>
                  </a:lnTo>
                  <a:lnTo>
                    <a:pt x="3709" y="859"/>
                  </a:lnTo>
                  <a:lnTo>
                    <a:pt x="3709" y="815"/>
                  </a:lnTo>
                  <a:lnTo>
                    <a:pt x="3709" y="793"/>
                  </a:lnTo>
                  <a:lnTo>
                    <a:pt x="3727" y="771"/>
                  </a:lnTo>
                  <a:lnTo>
                    <a:pt x="3727" y="749"/>
                  </a:lnTo>
                  <a:lnTo>
                    <a:pt x="3727" y="705"/>
                  </a:lnTo>
                  <a:lnTo>
                    <a:pt x="3744" y="683"/>
                  </a:lnTo>
                  <a:lnTo>
                    <a:pt x="3744" y="661"/>
                  </a:lnTo>
                  <a:lnTo>
                    <a:pt x="3744" y="639"/>
                  </a:lnTo>
                  <a:lnTo>
                    <a:pt x="3762" y="617"/>
                  </a:lnTo>
                  <a:lnTo>
                    <a:pt x="3762" y="573"/>
                  </a:lnTo>
                  <a:lnTo>
                    <a:pt x="3762" y="551"/>
                  </a:lnTo>
                  <a:lnTo>
                    <a:pt x="3780" y="529"/>
                  </a:lnTo>
                  <a:lnTo>
                    <a:pt x="3780" y="507"/>
                  </a:lnTo>
                  <a:lnTo>
                    <a:pt x="3780" y="485"/>
                  </a:lnTo>
                  <a:lnTo>
                    <a:pt x="3797" y="463"/>
                  </a:lnTo>
                  <a:lnTo>
                    <a:pt x="3797" y="440"/>
                  </a:lnTo>
                  <a:lnTo>
                    <a:pt x="3797" y="418"/>
                  </a:lnTo>
                  <a:lnTo>
                    <a:pt x="3815" y="396"/>
                  </a:lnTo>
                  <a:lnTo>
                    <a:pt x="3815" y="374"/>
                  </a:lnTo>
                  <a:lnTo>
                    <a:pt x="3833" y="352"/>
                  </a:lnTo>
                  <a:lnTo>
                    <a:pt x="3833" y="330"/>
                  </a:lnTo>
                  <a:lnTo>
                    <a:pt x="3833" y="308"/>
                  </a:lnTo>
                  <a:lnTo>
                    <a:pt x="3855" y="286"/>
                  </a:lnTo>
                  <a:lnTo>
                    <a:pt x="3855" y="264"/>
                  </a:lnTo>
                  <a:lnTo>
                    <a:pt x="3872" y="242"/>
                  </a:lnTo>
                  <a:lnTo>
                    <a:pt x="3872" y="220"/>
                  </a:lnTo>
                  <a:lnTo>
                    <a:pt x="3890" y="198"/>
                  </a:lnTo>
                  <a:lnTo>
                    <a:pt x="3890" y="176"/>
                  </a:lnTo>
                  <a:lnTo>
                    <a:pt x="3908" y="154"/>
                  </a:lnTo>
                  <a:lnTo>
                    <a:pt x="3925" y="132"/>
                  </a:lnTo>
                  <a:lnTo>
                    <a:pt x="3943" y="110"/>
                  </a:lnTo>
                  <a:lnTo>
                    <a:pt x="3943" y="88"/>
                  </a:lnTo>
                  <a:lnTo>
                    <a:pt x="3960" y="66"/>
                  </a:lnTo>
                  <a:lnTo>
                    <a:pt x="3978" y="44"/>
                  </a:lnTo>
                  <a:lnTo>
                    <a:pt x="3996" y="22"/>
                  </a:lnTo>
                  <a:lnTo>
                    <a:pt x="4013" y="0"/>
                  </a:lnTo>
                  <a:lnTo>
                    <a:pt x="4031" y="0"/>
                  </a:lnTo>
                  <a:lnTo>
                    <a:pt x="4049" y="0"/>
                  </a:lnTo>
                  <a:lnTo>
                    <a:pt x="4066" y="0"/>
                  </a:lnTo>
                  <a:lnTo>
                    <a:pt x="4084" y="0"/>
                  </a:lnTo>
                  <a:lnTo>
                    <a:pt x="4102" y="0"/>
                  </a:lnTo>
                  <a:lnTo>
                    <a:pt x="4119" y="22"/>
                  </a:lnTo>
                  <a:lnTo>
                    <a:pt x="4141" y="22"/>
                  </a:lnTo>
                  <a:lnTo>
                    <a:pt x="4159" y="44"/>
                  </a:lnTo>
                  <a:lnTo>
                    <a:pt x="4177" y="66"/>
                  </a:lnTo>
                  <a:lnTo>
                    <a:pt x="4194" y="88"/>
                  </a:lnTo>
                  <a:lnTo>
                    <a:pt x="4212" y="110"/>
                  </a:lnTo>
                  <a:lnTo>
                    <a:pt x="4229" y="110"/>
                  </a:lnTo>
                  <a:lnTo>
                    <a:pt x="4247" y="132"/>
                  </a:lnTo>
                  <a:lnTo>
                    <a:pt x="4265" y="154"/>
                  </a:lnTo>
                  <a:lnTo>
                    <a:pt x="4282" y="176"/>
                  </a:lnTo>
                  <a:lnTo>
                    <a:pt x="4300" y="198"/>
                  </a:lnTo>
                  <a:lnTo>
                    <a:pt x="4318" y="220"/>
                  </a:lnTo>
                  <a:lnTo>
                    <a:pt x="4335" y="242"/>
                  </a:lnTo>
                  <a:lnTo>
                    <a:pt x="4353" y="264"/>
                  </a:lnTo>
                  <a:lnTo>
                    <a:pt x="4371" y="264"/>
                  </a:lnTo>
                  <a:lnTo>
                    <a:pt x="4388" y="286"/>
                  </a:lnTo>
                  <a:lnTo>
                    <a:pt x="4406" y="308"/>
                  </a:lnTo>
                  <a:lnTo>
                    <a:pt x="4428" y="308"/>
                  </a:lnTo>
                  <a:lnTo>
                    <a:pt x="4445" y="330"/>
                  </a:lnTo>
                  <a:lnTo>
                    <a:pt x="4463" y="330"/>
                  </a:lnTo>
                  <a:lnTo>
                    <a:pt x="4481" y="330"/>
                  </a:lnTo>
                  <a:lnTo>
                    <a:pt x="4498" y="330"/>
                  </a:lnTo>
                  <a:lnTo>
                    <a:pt x="4516" y="330"/>
                  </a:lnTo>
                  <a:lnTo>
                    <a:pt x="4534" y="330"/>
                  </a:lnTo>
                  <a:lnTo>
                    <a:pt x="4551" y="308"/>
                  </a:lnTo>
                  <a:lnTo>
                    <a:pt x="4569" y="308"/>
                  </a:lnTo>
                  <a:lnTo>
                    <a:pt x="4587" y="286"/>
                  </a:lnTo>
                  <a:lnTo>
                    <a:pt x="4604" y="286"/>
                  </a:lnTo>
                  <a:lnTo>
                    <a:pt x="4622" y="264"/>
                  </a:lnTo>
                  <a:lnTo>
                    <a:pt x="4640" y="264"/>
                  </a:lnTo>
                  <a:lnTo>
                    <a:pt x="4657" y="242"/>
                  </a:lnTo>
                  <a:lnTo>
                    <a:pt x="4675" y="220"/>
                  </a:lnTo>
                  <a:lnTo>
                    <a:pt x="4692" y="220"/>
                  </a:lnTo>
                  <a:lnTo>
                    <a:pt x="4714" y="198"/>
                  </a:lnTo>
                  <a:lnTo>
                    <a:pt x="4732" y="176"/>
                  </a:lnTo>
                  <a:lnTo>
                    <a:pt x="4750" y="154"/>
                  </a:lnTo>
                  <a:lnTo>
                    <a:pt x="4767" y="154"/>
                  </a:lnTo>
                  <a:lnTo>
                    <a:pt x="4785" y="132"/>
                  </a:lnTo>
                  <a:lnTo>
                    <a:pt x="4803" y="132"/>
                  </a:lnTo>
                  <a:lnTo>
                    <a:pt x="4820" y="110"/>
                  </a:lnTo>
                  <a:lnTo>
                    <a:pt x="4838" y="110"/>
                  </a:lnTo>
                  <a:lnTo>
                    <a:pt x="4856" y="110"/>
                  </a:lnTo>
                  <a:lnTo>
                    <a:pt x="4873" y="88"/>
                  </a:lnTo>
                  <a:lnTo>
                    <a:pt x="4891" y="88"/>
                  </a:lnTo>
                  <a:lnTo>
                    <a:pt x="4909" y="88"/>
                  </a:lnTo>
                  <a:lnTo>
                    <a:pt x="4926" y="88"/>
                  </a:lnTo>
                  <a:lnTo>
                    <a:pt x="4944" y="88"/>
                  </a:lnTo>
                  <a:lnTo>
                    <a:pt x="4961" y="88"/>
                  </a:lnTo>
                  <a:lnTo>
                    <a:pt x="4979" y="110"/>
                  </a:lnTo>
                  <a:lnTo>
                    <a:pt x="4997" y="110"/>
                  </a:lnTo>
                  <a:lnTo>
                    <a:pt x="5019" y="132"/>
                  </a:lnTo>
                  <a:lnTo>
                    <a:pt x="5036" y="132"/>
                  </a:lnTo>
                  <a:lnTo>
                    <a:pt x="5054" y="154"/>
                  </a:lnTo>
                  <a:lnTo>
                    <a:pt x="5072" y="176"/>
                  </a:lnTo>
                  <a:lnTo>
                    <a:pt x="5089" y="176"/>
                  </a:lnTo>
                  <a:lnTo>
                    <a:pt x="5107" y="198"/>
                  </a:lnTo>
                  <a:lnTo>
                    <a:pt x="5125" y="220"/>
                  </a:lnTo>
                  <a:lnTo>
                    <a:pt x="5142" y="242"/>
                  </a:lnTo>
                  <a:lnTo>
                    <a:pt x="5160" y="264"/>
                  </a:lnTo>
                  <a:lnTo>
                    <a:pt x="5178" y="286"/>
                  </a:lnTo>
                  <a:lnTo>
                    <a:pt x="5178" y="308"/>
                  </a:lnTo>
                  <a:lnTo>
                    <a:pt x="5195" y="330"/>
                  </a:lnTo>
                  <a:lnTo>
                    <a:pt x="5213" y="352"/>
                  </a:lnTo>
                  <a:lnTo>
                    <a:pt x="5230" y="374"/>
                  </a:lnTo>
                  <a:lnTo>
                    <a:pt x="5230" y="396"/>
                  </a:lnTo>
                  <a:lnTo>
                    <a:pt x="5248" y="418"/>
                  </a:lnTo>
                  <a:lnTo>
                    <a:pt x="5248" y="440"/>
                  </a:lnTo>
                  <a:lnTo>
                    <a:pt x="5266" y="463"/>
                  </a:lnTo>
                  <a:lnTo>
                    <a:pt x="5283" y="485"/>
                  </a:lnTo>
                  <a:lnTo>
                    <a:pt x="5283" y="507"/>
                  </a:lnTo>
                  <a:lnTo>
                    <a:pt x="5305" y="529"/>
                  </a:lnTo>
                  <a:lnTo>
                    <a:pt x="5305" y="551"/>
                  </a:lnTo>
                  <a:lnTo>
                    <a:pt x="5323" y="573"/>
                  </a:lnTo>
                  <a:lnTo>
                    <a:pt x="5323" y="595"/>
                  </a:lnTo>
                  <a:lnTo>
                    <a:pt x="5341" y="617"/>
                  </a:lnTo>
                  <a:lnTo>
                    <a:pt x="5358" y="639"/>
                  </a:lnTo>
                  <a:lnTo>
                    <a:pt x="5358" y="661"/>
                  </a:lnTo>
                  <a:lnTo>
                    <a:pt x="5376" y="683"/>
                  </a:lnTo>
                  <a:lnTo>
                    <a:pt x="5376" y="705"/>
                  </a:lnTo>
                  <a:lnTo>
                    <a:pt x="5376" y="727"/>
                  </a:lnTo>
                  <a:lnTo>
                    <a:pt x="5394" y="749"/>
                  </a:lnTo>
                  <a:lnTo>
                    <a:pt x="5394" y="771"/>
                  </a:lnTo>
                  <a:lnTo>
                    <a:pt x="5411" y="793"/>
                  </a:lnTo>
                  <a:lnTo>
                    <a:pt x="5411" y="815"/>
                  </a:lnTo>
                  <a:lnTo>
                    <a:pt x="5429" y="837"/>
                  </a:lnTo>
                  <a:lnTo>
                    <a:pt x="5429" y="859"/>
                  </a:lnTo>
                  <a:lnTo>
                    <a:pt x="5429" y="881"/>
                  </a:lnTo>
                  <a:lnTo>
                    <a:pt x="5447" y="903"/>
                  </a:lnTo>
                  <a:lnTo>
                    <a:pt x="5447" y="926"/>
                  </a:lnTo>
                  <a:lnTo>
                    <a:pt x="5464" y="948"/>
                  </a:lnTo>
                  <a:lnTo>
                    <a:pt x="5464" y="970"/>
                  </a:lnTo>
                  <a:lnTo>
                    <a:pt x="5482" y="992"/>
                  </a:lnTo>
                  <a:lnTo>
                    <a:pt x="5482" y="1014"/>
                  </a:lnTo>
                  <a:lnTo>
                    <a:pt x="5482" y="1036"/>
                  </a:lnTo>
                  <a:lnTo>
                    <a:pt x="5499" y="1058"/>
                  </a:lnTo>
                  <a:lnTo>
                    <a:pt x="5499" y="1080"/>
                  </a:lnTo>
                  <a:lnTo>
                    <a:pt x="5517" y="1102"/>
                  </a:lnTo>
                  <a:lnTo>
                    <a:pt x="5517" y="1124"/>
                  </a:lnTo>
                  <a:lnTo>
                    <a:pt x="5517" y="1146"/>
                  </a:lnTo>
                  <a:lnTo>
                    <a:pt x="5535" y="1168"/>
                  </a:lnTo>
                  <a:lnTo>
                    <a:pt x="5535" y="1190"/>
                  </a:lnTo>
                  <a:lnTo>
                    <a:pt x="5552" y="1212"/>
                  </a:lnTo>
                  <a:lnTo>
                    <a:pt x="5552" y="1234"/>
                  </a:lnTo>
                  <a:lnTo>
                    <a:pt x="5552" y="1256"/>
                  </a:lnTo>
                  <a:lnTo>
                    <a:pt x="5570" y="1278"/>
                  </a:lnTo>
                  <a:lnTo>
                    <a:pt x="5570" y="1300"/>
                  </a:lnTo>
                  <a:lnTo>
                    <a:pt x="5570" y="1327"/>
                  </a:lnTo>
                  <a:lnTo>
                    <a:pt x="5592" y="1349"/>
                  </a:lnTo>
                  <a:lnTo>
                    <a:pt x="5592" y="1371"/>
                  </a:lnTo>
                  <a:lnTo>
                    <a:pt x="5592" y="1393"/>
                  </a:lnTo>
                  <a:lnTo>
                    <a:pt x="5610" y="1415"/>
                  </a:lnTo>
                  <a:lnTo>
                    <a:pt x="5610" y="1437"/>
                  </a:lnTo>
                  <a:lnTo>
                    <a:pt x="5610" y="1459"/>
                  </a:lnTo>
                  <a:lnTo>
                    <a:pt x="5610" y="1481"/>
                  </a:lnTo>
                  <a:lnTo>
                    <a:pt x="5627" y="1504"/>
                  </a:lnTo>
                  <a:lnTo>
                    <a:pt x="5627" y="1526"/>
                  </a:lnTo>
                  <a:lnTo>
                    <a:pt x="5627" y="1548"/>
                  </a:lnTo>
                  <a:lnTo>
                    <a:pt x="5645" y="1570"/>
                  </a:lnTo>
                  <a:lnTo>
                    <a:pt x="5645" y="1592"/>
                  </a:lnTo>
                  <a:lnTo>
                    <a:pt x="5645" y="1614"/>
                  </a:lnTo>
                  <a:lnTo>
                    <a:pt x="5663" y="1637"/>
                  </a:lnTo>
                  <a:lnTo>
                    <a:pt x="5663" y="1659"/>
                  </a:lnTo>
                  <a:lnTo>
                    <a:pt x="5663" y="1681"/>
                  </a:lnTo>
                  <a:lnTo>
                    <a:pt x="5680" y="1703"/>
                  </a:lnTo>
                  <a:lnTo>
                    <a:pt x="5680" y="1725"/>
                  </a:lnTo>
                  <a:lnTo>
                    <a:pt x="5680" y="1747"/>
                  </a:lnTo>
                  <a:lnTo>
                    <a:pt x="5698" y="1791"/>
                  </a:lnTo>
                  <a:lnTo>
                    <a:pt x="5698" y="1813"/>
                  </a:lnTo>
                  <a:lnTo>
                    <a:pt x="5698" y="1835"/>
                  </a:lnTo>
                  <a:lnTo>
                    <a:pt x="5715" y="1857"/>
                  </a:lnTo>
                  <a:lnTo>
                    <a:pt x="5715" y="1879"/>
                  </a:lnTo>
                  <a:lnTo>
                    <a:pt x="5715" y="1901"/>
                  </a:lnTo>
                  <a:lnTo>
                    <a:pt x="5733" y="1945"/>
                  </a:lnTo>
                  <a:lnTo>
                    <a:pt x="5733" y="1967"/>
                  </a:lnTo>
                  <a:lnTo>
                    <a:pt x="5733" y="1989"/>
                  </a:lnTo>
                  <a:lnTo>
                    <a:pt x="5751" y="2011"/>
                  </a:lnTo>
                  <a:lnTo>
                    <a:pt x="5751" y="2033"/>
                  </a:lnTo>
                  <a:lnTo>
                    <a:pt x="5751" y="2077"/>
                  </a:lnTo>
                  <a:lnTo>
                    <a:pt x="5768" y="2100"/>
                  </a:lnTo>
                  <a:lnTo>
                    <a:pt x="5768" y="2122"/>
                  </a:lnTo>
                  <a:lnTo>
                    <a:pt x="5768" y="2144"/>
                  </a:lnTo>
                  <a:lnTo>
                    <a:pt x="5786" y="2188"/>
                  </a:lnTo>
                  <a:lnTo>
                    <a:pt x="5786" y="2210"/>
                  </a:lnTo>
                  <a:lnTo>
                    <a:pt x="5786" y="2232"/>
                  </a:lnTo>
                  <a:lnTo>
                    <a:pt x="5804" y="2254"/>
                  </a:lnTo>
                  <a:lnTo>
                    <a:pt x="5804" y="2298"/>
                  </a:lnTo>
                  <a:lnTo>
                    <a:pt x="5804" y="2320"/>
                  </a:lnTo>
                  <a:lnTo>
                    <a:pt x="5821" y="2342"/>
                  </a:lnTo>
                  <a:lnTo>
                    <a:pt x="5821" y="2386"/>
                  </a:lnTo>
                  <a:lnTo>
                    <a:pt x="5821" y="2408"/>
                  </a:lnTo>
                  <a:lnTo>
                    <a:pt x="5839" y="2430"/>
                  </a:lnTo>
                  <a:lnTo>
                    <a:pt x="5839" y="2474"/>
                  </a:lnTo>
                  <a:lnTo>
                    <a:pt x="5839" y="2496"/>
                  </a:lnTo>
                  <a:lnTo>
                    <a:pt x="5839" y="2518"/>
                  </a:lnTo>
                  <a:lnTo>
                    <a:pt x="5857" y="2563"/>
                  </a:lnTo>
                  <a:lnTo>
                    <a:pt x="5857" y="2585"/>
                  </a:lnTo>
                  <a:lnTo>
                    <a:pt x="5857" y="2629"/>
                  </a:lnTo>
                  <a:lnTo>
                    <a:pt x="5874" y="2651"/>
                  </a:lnTo>
                  <a:lnTo>
                    <a:pt x="5874" y="2673"/>
                  </a:lnTo>
                  <a:lnTo>
                    <a:pt x="5874" y="2717"/>
                  </a:lnTo>
                  <a:lnTo>
                    <a:pt x="5896" y="2739"/>
                  </a:lnTo>
                  <a:lnTo>
                    <a:pt x="5896" y="2783"/>
                  </a:lnTo>
                  <a:lnTo>
                    <a:pt x="5896" y="2805"/>
                  </a:lnTo>
                  <a:lnTo>
                    <a:pt x="5914" y="2827"/>
                  </a:lnTo>
                  <a:lnTo>
                    <a:pt x="5914" y="2871"/>
                  </a:lnTo>
                  <a:lnTo>
                    <a:pt x="5914" y="2893"/>
                  </a:lnTo>
                  <a:lnTo>
                    <a:pt x="5932" y="2937"/>
                  </a:lnTo>
                  <a:lnTo>
                    <a:pt x="5932" y="2959"/>
                  </a:lnTo>
                  <a:lnTo>
                    <a:pt x="5932" y="2981"/>
                  </a:lnTo>
                  <a:lnTo>
                    <a:pt x="5949" y="3026"/>
                  </a:lnTo>
                  <a:lnTo>
                    <a:pt x="5949" y="3048"/>
                  </a:lnTo>
                  <a:lnTo>
                    <a:pt x="5949" y="3092"/>
                  </a:lnTo>
                  <a:lnTo>
                    <a:pt x="5967" y="31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 txBox="1"/>
            <p:nvPr/>
          </p:nvSpPr>
          <p:spPr>
            <a:xfrm>
              <a:off x="4545000" y="539100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 txBox="1"/>
            <p:nvPr/>
          </p:nvSpPr>
          <p:spPr>
            <a:xfrm>
              <a:off x="3187800" y="4149720"/>
              <a:ext cx="2919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 txBox="1"/>
            <p:nvPr/>
          </p:nvSpPr>
          <p:spPr>
            <a:xfrm>
              <a:off x="4429080" y="2792520"/>
              <a:ext cx="569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 Pul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5" name=""/>
          <p:cNvGrpSpPr/>
          <p:nvPr/>
        </p:nvGrpSpPr>
        <p:grpSpPr>
          <a:xfrm>
            <a:off x="6005520" y="2790720"/>
            <a:ext cx="2863800" cy="2802240"/>
            <a:chOff x="6005520" y="2790720"/>
            <a:chExt cx="2863800" cy="2802240"/>
          </a:xfrm>
        </p:grpSpPr>
        <p:sp>
          <p:nvSpPr>
            <p:cNvPr id="1516" name=""/>
            <p:cNvSpPr/>
            <p:nvPr/>
          </p:nvSpPr>
          <p:spPr>
            <a:xfrm>
              <a:off x="6095880" y="2819520"/>
              <a:ext cx="2773440" cy="2773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450120" y="3022560"/>
              <a:ext cx="2146680" cy="2250000"/>
            </a:xfrm>
            <a:custGeom>
              <a:avLst/>
              <a:gdLst/>
              <a:ahLst/>
              <a:rect l="0" t="0" r="r" b="b"/>
              <a:pathLst>
                <a:path w="5963" h="6250">
                  <a:moveTo>
                    <a:pt x="0" y="6250"/>
                  </a:moveTo>
                  <a:lnTo>
                    <a:pt x="0" y="0"/>
                  </a:lnTo>
                  <a:lnTo>
                    <a:pt x="5963" y="0"/>
                  </a:lnTo>
                  <a:lnTo>
                    <a:pt x="5963" y="6250"/>
                  </a:lnTo>
                  <a:lnTo>
                    <a:pt x="0" y="62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450120" y="3022560"/>
              <a:ext cx="2146680" cy="2250000"/>
            </a:xfrm>
            <a:custGeom>
              <a:avLst/>
              <a:gdLst/>
              <a:ahLst/>
              <a:rect l="0" t="0" r="r" b="b"/>
              <a:pathLst>
                <a:path fill="none" w="5963" h="6250">
                  <a:moveTo>
                    <a:pt x="0" y="6250"/>
                  </a:moveTo>
                  <a:lnTo>
                    <a:pt x="0" y="0"/>
                  </a:lnTo>
                  <a:lnTo>
                    <a:pt x="5963" y="0"/>
                  </a:lnTo>
                  <a:lnTo>
                    <a:pt x="5963" y="6250"/>
                  </a:lnTo>
                  <a:lnTo>
                    <a:pt x="0" y="625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6450120" y="302256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6985080" y="302256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7526160" y="302256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8061480" y="302256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8596440" y="302256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450120" y="527220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450120" y="489888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50120" y="452448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450120" y="415116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450120" y="377028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450120" y="339552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450120" y="302256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450120" y="527220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450120" y="302256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6450120" y="302256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8596440" y="302256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450120" y="527220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6450120" y="302256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6450120" y="52498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450120" y="3022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 txBox="1"/>
            <p:nvPr/>
          </p:nvSpPr>
          <p:spPr>
            <a:xfrm>
              <a:off x="6311880" y="5259240"/>
              <a:ext cx="263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V="1">
              <a:off x="6985080" y="52498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985080" y="3022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 txBox="1"/>
            <p:nvPr/>
          </p:nvSpPr>
          <p:spPr>
            <a:xfrm>
              <a:off x="6845400" y="5259240"/>
              <a:ext cx="263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7526160" y="52498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7526160" y="3022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 txBox="1"/>
            <p:nvPr/>
          </p:nvSpPr>
          <p:spPr>
            <a:xfrm>
              <a:off x="7413480" y="52592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8061480" y="52498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061480" y="3022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 txBox="1"/>
            <p:nvPr/>
          </p:nvSpPr>
          <p:spPr>
            <a:xfrm>
              <a:off x="7948440" y="52592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8596440" y="52498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596440" y="3022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 txBox="1"/>
            <p:nvPr/>
          </p:nvSpPr>
          <p:spPr>
            <a:xfrm>
              <a:off x="8483760" y="52592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450120" y="527220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>
              <a:off x="8575560" y="5272200"/>
              <a:ext cx="2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 txBox="1"/>
            <p:nvPr/>
          </p:nvSpPr>
          <p:spPr>
            <a:xfrm>
              <a:off x="6257880" y="5165640"/>
              <a:ext cx="263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450120" y="489888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8575560" y="4898880"/>
              <a:ext cx="2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 txBox="1"/>
            <p:nvPr/>
          </p:nvSpPr>
          <p:spPr>
            <a:xfrm>
              <a:off x="6257880" y="4792680"/>
              <a:ext cx="263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450120" y="452448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8575560" y="4524480"/>
              <a:ext cx="2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 txBox="1"/>
            <p:nvPr/>
          </p:nvSpPr>
          <p:spPr>
            <a:xfrm>
              <a:off x="6257880" y="4417920"/>
              <a:ext cx="263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450120" y="415116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8575560" y="4151160"/>
              <a:ext cx="2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 txBox="1"/>
            <p:nvPr/>
          </p:nvSpPr>
          <p:spPr>
            <a:xfrm>
              <a:off x="6284880" y="404496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450120" y="377028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8575560" y="3770280"/>
              <a:ext cx="2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 txBox="1"/>
            <p:nvPr/>
          </p:nvSpPr>
          <p:spPr>
            <a:xfrm>
              <a:off x="6284880" y="366228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450120" y="339552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8575560" y="3395520"/>
              <a:ext cx="2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 txBox="1"/>
            <p:nvPr/>
          </p:nvSpPr>
          <p:spPr>
            <a:xfrm>
              <a:off x="6284880" y="328932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450120" y="302256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>
              <a:off x="8575560" y="3022560"/>
              <a:ext cx="2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 txBox="1"/>
            <p:nvPr/>
          </p:nvSpPr>
          <p:spPr>
            <a:xfrm>
              <a:off x="6284880" y="291456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450120" y="527220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450120" y="302256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6450120" y="302256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8596440" y="302256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151760" y="38242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7151760" y="38242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365960" y="49766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7365960" y="49766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8194680" y="4681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8194680" y="4681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840800" y="3902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7840800" y="3902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686720" y="3216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7686720" y="3216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493040" y="3754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7493040" y="3754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445520" y="49849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7445520" y="49849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466040" y="4438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>
              <a:off x="7466040" y="4438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205760" y="3956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7205760" y="3956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988400" y="363708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>
              <a:off x="7988400" y="363708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085160" y="4587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7085160" y="4587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332840" y="4844880"/>
              <a:ext cx="2664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>
              <a:off x="7332840" y="4844880"/>
              <a:ext cx="2664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8194680" y="4033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>
              <a:off x="8194680" y="4033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746840" y="34034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7746840" y="34034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958080" y="4454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6958080" y="4454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853400" y="3660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7853400" y="3660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45280" y="3575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7145280" y="3575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813800" y="46180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7813800" y="46180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767720" y="4595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7767720" y="459576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499520" y="3427560"/>
              <a:ext cx="2664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7499520" y="3427560"/>
              <a:ext cx="2664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18480" y="344952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6918480" y="344952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365960" y="44323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7365960" y="44323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880400" y="50547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7880400" y="50547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65880" y="45021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7265880" y="45021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873920" y="40194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7873920" y="40194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86560" y="3068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7486560" y="3068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713720" y="41590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7713720" y="41590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539120" y="48830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7539120" y="48830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964200" y="4454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6964200" y="4454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8021520" y="42688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8021520" y="42688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040600" y="39718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8040600" y="39718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653240" y="33577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7653240" y="33577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432560" y="38401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7432560" y="38401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59560" y="49309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7459560" y="49309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674120" y="4282920"/>
              <a:ext cx="252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7674120" y="4282920"/>
              <a:ext cx="252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607160" y="314640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7607160" y="314640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958080" y="38401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6958080" y="38401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226280" y="4976640"/>
              <a:ext cx="255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>
              <a:off x="7226280" y="4976640"/>
              <a:ext cx="255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647120" y="3714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7647120" y="3714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846920" y="4033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7846920" y="4033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238880" y="49150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7238880" y="49150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740720" y="44784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7740720" y="44784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326360" y="39337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7326360" y="39337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021520" y="430704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8021520" y="430704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913520" y="34034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7913520" y="34034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205760" y="4641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7205760" y="4641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978600" y="44085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>
              <a:off x="6978600" y="44085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426440" y="41432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7426440" y="41432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300880" y="3738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8300880" y="3738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593120" y="45021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>
              <a:off x="7593120" y="45021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937200" y="35132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>
              <a:off x="6937200" y="35132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232760" y="36846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>
              <a:off x="7232760" y="36846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8121600" y="4446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>
              <a:off x="8121600" y="4446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686720" y="4797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7686720" y="4797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593120" y="3660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>
              <a:off x="7593120" y="3660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439040" y="40971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>
              <a:off x="7439040" y="40971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091280" y="3676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7091280" y="3676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232760" y="48369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>
              <a:off x="7232760" y="48369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255160" y="4797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8255160" y="4797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666200" y="4065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>
              <a:off x="7666200" y="4065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105680" y="41752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7105680" y="41752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8034480" y="40734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8034480" y="40734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00920" y="32479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>
              <a:off x="7900920" y="32479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284960" y="38084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>
              <a:off x="7284960" y="38084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997680" y="39956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6997680" y="39956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632720" y="426096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7632720" y="426096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145280" y="46656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7145280" y="46656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326360" y="39337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7326360" y="39337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613640" y="44625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7613640" y="44625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248680" y="3792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>
              <a:off x="8248680" y="3792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7459560" y="36910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7459560" y="36910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885000" y="4906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6885000" y="4906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819920" y="4438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>
              <a:off x="7819920" y="4438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259760" y="385452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7259760" y="385452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505640" y="3621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7505640" y="3621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7934400" y="40035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7934400" y="40035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918480" y="492300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>
              <a:off x="6918480" y="492300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211880" y="44085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7211880" y="44085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599240" y="32083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>
              <a:off x="7599240" y="32083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39120" y="41590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>
              <a:off x="7539120" y="41590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980480" y="52340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7980480" y="52340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40720" y="41432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7740720" y="41432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613640" y="30765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7613640" y="30765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459560" y="3738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7459560" y="3738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7005600" y="479736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H="1">
              <a:off x="7005600" y="479736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900920" y="3979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>
              <a:off x="7900920" y="3979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640640" y="4330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>
              <a:off x="7640640" y="4330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184880" y="3832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7184880" y="38322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800840" y="46656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H="1">
              <a:off x="7800840" y="46656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834320" y="421308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7834320" y="421308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897600" y="33577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6897600" y="33577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191360" y="4781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7191360" y="4781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7740720" y="44942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H="1">
              <a:off x="7740720" y="44942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940520" y="3629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940520" y="3629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145280" y="4641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7145280" y="4641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807320" y="4602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7807320" y="4602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311960" y="37702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H="1">
              <a:off x="7311960" y="37702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974000" y="35830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H="1">
              <a:off x="7974000" y="35830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7626240" y="3800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7626240" y="3800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703920" y="49766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6703920" y="49766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432560" y="4400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7432560" y="4400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140680" y="33177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8140680" y="33177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7272360" y="3800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>
              <a:off x="7272360" y="3800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7753320" y="4454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7753320" y="4454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486560" y="46260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7486560" y="46260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958080" y="41972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>
              <a:off x="6958080" y="41972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526160" y="352728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7526160" y="352728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128080" y="4851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8128080" y="4851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693200" y="4540320"/>
              <a:ext cx="2664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7693200" y="4540320"/>
              <a:ext cx="2664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985080" y="38941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6985080" y="38941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028000" y="352728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8028000" y="352728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626240" y="4556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H="1">
              <a:off x="7626240" y="4556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31080" y="4438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6931080" y="4438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245360" y="34574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>
              <a:off x="7245360" y="34574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486560" y="4602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7486560" y="4602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566120" y="38624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7566120" y="38624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92960" y="38480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7392960" y="38480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8007480" y="43527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>
              <a:off x="8007480" y="43527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7632720" y="4773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7632720" y="4773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7572240" y="43768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7572240" y="43768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34240" y="37702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7734240" y="37702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7746840" y="3441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>
              <a:off x="7746840" y="3441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7526160" y="4524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7526160" y="4524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486560" y="37702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7486560" y="37702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804000" y="4307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6804000" y="4307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586640" y="3854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7586640" y="3854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927920" y="396396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7927920" y="396396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211880" y="48592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7211880" y="48592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7894800" y="384012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7894800" y="384012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626240" y="41274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>
              <a:off x="7626240" y="41274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178760" y="35989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7178760" y="35989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826400" y="3800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7826400" y="3800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607160" y="4135320"/>
              <a:ext cx="255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7607160" y="4135320"/>
              <a:ext cx="255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730920" y="48830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6730920" y="48830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505640" y="44085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7505640" y="44085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8267760" y="34815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8267760" y="34815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53240" y="44863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7653240" y="44863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951600" y="35053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6951600" y="35053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211880" y="3676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7211880" y="3676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094600" y="44323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>
              <a:off x="8094600" y="44323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647120" y="49849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7647120" y="49849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632720" y="42292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7632720" y="42292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572240" y="30844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7572240" y="30844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085160" y="44244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7085160" y="44244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028000" y="38862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8028000" y="38862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74120" y="363708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7674120" y="363708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7386480" y="405756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7386480" y="405756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878520" y="376236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6878520" y="376236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151760" y="42451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7151760" y="424512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486560" y="48672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7486560" y="48672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666200" y="3979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7666200" y="3979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907400" y="4454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7907400" y="4454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45440" y="3629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7345440" y="3629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572240" y="4438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7572240" y="4438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238880" y="3606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7238880" y="3606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058160" y="4587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7058160" y="4587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607160" y="3925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7607160" y="39258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426440" y="4602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7426440" y="4602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240760" y="38242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H="1">
              <a:off x="8240760" y="38242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459560" y="3629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7459560" y="3629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918480" y="49150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6918480" y="49150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988400" y="43466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H="1">
              <a:off x="7988400" y="434664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927920" y="31622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7927920" y="316224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547040" y="3832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7547040" y="3832200"/>
              <a:ext cx="252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559640" y="39718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H="1">
              <a:off x="7559640" y="39718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439040" y="3870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7439040" y="3870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513560" y="4151160"/>
              <a:ext cx="255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7513560" y="4151160"/>
              <a:ext cx="255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445520" y="48369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7445520" y="48369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205760" y="4400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7205760" y="4400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7940520" y="4065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H="1">
              <a:off x="7940520" y="4065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486560" y="32320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H="1">
              <a:off x="7486560" y="32320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607160" y="4135320"/>
              <a:ext cx="255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7607160" y="4135320"/>
              <a:ext cx="255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145280" y="48672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 flipH="1">
              <a:off x="7145280" y="48672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7834320" y="4657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7834320" y="4657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800840" y="396396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7800840" y="396396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91360" y="4041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7191360" y="4041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8013600" y="36133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H="1">
              <a:off x="8013600" y="36133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653240" y="46260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7653240" y="46260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472520" y="4392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>
              <a:off x="7472520" y="4392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945480" y="32320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6945480" y="32320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386480" y="46656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H="1">
              <a:off x="7386480" y="46656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148600" y="398772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8148600" y="398772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904080" y="45957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>
              <a:off x="6904080" y="45957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432560" y="4727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7432560" y="4727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8074080" y="40892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>
              <a:off x="8074080" y="40892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318440" y="42372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H="1">
              <a:off x="7318440" y="42372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953480" y="42688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flipH="1">
              <a:off x="7953480" y="42688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753320" y="30844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7753320" y="30844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831000" y="39481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H="1">
              <a:off x="6831000" y="39481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813800" y="52102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7813800" y="52102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7746840" y="41511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>
              <a:off x="7746840" y="41511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085160" y="344952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7085160" y="344952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800840" y="47592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7800840" y="475920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378560" y="4446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7378560" y="4446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726320" y="41893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726320" y="41893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311960" y="31305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7311960" y="31305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139160" y="3902040"/>
              <a:ext cx="2664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H="1">
              <a:off x="7139160" y="3902040"/>
              <a:ext cx="2664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399440" y="416736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7399440" y="416736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345440" y="4392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7345440" y="4392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873920" y="50385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7873920" y="50385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205760" y="426096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7205760" y="426096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7272360" y="418320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7272360" y="418320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773840" y="4119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7773840" y="4119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7980480" y="3676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7980480" y="3676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951600" y="44323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6951600" y="44323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7232760" y="3714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7232760" y="3714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359480" y="3660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7359480" y="3660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526160" y="4361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7526160" y="4361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834320" y="4307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7834320" y="4307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099200" y="478944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7099200" y="478944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7813800" y="44942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7813800" y="44942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7392960" y="3956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>
              <a:off x="7392960" y="3956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001000" y="42991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8001000" y="42991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753320" y="33336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7753320" y="33336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04000" y="4695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 flipH="1">
              <a:off x="6804000" y="4695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8007480" y="4524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8007480" y="4524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699320" y="32637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7699320" y="32637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997680" y="4587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6997680" y="4587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034480" y="39481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8034480" y="39481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686720" y="42991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H="1">
              <a:off x="7686720" y="42991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513560" y="38242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H="1">
              <a:off x="7513560" y="3824280"/>
              <a:ext cx="2556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858000" y="422100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H="1">
              <a:off x="6858000" y="422100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547040" y="378468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7547040" y="378468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940520" y="3800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7940520" y="3800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031160" y="427500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7031160" y="427500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226280" y="485928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7226280" y="485928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128080" y="3489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8128080" y="3489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051680" y="3543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7051680" y="3543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292880" y="447840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7292880" y="447840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846920" y="48830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>
              <a:off x="7846920" y="48830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124760" y="43768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7124760" y="43768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412040" y="4330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7412040" y="43308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8334360" y="4103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H="1">
              <a:off x="8334360" y="4103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840800" y="3271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7840800" y="32716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392960" y="3754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>
              <a:off x="7392960" y="3754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311960" y="4049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>
              <a:off x="7311960" y="40496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945480" y="46735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6945480" y="46735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8028000" y="3987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>
              <a:off x="8028000" y="39877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713720" y="43149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 flipH="1">
              <a:off x="7713720" y="43149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7205760" y="36450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 flipH="1">
              <a:off x="7205760" y="36450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773840" y="3902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>
              <a:off x="7773840" y="39020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620120" y="4851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7620120" y="4851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945480" y="425304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6945480" y="425304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7365960" y="3278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H="1">
              <a:off x="7365960" y="3278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640640" y="386244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7640640" y="386244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907400" y="43149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 flipH="1">
              <a:off x="7907400" y="43149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7012080" y="40971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H="1">
              <a:off x="7012080" y="40971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773840" y="48132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H="1">
              <a:off x="7773840" y="48132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834320" y="3441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H="1">
              <a:off x="7834320" y="34416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818400" y="43466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6818400" y="43466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566120" y="37702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7566120" y="37702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886880" y="3730680"/>
              <a:ext cx="2664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7886880" y="3730680"/>
              <a:ext cx="2664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145280" y="43149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H="1">
              <a:off x="7145280" y="43149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572240" y="502272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H="1">
              <a:off x="7572240" y="502272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405560" y="40575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7405560" y="40575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7853400" y="33415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H="1">
              <a:off x="7853400" y="33415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184880" y="3606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7184880" y="36068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178760" y="44863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7178760" y="44863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826400" y="496872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>
              <a:off x="7826400" y="496872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272360" y="4438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7272360" y="443880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988400" y="430704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7988400" y="430704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880400" y="3800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7880400" y="3800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937200" y="3224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>
              <a:off x="6937200" y="3224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124760" y="38782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>
              <a:off x="7124760" y="38782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513560" y="426096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7513560" y="426096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974000" y="427500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7974000" y="427500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674120" y="411156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7674120" y="411156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7345440" y="4681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7345440" y="46814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085160" y="40114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7085160" y="401148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7372440" y="33177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>
              <a:off x="7372440" y="33177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586640" y="418320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H="1">
              <a:off x="7586640" y="418320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7834320" y="52340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7834320" y="523404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99200" y="411948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7099200" y="411948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265880" y="3224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H="1">
              <a:off x="7265880" y="32241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526160" y="37465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H="1">
              <a:off x="7526160" y="374652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432560" y="4524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>
              <a:off x="7432560" y="452448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734240" y="507060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>
              <a:off x="7734240" y="507060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305840" y="41432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>
              <a:off x="7305840" y="414324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834320" y="34354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7834320" y="34354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259760" y="453240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7259760" y="453240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886880" y="4821120"/>
              <a:ext cx="2664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H="1">
              <a:off x="7886880" y="4821120"/>
              <a:ext cx="2664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834320" y="38624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7834320" y="38624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653240" y="33019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7653240" y="33019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7405560" y="37767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7405560" y="37767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4920" y="491508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6784920" y="491508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265880" y="4641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7265880" y="46418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626240" y="413532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>
              <a:off x="7626240" y="413532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734240" y="373860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7734240" y="3738600"/>
              <a:ext cx="2556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853400" y="4781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H="1">
              <a:off x="7853400" y="478152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085160" y="43527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H="1">
              <a:off x="7085160" y="435276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184880" y="40194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>
              <a:off x="7184880" y="401940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640640" y="335772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>
              <a:off x="7640640" y="3357720"/>
              <a:ext cx="2556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359480" y="39639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 flipH="1">
              <a:off x="7359480" y="39639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439040" y="43228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H="1">
              <a:off x="7439040" y="4322880"/>
              <a:ext cx="27000" cy="29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873920" y="427500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7873920" y="4275000"/>
              <a:ext cx="2700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699320" y="4602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7699320" y="460224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547040" y="336384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7547040" y="3363840"/>
              <a:ext cx="252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985080" y="36687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H="1">
              <a:off x="6985080" y="3668760"/>
              <a:ext cx="27000" cy="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746840" y="5148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 flipH="1">
              <a:off x="7746840" y="5148360"/>
              <a:ext cx="27000" cy="31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 txBox="1"/>
            <p:nvPr/>
          </p:nvSpPr>
          <p:spPr>
            <a:xfrm>
              <a:off x="7086600" y="2790720"/>
              <a:ext cx="9000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w Constell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 txBox="1"/>
            <p:nvPr/>
          </p:nvSpPr>
          <p:spPr>
            <a:xfrm>
              <a:off x="7346880" y="5384880"/>
              <a:ext cx="3668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 txBox="1"/>
            <p:nvPr/>
          </p:nvSpPr>
          <p:spPr>
            <a:xfrm>
              <a:off x="6005520" y="4138560"/>
              <a:ext cx="380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a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8" name=""/>
          <p:cNvSpPr txBox="1"/>
          <p:nvPr/>
        </p:nvSpPr>
        <p:spPr>
          <a:xfrm>
            <a:off x="1203480" y="623880"/>
            <a:ext cx="7129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NSEC MODEM/CHANNE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 txBox="1"/>
          <p:nvPr/>
        </p:nvSpPr>
        <p:spPr>
          <a:xfrm>
            <a:off x="974880" y="1508040"/>
            <a:ext cx="3693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response show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spans 6 - 8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746280" y="5668920"/>
            <a:ext cx="242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 txBox="1"/>
          <p:nvPr/>
        </p:nvSpPr>
        <p:spPr>
          <a:xfrm>
            <a:off x="3718080" y="5668920"/>
            <a:ext cx="201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q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 txBox="1"/>
          <p:nvPr/>
        </p:nvSpPr>
        <p:spPr>
          <a:xfrm>
            <a:off x="6613560" y="5668920"/>
            <a:ext cx="179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t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3" name=""/>
          <p:cNvGrpSpPr/>
          <p:nvPr/>
        </p:nvGrpSpPr>
        <p:grpSpPr>
          <a:xfrm>
            <a:off x="4635360" y="2792520"/>
            <a:ext cx="2860560" cy="2800440"/>
            <a:chOff x="4635360" y="2792520"/>
            <a:chExt cx="2860560" cy="2800440"/>
          </a:xfrm>
        </p:grpSpPr>
        <p:sp>
          <p:nvSpPr>
            <p:cNvPr id="2184" name=""/>
            <p:cNvSpPr/>
            <p:nvPr/>
          </p:nvSpPr>
          <p:spPr>
            <a:xfrm>
              <a:off x="4724280" y="2819520"/>
              <a:ext cx="2771640" cy="2773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078520" y="3025800"/>
              <a:ext cx="2148120" cy="2250000"/>
            </a:xfrm>
            <a:custGeom>
              <a:avLst/>
              <a:gdLst/>
              <a:ahLst/>
              <a:rect l="0" t="0" r="r" b="b"/>
              <a:pathLst>
                <a:path w="5967" h="6250">
                  <a:moveTo>
                    <a:pt x="0" y="6250"/>
                  </a:moveTo>
                  <a:lnTo>
                    <a:pt x="0" y="0"/>
                  </a:lnTo>
                  <a:lnTo>
                    <a:pt x="5967" y="0"/>
                  </a:lnTo>
                  <a:lnTo>
                    <a:pt x="5967" y="6250"/>
                  </a:lnTo>
                  <a:lnTo>
                    <a:pt x="0" y="62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078520" y="3025800"/>
              <a:ext cx="2148120" cy="2250000"/>
            </a:xfrm>
            <a:custGeom>
              <a:avLst/>
              <a:gdLst/>
              <a:ahLst/>
              <a:rect l="0" t="0" r="r" b="b"/>
              <a:pathLst>
                <a:path fill="none" w="5967" h="6250">
                  <a:moveTo>
                    <a:pt x="0" y="6250"/>
                  </a:moveTo>
                  <a:lnTo>
                    <a:pt x="0" y="0"/>
                  </a:lnTo>
                  <a:lnTo>
                    <a:pt x="5967" y="0"/>
                  </a:lnTo>
                  <a:lnTo>
                    <a:pt x="5967" y="6250"/>
                  </a:lnTo>
                  <a:lnTo>
                    <a:pt x="0" y="625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V="1">
              <a:off x="507852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 flipV="1">
              <a:off x="615636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722628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078520" y="527544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078520" y="452772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078520" y="377352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078520" y="302580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078520" y="527544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078520" y="302580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507852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722628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078520" y="527544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V="1">
              <a:off x="507852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5078520" y="525132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078520" y="30258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 txBox="1"/>
            <p:nvPr/>
          </p:nvSpPr>
          <p:spPr>
            <a:xfrm>
              <a:off x="4903920" y="526428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6156360" y="525132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156360" y="30258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 txBox="1"/>
            <p:nvPr/>
          </p:nvSpPr>
          <p:spPr>
            <a:xfrm>
              <a:off x="6043680" y="526428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7226280" y="525132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226280" y="30258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 txBox="1"/>
            <p:nvPr/>
          </p:nvSpPr>
          <p:spPr>
            <a:xfrm>
              <a:off x="7075440" y="5264280"/>
              <a:ext cx="3078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078520" y="527544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7207200" y="52754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 txBox="1"/>
            <p:nvPr/>
          </p:nvSpPr>
          <p:spPr>
            <a:xfrm>
              <a:off x="4844880" y="5168880"/>
              <a:ext cx="3128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078520" y="452772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7207200" y="45277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 txBox="1"/>
            <p:nvPr/>
          </p:nvSpPr>
          <p:spPr>
            <a:xfrm>
              <a:off x="4844880" y="4421160"/>
              <a:ext cx="31284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078520" y="377352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7207200" y="37735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 txBox="1"/>
            <p:nvPr/>
          </p:nvSpPr>
          <p:spPr>
            <a:xfrm>
              <a:off x="4889520" y="3666960"/>
              <a:ext cx="26352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-5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078520" y="302580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H="1">
              <a:off x="7207200" y="302580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 txBox="1"/>
            <p:nvPr/>
          </p:nvSpPr>
          <p:spPr>
            <a:xfrm>
              <a:off x="4916520" y="2919240"/>
              <a:ext cx="2332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078520" y="527544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078520" y="3025800"/>
              <a:ext cx="2147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V="1">
              <a:off x="507852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7226280" y="3025800"/>
              <a:ext cx="0" cy="2249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078520" y="3025800"/>
              <a:ext cx="2148120" cy="2146680"/>
            </a:xfrm>
            <a:custGeom>
              <a:avLst/>
              <a:gdLst/>
              <a:ahLst/>
              <a:rect l="0" t="0" r="r" b="b"/>
              <a:pathLst>
                <a:path fill="none" w="5967" h="5963">
                  <a:moveTo>
                    <a:pt x="0" y="3136"/>
                  </a:moveTo>
                  <a:lnTo>
                    <a:pt x="0" y="3180"/>
                  </a:lnTo>
                  <a:lnTo>
                    <a:pt x="17" y="3202"/>
                  </a:lnTo>
                  <a:lnTo>
                    <a:pt x="17" y="3224"/>
                  </a:lnTo>
                  <a:lnTo>
                    <a:pt x="17" y="3268"/>
                  </a:lnTo>
                  <a:lnTo>
                    <a:pt x="35" y="3290"/>
                  </a:lnTo>
                  <a:lnTo>
                    <a:pt x="35" y="3312"/>
                  </a:lnTo>
                  <a:lnTo>
                    <a:pt x="35" y="3334"/>
                  </a:lnTo>
                  <a:lnTo>
                    <a:pt x="57" y="3378"/>
                  </a:lnTo>
                  <a:lnTo>
                    <a:pt x="57" y="3400"/>
                  </a:lnTo>
                  <a:lnTo>
                    <a:pt x="57" y="3422"/>
                  </a:lnTo>
                  <a:lnTo>
                    <a:pt x="74" y="3444"/>
                  </a:lnTo>
                  <a:lnTo>
                    <a:pt x="74" y="3489"/>
                  </a:lnTo>
                  <a:lnTo>
                    <a:pt x="74" y="3511"/>
                  </a:lnTo>
                  <a:lnTo>
                    <a:pt x="92" y="3533"/>
                  </a:lnTo>
                  <a:lnTo>
                    <a:pt x="92" y="3555"/>
                  </a:lnTo>
                  <a:lnTo>
                    <a:pt x="92" y="3577"/>
                  </a:lnTo>
                  <a:lnTo>
                    <a:pt x="110" y="3599"/>
                  </a:lnTo>
                  <a:lnTo>
                    <a:pt x="110" y="3621"/>
                  </a:lnTo>
                  <a:lnTo>
                    <a:pt x="110" y="3643"/>
                  </a:lnTo>
                  <a:lnTo>
                    <a:pt x="127" y="3665"/>
                  </a:lnTo>
                  <a:lnTo>
                    <a:pt x="127" y="3687"/>
                  </a:lnTo>
                  <a:lnTo>
                    <a:pt x="127" y="3709"/>
                  </a:lnTo>
                  <a:lnTo>
                    <a:pt x="145" y="3731"/>
                  </a:lnTo>
                  <a:lnTo>
                    <a:pt x="145" y="3753"/>
                  </a:lnTo>
                  <a:lnTo>
                    <a:pt x="163" y="3775"/>
                  </a:lnTo>
                  <a:lnTo>
                    <a:pt x="163" y="3797"/>
                  </a:lnTo>
                  <a:lnTo>
                    <a:pt x="180" y="3819"/>
                  </a:lnTo>
                  <a:lnTo>
                    <a:pt x="198" y="3841"/>
                  </a:lnTo>
                  <a:lnTo>
                    <a:pt x="216" y="3863"/>
                  </a:lnTo>
                  <a:lnTo>
                    <a:pt x="233" y="3885"/>
                  </a:lnTo>
                  <a:lnTo>
                    <a:pt x="251" y="3885"/>
                  </a:lnTo>
                  <a:lnTo>
                    <a:pt x="268" y="3885"/>
                  </a:lnTo>
                  <a:lnTo>
                    <a:pt x="286" y="3863"/>
                  </a:lnTo>
                  <a:lnTo>
                    <a:pt x="304" y="3841"/>
                  </a:lnTo>
                  <a:lnTo>
                    <a:pt x="321" y="3819"/>
                  </a:lnTo>
                  <a:lnTo>
                    <a:pt x="343" y="3797"/>
                  </a:lnTo>
                  <a:lnTo>
                    <a:pt x="343" y="3775"/>
                  </a:lnTo>
                  <a:lnTo>
                    <a:pt x="361" y="3753"/>
                  </a:lnTo>
                  <a:lnTo>
                    <a:pt x="361" y="3731"/>
                  </a:lnTo>
                  <a:lnTo>
                    <a:pt x="379" y="3709"/>
                  </a:lnTo>
                  <a:lnTo>
                    <a:pt x="379" y="3687"/>
                  </a:lnTo>
                  <a:lnTo>
                    <a:pt x="396" y="3665"/>
                  </a:lnTo>
                  <a:lnTo>
                    <a:pt x="396" y="3643"/>
                  </a:lnTo>
                  <a:lnTo>
                    <a:pt x="396" y="3621"/>
                  </a:lnTo>
                  <a:lnTo>
                    <a:pt x="414" y="3599"/>
                  </a:lnTo>
                  <a:lnTo>
                    <a:pt x="414" y="3577"/>
                  </a:lnTo>
                  <a:lnTo>
                    <a:pt x="432" y="3555"/>
                  </a:lnTo>
                  <a:lnTo>
                    <a:pt x="432" y="3533"/>
                  </a:lnTo>
                  <a:lnTo>
                    <a:pt x="449" y="3511"/>
                  </a:lnTo>
                  <a:lnTo>
                    <a:pt x="449" y="3489"/>
                  </a:lnTo>
                  <a:lnTo>
                    <a:pt x="467" y="3467"/>
                  </a:lnTo>
                  <a:lnTo>
                    <a:pt x="467" y="3444"/>
                  </a:lnTo>
                  <a:lnTo>
                    <a:pt x="467" y="3422"/>
                  </a:lnTo>
                  <a:lnTo>
                    <a:pt x="485" y="3400"/>
                  </a:lnTo>
                  <a:lnTo>
                    <a:pt x="485" y="3378"/>
                  </a:lnTo>
                  <a:lnTo>
                    <a:pt x="502" y="3356"/>
                  </a:lnTo>
                  <a:lnTo>
                    <a:pt x="502" y="3334"/>
                  </a:lnTo>
                  <a:lnTo>
                    <a:pt x="520" y="3312"/>
                  </a:lnTo>
                  <a:lnTo>
                    <a:pt x="520" y="3290"/>
                  </a:lnTo>
                  <a:lnTo>
                    <a:pt x="520" y="3268"/>
                  </a:lnTo>
                  <a:lnTo>
                    <a:pt x="537" y="3246"/>
                  </a:lnTo>
                  <a:lnTo>
                    <a:pt x="537" y="3224"/>
                  </a:lnTo>
                  <a:lnTo>
                    <a:pt x="555" y="3202"/>
                  </a:lnTo>
                  <a:lnTo>
                    <a:pt x="555" y="3180"/>
                  </a:lnTo>
                  <a:lnTo>
                    <a:pt x="573" y="3158"/>
                  </a:lnTo>
                  <a:lnTo>
                    <a:pt x="573" y="3136"/>
                  </a:lnTo>
                  <a:lnTo>
                    <a:pt x="573" y="3114"/>
                  </a:lnTo>
                  <a:lnTo>
                    <a:pt x="590" y="3092"/>
                  </a:lnTo>
                  <a:lnTo>
                    <a:pt x="590" y="3070"/>
                  </a:lnTo>
                  <a:lnTo>
                    <a:pt x="590" y="3048"/>
                  </a:lnTo>
                  <a:lnTo>
                    <a:pt x="608" y="3026"/>
                  </a:lnTo>
                  <a:lnTo>
                    <a:pt x="608" y="3004"/>
                  </a:lnTo>
                  <a:lnTo>
                    <a:pt x="630" y="2981"/>
                  </a:lnTo>
                  <a:lnTo>
                    <a:pt x="630" y="2959"/>
                  </a:lnTo>
                  <a:lnTo>
                    <a:pt x="648" y="2937"/>
                  </a:lnTo>
                  <a:lnTo>
                    <a:pt x="648" y="2915"/>
                  </a:lnTo>
                  <a:lnTo>
                    <a:pt x="665" y="2893"/>
                  </a:lnTo>
                  <a:lnTo>
                    <a:pt x="665" y="2871"/>
                  </a:lnTo>
                  <a:lnTo>
                    <a:pt x="683" y="2849"/>
                  </a:lnTo>
                  <a:lnTo>
                    <a:pt x="683" y="2827"/>
                  </a:lnTo>
                  <a:lnTo>
                    <a:pt x="701" y="2805"/>
                  </a:lnTo>
                  <a:lnTo>
                    <a:pt x="701" y="2783"/>
                  </a:lnTo>
                  <a:lnTo>
                    <a:pt x="718" y="2761"/>
                  </a:lnTo>
                  <a:lnTo>
                    <a:pt x="718" y="2739"/>
                  </a:lnTo>
                  <a:lnTo>
                    <a:pt x="718" y="2717"/>
                  </a:lnTo>
                  <a:lnTo>
                    <a:pt x="736" y="2695"/>
                  </a:lnTo>
                  <a:lnTo>
                    <a:pt x="736" y="2673"/>
                  </a:lnTo>
                  <a:lnTo>
                    <a:pt x="754" y="2651"/>
                  </a:lnTo>
                  <a:lnTo>
                    <a:pt x="754" y="2629"/>
                  </a:lnTo>
                  <a:lnTo>
                    <a:pt x="771" y="2607"/>
                  </a:lnTo>
                  <a:lnTo>
                    <a:pt x="771" y="2585"/>
                  </a:lnTo>
                  <a:lnTo>
                    <a:pt x="771" y="2563"/>
                  </a:lnTo>
                  <a:lnTo>
                    <a:pt x="789" y="2541"/>
                  </a:lnTo>
                  <a:lnTo>
                    <a:pt x="789" y="2518"/>
                  </a:lnTo>
                  <a:lnTo>
                    <a:pt x="806" y="2496"/>
                  </a:lnTo>
                  <a:lnTo>
                    <a:pt x="806" y="2474"/>
                  </a:lnTo>
                  <a:lnTo>
                    <a:pt x="824" y="2452"/>
                  </a:lnTo>
                  <a:lnTo>
                    <a:pt x="824" y="2430"/>
                  </a:lnTo>
                  <a:lnTo>
                    <a:pt x="824" y="2408"/>
                  </a:lnTo>
                  <a:lnTo>
                    <a:pt x="842" y="2386"/>
                  </a:lnTo>
                  <a:lnTo>
                    <a:pt x="842" y="2364"/>
                  </a:lnTo>
                  <a:lnTo>
                    <a:pt x="842" y="2342"/>
                  </a:lnTo>
                  <a:lnTo>
                    <a:pt x="859" y="2320"/>
                  </a:lnTo>
                  <a:lnTo>
                    <a:pt x="859" y="2298"/>
                  </a:lnTo>
                  <a:lnTo>
                    <a:pt x="859" y="2276"/>
                  </a:lnTo>
                  <a:lnTo>
                    <a:pt x="877" y="2254"/>
                  </a:lnTo>
                  <a:lnTo>
                    <a:pt x="877" y="2232"/>
                  </a:lnTo>
                  <a:lnTo>
                    <a:pt x="877" y="2210"/>
                  </a:lnTo>
                  <a:lnTo>
                    <a:pt x="895" y="2188"/>
                  </a:lnTo>
                  <a:lnTo>
                    <a:pt x="895" y="2166"/>
                  </a:lnTo>
                  <a:lnTo>
                    <a:pt x="895" y="2144"/>
                  </a:lnTo>
                  <a:lnTo>
                    <a:pt x="917" y="2122"/>
                  </a:lnTo>
                  <a:lnTo>
                    <a:pt x="917" y="2100"/>
                  </a:lnTo>
                  <a:lnTo>
                    <a:pt x="917" y="2077"/>
                  </a:lnTo>
                  <a:lnTo>
                    <a:pt x="934" y="2055"/>
                  </a:lnTo>
                  <a:lnTo>
                    <a:pt x="934" y="2033"/>
                  </a:lnTo>
                  <a:lnTo>
                    <a:pt x="934" y="2011"/>
                  </a:lnTo>
                  <a:lnTo>
                    <a:pt x="952" y="1989"/>
                  </a:lnTo>
                  <a:lnTo>
                    <a:pt x="952" y="1967"/>
                  </a:lnTo>
                  <a:lnTo>
                    <a:pt x="952" y="1945"/>
                  </a:lnTo>
                  <a:lnTo>
                    <a:pt x="970" y="1923"/>
                  </a:lnTo>
                  <a:lnTo>
                    <a:pt x="970" y="1901"/>
                  </a:lnTo>
                  <a:lnTo>
                    <a:pt x="970" y="1879"/>
                  </a:lnTo>
                  <a:lnTo>
                    <a:pt x="987" y="1857"/>
                  </a:lnTo>
                  <a:lnTo>
                    <a:pt x="987" y="1835"/>
                  </a:lnTo>
                  <a:lnTo>
                    <a:pt x="987" y="1813"/>
                  </a:lnTo>
                  <a:lnTo>
                    <a:pt x="1005" y="1791"/>
                  </a:lnTo>
                  <a:lnTo>
                    <a:pt x="1005" y="1769"/>
                  </a:lnTo>
                  <a:lnTo>
                    <a:pt x="1005" y="1747"/>
                  </a:lnTo>
                  <a:lnTo>
                    <a:pt x="1023" y="1725"/>
                  </a:lnTo>
                  <a:lnTo>
                    <a:pt x="1023" y="1703"/>
                  </a:lnTo>
                  <a:lnTo>
                    <a:pt x="1023" y="1681"/>
                  </a:lnTo>
                  <a:lnTo>
                    <a:pt x="1040" y="1659"/>
                  </a:lnTo>
                  <a:lnTo>
                    <a:pt x="1040" y="1637"/>
                  </a:lnTo>
                  <a:lnTo>
                    <a:pt x="1040" y="1614"/>
                  </a:lnTo>
                  <a:lnTo>
                    <a:pt x="1058" y="1592"/>
                  </a:lnTo>
                  <a:lnTo>
                    <a:pt x="1058" y="1570"/>
                  </a:lnTo>
                  <a:lnTo>
                    <a:pt x="1058" y="1548"/>
                  </a:lnTo>
                  <a:lnTo>
                    <a:pt x="1075" y="1526"/>
                  </a:lnTo>
                  <a:lnTo>
                    <a:pt x="1075" y="1504"/>
                  </a:lnTo>
                  <a:lnTo>
                    <a:pt x="1075" y="1481"/>
                  </a:lnTo>
                  <a:lnTo>
                    <a:pt x="1075" y="1459"/>
                  </a:lnTo>
                  <a:lnTo>
                    <a:pt x="1093" y="1437"/>
                  </a:lnTo>
                  <a:lnTo>
                    <a:pt x="1093" y="1393"/>
                  </a:lnTo>
                  <a:lnTo>
                    <a:pt x="1093" y="1371"/>
                  </a:lnTo>
                  <a:lnTo>
                    <a:pt x="1111" y="1349"/>
                  </a:lnTo>
                  <a:lnTo>
                    <a:pt x="1111" y="1327"/>
                  </a:lnTo>
                  <a:lnTo>
                    <a:pt x="1111" y="1300"/>
                  </a:lnTo>
                  <a:lnTo>
                    <a:pt x="1128" y="1278"/>
                  </a:lnTo>
                  <a:lnTo>
                    <a:pt x="1128" y="1256"/>
                  </a:lnTo>
                  <a:lnTo>
                    <a:pt x="1146" y="1234"/>
                  </a:lnTo>
                  <a:lnTo>
                    <a:pt x="1146" y="1212"/>
                  </a:lnTo>
                  <a:lnTo>
                    <a:pt x="1146" y="1190"/>
                  </a:lnTo>
                  <a:lnTo>
                    <a:pt x="1164" y="1168"/>
                  </a:lnTo>
                  <a:lnTo>
                    <a:pt x="1164" y="1146"/>
                  </a:lnTo>
                  <a:lnTo>
                    <a:pt x="1164" y="1124"/>
                  </a:lnTo>
                  <a:lnTo>
                    <a:pt x="1181" y="1102"/>
                  </a:lnTo>
                  <a:lnTo>
                    <a:pt x="1181" y="1080"/>
                  </a:lnTo>
                  <a:lnTo>
                    <a:pt x="1181" y="1058"/>
                  </a:lnTo>
                  <a:lnTo>
                    <a:pt x="1199" y="1036"/>
                  </a:lnTo>
                  <a:lnTo>
                    <a:pt x="1199" y="1014"/>
                  </a:lnTo>
                  <a:lnTo>
                    <a:pt x="1221" y="992"/>
                  </a:lnTo>
                  <a:lnTo>
                    <a:pt x="1221" y="970"/>
                  </a:lnTo>
                  <a:lnTo>
                    <a:pt x="1221" y="948"/>
                  </a:lnTo>
                  <a:lnTo>
                    <a:pt x="1239" y="926"/>
                  </a:lnTo>
                  <a:lnTo>
                    <a:pt x="1239" y="903"/>
                  </a:lnTo>
                  <a:lnTo>
                    <a:pt x="1256" y="881"/>
                  </a:lnTo>
                  <a:lnTo>
                    <a:pt x="1256" y="859"/>
                  </a:lnTo>
                  <a:lnTo>
                    <a:pt x="1274" y="837"/>
                  </a:lnTo>
                  <a:lnTo>
                    <a:pt x="1274" y="815"/>
                  </a:lnTo>
                  <a:lnTo>
                    <a:pt x="1292" y="793"/>
                  </a:lnTo>
                  <a:lnTo>
                    <a:pt x="1292" y="771"/>
                  </a:lnTo>
                  <a:lnTo>
                    <a:pt x="1309" y="749"/>
                  </a:lnTo>
                  <a:lnTo>
                    <a:pt x="1309" y="727"/>
                  </a:lnTo>
                  <a:lnTo>
                    <a:pt x="1327" y="705"/>
                  </a:lnTo>
                  <a:lnTo>
                    <a:pt x="1327" y="683"/>
                  </a:lnTo>
                  <a:lnTo>
                    <a:pt x="1344" y="661"/>
                  </a:lnTo>
                  <a:lnTo>
                    <a:pt x="1362" y="639"/>
                  </a:lnTo>
                  <a:lnTo>
                    <a:pt x="1362" y="617"/>
                  </a:lnTo>
                  <a:lnTo>
                    <a:pt x="1380" y="595"/>
                  </a:lnTo>
                  <a:lnTo>
                    <a:pt x="1397" y="573"/>
                  </a:lnTo>
                  <a:lnTo>
                    <a:pt x="1415" y="551"/>
                  </a:lnTo>
                  <a:lnTo>
                    <a:pt x="1433" y="529"/>
                  </a:lnTo>
                  <a:lnTo>
                    <a:pt x="1450" y="529"/>
                  </a:lnTo>
                  <a:lnTo>
                    <a:pt x="1468" y="529"/>
                  </a:lnTo>
                  <a:lnTo>
                    <a:pt x="1486" y="529"/>
                  </a:lnTo>
                  <a:lnTo>
                    <a:pt x="1508" y="529"/>
                  </a:lnTo>
                  <a:lnTo>
                    <a:pt x="1525" y="529"/>
                  </a:lnTo>
                  <a:lnTo>
                    <a:pt x="1543" y="551"/>
                  </a:lnTo>
                  <a:lnTo>
                    <a:pt x="1561" y="573"/>
                  </a:lnTo>
                  <a:lnTo>
                    <a:pt x="1578" y="595"/>
                  </a:lnTo>
                  <a:lnTo>
                    <a:pt x="1596" y="617"/>
                  </a:lnTo>
                  <a:lnTo>
                    <a:pt x="1613" y="639"/>
                  </a:lnTo>
                  <a:lnTo>
                    <a:pt x="1631" y="661"/>
                  </a:lnTo>
                  <a:lnTo>
                    <a:pt x="1631" y="683"/>
                  </a:lnTo>
                  <a:lnTo>
                    <a:pt x="1649" y="705"/>
                  </a:lnTo>
                  <a:lnTo>
                    <a:pt x="1649" y="727"/>
                  </a:lnTo>
                  <a:lnTo>
                    <a:pt x="1666" y="749"/>
                  </a:lnTo>
                  <a:lnTo>
                    <a:pt x="1666" y="771"/>
                  </a:lnTo>
                  <a:lnTo>
                    <a:pt x="1684" y="793"/>
                  </a:lnTo>
                  <a:lnTo>
                    <a:pt x="1684" y="815"/>
                  </a:lnTo>
                  <a:lnTo>
                    <a:pt x="1702" y="837"/>
                  </a:lnTo>
                  <a:lnTo>
                    <a:pt x="1702" y="859"/>
                  </a:lnTo>
                  <a:lnTo>
                    <a:pt x="1702" y="881"/>
                  </a:lnTo>
                  <a:lnTo>
                    <a:pt x="1719" y="903"/>
                  </a:lnTo>
                  <a:lnTo>
                    <a:pt x="1719" y="926"/>
                  </a:lnTo>
                  <a:lnTo>
                    <a:pt x="1719" y="948"/>
                  </a:lnTo>
                  <a:lnTo>
                    <a:pt x="1737" y="970"/>
                  </a:lnTo>
                  <a:lnTo>
                    <a:pt x="1737" y="992"/>
                  </a:lnTo>
                  <a:lnTo>
                    <a:pt x="1737" y="1014"/>
                  </a:lnTo>
                  <a:lnTo>
                    <a:pt x="1755" y="1036"/>
                  </a:lnTo>
                  <a:lnTo>
                    <a:pt x="1755" y="1058"/>
                  </a:lnTo>
                  <a:lnTo>
                    <a:pt x="1755" y="1080"/>
                  </a:lnTo>
                  <a:lnTo>
                    <a:pt x="1772" y="1102"/>
                  </a:lnTo>
                  <a:lnTo>
                    <a:pt x="1772" y="1124"/>
                  </a:lnTo>
                  <a:lnTo>
                    <a:pt x="1772" y="1146"/>
                  </a:lnTo>
                  <a:lnTo>
                    <a:pt x="1794" y="1168"/>
                  </a:lnTo>
                  <a:lnTo>
                    <a:pt x="1794" y="1190"/>
                  </a:lnTo>
                  <a:lnTo>
                    <a:pt x="1794" y="1212"/>
                  </a:lnTo>
                  <a:lnTo>
                    <a:pt x="1794" y="1256"/>
                  </a:lnTo>
                  <a:lnTo>
                    <a:pt x="1812" y="1278"/>
                  </a:lnTo>
                  <a:lnTo>
                    <a:pt x="1812" y="1300"/>
                  </a:lnTo>
                  <a:lnTo>
                    <a:pt x="1812" y="1327"/>
                  </a:lnTo>
                  <a:lnTo>
                    <a:pt x="1830" y="1371"/>
                  </a:lnTo>
                  <a:lnTo>
                    <a:pt x="1830" y="1393"/>
                  </a:lnTo>
                  <a:lnTo>
                    <a:pt x="1830" y="1415"/>
                  </a:lnTo>
                  <a:lnTo>
                    <a:pt x="1847" y="1459"/>
                  </a:lnTo>
                  <a:lnTo>
                    <a:pt x="1847" y="1481"/>
                  </a:lnTo>
                  <a:lnTo>
                    <a:pt x="1847" y="1504"/>
                  </a:lnTo>
                  <a:lnTo>
                    <a:pt x="1865" y="1548"/>
                  </a:lnTo>
                  <a:lnTo>
                    <a:pt x="1865" y="1570"/>
                  </a:lnTo>
                  <a:lnTo>
                    <a:pt x="1865" y="1614"/>
                  </a:lnTo>
                  <a:lnTo>
                    <a:pt x="1882" y="1637"/>
                  </a:lnTo>
                  <a:lnTo>
                    <a:pt x="1882" y="1681"/>
                  </a:lnTo>
                  <a:lnTo>
                    <a:pt x="1882" y="1703"/>
                  </a:lnTo>
                  <a:lnTo>
                    <a:pt x="1900" y="1747"/>
                  </a:lnTo>
                  <a:lnTo>
                    <a:pt x="1900" y="1769"/>
                  </a:lnTo>
                  <a:lnTo>
                    <a:pt x="1900" y="1813"/>
                  </a:lnTo>
                  <a:lnTo>
                    <a:pt x="1918" y="1835"/>
                  </a:lnTo>
                  <a:lnTo>
                    <a:pt x="1918" y="1879"/>
                  </a:lnTo>
                  <a:lnTo>
                    <a:pt x="1918" y="1923"/>
                  </a:lnTo>
                  <a:lnTo>
                    <a:pt x="1935" y="1945"/>
                  </a:lnTo>
                  <a:lnTo>
                    <a:pt x="1935" y="1989"/>
                  </a:lnTo>
                  <a:lnTo>
                    <a:pt x="1935" y="2011"/>
                  </a:lnTo>
                  <a:lnTo>
                    <a:pt x="1953" y="2055"/>
                  </a:lnTo>
                  <a:lnTo>
                    <a:pt x="1953" y="2100"/>
                  </a:lnTo>
                  <a:lnTo>
                    <a:pt x="1953" y="2122"/>
                  </a:lnTo>
                  <a:lnTo>
                    <a:pt x="1971" y="2166"/>
                  </a:lnTo>
                  <a:lnTo>
                    <a:pt x="1971" y="2210"/>
                  </a:lnTo>
                  <a:lnTo>
                    <a:pt x="1971" y="2254"/>
                  </a:lnTo>
                  <a:lnTo>
                    <a:pt x="1988" y="2276"/>
                  </a:lnTo>
                  <a:lnTo>
                    <a:pt x="1988" y="2320"/>
                  </a:lnTo>
                  <a:lnTo>
                    <a:pt x="1988" y="2364"/>
                  </a:lnTo>
                  <a:lnTo>
                    <a:pt x="2006" y="2386"/>
                  </a:lnTo>
                  <a:lnTo>
                    <a:pt x="2006" y="2430"/>
                  </a:lnTo>
                  <a:lnTo>
                    <a:pt x="2006" y="2474"/>
                  </a:lnTo>
                  <a:lnTo>
                    <a:pt x="2024" y="2518"/>
                  </a:lnTo>
                  <a:lnTo>
                    <a:pt x="2024" y="2563"/>
                  </a:lnTo>
                  <a:lnTo>
                    <a:pt x="2024" y="2585"/>
                  </a:lnTo>
                  <a:lnTo>
                    <a:pt x="2024" y="2629"/>
                  </a:lnTo>
                  <a:lnTo>
                    <a:pt x="2041" y="2673"/>
                  </a:lnTo>
                  <a:lnTo>
                    <a:pt x="2041" y="2717"/>
                  </a:lnTo>
                  <a:lnTo>
                    <a:pt x="2041" y="2739"/>
                  </a:lnTo>
                  <a:lnTo>
                    <a:pt x="2059" y="2783"/>
                  </a:lnTo>
                  <a:lnTo>
                    <a:pt x="2059" y="2827"/>
                  </a:lnTo>
                  <a:lnTo>
                    <a:pt x="2059" y="2871"/>
                  </a:lnTo>
                  <a:lnTo>
                    <a:pt x="2076" y="2915"/>
                  </a:lnTo>
                  <a:lnTo>
                    <a:pt x="2076" y="2937"/>
                  </a:lnTo>
                  <a:lnTo>
                    <a:pt x="2076" y="2981"/>
                  </a:lnTo>
                  <a:lnTo>
                    <a:pt x="2099" y="3026"/>
                  </a:lnTo>
                  <a:lnTo>
                    <a:pt x="2099" y="3070"/>
                  </a:lnTo>
                  <a:lnTo>
                    <a:pt x="2099" y="3092"/>
                  </a:lnTo>
                  <a:lnTo>
                    <a:pt x="2116" y="3136"/>
                  </a:lnTo>
                  <a:lnTo>
                    <a:pt x="2116" y="3180"/>
                  </a:lnTo>
                  <a:lnTo>
                    <a:pt x="2116" y="3202"/>
                  </a:lnTo>
                  <a:lnTo>
                    <a:pt x="2134" y="3246"/>
                  </a:lnTo>
                  <a:lnTo>
                    <a:pt x="2134" y="3290"/>
                  </a:lnTo>
                  <a:lnTo>
                    <a:pt x="2134" y="3334"/>
                  </a:lnTo>
                  <a:lnTo>
                    <a:pt x="2151" y="3356"/>
                  </a:lnTo>
                  <a:lnTo>
                    <a:pt x="2151" y="3400"/>
                  </a:lnTo>
                  <a:lnTo>
                    <a:pt x="2151" y="3422"/>
                  </a:lnTo>
                  <a:lnTo>
                    <a:pt x="2169" y="3467"/>
                  </a:lnTo>
                  <a:lnTo>
                    <a:pt x="2169" y="3511"/>
                  </a:lnTo>
                  <a:lnTo>
                    <a:pt x="2169" y="3533"/>
                  </a:lnTo>
                  <a:lnTo>
                    <a:pt x="2187" y="3577"/>
                  </a:lnTo>
                  <a:lnTo>
                    <a:pt x="2187" y="3599"/>
                  </a:lnTo>
                  <a:lnTo>
                    <a:pt x="2187" y="3643"/>
                  </a:lnTo>
                  <a:lnTo>
                    <a:pt x="2204" y="3665"/>
                  </a:lnTo>
                  <a:lnTo>
                    <a:pt x="2204" y="3709"/>
                  </a:lnTo>
                  <a:lnTo>
                    <a:pt x="2204" y="3731"/>
                  </a:lnTo>
                  <a:lnTo>
                    <a:pt x="2222" y="3775"/>
                  </a:lnTo>
                  <a:lnTo>
                    <a:pt x="2222" y="3797"/>
                  </a:lnTo>
                  <a:lnTo>
                    <a:pt x="2222" y="3841"/>
                  </a:lnTo>
                  <a:lnTo>
                    <a:pt x="2240" y="3863"/>
                  </a:lnTo>
                  <a:lnTo>
                    <a:pt x="2240" y="3885"/>
                  </a:lnTo>
                  <a:lnTo>
                    <a:pt x="2240" y="3930"/>
                  </a:lnTo>
                  <a:lnTo>
                    <a:pt x="2257" y="3952"/>
                  </a:lnTo>
                  <a:lnTo>
                    <a:pt x="2257" y="3974"/>
                  </a:lnTo>
                  <a:lnTo>
                    <a:pt x="2257" y="4018"/>
                  </a:lnTo>
                  <a:lnTo>
                    <a:pt x="2275" y="4040"/>
                  </a:lnTo>
                  <a:lnTo>
                    <a:pt x="2275" y="4062"/>
                  </a:lnTo>
                  <a:lnTo>
                    <a:pt x="2275" y="4106"/>
                  </a:lnTo>
                  <a:lnTo>
                    <a:pt x="2275" y="4128"/>
                  </a:lnTo>
                  <a:lnTo>
                    <a:pt x="2293" y="4150"/>
                  </a:lnTo>
                  <a:lnTo>
                    <a:pt x="2293" y="4172"/>
                  </a:lnTo>
                  <a:lnTo>
                    <a:pt x="2293" y="4216"/>
                  </a:lnTo>
                  <a:lnTo>
                    <a:pt x="2310" y="4238"/>
                  </a:lnTo>
                  <a:lnTo>
                    <a:pt x="2310" y="4260"/>
                  </a:lnTo>
                  <a:lnTo>
                    <a:pt x="2310" y="4282"/>
                  </a:lnTo>
                  <a:lnTo>
                    <a:pt x="2328" y="4304"/>
                  </a:lnTo>
                  <a:lnTo>
                    <a:pt x="2328" y="4326"/>
                  </a:lnTo>
                  <a:lnTo>
                    <a:pt x="2328" y="4371"/>
                  </a:lnTo>
                  <a:lnTo>
                    <a:pt x="2345" y="4393"/>
                  </a:lnTo>
                  <a:lnTo>
                    <a:pt x="2345" y="4415"/>
                  </a:lnTo>
                  <a:lnTo>
                    <a:pt x="2345" y="4437"/>
                  </a:lnTo>
                  <a:lnTo>
                    <a:pt x="2363" y="4459"/>
                  </a:lnTo>
                  <a:lnTo>
                    <a:pt x="2363" y="4482"/>
                  </a:lnTo>
                  <a:lnTo>
                    <a:pt x="2363" y="4504"/>
                  </a:lnTo>
                  <a:lnTo>
                    <a:pt x="2385" y="4548"/>
                  </a:lnTo>
                  <a:lnTo>
                    <a:pt x="2385" y="4570"/>
                  </a:lnTo>
                  <a:lnTo>
                    <a:pt x="2385" y="4592"/>
                  </a:lnTo>
                  <a:lnTo>
                    <a:pt x="2403" y="4614"/>
                  </a:lnTo>
                  <a:lnTo>
                    <a:pt x="2403" y="4636"/>
                  </a:lnTo>
                  <a:lnTo>
                    <a:pt x="2403" y="4658"/>
                  </a:lnTo>
                  <a:lnTo>
                    <a:pt x="2420" y="4680"/>
                  </a:lnTo>
                  <a:lnTo>
                    <a:pt x="2420" y="4724"/>
                  </a:lnTo>
                  <a:lnTo>
                    <a:pt x="2420" y="4746"/>
                  </a:lnTo>
                  <a:lnTo>
                    <a:pt x="2438" y="4768"/>
                  </a:lnTo>
                  <a:lnTo>
                    <a:pt x="2438" y="4790"/>
                  </a:lnTo>
                  <a:lnTo>
                    <a:pt x="2438" y="4813"/>
                  </a:lnTo>
                  <a:lnTo>
                    <a:pt x="2456" y="4835"/>
                  </a:lnTo>
                  <a:lnTo>
                    <a:pt x="2456" y="4879"/>
                  </a:lnTo>
                  <a:lnTo>
                    <a:pt x="2456" y="4901"/>
                  </a:lnTo>
                  <a:lnTo>
                    <a:pt x="2473" y="4923"/>
                  </a:lnTo>
                  <a:lnTo>
                    <a:pt x="2473" y="4945"/>
                  </a:lnTo>
                  <a:lnTo>
                    <a:pt x="2473" y="4989"/>
                  </a:lnTo>
                  <a:lnTo>
                    <a:pt x="2491" y="5011"/>
                  </a:lnTo>
                  <a:lnTo>
                    <a:pt x="2491" y="5033"/>
                  </a:lnTo>
                  <a:lnTo>
                    <a:pt x="2491" y="5055"/>
                  </a:lnTo>
                  <a:lnTo>
                    <a:pt x="2509" y="5099"/>
                  </a:lnTo>
                  <a:lnTo>
                    <a:pt x="2509" y="5126"/>
                  </a:lnTo>
                  <a:lnTo>
                    <a:pt x="2509" y="5148"/>
                  </a:lnTo>
                  <a:lnTo>
                    <a:pt x="2509" y="5170"/>
                  </a:lnTo>
                  <a:lnTo>
                    <a:pt x="2526" y="5214"/>
                  </a:lnTo>
                  <a:lnTo>
                    <a:pt x="2526" y="5236"/>
                  </a:lnTo>
                  <a:lnTo>
                    <a:pt x="2526" y="5258"/>
                  </a:lnTo>
                  <a:lnTo>
                    <a:pt x="2544" y="5302"/>
                  </a:lnTo>
                  <a:lnTo>
                    <a:pt x="2544" y="5324"/>
                  </a:lnTo>
                  <a:lnTo>
                    <a:pt x="2544" y="5346"/>
                  </a:lnTo>
                  <a:lnTo>
                    <a:pt x="2562" y="5368"/>
                  </a:lnTo>
                  <a:lnTo>
                    <a:pt x="2562" y="5412"/>
                  </a:lnTo>
                  <a:lnTo>
                    <a:pt x="2562" y="5434"/>
                  </a:lnTo>
                  <a:lnTo>
                    <a:pt x="2579" y="5456"/>
                  </a:lnTo>
                  <a:lnTo>
                    <a:pt x="2579" y="5500"/>
                  </a:lnTo>
                  <a:lnTo>
                    <a:pt x="2579" y="5522"/>
                  </a:lnTo>
                  <a:lnTo>
                    <a:pt x="2597" y="5545"/>
                  </a:lnTo>
                  <a:lnTo>
                    <a:pt x="2597" y="5567"/>
                  </a:lnTo>
                  <a:lnTo>
                    <a:pt x="2597" y="5589"/>
                  </a:lnTo>
                  <a:lnTo>
                    <a:pt x="2614" y="5633"/>
                  </a:lnTo>
                  <a:lnTo>
                    <a:pt x="2614" y="5655"/>
                  </a:lnTo>
                  <a:lnTo>
                    <a:pt x="2614" y="5677"/>
                  </a:lnTo>
                  <a:lnTo>
                    <a:pt x="2632" y="5699"/>
                  </a:lnTo>
                  <a:lnTo>
                    <a:pt x="2632" y="5721"/>
                  </a:lnTo>
                  <a:lnTo>
                    <a:pt x="2632" y="5743"/>
                  </a:lnTo>
                  <a:lnTo>
                    <a:pt x="2650" y="5765"/>
                  </a:lnTo>
                  <a:lnTo>
                    <a:pt x="2650" y="5787"/>
                  </a:lnTo>
                  <a:lnTo>
                    <a:pt x="2650" y="5809"/>
                  </a:lnTo>
                  <a:lnTo>
                    <a:pt x="2672" y="5831"/>
                  </a:lnTo>
                  <a:lnTo>
                    <a:pt x="2672" y="5853"/>
                  </a:lnTo>
                  <a:lnTo>
                    <a:pt x="2689" y="5875"/>
                  </a:lnTo>
                  <a:lnTo>
                    <a:pt x="2689" y="5897"/>
                  </a:lnTo>
                  <a:lnTo>
                    <a:pt x="2707" y="5919"/>
                  </a:lnTo>
                  <a:lnTo>
                    <a:pt x="2725" y="5941"/>
                  </a:lnTo>
                  <a:lnTo>
                    <a:pt x="2742" y="5963"/>
                  </a:lnTo>
                  <a:lnTo>
                    <a:pt x="2760" y="5941"/>
                  </a:lnTo>
                  <a:lnTo>
                    <a:pt x="2778" y="5919"/>
                  </a:lnTo>
                  <a:lnTo>
                    <a:pt x="2795" y="5897"/>
                  </a:lnTo>
                  <a:lnTo>
                    <a:pt x="2813" y="5875"/>
                  </a:lnTo>
                  <a:lnTo>
                    <a:pt x="2813" y="5853"/>
                  </a:lnTo>
                  <a:lnTo>
                    <a:pt x="2831" y="5831"/>
                  </a:lnTo>
                  <a:lnTo>
                    <a:pt x="2831" y="5809"/>
                  </a:lnTo>
                  <a:lnTo>
                    <a:pt x="2831" y="5787"/>
                  </a:lnTo>
                  <a:lnTo>
                    <a:pt x="2848" y="5765"/>
                  </a:lnTo>
                  <a:lnTo>
                    <a:pt x="2848" y="5743"/>
                  </a:lnTo>
                  <a:lnTo>
                    <a:pt x="2848" y="5721"/>
                  </a:lnTo>
                  <a:lnTo>
                    <a:pt x="2866" y="5699"/>
                  </a:lnTo>
                  <a:lnTo>
                    <a:pt x="2866" y="5677"/>
                  </a:lnTo>
                  <a:lnTo>
                    <a:pt x="2866" y="5655"/>
                  </a:lnTo>
                  <a:lnTo>
                    <a:pt x="2883" y="5633"/>
                  </a:lnTo>
                  <a:lnTo>
                    <a:pt x="2883" y="5611"/>
                  </a:lnTo>
                  <a:lnTo>
                    <a:pt x="2883" y="5589"/>
                  </a:lnTo>
                  <a:lnTo>
                    <a:pt x="2901" y="5567"/>
                  </a:lnTo>
                  <a:lnTo>
                    <a:pt x="2901" y="5545"/>
                  </a:lnTo>
                  <a:lnTo>
                    <a:pt x="2901" y="5522"/>
                  </a:lnTo>
                  <a:lnTo>
                    <a:pt x="2919" y="5500"/>
                  </a:lnTo>
                  <a:lnTo>
                    <a:pt x="2919" y="5456"/>
                  </a:lnTo>
                  <a:lnTo>
                    <a:pt x="2919" y="5434"/>
                  </a:lnTo>
                  <a:lnTo>
                    <a:pt x="2936" y="5412"/>
                  </a:lnTo>
                  <a:lnTo>
                    <a:pt x="2936" y="5390"/>
                  </a:lnTo>
                  <a:lnTo>
                    <a:pt x="2936" y="5368"/>
                  </a:lnTo>
                  <a:lnTo>
                    <a:pt x="2954" y="5346"/>
                  </a:lnTo>
                  <a:lnTo>
                    <a:pt x="2954" y="5324"/>
                  </a:lnTo>
                  <a:lnTo>
                    <a:pt x="2954" y="5302"/>
                  </a:lnTo>
                  <a:lnTo>
                    <a:pt x="2976" y="5280"/>
                  </a:lnTo>
                  <a:lnTo>
                    <a:pt x="2976" y="5258"/>
                  </a:lnTo>
                  <a:lnTo>
                    <a:pt x="2976" y="5236"/>
                  </a:lnTo>
                  <a:lnTo>
                    <a:pt x="2995" y="5214"/>
                  </a:lnTo>
                  <a:lnTo>
                    <a:pt x="2995" y="5170"/>
                  </a:lnTo>
                  <a:lnTo>
                    <a:pt x="2995" y="5148"/>
                  </a:lnTo>
                  <a:lnTo>
                    <a:pt x="2995" y="5126"/>
                  </a:lnTo>
                  <a:lnTo>
                    <a:pt x="3012" y="5099"/>
                  </a:lnTo>
                  <a:lnTo>
                    <a:pt x="3012" y="5077"/>
                  </a:lnTo>
                  <a:lnTo>
                    <a:pt x="3012" y="5055"/>
                  </a:lnTo>
                  <a:lnTo>
                    <a:pt x="3030" y="5033"/>
                  </a:lnTo>
                  <a:lnTo>
                    <a:pt x="3030" y="5011"/>
                  </a:lnTo>
                  <a:lnTo>
                    <a:pt x="3048" y="4989"/>
                  </a:lnTo>
                  <a:lnTo>
                    <a:pt x="3048" y="4967"/>
                  </a:lnTo>
                  <a:lnTo>
                    <a:pt x="3048" y="4945"/>
                  </a:lnTo>
                  <a:lnTo>
                    <a:pt x="3065" y="4923"/>
                  </a:lnTo>
                  <a:lnTo>
                    <a:pt x="3065" y="4901"/>
                  </a:lnTo>
                  <a:lnTo>
                    <a:pt x="3065" y="4879"/>
                  </a:lnTo>
                  <a:lnTo>
                    <a:pt x="3083" y="4857"/>
                  </a:lnTo>
                  <a:lnTo>
                    <a:pt x="3083" y="4835"/>
                  </a:lnTo>
                  <a:lnTo>
                    <a:pt x="3083" y="4813"/>
                  </a:lnTo>
                  <a:lnTo>
                    <a:pt x="3101" y="4790"/>
                  </a:lnTo>
                  <a:lnTo>
                    <a:pt x="3101" y="4768"/>
                  </a:lnTo>
                  <a:lnTo>
                    <a:pt x="3101" y="4746"/>
                  </a:lnTo>
                  <a:lnTo>
                    <a:pt x="3118" y="4724"/>
                  </a:lnTo>
                  <a:lnTo>
                    <a:pt x="3118" y="4702"/>
                  </a:lnTo>
                  <a:lnTo>
                    <a:pt x="3136" y="4680"/>
                  </a:lnTo>
                  <a:lnTo>
                    <a:pt x="3136" y="4658"/>
                  </a:lnTo>
                  <a:lnTo>
                    <a:pt x="3136" y="4636"/>
                  </a:lnTo>
                  <a:lnTo>
                    <a:pt x="3153" y="4614"/>
                  </a:lnTo>
                  <a:lnTo>
                    <a:pt x="3153" y="4592"/>
                  </a:lnTo>
                  <a:lnTo>
                    <a:pt x="3153" y="4570"/>
                  </a:lnTo>
                  <a:lnTo>
                    <a:pt x="3171" y="4548"/>
                  </a:lnTo>
                  <a:lnTo>
                    <a:pt x="3171" y="4526"/>
                  </a:lnTo>
                  <a:lnTo>
                    <a:pt x="3171" y="4482"/>
                  </a:lnTo>
                  <a:lnTo>
                    <a:pt x="3189" y="4459"/>
                  </a:lnTo>
                  <a:lnTo>
                    <a:pt x="3189" y="4437"/>
                  </a:lnTo>
                  <a:lnTo>
                    <a:pt x="3189" y="4415"/>
                  </a:lnTo>
                  <a:lnTo>
                    <a:pt x="3206" y="4393"/>
                  </a:lnTo>
                  <a:lnTo>
                    <a:pt x="3206" y="4371"/>
                  </a:lnTo>
                  <a:lnTo>
                    <a:pt x="3206" y="4326"/>
                  </a:lnTo>
                  <a:lnTo>
                    <a:pt x="3224" y="4304"/>
                  </a:lnTo>
                  <a:lnTo>
                    <a:pt x="3224" y="4282"/>
                  </a:lnTo>
                  <a:lnTo>
                    <a:pt x="3224" y="4238"/>
                  </a:lnTo>
                  <a:lnTo>
                    <a:pt x="3224" y="4216"/>
                  </a:lnTo>
                  <a:lnTo>
                    <a:pt x="3242" y="4194"/>
                  </a:lnTo>
                  <a:lnTo>
                    <a:pt x="3242" y="4150"/>
                  </a:lnTo>
                  <a:lnTo>
                    <a:pt x="3242" y="4128"/>
                  </a:lnTo>
                  <a:lnTo>
                    <a:pt x="3264" y="4084"/>
                  </a:lnTo>
                  <a:lnTo>
                    <a:pt x="3264" y="4062"/>
                  </a:lnTo>
                  <a:lnTo>
                    <a:pt x="3264" y="4018"/>
                  </a:lnTo>
                  <a:lnTo>
                    <a:pt x="3281" y="3974"/>
                  </a:lnTo>
                  <a:lnTo>
                    <a:pt x="3281" y="3952"/>
                  </a:lnTo>
                  <a:lnTo>
                    <a:pt x="3281" y="3908"/>
                  </a:lnTo>
                  <a:lnTo>
                    <a:pt x="3299" y="3863"/>
                  </a:lnTo>
                  <a:lnTo>
                    <a:pt x="3299" y="3819"/>
                  </a:lnTo>
                  <a:lnTo>
                    <a:pt x="3299" y="3797"/>
                  </a:lnTo>
                  <a:lnTo>
                    <a:pt x="3317" y="3753"/>
                  </a:lnTo>
                  <a:lnTo>
                    <a:pt x="3317" y="3709"/>
                  </a:lnTo>
                  <a:lnTo>
                    <a:pt x="3317" y="3665"/>
                  </a:lnTo>
                  <a:lnTo>
                    <a:pt x="3334" y="3621"/>
                  </a:lnTo>
                  <a:lnTo>
                    <a:pt x="3334" y="3577"/>
                  </a:lnTo>
                  <a:lnTo>
                    <a:pt x="3334" y="3533"/>
                  </a:lnTo>
                  <a:lnTo>
                    <a:pt x="3352" y="3489"/>
                  </a:lnTo>
                  <a:lnTo>
                    <a:pt x="3352" y="3444"/>
                  </a:lnTo>
                  <a:lnTo>
                    <a:pt x="3352" y="3400"/>
                  </a:lnTo>
                  <a:lnTo>
                    <a:pt x="3370" y="3356"/>
                  </a:lnTo>
                  <a:lnTo>
                    <a:pt x="3370" y="3312"/>
                  </a:lnTo>
                  <a:lnTo>
                    <a:pt x="3370" y="3268"/>
                  </a:lnTo>
                  <a:lnTo>
                    <a:pt x="3387" y="3224"/>
                  </a:lnTo>
                  <a:lnTo>
                    <a:pt x="3387" y="3180"/>
                  </a:lnTo>
                  <a:lnTo>
                    <a:pt x="3387" y="3136"/>
                  </a:lnTo>
                  <a:lnTo>
                    <a:pt x="3405" y="3070"/>
                  </a:lnTo>
                  <a:lnTo>
                    <a:pt x="3405" y="3026"/>
                  </a:lnTo>
                  <a:lnTo>
                    <a:pt x="3405" y="2981"/>
                  </a:lnTo>
                  <a:lnTo>
                    <a:pt x="3422" y="2937"/>
                  </a:lnTo>
                  <a:lnTo>
                    <a:pt x="3422" y="2893"/>
                  </a:lnTo>
                  <a:lnTo>
                    <a:pt x="3422" y="2849"/>
                  </a:lnTo>
                  <a:lnTo>
                    <a:pt x="3440" y="2783"/>
                  </a:lnTo>
                  <a:lnTo>
                    <a:pt x="3440" y="2739"/>
                  </a:lnTo>
                  <a:lnTo>
                    <a:pt x="3440" y="2695"/>
                  </a:lnTo>
                  <a:lnTo>
                    <a:pt x="3458" y="2651"/>
                  </a:lnTo>
                  <a:lnTo>
                    <a:pt x="3458" y="2607"/>
                  </a:lnTo>
                  <a:lnTo>
                    <a:pt x="3458" y="2541"/>
                  </a:lnTo>
                  <a:lnTo>
                    <a:pt x="3458" y="2496"/>
                  </a:lnTo>
                  <a:lnTo>
                    <a:pt x="3475" y="2452"/>
                  </a:lnTo>
                  <a:lnTo>
                    <a:pt x="3475" y="2408"/>
                  </a:lnTo>
                  <a:lnTo>
                    <a:pt x="3475" y="2364"/>
                  </a:lnTo>
                  <a:lnTo>
                    <a:pt x="3493" y="2320"/>
                  </a:lnTo>
                  <a:lnTo>
                    <a:pt x="3493" y="2276"/>
                  </a:lnTo>
                  <a:lnTo>
                    <a:pt x="3493" y="2210"/>
                  </a:lnTo>
                  <a:lnTo>
                    <a:pt x="3511" y="2166"/>
                  </a:lnTo>
                  <a:lnTo>
                    <a:pt x="3511" y="2122"/>
                  </a:lnTo>
                  <a:lnTo>
                    <a:pt x="3511" y="2077"/>
                  </a:lnTo>
                  <a:lnTo>
                    <a:pt x="3528" y="2033"/>
                  </a:lnTo>
                  <a:lnTo>
                    <a:pt x="3528" y="1989"/>
                  </a:lnTo>
                  <a:lnTo>
                    <a:pt x="3528" y="1945"/>
                  </a:lnTo>
                  <a:lnTo>
                    <a:pt x="3550" y="1901"/>
                  </a:lnTo>
                  <a:lnTo>
                    <a:pt x="3550" y="1857"/>
                  </a:lnTo>
                  <a:lnTo>
                    <a:pt x="3550" y="1813"/>
                  </a:lnTo>
                  <a:lnTo>
                    <a:pt x="3568" y="1769"/>
                  </a:lnTo>
                  <a:lnTo>
                    <a:pt x="3568" y="1725"/>
                  </a:lnTo>
                  <a:lnTo>
                    <a:pt x="3568" y="1681"/>
                  </a:lnTo>
                  <a:lnTo>
                    <a:pt x="3586" y="1637"/>
                  </a:lnTo>
                  <a:lnTo>
                    <a:pt x="3586" y="1614"/>
                  </a:lnTo>
                  <a:lnTo>
                    <a:pt x="3586" y="1570"/>
                  </a:lnTo>
                  <a:lnTo>
                    <a:pt x="3603" y="1526"/>
                  </a:lnTo>
                  <a:lnTo>
                    <a:pt x="3603" y="1481"/>
                  </a:lnTo>
                  <a:lnTo>
                    <a:pt x="3603" y="1437"/>
                  </a:lnTo>
                  <a:lnTo>
                    <a:pt x="3621" y="1415"/>
                  </a:lnTo>
                  <a:lnTo>
                    <a:pt x="3621" y="1371"/>
                  </a:lnTo>
                  <a:lnTo>
                    <a:pt x="3621" y="1327"/>
                  </a:lnTo>
                  <a:lnTo>
                    <a:pt x="3639" y="1278"/>
                  </a:lnTo>
                  <a:lnTo>
                    <a:pt x="3639" y="1256"/>
                  </a:lnTo>
                  <a:lnTo>
                    <a:pt x="3639" y="1212"/>
                  </a:lnTo>
                  <a:lnTo>
                    <a:pt x="3656" y="1190"/>
                  </a:lnTo>
                  <a:lnTo>
                    <a:pt x="3656" y="1146"/>
                  </a:lnTo>
                  <a:lnTo>
                    <a:pt x="3656" y="1102"/>
                  </a:lnTo>
                  <a:lnTo>
                    <a:pt x="3674" y="1080"/>
                  </a:lnTo>
                  <a:lnTo>
                    <a:pt x="3674" y="1036"/>
                  </a:lnTo>
                  <a:lnTo>
                    <a:pt x="3674" y="1014"/>
                  </a:lnTo>
                  <a:lnTo>
                    <a:pt x="3691" y="970"/>
                  </a:lnTo>
                  <a:lnTo>
                    <a:pt x="3691" y="948"/>
                  </a:lnTo>
                  <a:lnTo>
                    <a:pt x="3691" y="903"/>
                  </a:lnTo>
                  <a:lnTo>
                    <a:pt x="3691" y="881"/>
                  </a:lnTo>
                  <a:lnTo>
                    <a:pt x="3709" y="859"/>
                  </a:lnTo>
                  <a:lnTo>
                    <a:pt x="3709" y="815"/>
                  </a:lnTo>
                  <a:lnTo>
                    <a:pt x="3709" y="793"/>
                  </a:lnTo>
                  <a:lnTo>
                    <a:pt x="3727" y="771"/>
                  </a:lnTo>
                  <a:lnTo>
                    <a:pt x="3727" y="749"/>
                  </a:lnTo>
                  <a:lnTo>
                    <a:pt x="3727" y="705"/>
                  </a:lnTo>
                  <a:lnTo>
                    <a:pt x="3744" y="683"/>
                  </a:lnTo>
                  <a:lnTo>
                    <a:pt x="3744" y="661"/>
                  </a:lnTo>
                  <a:lnTo>
                    <a:pt x="3744" y="639"/>
                  </a:lnTo>
                  <a:lnTo>
                    <a:pt x="3762" y="617"/>
                  </a:lnTo>
                  <a:lnTo>
                    <a:pt x="3762" y="573"/>
                  </a:lnTo>
                  <a:lnTo>
                    <a:pt x="3762" y="551"/>
                  </a:lnTo>
                  <a:lnTo>
                    <a:pt x="3780" y="529"/>
                  </a:lnTo>
                  <a:lnTo>
                    <a:pt x="3780" y="507"/>
                  </a:lnTo>
                  <a:lnTo>
                    <a:pt x="3780" y="485"/>
                  </a:lnTo>
                  <a:lnTo>
                    <a:pt x="3797" y="463"/>
                  </a:lnTo>
                  <a:lnTo>
                    <a:pt x="3797" y="440"/>
                  </a:lnTo>
                  <a:lnTo>
                    <a:pt x="3797" y="418"/>
                  </a:lnTo>
                  <a:lnTo>
                    <a:pt x="3815" y="396"/>
                  </a:lnTo>
                  <a:lnTo>
                    <a:pt x="3815" y="374"/>
                  </a:lnTo>
                  <a:lnTo>
                    <a:pt x="3833" y="352"/>
                  </a:lnTo>
                  <a:lnTo>
                    <a:pt x="3833" y="330"/>
                  </a:lnTo>
                  <a:lnTo>
                    <a:pt x="3833" y="308"/>
                  </a:lnTo>
                  <a:lnTo>
                    <a:pt x="3855" y="286"/>
                  </a:lnTo>
                  <a:lnTo>
                    <a:pt x="3855" y="264"/>
                  </a:lnTo>
                  <a:lnTo>
                    <a:pt x="3872" y="242"/>
                  </a:lnTo>
                  <a:lnTo>
                    <a:pt x="3872" y="220"/>
                  </a:lnTo>
                  <a:lnTo>
                    <a:pt x="3890" y="198"/>
                  </a:lnTo>
                  <a:lnTo>
                    <a:pt x="3890" y="176"/>
                  </a:lnTo>
                  <a:lnTo>
                    <a:pt x="3908" y="154"/>
                  </a:lnTo>
                  <a:lnTo>
                    <a:pt x="3925" y="132"/>
                  </a:lnTo>
                  <a:lnTo>
                    <a:pt x="3943" y="110"/>
                  </a:lnTo>
                  <a:lnTo>
                    <a:pt x="3943" y="88"/>
                  </a:lnTo>
                  <a:lnTo>
                    <a:pt x="3960" y="66"/>
                  </a:lnTo>
                  <a:lnTo>
                    <a:pt x="3978" y="44"/>
                  </a:lnTo>
                  <a:lnTo>
                    <a:pt x="3996" y="22"/>
                  </a:lnTo>
                  <a:lnTo>
                    <a:pt x="4013" y="0"/>
                  </a:lnTo>
                  <a:lnTo>
                    <a:pt x="4031" y="0"/>
                  </a:lnTo>
                  <a:lnTo>
                    <a:pt x="4049" y="0"/>
                  </a:lnTo>
                  <a:lnTo>
                    <a:pt x="4066" y="0"/>
                  </a:lnTo>
                  <a:lnTo>
                    <a:pt x="4084" y="0"/>
                  </a:lnTo>
                  <a:lnTo>
                    <a:pt x="4102" y="0"/>
                  </a:lnTo>
                  <a:lnTo>
                    <a:pt x="4119" y="22"/>
                  </a:lnTo>
                  <a:lnTo>
                    <a:pt x="4141" y="22"/>
                  </a:lnTo>
                  <a:lnTo>
                    <a:pt x="4159" y="44"/>
                  </a:lnTo>
                  <a:lnTo>
                    <a:pt x="4177" y="66"/>
                  </a:lnTo>
                  <a:lnTo>
                    <a:pt x="4194" y="88"/>
                  </a:lnTo>
                  <a:lnTo>
                    <a:pt x="4212" y="110"/>
                  </a:lnTo>
                  <a:lnTo>
                    <a:pt x="4229" y="110"/>
                  </a:lnTo>
                  <a:lnTo>
                    <a:pt x="4247" y="132"/>
                  </a:lnTo>
                  <a:lnTo>
                    <a:pt x="4265" y="154"/>
                  </a:lnTo>
                  <a:lnTo>
                    <a:pt x="4282" y="176"/>
                  </a:lnTo>
                  <a:lnTo>
                    <a:pt x="4300" y="198"/>
                  </a:lnTo>
                  <a:lnTo>
                    <a:pt x="4318" y="220"/>
                  </a:lnTo>
                  <a:lnTo>
                    <a:pt x="4335" y="242"/>
                  </a:lnTo>
                  <a:lnTo>
                    <a:pt x="4353" y="264"/>
                  </a:lnTo>
                  <a:lnTo>
                    <a:pt x="4371" y="264"/>
                  </a:lnTo>
                  <a:lnTo>
                    <a:pt x="4388" y="286"/>
                  </a:lnTo>
                  <a:lnTo>
                    <a:pt x="4406" y="308"/>
                  </a:lnTo>
                  <a:lnTo>
                    <a:pt x="4428" y="308"/>
                  </a:lnTo>
                  <a:lnTo>
                    <a:pt x="4446" y="330"/>
                  </a:lnTo>
                  <a:lnTo>
                    <a:pt x="4463" y="330"/>
                  </a:lnTo>
                  <a:lnTo>
                    <a:pt x="4481" y="330"/>
                  </a:lnTo>
                  <a:lnTo>
                    <a:pt x="4498" y="330"/>
                  </a:lnTo>
                  <a:lnTo>
                    <a:pt x="4516" y="330"/>
                  </a:lnTo>
                  <a:lnTo>
                    <a:pt x="4534" y="330"/>
                  </a:lnTo>
                  <a:lnTo>
                    <a:pt x="4551" y="308"/>
                  </a:lnTo>
                  <a:lnTo>
                    <a:pt x="4569" y="308"/>
                  </a:lnTo>
                  <a:lnTo>
                    <a:pt x="4587" y="286"/>
                  </a:lnTo>
                  <a:lnTo>
                    <a:pt x="4604" y="286"/>
                  </a:lnTo>
                  <a:lnTo>
                    <a:pt x="4622" y="264"/>
                  </a:lnTo>
                  <a:lnTo>
                    <a:pt x="4640" y="264"/>
                  </a:lnTo>
                  <a:lnTo>
                    <a:pt x="4657" y="242"/>
                  </a:lnTo>
                  <a:lnTo>
                    <a:pt x="4675" y="220"/>
                  </a:lnTo>
                  <a:lnTo>
                    <a:pt x="4692" y="220"/>
                  </a:lnTo>
                  <a:lnTo>
                    <a:pt x="4714" y="198"/>
                  </a:lnTo>
                  <a:lnTo>
                    <a:pt x="4732" y="176"/>
                  </a:lnTo>
                  <a:lnTo>
                    <a:pt x="4750" y="154"/>
                  </a:lnTo>
                  <a:lnTo>
                    <a:pt x="4767" y="154"/>
                  </a:lnTo>
                  <a:lnTo>
                    <a:pt x="4785" y="132"/>
                  </a:lnTo>
                  <a:lnTo>
                    <a:pt x="4803" y="132"/>
                  </a:lnTo>
                  <a:lnTo>
                    <a:pt x="4820" y="110"/>
                  </a:lnTo>
                  <a:lnTo>
                    <a:pt x="4838" y="110"/>
                  </a:lnTo>
                  <a:lnTo>
                    <a:pt x="4856" y="110"/>
                  </a:lnTo>
                  <a:lnTo>
                    <a:pt x="4873" y="88"/>
                  </a:lnTo>
                  <a:lnTo>
                    <a:pt x="4891" y="88"/>
                  </a:lnTo>
                  <a:lnTo>
                    <a:pt x="4909" y="88"/>
                  </a:lnTo>
                  <a:lnTo>
                    <a:pt x="4926" y="88"/>
                  </a:lnTo>
                  <a:lnTo>
                    <a:pt x="4944" y="88"/>
                  </a:lnTo>
                  <a:lnTo>
                    <a:pt x="4961" y="88"/>
                  </a:lnTo>
                  <a:lnTo>
                    <a:pt x="4979" y="110"/>
                  </a:lnTo>
                  <a:lnTo>
                    <a:pt x="4997" y="110"/>
                  </a:lnTo>
                  <a:lnTo>
                    <a:pt x="5019" y="132"/>
                  </a:lnTo>
                  <a:lnTo>
                    <a:pt x="5036" y="132"/>
                  </a:lnTo>
                  <a:lnTo>
                    <a:pt x="5054" y="154"/>
                  </a:lnTo>
                  <a:lnTo>
                    <a:pt x="5072" y="176"/>
                  </a:lnTo>
                  <a:lnTo>
                    <a:pt x="5089" y="176"/>
                  </a:lnTo>
                  <a:lnTo>
                    <a:pt x="5107" y="198"/>
                  </a:lnTo>
                  <a:lnTo>
                    <a:pt x="5125" y="220"/>
                  </a:lnTo>
                  <a:lnTo>
                    <a:pt x="5142" y="242"/>
                  </a:lnTo>
                  <a:lnTo>
                    <a:pt x="5160" y="264"/>
                  </a:lnTo>
                  <a:lnTo>
                    <a:pt x="5178" y="286"/>
                  </a:lnTo>
                  <a:lnTo>
                    <a:pt x="5178" y="308"/>
                  </a:lnTo>
                  <a:lnTo>
                    <a:pt x="5195" y="330"/>
                  </a:lnTo>
                  <a:lnTo>
                    <a:pt x="5213" y="352"/>
                  </a:lnTo>
                  <a:lnTo>
                    <a:pt x="5230" y="374"/>
                  </a:lnTo>
                  <a:lnTo>
                    <a:pt x="5230" y="396"/>
                  </a:lnTo>
                  <a:lnTo>
                    <a:pt x="5248" y="418"/>
                  </a:lnTo>
                  <a:lnTo>
                    <a:pt x="5248" y="440"/>
                  </a:lnTo>
                  <a:lnTo>
                    <a:pt x="5266" y="463"/>
                  </a:lnTo>
                  <a:lnTo>
                    <a:pt x="5283" y="485"/>
                  </a:lnTo>
                  <a:lnTo>
                    <a:pt x="5283" y="507"/>
                  </a:lnTo>
                  <a:lnTo>
                    <a:pt x="5305" y="529"/>
                  </a:lnTo>
                  <a:lnTo>
                    <a:pt x="5305" y="551"/>
                  </a:lnTo>
                  <a:lnTo>
                    <a:pt x="5323" y="573"/>
                  </a:lnTo>
                  <a:lnTo>
                    <a:pt x="5323" y="595"/>
                  </a:lnTo>
                  <a:lnTo>
                    <a:pt x="5341" y="617"/>
                  </a:lnTo>
                  <a:lnTo>
                    <a:pt x="5358" y="639"/>
                  </a:lnTo>
                  <a:lnTo>
                    <a:pt x="5358" y="661"/>
                  </a:lnTo>
                  <a:lnTo>
                    <a:pt x="5376" y="683"/>
                  </a:lnTo>
                  <a:lnTo>
                    <a:pt x="5376" y="705"/>
                  </a:lnTo>
                  <a:lnTo>
                    <a:pt x="5376" y="727"/>
                  </a:lnTo>
                  <a:lnTo>
                    <a:pt x="5394" y="749"/>
                  </a:lnTo>
                  <a:lnTo>
                    <a:pt x="5394" y="771"/>
                  </a:lnTo>
                  <a:lnTo>
                    <a:pt x="5411" y="793"/>
                  </a:lnTo>
                  <a:lnTo>
                    <a:pt x="5411" y="815"/>
                  </a:lnTo>
                  <a:lnTo>
                    <a:pt x="5429" y="837"/>
                  </a:lnTo>
                  <a:lnTo>
                    <a:pt x="5429" y="859"/>
                  </a:lnTo>
                  <a:lnTo>
                    <a:pt x="5429" y="881"/>
                  </a:lnTo>
                  <a:lnTo>
                    <a:pt x="5447" y="903"/>
                  </a:lnTo>
                  <a:lnTo>
                    <a:pt x="5447" y="926"/>
                  </a:lnTo>
                  <a:lnTo>
                    <a:pt x="5464" y="948"/>
                  </a:lnTo>
                  <a:lnTo>
                    <a:pt x="5464" y="970"/>
                  </a:lnTo>
                  <a:lnTo>
                    <a:pt x="5482" y="992"/>
                  </a:lnTo>
                  <a:lnTo>
                    <a:pt x="5482" y="1014"/>
                  </a:lnTo>
                  <a:lnTo>
                    <a:pt x="5482" y="1036"/>
                  </a:lnTo>
                  <a:lnTo>
                    <a:pt x="5499" y="1058"/>
                  </a:lnTo>
                  <a:lnTo>
                    <a:pt x="5499" y="1080"/>
                  </a:lnTo>
                  <a:lnTo>
                    <a:pt x="5517" y="1102"/>
                  </a:lnTo>
                  <a:lnTo>
                    <a:pt x="5517" y="1124"/>
                  </a:lnTo>
                  <a:lnTo>
                    <a:pt x="5517" y="1146"/>
                  </a:lnTo>
                  <a:lnTo>
                    <a:pt x="5535" y="1168"/>
                  </a:lnTo>
                  <a:lnTo>
                    <a:pt x="5535" y="1190"/>
                  </a:lnTo>
                  <a:lnTo>
                    <a:pt x="5552" y="1212"/>
                  </a:lnTo>
                  <a:lnTo>
                    <a:pt x="5552" y="1234"/>
                  </a:lnTo>
                  <a:lnTo>
                    <a:pt x="5552" y="1256"/>
                  </a:lnTo>
                  <a:lnTo>
                    <a:pt x="5570" y="1278"/>
                  </a:lnTo>
                  <a:lnTo>
                    <a:pt x="5570" y="1300"/>
                  </a:lnTo>
                  <a:lnTo>
                    <a:pt x="5570" y="1327"/>
                  </a:lnTo>
                  <a:lnTo>
                    <a:pt x="5592" y="1349"/>
                  </a:lnTo>
                  <a:lnTo>
                    <a:pt x="5592" y="1371"/>
                  </a:lnTo>
                  <a:lnTo>
                    <a:pt x="5592" y="1393"/>
                  </a:lnTo>
                  <a:lnTo>
                    <a:pt x="5610" y="1415"/>
                  </a:lnTo>
                  <a:lnTo>
                    <a:pt x="5610" y="1437"/>
                  </a:lnTo>
                  <a:lnTo>
                    <a:pt x="5610" y="1459"/>
                  </a:lnTo>
                  <a:lnTo>
                    <a:pt x="5610" y="1481"/>
                  </a:lnTo>
                  <a:lnTo>
                    <a:pt x="5627" y="1504"/>
                  </a:lnTo>
                  <a:lnTo>
                    <a:pt x="5627" y="1526"/>
                  </a:lnTo>
                  <a:lnTo>
                    <a:pt x="5627" y="1548"/>
                  </a:lnTo>
                  <a:lnTo>
                    <a:pt x="5645" y="1570"/>
                  </a:lnTo>
                  <a:lnTo>
                    <a:pt x="5645" y="1592"/>
                  </a:lnTo>
                  <a:lnTo>
                    <a:pt x="5645" y="1614"/>
                  </a:lnTo>
                  <a:lnTo>
                    <a:pt x="5663" y="1637"/>
                  </a:lnTo>
                  <a:lnTo>
                    <a:pt x="5663" y="1659"/>
                  </a:lnTo>
                  <a:lnTo>
                    <a:pt x="5663" y="1681"/>
                  </a:lnTo>
                  <a:lnTo>
                    <a:pt x="5680" y="1703"/>
                  </a:lnTo>
                  <a:lnTo>
                    <a:pt x="5680" y="1725"/>
                  </a:lnTo>
                  <a:lnTo>
                    <a:pt x="5680" y="1747"/>
                  </a:lnTo>
                  <a:lnTo>
                    <a:pt x="5698" y="1791"/>
                  </a:lnTo>
                  <a:lnTo>
                    <a:pt x="5698" y="1813"/>
                  </a:lnTo>
                  <a:lnTo>
                    <a:pt x="5698" y="1835"/>
                  </a:lnTo>
                  <a:lnTo>
                    <a:pt x="5716" y="1857"/>
                  </a:lnTo>
                  <a:lnTo>
                    <a:pt x="5716" y="1879"/>
                  </a:lnTo>
                  <a:lnTo>
                    <a:pt x="5716" y="1901"/>
                  </a:lnTo>
                  <a:lnTo>
                    <a:pt x="5733" y="1945"/>
                  </a:lnTo>
                  <a:lnTo>
                    <a:pt x="5733" y="1967"/>
                  </a:lnTo>
                  <a:lnTo>
                    <a:pt x="5733" y="1989"/>
                  </a:lnTo>
                  <a:lnTo>
                    <a:pt x="5751" y="2011"/>
                  </a:lnTo>
                  <a:lnTo>
                    <a:pt x="5751" y="2033"/>
                  </a:lnTo>
                  <a:lnTo>
                    <a:pt x="5751" y="2077"/>
                  </a:lnTo>
                  <a:lnTo>
                    <a:pt x="5768" y="2100"/>
                  </a:lnTo>
                  <a:lnTo>
                    <a:pt x="5768" y="2122"/>
                  </a:lnTo>
                  <a:lnTo>
                    <a:pt x="5768" y="2144"/>
                  </a:lnTo>
                  <a:lnTo>
                    <a:pt x="5786" y="2188"/>
                  </a:lnTo>
                  <a:lnTo>
                    <a:pt x="5786" y="2210"/>
                  </a:lnTo>
                  <a:lnTo>
                    <a:pt x="5786" y="2232"/>
                  </a:lnTo>
                  <a:lnTo>
                    <a:pt x="5804" y="2254"/>
                  </a:lnTo>
                  <a:lnTo>
                    <a:pt x="5804" y="2298"/>
                  </a:lnTo>
                  <a:lnTo>
                    <a:pt x="5804" y="2320"/>
                  </a:lnTo>
                  <a:lnTo>
                    <a:pt x="5821" y="2342"/>
                  </a:lnTo>
                  <a:lnTo>
                    <a:pt x="5821" y="2386"/>
                  </a:lnTo>
                  <a:lnTo>
                    <a:pt x="5821" y="2408"/>
                  </a:lnTo>
                  <a:lnTo>
                    <a:pt x="5839" y="2430"/>
                  </a:lnTo>
                  <a:lnTo>
                    <a:pt x="5839" y="2474"/>
                  </a:lnTo>
                  <a:lnTo>
                    <a:pt x="5839" y="2496"/>
                  </a:lnTo>
                  <a:lnTo>
                    <a:pt x="5839" y="2518"/>
                  </a:lnTo>
                  <a:lnTo>
                    <a:pt x="5857" y="2563"/>
                  </a:lnTo>
                  <a:lnTo>
                    <a:pt x="5857" y="2585"/>
                  </a:lnTo>
                  <a:lnTo>
                    <a:pt x="5857" y="2629"/>
                  </a:lnTo>
                  <a:lnTo>
                    <a:pt x="5874" y="2651"/>
                  </a:lnTo>
                  <a:lnTo>
                    <a:pt x="5874" y="2673"/>
                  </a:lnTo>
                  <a:lnTo>
                    <a:pt x="5874" y="2717"/>
                  </a:lnTo>
                  <a:lnTo>
                    <a:pt x="5896" y="2739"/>
                  </a:lnTo>
                  <a:lnTo>
                    <a:pt x="5896" y="2783"/>
                  </a:lnTo>
                  <a:lnTo>
                    <a:pt x="5896" y="2805"/>
                  </a:lnTo>
                  <a:lnTo>
                    <a:pt x="5914" y="2827"/>
                  </a:lnTo>
                  <a:lnTo>
                    <a:pt x="5914" y="2871"/>
                  </a:lnTo>
                  <a:lnTo>
                    <a:pt x="5914" y="2893"/>
                  </a:lnTo>
                  <a:lnTo>
                    <a:pt x="5932" y="2937"/>
                  </a:lnTo>
                  <a:lnTo>
                    <a:pt x="5932" y="2959"/>
                  </a:lnTo>
                  <a:lnTo>
                    <a:pt x="5932" y="2981"/>
                  </a:lnTo>
                  <a:lnTo>
                    <a:pt x="5949" y="3026"/>
                  </a:lnTo>
                  <a:lnTo>
                    <a:pt x="5949" y="3048"/>
                  </a:lnTo>
                  <a:lnTo>
                    <a:pt x="5949" y="3092"/>
                  </a:lnTo>
                  <a:lnTo>
                    <a:pt x="5967" y="311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 txBox="1"/>
            <p:nvPr/>
          </p:nvSpPr>
          <p:spPr>
            <a:xfrm>
              <a:off x="5992920" y="5391000"/>
              <a:ext cx="33660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 txBox="1"/>
            <p:nvPr/>
          </p:nvSpPr>
          <p:spPr>
            <a:xfrm>
              <a:off x="4635360" y="4149720"/>
              <a:ext cx="29196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dB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 txBox="1"/>
            <p:nvPr/>
          </p:nvSpPr>
          <p:spPr>
            <a:xfrm>
              <a:off x="5877000" y="2792520"/>
              <a:ext cx="569880" cy="1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 Puls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9" name=""/>
          <p:cNvSpPr txBox="1"/>
          <p:nvPr/>
        </p:nvSpPr>
        <p:spPr>
          <a:xfrm>
            <a:off x="1203480" y="623880"/>
            <a:ext cx="71294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NSEC MODEM/CHANNE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974880" y="1508040"/>
            <a:ext cx="3889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response show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spans 12 - 16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1584360" y="5668920"/>
            <a:ext cx="242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uls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5165640" y="5668920"/>
            <a:ext cx="201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eq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3" name=""/>
          <p:cNvGrpSpPr/>
          <p:nvPr/>
        </p:nvGrpSpPr>
        <p:grpSpPr>
          <a:xfrm>
            <a:off x="1371600" y="2811600"/>
            <a:ext cx="2773440" cy="2781360"/>
            <a:chOff x="1371600" y="2811600"/>
            <a:chExt cx="2773440" cy="2781360"/>
          </a:xfrm>
        </p:grpSpPr>
        <p:sp>
          <p:nvSpPr>
            <p:cNvPr id="2234" name=""/>
            <p:cNvSpPr/>
            <p:nvPr/>
          </p:nvSpPr>
          <p:spPr>
            <a:xfrm>
              <a:off x="1371600" y="2819520"/>
              <a:ext cx="2773440" cy="2773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731960" y="3022560"/>
              <a:ext cx="2140200" cy="951120"/>
            </a:xfrm>
            <a:custGeom>
              <a:avLst/>
              <a:gdLst/>
              <a:ahLst/>
              <a:rect l="0" t="0" r="r" b="b"/>
              <a:pathLst>
                <a:path w="5945" h="2642">
                  <a:moveTo>
                    <a:pt x="0" y="2642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42"/>
                  </a:lnTo>
                  <a:lnTo>
                    <a:pt x="0" y="26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31960" y="3022560"/>
              <a:ext cx="2140200" cy="951120"/>
            </a:xfrm>
            <a:custGeom>
              <a:avLst/>
              <a:gdLst/>
              <a:ahLst/>
              <a:rect l="0" t="0" r="r" b="b"/>
              <a:pathLst>
                <a:path fill="none" w="5945" h="2642">
                  <a:moveTo>
                    <a:pt x="0" y="2642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42"/>
                  </a:lnTo>
                  <a:lnTo>
                    <a:pt x="0" y="264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1731960" y="302256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2265480" y="302256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2805120" y="302256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V="1">
              <a:off x="3338640" y="302256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3871800" y="302256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731960" y="397368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731960" y="365904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731960" y="333684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731960" y="302256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731960" y="397368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731960" y="302256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1731960" y="302256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V="1">
              <a:off x="3871800" y="302256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731960" y="397368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1731960" y="302256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1731960" y="395280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731960" y="30225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 txBox="1"/>
            <p:nvPr/>
          </p:nvSpPr>
          <p:spPr>
            <a:xfrm>
              <a:off x="1619280" y="395136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2265480" y="395280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2265480" y="30225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 txBox="1"/>
            <p:nvPr/>
          </p:nvSpPr>
          <p:spPr>
            <a:xfrm>
              <a:off x="2152800" y="395136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2805120" y="395280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805120" y="30225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 txBox="1"/>
            <p:nvPr/>
          </p:nvSpPr>
          <p:spPr>
            <a:xfrm>
              <a:off x="2666880" y="3951360"/>
              <a:ext cx="268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3338640" y="395280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338640" y="30225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 txBox="1"/>
            <p:nvPr/>
          </p:nvSpPr>
          <p:spPr>
            <a:xfrm>
              <a:off x="3200400" y="3951360"/>
              <a:ext cx="268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3871800" y="3952800"/>
              <a:ext cx="0" cy="20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871800" y="30225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 txBox="1"/>
            <p:nvPr/>
          </p:nvSpPr>
          <p:spPr>
            <a:xfrm>
              <a:off x="3733920" y="3951360"/>
              <a:ext cx="268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731960" y="39736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3851280" y="397368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 txBox="1"/>
            <p:nvPr/>
          </p:nvSpPr>
          <p:spPr>
            <a:xfrm>
              <a:off x="1467000" y="3873600"/>
              <a:ext cx="3160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731960" y="36590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H="1">
              <a:off x="3851280" y="365904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 txBox="1"/>
            <p:nvPr/>
          </p:nvSpPr>
          <p:spPr>
            <a:xfrm>
              <a:off x="1566720" y="355932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731960" y="333684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H="1">
              <a:off x="3851280" y="333684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 txBox="1"/>
            <p:nvPr/>
          </p:nvSpPr>
          <p:spPr>
            <a:xfrm>
              <a:off x="1492200" y="323676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731960" y="30225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H="1">
              <a:off x="3851280" y="302256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 txBox="1"/>
            <p:nvPr/>
          </p:nvSpPr>
          <p:spPr>
            <a:xfrm>
              <a:off x="1566720" y="292248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731960" y="397368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731960" y="302256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1731960" y="302256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3871800" y="3022560"/>
              <a:ext cx="0" cy="951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731960" y="3022560"/>
              <a:ext cx="1927440" cy="859320"/>
            </a:xfrm>
            <a:custGeom>
              <a:avLst/>
              <a:gdLst/>
              <a:ahLst/>
              <a:rect l="0" t="0" r="r" b="b"/>
              <a:pathLst>
                <a:path fill="none" w="5354" h="2387">
                  <a:moveTo>
                    <a:pt x="0" y="2259"/>
                  </a:moveTo>
                  <a:lnTo>
                    <a:pt x="295" y="2114"/>
                  </a:lnTo>
                  <a:lnTo>
                    <a:pt x="590" y="2387"/>
                  </a:lnTo>
                  <a:lnTo>
                    <a:pt x="886" y="0"/>
                  </a:lnTo>
                  <a:lnTo>
                    <a:pt x="1186" y="1805"/>
                  </a:lnTo>
                  <a:lnTo>
                    <a:pt x="1481" y="1659"/>
                  </a:lnTo>
                  <a:lnTo>
                    <a:pt x="1777" y="1823"/>
                  </a:lnTo>
                  <a:lnTo>
                    <a:pt x="2072" y="1915"/>
                  </a:lnTo>
                  <a:lnTo>
                    <a:pt x="2368" y="1915"/>
                  </a:lnTo>
                  <a:lnTo>
                    <a:pt x="2667" y="1805"/>
                  </a:lnTo>
                  <a:lnTo>
                    <a:pt x="2981" y="1805"/>
                  </a:lnTo>
                  <a:lnTo>
                    <a:pt x="3277" y="1623"/>
                  </a:lnTo>
                  <a:lnTo>
                    <a:pt x="3572" y="1823"/>
                  </a:lnTo>
                  <a:lnTo>
                    <a:pt x="3872" y="1694"/>
                  </a:lnTo>
                  <a:lnTo>
                    <a:pt x="4168" y="1676"/>
                  </a:lnTo>
                  <a:lnTo>
                    <a:pt x="4463" y="1747"/>
                  </a:lnTo>
                  <a:lnTo>
                    <a:pt x="4759" y="1786"/>
                  </a:lnTo>
                  <a:lnTo>
                    <a:pt x="5054" y="1729"/>
                  </a:lnTo>
                  <a:lnTo>
                    <a:pt x="5354" y="180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 txBox="1"/>
            <p:nvPr/>
          </p:nvSpPr>
          <p:spPr>
            <a:xfrm>
              <a:off x="2519280" y="2811600"/>
              <a:ext cx="51444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 Pul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731960" y="4327560"/>
              <a:ext cx="2140200" cy="951120"/>
            </a:xfrm>
            <a:custGeom>
              <a:avLst/>
              <a:gdLst/>
              <a:ahLst/>
              <a:rect l="0" t="0" r="r" b="b"/>
              <a:pathLst>
                <a:path w="5945" h="2642">
                  <a:moveTo>
                    <a:pt x="0" y="2642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42"/>
                  </a:lnTo>
                  <a:lnTo>
                    <a:pt x="0" y="26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731960" y="4327560"/>
              <a:ext cx="2140200" cy="951120"/>
            </a:xfrm>
            <a:custGeom>
              <a:avLst/>
              <a:gdLst/>
              <a:ahLst/>
              <a:rect l="0" t="0" r="r" b="b"/>
              <a:pathLst>
                <a:path fill="none" w="5945" h="2642">
                  <a:moveTo>
                    <a:pt x="0" y="2642"/>
                  </a:moveTo>
                  <a:lnTo>
                    <a:pt x="0" y="0"/>
                  </a:lnTo>
                  <a:lnTo>
                    <a:pt x="5945" y="0"/>
                  </a:lnTo>
                  <a:lnTo>
                    <a:pt x="5945" y="2642"/>
                  </a:lnTo>
                  <a:lnTo>
                    <a:pt x="0" y="264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V="1">
              <a:off x="1731960" y="432756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V="1">
              <a:off x="2265480" y="432756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2805120" y="432756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V="1">
              <a:off x="3338640" y="432756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3871800" y="432756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731960" y="527832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731960" y="480528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31960" y="432756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731960" y="527832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731960" y="432756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1731960" y="432756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3871800" y="432756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731960" y="527832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V="1">
              <a:off x="1731960" y="432756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 flipV="1">
              <a:off x="1731960" y="52578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731960" y="43275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 txBox="1"/>
            <p:nvPr/>
          </p:nvSpPr>
          <p:spPr>
            <a:xfrm>
              <a:off x="1619280" y="525636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V="1">
              <a:off x="2265480" y="52578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65480" y="43275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 txBox="1"/>
            <p:nvPr/>
          </p:nvSpPr>
          <p:spPr>
            <a:xfrm>
              <a:off x="2152800" y="525636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2805120" y="52578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805120" y="43275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 txBox="1"/>
            <p:nvPr/>
          </p:nvSpPr>
          <p:spPr>
            <a:xfrm>
              <a:off x="2666880" y="5256360"/>
              <a:ext cx="268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V="1">
              <a:off x="3338640" y="52578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3338640" y="43275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 txBox="1"/>
            <p:nvPr/>
          </p:nvSpPr>
          <p:spPr>
            <a:xfrm>
              <a:off x="3200400" y="5256360"/>
              <a:ext cx="268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>
              <a:off x="3871800" y="5257800"/>
              <a:ext cx="0" cy="20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871800" y="4327560"/>
              <a:ext cx="0" cy="19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 txBox="1"/>
            <p:nvPr/>
          </p:nvSpPr>
          <p:spPr>
            <a:xfrm>
              <a:off x="3733920" y="5256360"/>
              <a:ext cx="2682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731960" y="527832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H="1">
              <a:off x="3851280" y="527832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 txBox="1"/>
            <p:nvPr/>
          </p:nvSpPr>
          <p:spPr>
            <a:xfrm>
              <a:off x="1467000" y="5178600"/>
              <a:ext cx="31608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0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731960" y="480528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>
              <a:off x="3851280" y="480528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1566720" y="4705200"/>
              <a:ext cx="22716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731960" y="4327560"/>
              <a:ext cx="1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3851280" y="4327560"/>
              <a:ext cx="20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 txBox="1"/>
            <p:nvPr/>
          </p:nvSpPr>
          <p:spPr>
            <a:xfrm>
              <a:off x="1492200" y="4227480"/>
              <a:ext cx="29052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0.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731960" y="527832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731960" y="4327560"/>
              <a:ext cx="2139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1731960" y="432756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V="1">
              <a:off x="3871800" y="4327560"/>
              <a:ext cx="0" cy="9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31960" y="4419720"/>
              <a:ext cx="1927440" cy="813240"/>
            </a:xfrm>
            <a:custGeom>
              <a:avLst/>
              <a:gdLst/>
              <a:ahLst/>
              <a:rect l="0" t="0" r="r" b="b"/>
              <a:pathLst>
                <a:path fill="none" w="5354" h="2259">
                  <a:moveTo>
                    <a:pt x="0" y="984"/>
                  </a:moveTo>
                  <a:lnTo>
                    <a:pt x="295" y="2259"/>
                  </a:lnTo>
                  <a:lnTo>
                    <a:pt x="590" y="1381"/>
                  </a:lnTo>
                  <a:lnTo>
                    <a:pt x="886" y="1072"/>
                  </a:lnTo>
                  <a:lnTo>
                    <a:pt x="1186" y="0"/>
                  </a:lnTo>
                  <a:lnTo>
                    <a:pt x="1481" y="1200"/>
                  </a:lnTo>
                  <a:lnTo>
                    <a:pt x="1777" y="507"/>
                  </a:lnTo>
                  <a:lnTo>
                    <a:pt x="2072" y="564"/>
                  </a:lnTo>
                  <a:lnTo>
                    <a:pt x="2368" y="471"/>
                  </a:lnTo>
                  <a:lnTo>
                    <a:pt x="2667" y="1200"/>
                  </a:lnTo>
                  <a:lnTo>
                    <a:pt x="2981" y="1420"/>
                  </a:lnTo>
                  <a:lnTo>
                    <a:pt x="3277" y="1090"/>
                  </a:lnTo>
                  <a:lnTo>
                    <a:pt x="3572" y="1090"/>
                  </a:lnTo>
                  <a:lnTo>
                    <a:pt x="3872" y="1072"/>
                  </a:lnTo>
                  <a:lnTo>
                    <a:pt x="4168" y="1147"/>
                  </a:lnTo>
                  <a:lnTo>
                    <a:pt x="4463" y="984"/>
                  </a:lnTo>
                  <a:lnTo>
                    <a:pt x="4759" y="1107"/>
                  </a:lnTo>
                  <a:lnTo>
                    <a:pt x="5054" y="1107"/>
                  </a:lnTo>
                  <a:lnTo>
                    <a:pt x="5354" y="114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 txBox="1"/>
            <p:nvPr/>
          </p:nvSpPr>
          <p:spPr>
            <a:xfrm>
              <a:off x="2440080" y="5361120"/>
              <a:ext cx="658800" cy="184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*chipR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k Webster</dc:creator>
  <dc:description/>
  <dc:language>en-US</dc:language>
  <cp:lastModifiedBy>Mark Webster</cp:lastModifiedBy>
  <cp:revision>0</cp:revision>
  <dc:subject/>
  <dc:title>No Slide Title</dc:title>
</cp:coreProperties>
</file>