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1676520"/>
            <a:ext cx="7162920" cy="7632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ae00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410080" y="6249960"/>
            <a:ext cx="274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Arial Black"/>
              </a:rPr>
              <a:t>doc: IEEE 802.11 98/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port from Maintenance 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d 63 letter ballot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ic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echnic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tori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ditorial masquerading as Technical: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mments re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pt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line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draw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bsolet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hange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of three new regulatory domains with new hopping sequences defined for FH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oval of “PHY constants” from the MIB and definition of a new PHY service primitive to provide the identical information to the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 of several new attributes to the M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t11PowerManagementMode, dot11DesiredSSID, dot11DesiredBSSType, dot11OperationalRateSet, dot11BeaconPeriod, dot11DTIMPeriod, dot11AssociationResponseTimeO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rosoft Corporation</dc:creator>
  <dc:description/>
  <dc:language>en-US</dc:language>
  <cp:lastModifiedBy>Microsoft Corporation</cp:lastModifiedBy>
  <cp:revision>0</cp:revision>
  <dc:subject/>
  <dc:title>No Slide Title</dc:title>
</cp:coreProperties>
</file>