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1676520"/>
            <a:ext cx="716292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410080" y="624996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 Black"/>
              </a:rPr>
              <a:t>doc: IEEE 802.11 98/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port from Task Group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d 22 letter ballot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ic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ic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itor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categoriz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ments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lin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hange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No Slide Title</dc:title>
</cp:coreProperties>
</file>