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752480"/>
            <a:ext cx="7772400" cy="16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th Session of meeting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ocal Area Networ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  <a:spcAft>
                <a:spcPts val="119"/>
              </a:spcAf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quest for an 802.11 Stud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rables” Standards ad-hoc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Heile, GTE/BBN, bheile@bb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Gifford, AMP - M/A-COM, marketing@macom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0" y="6400800"/>
            <a:ext cx="2274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22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9, 1998 pm Tutorial during IEEE LMSC 802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to form in 802.11 a “Wearables” Standards Study Group i.e., MAC &amp; PHY applicability to ou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Attend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edE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rnegie Me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TE/BB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mec/No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et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o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-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e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MP - M/A-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T Media L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lt Disn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D In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ve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cal S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Management: Low current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0-10 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ed: 19.2 - 100Kbps (actu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e.g., ~.5 cubic inches no ante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: i.e., relative to targe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allow overlap of multiple networks in the sam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ing support for a minimum of sixteen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TE/B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Christopher Gifford</dc:creator>
  <dc:description/>
  <dc:language>en-US</dc:language>
  <cp:lastModifiedBy>Ian Christopher Gifford</cp:lastModifiedBy>
  <cp:revision>0</cp:revision>
  <dc:subject/>
  <dc:title>Wearables Standards ad-hoc Committee</dc:title>
</cp:coreProperties>
</file>