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338720" y="6624720"/>
            <a:ext cx="77148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9EA53B93-6C45-4738-939C-1E878C5013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28680" y="6629400"/>
            <a:ext cx="8491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2360" y="533520"/>
            <a:ext cx="8491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208080" y="200160"/>
            <a:ext cx="1387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5846760" y="200160"/>
            <a:ext cx="30654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c:IEEE P802.11-98/71a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208080" y="6624720"/>
            <a:ext cx="9810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5632560" y="6610320"/>
            <a:ext cx="323064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ichard van Nee, Lucent and Masahiro Morikura, N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Results 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371600" y="2743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hiro Morikura and Hitoshi Takana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.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T Wireless 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ikura@mhosun.wslab.ntt.co.j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anasi@pcs.wslab.ntt.co.j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098720" y="763560"/>
            <a:ext cx="69152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06440" y="779400"/>
            <a:ext cx="669780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39840" y="779400"/>
            <a:ext cx="669780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47840" y="831960"/>
            <a:ext cx="83264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22200" y="673200"/>
            <a:ext cx="66978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9240" y="712800"/>
            <a:ext cx="69501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04920" y="1676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f DQPSK, r=1/2 (10 Mbit/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738360"/>
            <a:ext cx="760248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42840" y="768240"/>
            <a:ext cx="766296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22200" y="762120"/>
            <a:ext cx="66978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d 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65280" y="1870200"/>
            <a:ext cx="7721640" cy="31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Former proposals by Lucent Tech. and NTT is merged into one proposal that describes in a draft of full document (98/72r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valuations of 16-QAM are reported by Lucent Tech, evaluations of DQPSK and DBPSK are reported by NT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14560" y="798480"/>
            <a:ext cx="69152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04920" y="763560"/>
            <a:ext cx="669780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89160" y="847800"/>
            <a:ext cx="669780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14360" y="809640"/>
            <a:ext cx="8326440" cy="56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04920" y="744480"/>
            <a:ext cx="669780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85760" y="730080"/>
            <a:ext cx="69501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f DBPSK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1/2 (5 Mbit/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71640" y="720720"/>
            <a:ext cx="762624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11240" y="738360"/>
            <a:ext cx="766296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86000" y="739800"/>
            <a:ext cx="651672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103560" y="635040"/>
            <a:ext cx="237492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76240" y="1155600"/>
            <a:ext cx="708660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98720" y="830160"/>
            <a:ext cx="69152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82680" y="820800"/>
            <a:ext cx="65768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82680" y="768240"/>
            <a:ext cx="65768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14360" y="820800"/>
            <a:ext cx="832644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82680" y="749160"/>
            <a:ext cx="657684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03400" y="797040"/>
            <a:ext cx="695016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87360" y="117360"/>
            <a:ext cx="709452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50564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23"/>
              </a:spcBef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Results 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371600" y="2971800"/>
            <a:ext cx="6400800" cy="247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ard van 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.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l Lab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nee@lucen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00240" y="969840"/>
            <a:ext cx="73087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03560" y="635040"/>
            <a:ext cx="3198960" cy="39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Rate Feature 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93800" y="1542960"/>
            <a:ext cx="75643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317600" y="243684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319640" y="5200560"/>
            <a:ext cx="13273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dB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14280" y="5726160"/>
            <a:ext cx="71722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GN, a) 20 Mbps, 64 bytes, b) 30 Mbps, 64 byt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20 Mbps, 1000 bytes, d) 30 Mbps, 1000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868320"/>
            <a:ext cx="3880080" cy="4077000"/>
          </a:xfrm>
          <a:custGeom>
            <a:avLst/>
            <a:gdLst/>
            <a:ahLst/>
            <a:rect l="0" t="0" r="r" b="b"/>
            <a:pathLst>
              <a:path w="10778" h="11325">
                <a:moveTo>
                  <a:pt x="0" y="11325"/>
                </a:moveTo>
                <a:lnTo>
                  <a:pt x="0" y="0"/>
                </a:lnTo>
                <a:lnTo>
                  <a:pt x="10778" y="0"/>
                </a:lnTo>
                <a:lnTo>
                  <a:pt x="10778" y="11325"/>
                </a:lnTo>
                <a:lnTo>
                  <a:pt x="0" y="1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868320"/>
            <a:ext cx="3880080" cy="4077000"/>
          </a:xfrm>
          <a:custGeom>
            <a:avLst/>
            <a:gdLst/>
            <a:ahLst/>
            <a:rect l="0" t="0" r="r" b="b"/>
            <a:pathLst>
              <a:path fill="none" w="10778" h="11325">
                <a:moveTo>
                  <a:pt x="0" y="11325"/>
                </a:moveTo>
                <a:lnTo>
                  <a:pt x="0" y="0"/>
                </a:lnTo>
                <a:lnTo>
                  <a:pt x="10778" y="0"/>
                </a:lnTo>
                <a:lnTo>
                  <a:pt x="10778" y="1132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8195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37500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93048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863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03388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5879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14376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69924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36800" y="4944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36800" y="35830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36800" y="223200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36800" y="8683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36800" y="4944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36800" y="8683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8195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669924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36800" y="4944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8195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81952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682720" y="4927680"/>
            <a:ext cx="258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37500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38560" y="4927680"/>
            <a:ext cx="258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93048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94040" y="4927680"/>
            <a:ext cx="258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48632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349880" y="4927680"/>
            <a:ext cx="258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03388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97440" y="4927680"/>
            <a:ext cx="258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58792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416560" y="492768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14376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972040" y="492768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699240" y="4888080"/>
            <a:ext cx="0" cy="6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527880" y="492768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30680" y="49449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673680" y="49449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36800" y="4944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36800" y="494496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656400" y="494496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478240" y="478476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603520" y="473400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30680" y="45385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36800" y="45385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30680" y="43005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36800" y="43005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30680" y="41324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836800" y="41324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30680" y="40006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36800" y="40006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30680" y="38941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36800" y="38941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30680" y="37972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36800" y="37972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30680" y="37148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36800" y="37148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830680" y="36543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36800" y="36543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30680" y="35830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36800" y="35830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36800" y="358308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478240" y="342252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603520" y="337176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30680" y="31766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36800" y="31766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30680" y="29368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36800" y="29368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30680" y="27702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36800" y="277020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30680" y="26384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36800" y="26384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30680" y="25304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36800" y="25304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30680" y="24354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36800" y="243540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30680" y="23637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36800" y="23637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30680" y="22924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36800" y="22924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30680" y="22320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36800" y="223200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36800" y="223200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478240" y="207180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603520" y="202104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30680" y="18129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36800" y="1812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30680" y="15746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36800" y="157464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30680" y="14065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36800" y="14065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830680" y="12747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36800" y="12747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30680" y="11685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36800" y="11685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30680" y="1084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36800" y="10843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30680" y="10000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36800" y="100008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30680" y="9288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36800" y="92880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30680" y="868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36800" y="8683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836800" y="868320"/>
            <a:ext cx="6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478240" y="70812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603520" y="658800"/>
            <a:ext cx="230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36800" y="494496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836800" y="868320"/>
            <a:ext cx="3849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81952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699240" y="858960"/>
            <a:ext cx="0" cy="4097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19520" y="892080"/>
            <a:ext cx="3324600" cy="4053240"/>
          </a:xfrm>
          <a:custGeom>
            <a:avLst/>
            <a:gdLst/>
            <a:ahLst/>
            <a:rect l="0" t="0" r="r" b="b"/>
            <a:pathLst>
              <a:path fill="none" w="9235" h="11259">
                <a:moveTo>
                  <a:pt x="0" y="0"/>
                </a:moveTo>
                <a:lnTo>
                  <a:pt x="1543" y="732"/>
                </a:lnTo>
                <a:lnTo>
                  <a:pt x="3087" y="1993"/>
                </a:lnTo>
                <a:lnTo>
                  <a:pt x="4631" y="3920"/>
                </a:lnTo>
                <a:lnTo>
                  <a:pt x="6152" y="5945"/>
                </a:lnTo>
                <a:lnTo>
                  <a:pt x="7692" y="8701"/>
                </a:lnTo>
                <a:lnTo>
                  <a:pt x="9235" y="11259"/>
                </a:lnTo>
              </a:path>
            </a:pathLst>
          </a:custGeom>
          <a:ln w="12600">
            <a:solidFill>
              <a:srgbClr val="0000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868320"/>
            <a:ext cx="3880080" cy="2846880"/>
          </a:xfrm>
          <a:custGeom>
            <a:avLst/>
            <a:gdLst/>
            <a:ahLst/>
            <a:rect l="0" t="0" r="r" b="b"/>
            <a:pathLst>
              <a:path fill="none" w="10778" h="7908">
                <a:moveTo>
                  <a:pt x="0" y="0"/>
                </a:moveTo>
                <a:lnTo>
                  <a:pt x="1543" y="0"/>
                </a:lnTo>
                <a:lnTo>
                  <a:pt x="3086" y="101"/>
                </a:lnTo>
                <a:lnTo>
                  <a:pt x="4630" y="732"/>
                </a:lnTo>
                <a:lnTo>
                  <a:pt x="6152" y="1896"/>
                </a:lnTo>
                <a:lnTo>
                  <a:pt x="7691" y="3458"/>
                </a:lnTo>
                <a:lnTo>
                  <a:pt x="9234" y="5548"/>
                </a:lnTo>
                <a:lnTo>
                  <a:pt x="10778" y="7908"/>
                </a:lnTo>
              </a:path>
            </a:pathLst>
          </a:custGeom>
          <a:ln w="12600">
            <a:solidFill>
              <a:srgbClr val="008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868320"/>
            <a:ext cx="3880080" cy="3108600"/>
          </a:xfrm>
          <a:custGeom>
            <a:avLst/>
            <a:gdLst/>
            <a:ahLst/>
            <a:rect l="0" t="0" r="r" b="b"/>
            <a:pathLst>
              <a:path fill="none" w="10778" h="8635">
                <a:moveTo>
                  <a:pt x="0" y="0"/>
                </a:moveTo>
                <a:lnTo>
                  <a:pt x="1543" y="0"/>
                </a:lnTo>
                <a:lnTo>
                  <a:pt x="3086" y="0"/>
                </a:lnTo>
                <a:lnTo>
                  <a:pt x="4630" y="233"/>
                </a:lnTo>
                <a:lnTo>
                  <a:pt x="6152" y="1464"/>
                </a:lnTo>
                <a:lnTo>
                  <a:pt x="7691" y="3421"/>
                </a:lnTo>
                <a:lnTo>
                  <a:pt x="9234" y="5782"/>
                </a:lnTo>
                <a:lnTo>
                  <a:pt x="10778" y="8635"/>
                </a:ln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19520" y="868320"/>
            <a:ext cx="3880080" cy="1316520"/>
          </a:xfrm>
          <a:custGeom>
            <a:avLst/>
            <a:gdLst/>
            <a:ahLst/>
            <a:rect l="0" t="0" r="r" b="b"/>
            <a:pathLst>
              <a:path fill="none" w="10778" h="3657">
                <a:moveTo>
                  <a:pt x="0" y="0"/>
                </a:moveTo>
                <a:lnTo>
                  <a:pt x="1543" y="0"/>
                </a:lnTo>
                <a:lnTo>
                  <a:pt x="3086" y="0"/>
                </a:lnTo>
                <a:lnTo>
                  <a:pt x="4630" y="0"/>
                </a:lnTo>
                <a:lnTo>
                  <a:pt x="6152" y="0"/>
                </a:lnTo>
                <a:lnTo>
                  <a:pt x="7691" y="335"/>
                </a:lnTo>
                <a:lnTo>
                  <a:pt x="9234" y="1495"/>
                </a:lnTo>
                <a:lnTo>
                  <a:pt x="10778" y="3657"/>
                </a:lnTo>
              </a:path>
            </a:pathLst>
          </a:custGeom>
          <a:ln w="12600">
            <a:solidFill>
              <a:srgbClr val="00bfb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938760" y="190512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5138640" y="182880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86320" y="152388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43480" y="182880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7500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3048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8632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3388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8792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4376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99240" y="88596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673680" y="45385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673680" y="43005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673680" y="41324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673680" y="40006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6673680" y="38941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673680" y="37972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673680" y="37148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673680" y="36543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673680" y="35830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656400" y="358308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73680" y="31766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673680" y="29368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673680" y="27702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673680" y="26384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6673680" y="25304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673680" y="24354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6673680" y="23637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673680" y="22924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673680" y="22320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656400" y="223200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673680" y="18129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6673680" y="15746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673680" y="14065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6673680" y="12747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673680" y="11685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673680" y="10843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6673680" y="10000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673680" y="9288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6673680" y="8683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656400" y="868320"/>
            <a:ext cx="5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2401920" y="571680"/>
            <a:ext cx="4437000" cy="4525560"/>
            <a:chOff x="2401920" y="571680"/>
            <a:chExt cx="4437000" cy="4525560"/>
          </a:xfrm>
        </p:grpSpPr>
        <p:sp>
          <p:nvSpPr>
            <p:cNvPr id="250" name=""/>
            <p:cNvSpPr/>
            <p:nvPr/>
          </p:nvSpPr>
          <p:spPr>
            <a:xfrm>
              <a:off x="2743200" y="781200"/>
              <a:ext cx="3880080" cy="4077000"/>
            </a:xfrm>
            <a:custGeom>
              <a:avLst/>
              <a:gdLst/>
              <a:ahLst/>
              <a:rect l="0" t="0" r="r" b="b"/>
              <a:pathLst>
                <a:path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  <a:lnTo>
                    <a:pt x="0" y="11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43200" y="781200"/>
              <a:ext cx="3880080" cy="4077000"/>
            </a:xfrm>
            <a:custGeom>
              <a:avLst/>
              <a:gdLst/>
              <a:ahLst/>
              <a:rect l="0" t="0" r="r" b="b"/>
              <a:pathLst>
                <a:path fill="none"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1291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5226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39085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29408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687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07348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4594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8435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62388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60840" y="34956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60840" y="2144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27432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2606760" y="4840200"/>
              <a:ext cx="258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1291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291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295740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5226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226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332424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39085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085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371016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429408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29408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409428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46879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879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448956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507348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7348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487368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4594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594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525924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58435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35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564516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62388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388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603900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6229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229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6424560" y="484020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4857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597720" y="4857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60840" y="48578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6580080" y="48578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2401920" y="46972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2527200" y="464652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54360" y="4451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6597720" y="4451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760840" y="4451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754360" y="4213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6597720" y="4213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760840" y="4213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54360" y="4044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597720" y="4044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60840" y="4044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54360" y="3913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597720" y="391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60840" y="3913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4360" y="3807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6597720" y="3807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60840" y="3807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754360" y="3710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597720" y="3710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60840" y="3710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54360" y="3627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597720" y="3627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60840" y="3627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54360" y="35672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597720" y="3567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60840" y="35672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54360" y="34956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597720" y="3495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60840" y="34956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60840" y="34956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6580080" y="349560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 txBox="1"/>
            <p:nvPr/>
          </p:nvSpPr>
          <p:spPr>
            <a:xfrm>
              <a:off x="2401920" y="33354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 txBox="1"/>
            <p:nvPr/>
          </p:nvSpPr>
          <p:spPr>
            <a:xfrm>
              <a:off x="2527200" y="328464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54360" y="3089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6597720" y="3089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60840" y="3089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54360" y="2849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597720" y="2849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60840" y="2849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54360" y="26827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6597720" y="2682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60840" y="26827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54360" y="2550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597720" y="2550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760840" y="2550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54360" y="24433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597720" y="2443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60840" y="24433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54360" y="23479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6597720" y="2347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60840" y="23479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54360" y="22766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6597720" y="2276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760840" y="22766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54360" y="2205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6597720" y="2205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60840" y="2205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54360" y="21448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6597720" y="2144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60840" y="2144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60840" y="214488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580080" y="214488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2401920" y="198432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2527200" y="193356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54360" y="1725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6597720" y="1725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60840" y="1725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54360" y="14875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597720" y="1487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60840" y="14875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54360" y="1319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6597720" y="1319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60840" y="1319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54360" y="1187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6597720" y="1187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60840" y="1187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54360" y="1081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6597720" y="1081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60840" y="1081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54360" y="996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6597720" y="996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0840" y="996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54360" y="912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597720" y="912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60840" y="912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54360" y="8413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6597720" y="841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60840" y="8413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754360" y="781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597720" y="781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760840" y="7812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6580080" y="78120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2401920" y="6206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2527200" y="571680"/>
              <a:ext cx="23004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29120" y="781200"/>
              <a:ext cx="3494520" cy="3229560"/>
            </a:xfrm>
            <a:custGeom>
              <a:avLst/>
              <a:gdLst/>
              <a:ahLst/>
              <a:rect l="0" t="0" r="r" b="b"/>
              <a:pathLst>
                <a:path fill="none" w="9707" h="8971">
                  <a:moveTo>
                    <a:pt x="0" y="8971"/>
                  </a:moveTo>
                  <a:lnTo>
                    <a:pt x="546" y="6575"/>
                  </a:lnTo>
                  <a:lnTo>
                    <a:pt x="1093" y="5482"/>
                  </a:lnTo>
                  <a:lnTo>
                    <a:pt x="2165" y="3489"/>
                  </a:lnTo>
                  <a:lnTo>
                    <a:pt x="3237" y="1627"/>
                  </a:lnTo>
                  <a:lnTo>
                    <a:pt x="4331" y="467"/>
                  </a:lnTo>
                  <a:lnTo>
                    <a:pt x="5402" y="202"/>
                  </a:lnTo>
                  <a:lnTo>
                    <a:pt x="6474" y="0"/>
                  </a:lnTo>
                  <a:lnTo>
                    <a:pt x="7542" y="0"/>
                  </a:lnTo>
                  <a:lnTo>
                    <a:pt x="8640" y="0"/>
                  </a:lnTo>
                  <a:lnTo>
                    <a:pt x="9707" y="0"/>
                  </a:lnTo>
                </a:path>
              </a:pathLst>
            </a:custGeom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29120" y="804960"/>
              <a:ext cx="3494520" cy="4053240"/>
            </a:xfrm>
            <a:custGeom>
              <a:avLst/>
              <a:gdLst/>
              <a:ahLst/>
              <a:rect l="0" t="0" r="r" b="b"/>
              <a:pathLst>
                <a:path fill="none" w="9707" h="11259">
                  <a:moveTo>
                    <a:pt x="0" y="11259"/>
                  </a:moveTo>
                  <a:lnTo>
                    <a:pt x="546" y="9102"/>
                  </a:lnTo>
                  <a:lnTo>
                    <a:pt x="1093" y="7973"/>
                  </a:lnTo>
                  <a:lnTo>
                    <a:pt x="2165" y="6179"/>
                  </a:lnTo>
                  <a:lnTo>
                    <a:pt x="3237" y="4718"/>
                  </a:lnTo>
                  <a:lnTo>
                    <a:pt x="4331" y="2958"/>
                  </a:lnTo>
                  <a:lnTo>
                    <a:pt x="5402" y="1763"/>
                  </a:lnTo>
                  <a:lnTo>
                    <a:pt x="6474" y="864"/>
                  </a:lnTo>
                  <a:lnTo>
                    <a:pt x="7542" y="299"/>
                  </a:lnTo>
                  <a:lnTo>
                    <a:pt x="8640" y="0"/>
                  </a:lnTo>
                  <a:lnTo>
                    <a:pt x="9707" y="0"/>
                  </a:lnTo>
                </a:path>
              </a:pathLst>
            </a:custGeom>
            <a:ln w="12600">
              <a:solidFill>
                <a:srgbClr val="008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 txBox="1"/>
          <p:nvPr/>
        </p:nvSpPr>
        <p:spPr>
          <a:xfrm>
            <a:off x="1222200" y="229068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014720" y="497844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Spread [ns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645000" y="166860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738680" y="166356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85680" y="571032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ducible Packet Error Ratio versus Delay Spread, 1000 byte packets, a) 30 Mbps, b) 20 Mb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985680" y="555768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ducible Packet Error Ratio versus Delay Spread, 64 byte packets, a) 30 Mbps, b) 20 Mb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2401920" y="506520"/>
            <a:ext cx="4437000" cy="4525560"/>
            <a:chOff x="2401920" y="506520"/>
            <a:chExt cx="4437000" cy="4525560"/>
          </a:xfrm>
        </p:grpSpPr>
        <p:sp>
          <p:nvSpPr>
            <p:cNvPr id="419" name=""/>
            <p:cNvSpPr/>
            <p:nvPr/>
          </p:nvSpPr>
          <p:spPr>
            <a:xfrm>
              <a:off x="2743200" y="716040"/>
              <a:ext cx="3880080" cy="4077000"/>
            </a:xfrm>
            <a:custGeom>
              <a:avLst/>
              <a:gdLst/>
              <a:ahLst/>
              <a:rect l="0" t="0" r="r" b="b"/>
              <a:pathLst>
                <a:path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  <a:lnTo>
                    <a:pt x="0" y="11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43200" y="716040"/>
              <a:ext cx="3880080" cy="4077000"/>
            </a:xfrm>
            <a:custGeom>
              <a:avLst/>
              <a:gdLst/>
              <a:ahLst/>
              <a:rect l="0" t="0" r="r" b="b"/>
              <a:pathLst>
                <a:path fill="none"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1291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5226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39085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29408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4687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507348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54594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58435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62388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60840" y="37767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60840" y="2760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60840" y="1733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27432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432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 txBox="1"/>
            <p:nvPr/>
          </p:nvSpPr>
          <p:spPr>
            <a:xfrm>
              <a:off x="2606760" y="4775040"/>
              <a:ext cx="258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1291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291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 txBox="1"/>
            <p:nvPr/>
          </p:nvSpPr>
          <p:spPr>
            <a:xfrm>
              <a:off x="295740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35226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226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 txBox="1"/>
            <p:nvPr/>
          </p:nvSpPr>
          <p:spPr>
            <a:xfrm>
              <a:off x="332424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39085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085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371016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429408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9408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409428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6879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879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448956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507348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7348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 txBox="1"/>
            <p:nvPr/>
          </p:nvSpPr>
          <p:spPr>
            <a:xfrm>
              <a:off x="487368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54594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594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 txBox="1"/>
            <p:nvPr/>
          </p:nvSpPr>
          <p:spPr>
            <a:xfrm>
              <a:off x="525924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8435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435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>
              <a:off x="564516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62388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2388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>
              <a:off x="603900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4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66229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6229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6424560" y="4775040"/>
              <a:ext cx="4143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54360" y="47926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6597720" y="47926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60840" y="479268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580080" y="479268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 txBox="1"/>
            <p:nvPr/>
          </p:nvSpPr>
          <p:spPr>
            <a:xfrm>
              <a:off x="2401920" y="46324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2527200" y="458136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54360" y="44816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597720" y="4481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60840" y="44816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754360" y="43038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597720" y="4303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760840" y="43038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754360" y="4183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6597720" y="418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60840" y="4183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754360" y="4075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6597720" y="4075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60840" y="4075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754360" y="40035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597720" y="4003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60840" y="40035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54360" y="3932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6597720" y="3932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0840" y="3932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54360" y="38718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597720" y="3871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60840" y="38718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54360" y="3824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6597720" y="3824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760840" y="3824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754360" y="37767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6597720" y="37767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60840" y="37767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760840" y="377676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580080" y="377676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 txBox="1"/>
            <p:nvPr/>
          </p:nvSpPr>
          <p:spPr>
            <a:xfrm>
              <a:off x="2401920" y="3616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>
              <a:off x="2527200" y="356544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54360" y="3465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6597720" y="3465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60840" y="3465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54360" y="3286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6597720" y="3286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60840" y="3286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54360" y="31561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6597720" y="3156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60840" y="31561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54360" y="3059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6597720" y="3059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60840" y="3059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54360" y="2976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6597720" y="2976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760840" y="2976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754360" y="2916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597720" y="2916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760840" y="2916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754360" y="28558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6597720" y="2855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760840" y="2855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754360" y="2797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597720" y="2797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60840" y="2797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754360" y="2760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6597720" y="2760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760840" y="2760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60840" y="27608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6580080" y="27608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2401920" y="26002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2527200" y="254952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754360" y="24494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597720" y="24494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60840" y="24494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754360" y="2270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597720" y="2270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60840" y="2270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54360" y="2139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597720" y="2139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760840" y="2139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754360" y="2043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597720" y="2043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60840" y="2043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54360" y="19605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597720" y="1960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60840" y="19605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754360" y="1887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6597720" y="1887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60840" y="1887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54360" y="1839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597720" y="1839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760840" y="1839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754360" y="1781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597720" y="1781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60840" y="1781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754360" y="1733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6597720" y="1733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760840" y="1733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760840" y="17334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6580080" y="173340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 txBox="1"/>
            <p:nvPr/>
          </p:nvSpPr>
          <p:spPr>
            <a:xfrm>
              <a:off x="2401920" y="157176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 txBox="1"/>
            <p:nvPr/>
          </p:nvSpPr>
          <p:spPr>
            <a:xfrm>
              <a:off x="2527200" y="152244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754360" y="14335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6597720" y="143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760840" y="14335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754360" y="12542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597720" y="12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760840" y="12542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754360" y="1122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6597720" y="1122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760840" y="1122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54360" y="1027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6597720" y="1027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760840" y="1027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754360" y="9446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6597720" y="944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60840" y="9446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54360" y="8715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6597720" y="871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760840" y="8715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54360" y="8128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6597720" y="812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760840" y="812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754360" y="765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6597720" y="765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60840" y="765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54360" y="716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6597720" y="716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760840" y="7160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6580080" y="7160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>
              <a:off x="2401920" y="5554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 txBox="1"/>
            <p:nvPr/>
          </p:nvSpPr>
          <p:spPr>
            <a:xfrm>
              <a:off x="2527200" y="506520"/>
              <a:ext cx="23004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129120" y="716040"/>
              <a:ext cx="3494520" cy="2976840"/>
            </a:xfrm>
            <a:custGeom>
              <a:avLst/>
              <a:gdLst/>
              <a:ahLst/>
              <a:rect l="0" t="0" r="r" b="b"/>
              <a:pathLst>
                <a:path fill="none" w="9707" h="8269">
                  <a:moveTo>
                    <a:pt x="0" y="8269"/>
                  </a:moveTo>
                  <a:lnTo>
                    <a:pt x="546" y="7307"/>
                  </a:lnTo>
                  <a:lnTo>
                    <a:pt x="1093" y="5447"/>
                  </a:lnTo>
                  <a:lnTo>
                    <a:pt x="2165" y="3787"/>
                  </a:lnTo>
                  <a:lnTo>
                    <a:pt x="3237" y="2226"/>
                  </a:lnTo>
                  <a:lnTo>
                    <a:pt x="4331" y="1128"/>
                  </a:lnTo>
                  <a:lnTo>
                    <a:pt x="5402" y="467"/>
                  </a:lnTo>
                  <a:lnTo>
                    <a:pt x="6474" y="136"/>
                  </a:lnTo>
                  <a:lnTo>
                    <a:pt x="7542" y="35"/>
                  </a:lnTo>
                  <a:lnTo>
                    <a:pt x="8640" y="0"/>
                  </a:lnTo>
                  <a:lnTo>
                    <a:pt x="9707" y="0"/>
                  </a:lnTo>
                </a:path>
              </a:pathLst>
            </a:custGeom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25680" y="789120"/>
              <a:ext cx="3297600" cy="3418200"/>
            </a:xfrm>
            <a:custGeom>
              <a:avLst/>
              <a:gdLst/>
              <a:ahLst/>
              <a:rect l="0" t="0" r="r" b="b"/>
              <a:pathLst>
                <a:path fill="none" w="9160" h="9495">
                  <a:moveTo>
                    <a:pt x="0" y="9495"/>
                  </a:moveTo>
                  <a:lnTo>
                    <a:pt x="546" y="7801"/>
                  </a:lnTo>
                  <a:lnTo>
                    <a:pt x="1618" y="6937"/>
                  </a:lnTo>
                  <a:lnTo>
                    <a:pt x="2690" y="5244"/>
                  </a:lnTo>
                  <a:lnTo>
                    <a:pt x="3784" y="3915"/>
                  </a:lnTo>
                  <a:lnTo>
                    <a:pt x="4856" y="2623"/>
                  </a:lnTo>
                  <a:lnTo>
                    <a:pt x="5927" y="1424"/>
                  </a:lnTo>
                  <a:lnTo>
                    <a:pt x="6995" y="793"/>
                  </a:lnTo>
                  <a:lnTo>
                    <a:pt x="8093" y="330"/>
                  </a:lnTo>
                  <a:lnTo>
                    <a:pt x="9160" y="0"/>
                  </a:lnTo>
                </a:path>
              </a:pathLst>
            </a:custGeom>
            <a:ln w="12600">
              <a:solidFill>
                <a:srgbClr val="008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 txBox="1"/>
          <p:nvPr/>
        </p:nvSpPr>
        <p:spPr>
          <a:xfrm>
            <a:off x="1222200" y="229068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014720" y="505476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 Spread [ns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949560" y="144000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815000" y="151128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1147680" y="530280"/>
            <a:ext cx="5688000" cy="4975200"/>
            <a:chOff x="1147680" y="530280"/>
            <a:chExt cx="5688000" cy="4975200"/>
          </a:xfrm>
        </p:grpSpPr>
        <p:grpSp>
          <p:nvGrpSpPr>
            <p:cNvPr id="618" name=""/>
            <p:cNvGrpSpPr/>
            <p:nvPr/>
          </p:nvGrpSpPr>
          <p:grpSpPr>
            <a:xfrm>
              <a:off x="2284560" y="530280"/>
              <a:ext cx="4551120" cy="4717800"/>
              <a:chOff x="2284560" y="530280"/>
              <a:chExt cx="4551120" cy="4717800"/>
            </a:xfrm>
          </p:grpSpPr>
          <p:sp>
            <p:nvSpPr>
              <p:cNvPr id="619" name=""/>
              <p:cNvSpPr/>
              <p:nvPr/>
            </p:nvSpPr>
            <p:spPr>
              <a:xfrm>
                <a:off x="2635200" y="744480"/>
                <a:ext cx="4038840" cy="4251600"/>
              </a:xfrm>
              <a:custGeom>
                <a:avLst/>
                <a:gdLst/>
                <a:ahLst/>
                <a:rect l="0" t="0" r="r" b="b"/>
                <a:pathLst>
                  <a:path w="11219" h="11810">
                    <a:moveTo>
                      <a:pt x="0" y="11810"/>
                    </a:moveTo>
                    <a:lnTo>
                      <a:pt x="0" y="0"/>
                    </a:lnTo>
                    <a:lnTo>
                      <a:pt x="11219" y="0"/>
                    </a:lnTo>
                    <a:lnTo>
                      <a:pt x="11219" y="11810"/>
                    </a:lnTo>
                    <a:lnTo>
                      <a:pt x="0" y="118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635200" y="744480"/>
                <a:ext cx="4038840" cy="4251600"/>
              </a:xfrm>
              <a:custGeom>
                <a:avLst/>
                <a:gdLst/>
                <a:ahLst/>
                <a:rect l="0" t="0" r="r" b="b"/>
                <a:pathLst>
                  <a:path fill="none" w="11219" h="11810">
                    <a:moveTo>
                      <a:pt x="0" y="11810"/>
                    </a:moveTo>
                    <a:lnTo>
                      <a:pt x="0" y="0"/>
                    </a:lnTo>
                    <a:lnTo>
                      <a:pt x="11219" y="0"/>
                    </a:lnTo>
                    <a:lnTo>
                      <a:pt x="11219" y="11810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263376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303228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344340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384480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424656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465768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505944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546084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586260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627372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667224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652840" y="49957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652840" y="35766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652840" y="21686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652840" y="7491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652840" y="49957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652840" y="7491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263376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667224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652840" y="49957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263376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263376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63376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 txBox="1"/>
              <p:nvPr/>
            </p:nvSpPr>
            <p:spPr>
              <a:xfrm>
                <a:off x="2498760" y="4987800"/>
                <a:ext cx="25236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303228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03228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 txBox="1"/>
              <p:nvPr/>
            </p:nvSpPr>
            <p:spPr>
              <a:xfrm>
                <a:off x="2901960" y="4987800"/>
                <a:ext cx="25236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344340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4340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 txBox="1"/>
              <p:nvPr/>
            </p:nvSpPr>
            <p:spPr>
              <a:xfrm>
                <a:off x="327348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384480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4480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 txBox="1"/>
              <p:nvPr/>
            </p:nvSpPr>
            <p:spPr>
              <a:xfrm>
                <a:off x="367524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424656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24656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 txBox="1"/>
              <p:nvPr/>
            </p:nvSpPr>
            <p:spPr>
              <a:xfrm>
                <a:off x="407664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465768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65768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 txBox="1"/>
              <p:nvPr/>
            </p:nvSpPr>
            <p:spPr>
              <a:xfrm>
                <a:off x="448776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505944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05944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 txBox="1"/>
              <p:nvPr/>
            </p:nvSpPr>
            <p:spPr>
              <a:xfrm>
                <a:off x="488952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546084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46084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 txBox="1"/>
              <p:nvPr/>
            </p:nvSpPr>
            <p:spPr>
              <a:xfrm>
                <a:off x="529128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586260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6260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 txBox="1"/>
              <p:nvPr/>
            </p:nvSpPr>
            <p:spPr>
              <a:xfrm>
                <a:off x="569268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627372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27372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 txBox="1"/>
              <p:nvPr/>
            </p:nvSpPr>
            <p:spPr>
              <a:xfrm>
                <a:off x="610380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6672240" y="493704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672240" y="76356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 txBox="1"/>
              <p:nvPr/>
            </p:nvSpPr>
            <p:spPr>
              <a:xfrm>
                <a:off x="6505560" y="49878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643120" y="49957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6647040" y="499572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652840" y="49957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649600" y="499572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6629400" y="499572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 txBox="1"/>
              <p:nvPr/>
            </p:nvSpPr>
            <p:spPr>
              <a:xfrm>
                <a:off x="2284560" y="483876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 txBox="1"/>
              <p:nvPr/>
            </p:nvSpPr>
            <p:spPr>
              <a:xfrm>
                <a:off x="2416320" y="4778280"/>
                <a:ext cx="26496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643120" y="45734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6647040" y="45734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652840" y="45734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643120" y="4322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6647040" y="432288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652840" y="432288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643120" y="4151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6647040" y="41511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652840" y="41511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643120" y="40132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6647040" y="401328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652840" y="401328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643120" y="39006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6647040" y="39006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652840" y="39006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643120" y="38037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6647040" y="38037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652840" y="38037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643120" y="3713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6647040" y="37130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652840" y="37130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643120" y="3651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647040" y="365112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652840" y="36511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643120" y="35766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6647040" y="35766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652840" y="35766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649600" y="357660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6629400" y="357660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 txBox="1"/>
              <p:nvPr/>
            </p:nvSpPr>
            <p:spPr>
              <a:xfrm>
                <a:off x="2284560" y="341784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 txBox="1"/>
              <p:nvPr/>
            </p:nvSpPr>
            <p:spPr>
              <a:xfrm>
                <a:off x="2416320" y="3359160"/>
                <a:ext cx="26496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643120" y="31543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6647040" y="315432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652840" y="31543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643120" y="29034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6647040" y="29034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652840" y="29034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643120" y="27306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6647040" y="27306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652840" y="27306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643120" y="2593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6647040" y="25938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652840" y="25938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643120" y="2481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6647040" y="248112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652840" y="24811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643120" y="23828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6647040" y="23828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652840" y="23828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643120" y="2305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6647040" y="230508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652840" y="230508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643120" y="2230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6647040" y="22305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652840" y="22305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643120" y="21686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6647040" y="21686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652840" y="21686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649600" y="216864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6629400" y="216864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 txBox="1"/>
              <p:nvPr/>
            </p:nvSpPr>
            <p:spPr>
              <a:xfrm>
                <a:off x="2284560" y="200988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 txBox="1"/>
              <p:nvPr/>
            </p:nvSpPr>
            <p:spPr>
              <a:xfrm>
                <a:off x="2416320" y="1951200"/>
                <a:ext cx="26496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643120" y="17334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6647040" y="173340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652840" y="173340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643120" y="14828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6647040" y="14828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652840" y="14828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643120" y="1311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6647040" y="131112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652840" y="13111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643120" y="11732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6647040" y="117324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52840" y="117324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643120" y="1060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6647040" y="10605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652840" y="10605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643120" y="974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6647040" y="97488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2652840" y="97488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2643120" y="8859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647040" y="8859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652840" y="8859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643120" y="811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6647040" y="81108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652840" y="81108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643120" y="749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6647040" y="749160"/>
                <a:ext cx="3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652840" y="7491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649600" y="749160"/>
                <a:ext cx="6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6629400" y="749160"/>
                <a:ext cx="55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 txBox="1"/>
              <p:nvPr/>
            </p:nvSpPr>
            <p:spPr>
              <a:xfrm>
                <a:off x="2284560" y="590400"/>
                <a:ext cx="330120" cy="260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 txBox="1"/>
              <p:nvPr/>
            </p:nvSpPr>
            <p:spPr>
              <a:xfrm>
                <a:off x="2416320" y="530280"/>
                <a:ext cx="23184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652840" y="499572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652840" y="749160"/>
                <a:ext cx="400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V="1">
                <a:off x="263376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>
                <a:off x="6672240" y="735120"/>
                <a:ext cx="0" cy="427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635200" y="971640"/>
                <a:ext cx="4038840" cy="2880000"/>
              </a:xfrm>
              <a:custGeom>
                <a:avLst/>
                <a:gdLst/>
                <a:ahLst/>
                <a:rect l="0" t="0" r="r" b="b"/>
                <a:pathLst>
                  <a:path fill="none" w="11219" h="8000">
                    <a:moveTo>
                      <a:pt x="0" y="0"/>
                    </a:moveTo>
                    <a:lnTo>
                      <a:pt x="2248" y="793"/>
                    </a:lnTo>
                    <a:lnTo>
                      <a:pt x="4480" y="1763"/>
                    </a:lnTo>
                    <a:lnTo>
                      <a:pt x="6734" y="3461"/>
                    </a:lnTo>
                    <a:lnTo>
                      <a:pt x="8965" y="5574"/>
                    </a:lnTo>
                    <a:lnTo>
                      <a:pt x="11219" y="8000"/>
                    </a:lnTo>
                  </a:path>
                </a:pathLst>
              </a:custGeom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635200" y="900000"/>
                <a:ext cx="4038840" cy="4096080"/>
              </a:xfrm>
              <a:custGeom>
                <a:avLst/>
                <a:gdLst/>
                <a:ahLst/>
                <a:rect l="0" t="0" r="r" b="b"/>
                <a:pathLst>
                  <a:path fill="none" w="11219" h="11378">
                    <a:moveTo>
                      <a:pt x="0" y="0"/>
                    </a:moveTo>
                    <a:lnTo>
                      <a:pt x="2248" y="859"/>
                    </a:lnTo>
                    <a:lnTo>
                      <a:pt x="4480" y="2381"/>
                    </a:lnTo>
                    <a:lnTo>
                      <a:pt x="6734" y="4422"/>
                    </a:lnTo>
                    <a:lnTo>
                      <a:pt x="8965" y="7638"/>
                    </a:lnTo>
                    <a:lnTo>
                      <a:pt x="11219" y="11378"/>
                    </a:lnTo>
                  </a:path>
                </a:pathLst>
              </a:custGeom>
              <a:ln w="12600">
                <a:solidFill>
                  <a:srgbClr val="008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635200" y="806400"/>
                <a:ext cx="4038840" cy="3991320"/>
              </a:xfrm>
              <a:custGeom>
                <a:avLst/>
                <a:gdLst/>
                <a:ahLst/>
                <a:rect l="0" t="0" r="r" b="b"/>
                <a:pathLst>
                  <a:path fill="none" w="11219" h="11087">
                    <a:moveTo>
                      <a:pt x="0" y="0"/>
                    </a:moveTo>
                    <a:lnTo>
                      <a:pt x="2248" y="1036"/>
                    </a:lnTo>
                    <a:lnTo>
                      <a:pt x="4480" y="3289"/>
                    </a:lnTo>
                    <a:lnTo>
                      <a:pt x="6734" y="6342"/>
                    </a:lnTo>
                    <a:lnTo>
                      <a:pt x="8965" y="8935"/>
                    </a:lnTo>
                    <a:lnTo>
                      <a:pt x="11219" y="11087"/>
                    </a:lnTo>
                  </a:path>
                </a:pathLst>
              </a:custGeom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635200" y="808200"/>
                <a:ext cx="4038840" cy="3391200"/>
              </a:xfrm>
              <a:custGeom>
                <a:avLst/>
                <a:gdLst/>
                <a:ahLst/>
                <a:rect l="0" t="0" r="r" b="b"/>
                <a:pathLst>
                  <a:path fill="none" w="11219" h="9420">
                    <a:moveTo>
                      <a:pt x="0" y="0"/>
                    </a:moveTo>
                    <a:lnTo>
                      <a:pt x="2248" y="864"/>
                    </a:lnTo>
                    <a:lnTo>
                      <a:pt x="4480" y="3219"/>
                    </a:lnTo>
                    <a:lnTo>
                      <a:pt x="6734" y="6231"/>
                    </a:lnTo>
                    <a:lnTo>
                      <a:pt x="8965" y="8450"/>
                    </a:lnTo>
                    <a:lnTo>
                      <a:pt x="11219" y="9420"/>
                    </a:lnTo>
                  </a:path>
                </a:pathLst>
              </a:custGeom>
              <a:ln w="12600">
                <a:solidFill>
                  <a:srgbClr val="00bf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635200" y="746280"/>
                <a:ext cx="4038840" cy="1956240"/>
              </a:xfrm>
              <a:custGeom>
                <a:avLst/>
                <a:gdLst/>
                <a:ahLst/>
                <a:rect l="0" t="0" r="r" b="b"/>
                <a:pathLst>
                  <a:path fill="none" w="11219" h="5434">
                    <a:moveTo>
                      <a:pt x="0" y="0"/>
                    </a:moveTo>
                    <a:lnTo>
                      <a:pt x="2248" y="621"/>
                    </a:lnTo>
                    <a:lnTo>
                      <a:pt x="4480" y="2351"/>
                    </a:lnTo>
                    <a:lnTo>
                      <a:pt x="6734" y="3877"/>
                    </a:lnTo>
                    <a:lnTo>
                      <a:pt x="8965" y="5051"/>
                    </a:lnTo>
                    <a:lnTo>
                      <a:pt x="11219" y="5434"/>
                    </a:lnTo>
                  </a:path>
                </a:pathLst>
              </a:custGeom>
              <a:ln w="12600">
                <a:solidFill>
                  <a:srgbClr val="bf00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4" name=""/>
            <p:cNvSpPr txBox="1"/>
            <p:nvPr/>
          </p:nvSpPr>
          <p:spPr>
            <a:xfrm>
              <a:off x="1147680" y="2367000"/>
              <a:ext cx="206388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cket Error Rat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 txBox="1"/>
            <p:nvPr/>
          </p:nvSpPr>
          <p:spPr>
            <a:xfrm>
              <a:off x="4416480" y="5207040"/>
              <a:ext cx="132732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N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dB]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 txBox="1"/>
            <p:nvPr/>
          </p:nvSpPr>
          <p:spPr>
            <a:xfrm>
              <a:off x="6302520" y="32068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 txBox="1"/>
            <p:nvPr/>
          </p:nvSpPr>
          <p:spPr>
            <a:xfrm>
              <a:off x="5673600" y="314964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 txBox="1"/>
            <p:nvPr/>
          </p:nvSpPr>
          <p:spPr>
            <a:xfrm>
              <a:off x="5045040" y="326376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 txBox="1"/>
            <p:nvPr/>
          </p:nvSpPr>
          <p:spPr>
            <a:xfrm>
              <a:off x="5445000" y="326376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 txBox="1"/>
            <p:nvPr/>
          </p:nvSpPr>
          <p:spPr>
            <a:xfrm>
              <a:off x="6416640" y="26352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"/>
          <p:cNvSpPr txBox="1"/>
          <p:nvPr/>
        </p:nvSpPr>
        <p:spPr>
          <a:xfrm>
            <a:off x="985680" y="571032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fading, 20 Mbps, 64 byte packets, delay spread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5 ns, b) 50 ns, c) 100 ns, d) 150 ns, e) 250 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"/>
          <p:cNvGrpSpPr/>
          <p:nvPr/>
        </p:nvGrpSpPr>
        <p:grpSpPr>
          <a:xfrm>
            <a:off x="1146240" y="503280"/>
            <a:ext cx="5672160" cy="4976640"/>
            <a:chOff x="1146240" y="503280"/>
            <a:chExt cx="5672160" cy="4976640"/>
          </a:xfrm>
        </p:grpSpPr>
        <p:grpSp>
          <p:nvGrpSpPr>
            <p:cNvPr id="793" name=""/>
            <p:cNvGrpSpPr/>
            <p:nvPr/>
          </p:nvGrpSpPr>
          <p:grpSpPr>
            <a:xfrm>
              <a:off x="2305080" y="503280"/>
              <a:ext cx="4513320" cy="4697280"/>
              <a:chOff x="2305080" y="503280"/>
              <a:chExt cx="4513320" cy="4697280"/>
            </a:xfrm>
          </p:grpSpPr>
          <p:sp>
            <p:nvSpPr>
              <p:cNvPr id="794" name=""/>
              <p:cNvSpPr/>
              <p:nvPr/>
            </p:nvSpPr>
            <p:spPr>
              <a:xfrm>
                <a:off x="2631960" y="71280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  <a:lnTo>
                      <a:pt x="0" y="117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2631960" y="71280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fill="none"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303372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344484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384660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424800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4657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505944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546084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586260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62722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649600" y="3540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649600" y="21319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263376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63376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 txBox="1"/>
              <p:nvPr/>
            </p:nvSpPr>
            <p:spPr>
              <a:xfrm>
                <a:off x="2519280" y="4962600"/>
                <a:ext cx="21744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303372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03372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 txBox="1"/>
              <p:nvPr/>
            </p:nvSpPr>
            <p:spPr>
              <a:xfrm>
                <a:off x="2921040" y="4962600"/>
                <a:ext cx="21744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344484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44484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 txBox="1"/>
              <p:nvPr/>
            </p:nvSpPr>
            <p:spPr>
              <a:xfrm>
                <a:off x="32940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384660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84660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 txBox="1"/>
              <p:nvPr/>
            </p:nvSpPr>
            <p:spPr>
              <a:xfrm>
                <a:off x="36957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424800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24800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 txBox="1"/>
              <p:nvPr/>
            </p:nvSpPr>
            <p:spPr>
              <a:xfrm>
                <a:off x="40971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465768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465768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 txBox="1"/>
              <p:nvPr/>
            </p:nvSpPr>
            <p:spPr>
              <a:xfrm>
                <a:off x="450864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505944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05944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 txBox="1"/>
              <p:nvPr/>
            </p:nvSpPr>
            <p:spPr>
              <a:xfrm>
                <a:off x="49086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8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46084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6084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 txBox="1"/>
              <p:nvPr/>
            </p:nvSpPr>
            <p:spPr>
              <a:xfrm>
                <a:off x="53103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86260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86260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 txBox="1"/>
              <p:nvPr/>
            </p:nvSpPr>
            <p:spPr>
              <a:xfrm>
                <a:off x="57117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2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627228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27228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 txBox="1"/>
              <p:nvPr/>
            </p:nvSpPr>
            <p:spPr>
              <a:xfrm>
                <a:off x="612288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V="1">
                <a:off x="667368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67368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 txBox="1"/>
              <p:nvPr/>
            </p:nvSpPr>
            <p:spPr>
              <a:xfrm>
                <a:off x="65232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6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643120" y="49593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6648480" y="49593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651040" y="495936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629400" y="495936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 txBox="1"/>
              <p:nvPr/>
            </p:nvSpPr>
            <p:spPr>
              <a:xfrm>
                <a:off x="2305080" y="481176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 txBox="1"/>
              <p:nvPr/>
            </p:nvSpPr>
            <p:spPr>
              <a:xfrm>
                <a:off x="2435400" y="475128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643120" y="45356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648480" y="4535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649600" y="45356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643120" y="42879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648480" y="42879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649600" y="42879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643120" y="41133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6648480" y="41133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649600" y="4113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643120" y="3976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6648480" y="39765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649600" y="39765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643120" y="3863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6648480" y="38638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649600" y="38638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643120" y="3763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6648480" y="37638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649600" y="3763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643120" y="36766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6648480" y="3676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649600" y="36766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643120" y="36147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6648480" y="36147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649600" y="36147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643120" y="35402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6648480" y="3540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649600" y="3540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651040" y="354024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6629400" y="354024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2305080" y="33926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2435400" y="333216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643120" y="3116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6648480" y="31161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649600" y="31161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643120" y="2867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>
                <a:off x="6648480" y="28670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649600" y="2867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643120" y="26924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6648480" y="26924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649600" y="26924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643120" y="2556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6648480" y="2556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649600" y="25560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643120" y="24433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6648480" y="24433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649600" y="24433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643120" y="23446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6648480" y="2344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2649600" y="23446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643120" y="2270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6648480" y="22701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649600" y="22701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643120" y="21956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6648480" y="2195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649600" y="21956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643120" y="21319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>
                <a:off x="6648480" y="21319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649600" y="21319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651040" y="213192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6629400" y="213192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 txBox="1"/>
              <p:nvPr/>
            </p:nvSpPr>
            <p:spPr>
              <a:xfrm>
                <a:off x="2305080" y="198432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 txBox="1"/>
              <p:nvPr/>
            </p:nvSpPr>
            <p:spPr>
              <a:xfrm>
                <a:off x="2435400" y="192420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643120" y="1697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>
                <a:off x="6648480" y="16970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649600" y="1697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643120" y="1446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6648480" y="1446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649600" y="14461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643120" y="12733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6648480" y="12733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649600" y="12733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643120" y="11365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6648480" y="11365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649600" y="11365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2643120" y="10238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6648480" y="10238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649600" y="10238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643120" y="9367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6648480" y="9367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2649600" y="9367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643120" y="8492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>
                <a:off x="6648480" y="849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649600" y="849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643120" y="7747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H="1">
                <a:off x="6648480" y="7747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649600" y="7747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643120" y="712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6648480" y="7128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651040" y="71280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6629400" y="71280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 txBox="1"/>
              <p:nvPr/>
            </p:nvSpPr>
            <p:spPr>
              <a:xfrm>
                <a:off x="2305080" y="5652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 txBox="1"/>
              <p:nvPr/>
            </p:nvSpPr>
            <p:spPr>
              <a:xfrm>
                <a:off x="2435400" y="503280"/>
                <a:ext cx="19692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2631960" y="785880"/>
                <a:ext cx="4042080" cy="2381760"/>
              </a:xfrm>
              <a:custGeom>
                <a:avLst/>
                <a:gdLst/>
                <a:ahLst/>
                <a:rect l="0" t="0" r="r" b="b"/>
                <a:pathLst>
                  <a:path fill="none" w="11228" h="6616">
                    <a:moveTo>
                      <a:pt x="0" y="0"/>
                    </a:moveTo>
                    <a:lnTo>
                      <a:pt x="2253" y="449"/>
                    </a:lnTo>
                    <a:lnTo>
                      <a:pt x="4484" y="1486"/>
                    </a:lnTo>
                    <a:lnTo>
                      <a:pt x="6739" y="3048"/>
                    </a:lnTo>
                    <a:lnTo>
                      <a:pt x="8970" y="4604"/>
                    </a:lnTo>
                    <a:lnTo>
                      <a:pt x="11228" y="6616"/>
                    </a:lnTo>
                  </a:path>
                </a:pathLst>
              </a:custGeom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2631960" y="723960"/>
                <a:ext cx="4042080" cy="2978640"/>
              </a:xfrm>
              <a:custGeom>
                <a:avLst/>
                <a:gdLst/>
                <a:ahLst/>
                <a:rect l="0" t="0" r="r" b="b"/>
                <a:pathLst>
                  <a:path fill="none" w="11228" h="8274">
                    <a:moveTo>
                      <a:pt x="0" y="0"/>
                    </a:moveTo>
                    <a:lnTo>
                      <a:pt x="2253" y="410"/>
                    </a:lnTo>
                    <a:lnTo>
                      <a:pt x="4484" y="1349"/>
                    </a:lnTo>
                    <a:lnTo>
                      <a:pt x="6739" y="3078"/>
                    </a:lnTo>
                    <a:lnTo>
                      <a:pt x="8970" y="5641"/>
                    </a:lnTo>
                    <a:lnTo>
                      <a:pt x="11228" y="8274"/>
                    </a:lnTo>
                  </a:path>
                </a:pathLst>
              </a:custGeom>
              <a:ln w="12600">
                <a:solidFill>
                  <a:srgbClr val="008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631960" y="725400"/>
                <a:ext cx="4042080" cy="2802240"/>
              </a:xfrm>
              <a:custGeom>
                <a:avLst/>
                <a:gdLst/>
                <a:ahLst/>
                <a:rect l="0" t="0" r="r" b="b"/>
                <a:pathLst>
                  <a:path fill="none" w="11228" h="7784">
                    <a:moveTo>
                      <a:pt x="0" y="0"/>
                    </a:moveTo>
                    <a:lnTo>
                      <a:pt x="2253" y="449"/>
                    </a:lnTo>
                    <a:lnTo>
                      <a:pt x="4484" y="1728"/>
                    </a:lnTo>
                    <a:lnTo>
                      <a:pt x="6739" y="3836"/>
                    </a:lnTo>
                    <a:lnTo>
                      <a:pt x="8970" y="6293"/>
                    </a:lnTo>
                    <a:lnTo>
                      <a:pt x="11228" y="7784"/>
                    </a:lnTo>
                  </a:path>
                </a:pathLst>
              </a:custGeom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631960" y="725400"/>
                <a:ext cx="4042080" cy="2254680"/>
              </a:xfrm>
              <a:custGeom>
                <a:avLst/>
                <a:gdLst/>
                <a:ahLst/>
                <a:rect l="0" t="0" r="r" b="b"/>
                <a:pathLst>
                  <a:path fill="none" w="11228" h="6263">
                    <a:moveTo>
                      <a:pt x="0" y="0"/>
                    </a:moveTo>
                    <a:lnTo>
                      <a:pt x="2253" y="171"/>
                    </a:lnTo>
                    <a:lnTo>
                      <a:pt x="4484" y="1486"/>
                    </a:lnTo>
                    <a:lnTo>
                      <a:pt x="6739" y="3802"/>
                    </a:lnTo>
                    <a:lnTo>
                      <a:pt x="8970" y="5430"/>
                    </a:lnTo>
                    <a:lnTo>
                      <a:pt x="11228" y="6263"/>
                    </a:lnTo>
                  </a:path>
                </a:pathLst>
              </a:custGeom>
              <a:ln w="12600">
                <a:solidFill>
                  <a:srgbClr val="00bf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631960" y="712800"/>
                <a:ext cx="4042080" cy="1146600"/>
              </a:xfrm>
              <a:custGeom>
                <a:avLst/>
                <a:gdLst/>
                <a:ahLst/>
                <a:rect l="0" t="0" r="r" b="b"/>
                <a:pathLst>
                  <a:path fill="none" w="11228" h="3185">
                    <a:moveTo>
                      <a:pt x="0" y="0"/>
                    </a:moveTo>
                    <a:lnTo>
                      <a:pt x="2253" y="207"/>
                    </a:lnTo>
                    <a:lnTo>
                      <a:pt x="4484" y="723"/>
                    </a:lnTo>
                    <a:lnTo>
                      <a:pt x="6739" y="1764"/>
                    </a:lnTo>
                    <a:lnTo>
                      <a:pt x="8970" y="2630"/>
                    </a:lnTo>
                    <a:lnTo>
                      <a:pt x="11228" y="3185"/>
                    </a:lnTo>
                  </a:path>
                </a:pathLst>
              </a:custGeom>
              <a:ln w="12600">
                <a:solidFill>
                  <a:srgbClr val="bf00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9" name=""/>
            <p:cNvSpPr txBox="1"/>
            <p:nvPr/>
          </p:nvSpPr>
          <p:spPr>
            <a:xfrm>
              <a:off x="1146240" y="2341440"/>
              <a:ext cx="206388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cket Error Rat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 txBox="1"/>
            <p:nvPr/>
          </p:nvSpPr>
          <p:spPr>
            <a:xfrm>
              <a:off x="4357800" y="5181480"/>
              <a:ext cx="132732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N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dB]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 txBox="1"/>
            <p:nvPr/>
          </p:nvSpPr>
          <p:spPr>
            <a:xfrm>
              <a:off x="6483240" y="30718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 txBox="1"/>
            <p:nvPr/>
          </p:nvSpPr>
          <p:spPr>
            <a:xfrm>
              <a:off x="6072120" y="28386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 txBox="1"/>
            <p:nvPr/>
          </p:nvSpPr>
          <p:spPr>
            <a:xfrm>
              <a:off x="5958000" y="31240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 txBox="1"/>
            <p:nvPr/>
          </p:nvSpPr>
          <p:spPr>
            <a:xfrm>
              <a:off x="6467400" y="265104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 txBox="1"/>
            <p:nvPr/>
          </p:nvSpPr>
          <p:spPr>
            <a:xfrm>
              <a:off x="6415200" y="17524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 txBox="1"/>
          <p:nvPr/>
        </p:nvSpPr>
        <p:spPr>
          <a:xfrm>
            <a:off x="985680" y="578628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fading, 20 Mps, 1000 byte packets, delay spread = a) 25 ns, b) 50 ns, c) 100 ns, d) 150 ns, e) 250 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7" name=""/>
          <p:cNvGrpSpPr/>
          <p:nvPr/>
        </p:nvGrpSpPr>
        <p:grpSpPr>
          <a:xfrm>
            <a:off x="1146240" y="503280"/>
            <a:ext cx="5672160" cy="4976640"/>
            <a:chOff x="1146240" y="503280"/>
            <a:chExt cx="5672160" cy="4976640"/>
          </a:xfrm>
        </p:grpSpPr>
        <p:grpSp>
          <p:nvGrpSpPr>
            <p:cNvPr id="968" name=""/>
            <p:cNvGrpSpPr/>
            <p:nvPr/>
          </p:nvGrpSpPr>
          <p:grpSpPr>
            <a:xfrm>
              <a:off x="2305080" y="503280"/>
              <a:ext cx="4513320" cy="4697280"/>
              <a:chOff x="2305080" y="503280"/>
              <a:chExt cx="4513320" cy="4697280"/>
            </a:xfrm>
          </p:grpSpPr>
          <p:sp>
            <p:nvSpPr>
              <p:cNvPr id="969" name=""/>
              <p:cNvSpPr/>
              <p:nvPr/>
            </p:nvSpPr>
            <p:spPr>
              <a:xfrm>
                <a:off x="2631960" y="71280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  <a:lnTo>
                      <a:pt x="0" y="117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631960" y="71280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fill="none"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344484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424800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V="1">
                <a:off x="505944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586260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649600" y="3540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649600" y="21319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263376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263376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 txBox="1"/>
              <p:nvPr/>
            </p:nvSpPr>
            <p:spPr>
              <a:xfrm>
                <a:off x="2519280" y="4962600"/>
                <a:ext cx="21744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344484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344484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 txBox="1"/>
              <p:nvPr/>
            </p:nvSpPr>
            <p:spPr>
              <a:xfrm>
                <a:off x="32940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V="1">
                <a:off x="424800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24800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 txBox="1"/>
              <p:nvPr/>
            </p:nvSpPr>
            <p:spPr>
              <a:xfrm>
                <a:off x="40971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V="1">
                <a:off x="505944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05944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 txBox="1"/>
              <p:nvPr/>
            </p:nvSpPr>
            <p:spPr>
              <a:xfrm>
                <a:off x="49086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586260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86260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 txBox="1"/>
              <p:nvPr/>
            </p:nvSpPr>
            <p:spPr>
              <a:xfrm>
                <a:off x="571176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6673680" y="489888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673680" y="72864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 txBox="1"/>
              <p:nvPr/>
            </p:nvSpPr>
            <p:spPr>
              <a:xfrm>
                <a:off x="6523200" y="49626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643120" y="49593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6648480" y="49593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651040" y="495936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6629400" y="495936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 txBox="1"/>
              <p:nvPr/>
            </p:nvSpPr>
            <p:spPr>
              <a:xfrm>
                <a:off x="2305080" y="481176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 txBox="1"/>
              <p:nvPr/>
            </p:nvSpPr>
            <p:spPr>
              <a:xfrm>
                <a:off x="2435400" y="475128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643120" y="45356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6648480" y="4535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649600" y="45356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643120" y="42879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6648480" y="42879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649600" y="42879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643120" y="41133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6648480" y="41133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649600" y="4113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2643120" y="39765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6648480" y="39765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649600" y="39765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643120" y="3863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6648480" y="38638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649600" y="38638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2643120" y="3763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6648480" y="37638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649600" y="3763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643120" y="36766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6648480" y="3676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649600" y="36766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643120" y="36147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6648480" y="36147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649600" y="36147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643120" y="35402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6648480" y="3540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649600" y="3540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651040" y="354024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6629400" y="354024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 txBox="1"/>
              <p:nvPr/>
            </p:nvSpPr>
            <p:spPr>
              <a:xfrm>
                <a:off x="2305080" y="33926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 txBox="1"/>
              <p:nvPr/>
            </p:nvSpPr>
            <p:spPr>
              <a:xfrm>
                <a:off x="2435400" y="333216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643120" y="3116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6648480" y="31161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49600" y="31161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3120" y="2867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>
                <a:off x="6648480" y="28670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649600" y="2867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643120" y="26924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6648480" y="26924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649600" y="26924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643120" y="2556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>
                <a:off x="6648480" y="2556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649600" y="25560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643120" y="24433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H="1">
                <a:off x="6648480" y="24433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649600" y="24433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643120" y="23446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6648480" y="2344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649600" y="23446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643120" y="2270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6648480" y="22701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649600" y="22701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643120" y="21956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6648480" y="21956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649600" y="21956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643120" y="21319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6648480" y="21319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649600" y="21319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651040" y="213192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>
                <a:off x="6629400" y="213192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 txBox="1"/>
              <p:nvPr/>
            </p:nvSpPr>
            <p:spPr>
              <a:xfrm>
                <a:off x="2305080" y="198432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 txBox="1"/>
              <p:nvPr/>
            </p:nvSpPr>
            <p:spPr>
              <a:xfrm>
                <a:off x="2435400" y="192420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643120" y="1697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6648480" y="16970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649600" y="1697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43120" y="1446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>
                <a:off x="6648480" y="1446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49600" y="14461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43120" y="12733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>
                <a:off x="6648480" y="12733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49600" y="12733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43120" y="11365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>
                <a:off x="6648480" y="11365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649600" y="11365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643120" y="10238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H="1">
                <a:off x="6648480" y="10238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649600" y="10238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643120" y="9367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6648480" y="9367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649600" y="9367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643120" y="8492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6648480" y="8492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649600" y="8492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643120" y="7747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6648480" y="7747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2649600" y="7747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643120" y="7128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>
                <a:off x="6648480" y="7128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651040" y="71280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>
                <a:off x="6629400" y="71280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 txBox="1"/>
              <p:nvPr/>
            </p:nvSpPr>
            <p:spPr>
              <a:xfrm>
                <a:off x="2305080" y="5652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 txBox="1"/>
              <p:nvPr/>
            </p:nvSpPr>
            <p:spPr>
              <a:xfrm>
                <a:off x="2435400" y="503280"/>
                <a:ext cx="19692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649600" y="49593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649600" y="7128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V="1">
                <a:off x="263376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6673680" y="70164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790720" y="787320"/>
                <a:ext cx="3883320" cy="3226320"/>
              </a:xfrm>
              <a:custGeom>
                <a:avLst/>
                <a:gdLst/>
                <a:ahLst/>
                <a:rect l="0" t="0" r="r" b="b"/>
                <a:pathLst>
                  <a:path fill="none" w="10787" h="8962">
                    <a:moveTo>
                      <a:pt x="0" y="0"/>
                    </a:moveTo>
                    <a:lnTo>
                      <a:pt x="1812" y="829"/>
                    </a:lnTo>
                    <a:lnTo>
                      <a:pt x="3602" y="1693"/>
                    </a:lnTo>
                    <a:lnTo>
                      <a:pt x="5394" y="2907"/>
                    </a:lnTo>
                    <a:lnTo>
                      <a:pt x="7184" y="4600"/>
                    </a:lnTo>
                    <a:lnTo>
                      <a:pt x="8996" y="6748"/>
                    </a:lnTo>
                    <a:lnTo>
                      <a:pt x="10787" y="8962"/>
                    </a:lnTo>
                  </a:path>
                </a:pathLst>
              </a:custGeom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790720" y="787320"/>
                <a:ext cx="3883320" cy="3449880"/>
              </a:xfrm>
              <a:custGeom>
                <a:avLst/>
                <a:gdLst/>
                <a:ahLst/>
                <a:rect l="0" t="0" r="r" b="b"/>
                <a:pathLst>
                  <a:path fill="none" w="10787" h="9583">
                    <a:moveTo>
                      <a:pt x="0" y="0"/>
                    </a:moveTo>
                    <a:lnTo>
                      <a:pt x="1812" y="480"/>
                    </a:lnTo>
                    <a:lnTo>
                      <a:pt x="3602" y="1728"/>
                    </a:lnTo>
                    <a:lnTo>
                      <a:pt x="5394" y="3179"/>
                    </a:lnTo>
                    <a:lnTo>
                      <a:pt x="7184" y="5327"/>
                    </a:lnTo>
                    <a:lnTo>
                      <a:pt x="8996" y="7748"/>
                    </a:lnTo>
                    <a:lnTo>
                      <a:pt x="10787" y="9583"/>
                    </a:lnTo>
                  </a:path>
                </a:pathLst>
              </a:custGeom>
              <a:ln w="12600">
                <a:solidFill>
                  <a:srgbClr val="008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90720" y="725400"/>
                <a:ext cx="3883320" cy="2627640"/>
              </a:xfrm>
              <a:custGeom>
                <a:avLst/>
                <a:gdLst/>
                <a:ahLst/>
                <a:rect l="0" t="0" r="r" b="b"/>
                <a:pathLst>
                  <a:path fill="none" w="10787" h="7299">
                    <a:moveTo>
                      <a:pt x="0" y="0"/>
                    </a:moveTo>
                    <a:lnTo>
                      <a:pt x="1812" y="445"/>
                    </a:lnTo>
                    <a:lnTo>
                      <a:pt x="3602" y="1728"/>
                    </a:lnTo>
                    <a:lnTo>
                      <a:pt x="5394" y="3766"/>
                    </a:lnTo>
                    <a:lnTo>
                      <a:pt x="7184" y="5671"/>
                    </a:lnTo>
                    <a:lnTo>
                      <a:pt x="8996" y="7021"/>
                    </a:lnTo>
                    <a:lnTo>
                      <a:pt x="10787" y="7299"/>
                    </a:lnTo>
                  </a:path>
                </a:pathLst>
              </a:custGeom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790720" y="712800"/>
                <a:ext cx="3883320" cy="1943640"/>
              </a:xfrm>
              <a:custGeom>
                <a:avLst/>
                <a:gdLst/>
                <a:ahLst/>
                <a:rect l="0" t="0" r="r" b="b"/>
                <a:pathLst>
                  <a:path fill="none" w="10787" h="5399">
                    <a:moveTo>
                      <a:pt x="0" y="0"/>
                    </a:moveTo>
                    <a:lnTo>
                      <a:pt x="1812" y="308"/>
                    </a:lnTo>
                    <a:lnTo>
                      <a:pt x="3602" y="1349"/>
                    </a:lnTo>
                    <a:lnTo>
                      <a:pt x="5394" y="2937"/>
                    </a:lnTo>
                    <a:lnTo>
                      <a:pt x="7184" y="4671"/>
                    </a:lnTo>
                    <a:lnTo>
                      <a:pt x="8996" y="5086"/>
                    </a:lnTo>
                    <a:lnTo>
                      <a:pt x="10787" y="5399"/>
                    </a:lnTo>
                  </a:path>
                </a:pathLst>
              </a:custGeom>
              <a:ln w="12600">
                <a:solidFill>
                  <a:srgbClr val="00bf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790720" y="711360"/>
                <a:ext cx="3883320" cy="586080"/>
              </a:xfrm>
              <a:custGeom>
                <a:avLst/>
                <a:gdLst/>
                <a:ahLst/>
                <a:rect l="0" t="0" r="r" b="b"/>
                <a:pathLst>
                  <a:path fill="none" w="10787" h="1628">
                    <a:moveTo>
                      <a:pt x="0" y="0"/>
                    </a:moveTo>
                    <a:lnTo>
                      <a:pt x="1812" y="136"/>
                    </a:lnTo>
                    <a:lnTo>
                      <a:pt x="3602" y="621"/>
                    </a:lnTo>
                    <a:lnTo>
                      <a:pt x="5394" y="1107"/>
                    </a:lnTo>
                    <a:lnTo>
                      <a:pt x="7184" y="1456"/>
                    </a:lnTo>
                    <a:lnTo>
                      <a:pt x="8996" y="1628"/>
                    </a:lnTo>
                    <a:lnTo>
                      <a:pt x="10787" y="1557"/>
                    </a:lnTo>
                  </a:path>
                </a:pathLst>
              </a:custGeom>
              <a:ln w="12600">
                <a:solidFill>
                  <a:srgbClr val="bf00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4" name=""/>
            <p:cNvSpPr txBox="1"/>
            <p:nvPr/>
          </p:nvSpPr>
          <p:spPr>
            <a:xfrm>
              <a:off x="1146240" y="2341440"/>
              <a:ext cx="206388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cket Error Rat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 txBox="1"/>
            <p:nvPr/>
          </p:nvSpPr>
          <p:spPr>
            <a:xfrm>
              <a:off x="4357800" y="5181480"/>
              <a:ext cx="132732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N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dB]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 txBox="1"/>
            <p:nvPr/>
          </p:nvSpPr>
          <p:spPr>
            <a:xfrm>
              <a:off x="6254640" y="33004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 txBox="1"/>
            <p:nvPr/>
          </p:nvSpPr>
          <p:spPr>
            <a:xfrm>
              <a:off x="6300720" y="40384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 txBox="1"/>
            <p:nvPr/>
          </p:nvSpPr>
          <p:spPr>
            <a:xfrm>
              <a:off x="6415200" y="30672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 txBox="1"/>
            <p:nvPr/>
          </p:nvSpPr>
          <p:spPr>
            <a:xfrm>
              <a:off x="6410160" y="25938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 txBox="1"/>
            <p:nvPr/>
          </p:nvSpPr>
          <p:spPr>
            <a:xfrm>
              <a:off x="6415200" y="118116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1" name=""/>
          <p:cNvSpPr txBox="1"/>
          <p:nvPr/>
        </p:nvSpPr>
        <p:spPr>
          <a:xfrm>
            <a:off x="985680" y="571032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fading, 30 Mbps, 64 byte packets, delay spread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5 ns, b) 50 ns, c) 100 ns, d) 150 ns, e) 250 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"/>
          <p:cNvGrpSpPr/>
          <p:nvPr/>
        </p:nvGrpSpPr>
        <p:grpSpPr>
          <a:xfrm>
            <a:off x="1146240" y="452520"/>
            <a:ext cx="5672160" cy="4976640"/>
            <a:chOff x="1146240" y="452520"/>
            <a:chExt cx="5672160" cy="4976640"/>
          </a:xfrm>
        </p:grpSpPr>
        <p:grpSp>
          <p:nvGrpSpPr>
            <p:cNvPr id="1123" name=""/>
            <p:cNvGrpSpPr/>
            <p:nvPr/>
          </p:nvGrpSpPr>
          <p:grpSpPr>
            <a:xfrm>
              <a:off x="2305080" y="452520"/>
              <a:ext cx="4513320" cy="4697280"/>
              <a:chOff x="2305080" y="452520"/>
              <a:chExt cx="4513320" cy="4697280"/>
            </a:xfrm>
          </p:grpSpPr>
          <p:sp>
            <p:nvSpPr>
              <p:cNvPr id="1124" name=""/>
              <p:cNvSpPr/>
              <p:nvPr/>
            </p:nvSpPr>
            <p:spPr>
              <a:xfrm>
                <a:off x="2631960" y="66204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  <a:lnTo>
                      <a:pt x="0" y="117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631960" y="662040"/>
                <a:ext cx="4042080" cy="4246920"/>
              </a:xfrm>
              <a:custGeom>
                <a:avLst/>
                <a:gdLst/>
                <a:ahLst/>
                <a:rect l="0" t="0" r="r" b="b"/>
                <a:pathLst>
                  <a:path fill="none" w="11228" h="11797">
                    <a:moveTo>
                      <a:pt x="0" y="11797"/>
                    </a:moveTo>
                    <a:lnTo>
                      <a:pt x="0" y="0"/>
                    </a:lnTo>
                    <a:lnTo>
                      <a:pt x="11228" y="0"/>
                    </a:lnTo>
                    <a:lnTo>
                      <a:pt x="11228" y="11797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V="1">
                <a:off x="263376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344484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V="1">
                <a:off x="424800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V="1">
                <a:off x="505944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V="1">
                <a:off x="586260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V="1">
                <a:off x="667368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649600" y="4908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649600" y="27925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649600" y="662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649600" y="4908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649600" y="662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V="1">
                <a:off x="263376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667368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649600" y="4908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V="1">
                <a:off x="263376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263376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63376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 txBox="1"/>
              <p:nvPr/>
            </p:nvSpPr>
            <p:spPr>
              <a:xfrm>
                <a:off x="2519280" y="4911840"/>
                <a:ext cx="21744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V="1">
                <a:off x="344484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44484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 txBox="1"/>
              <p:nvPr/>
            </p:nvSpPr>
            <p:spPr>
              <a:xfrm>
                <a:off x="3294000" y="49118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V="1">
                <a:off x="424800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24800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 txBox="1"/>
              <p:nvPr/>
            </p:nvSpPr>
            <p:spPr>
              <a:xfrm>
                <a:off x="4097160" y="49118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V="1">
                <a:off x="505944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05944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 txBox="1"/>
              <p:nvPr/>
            </p:nvSpPr>
            <p:spPr>
              <a:xfrm>
                <a:off x="4908600" y="49118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586260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86260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 txBox="1"/>
              <p:nvPr/>
            </p:nvSpPr>
            <p:spPr>
              <a:xfrm>
                <a:off x="5711760" y="49118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6673680" y="4848120"/>
                <a:ext cx="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673680" y="677880"/>
                <a:ext cx="0" cy="1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 txBox="1"/>
              <p:nvPr/>
            </p:nvSpPr>
            <p:spPr>
              <a:xfrm>
                <a:off x="6523200" y="49118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643120" y="49086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6648480" y="49086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49600" y="4908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651040" y="490860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>
                <a:off x="6629400" y="490860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 txBox="1"/>
              <p:nvPr/>
            </p:nvSpPr>
            <p:spPr>
              <a:xfrm>
                <a:off x="2305080" y="476100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 txBox="1"/>
              <p:nvPr/>
            </p:nvSpPr>
            <p:spPr>
              <a:xfrm>
                <a:off x="2435400" y="470052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643120" y="4275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6648480" y="4275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649600" y="42750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643120" y="39006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6648480" y="39006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649600" y="3900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643120" y="36259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6648480" y="36259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649600" y="36259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643120" y="34257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6648480" y="34257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649600" y="34257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643120" y="32529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>
                <a:off x="6648480" y="32529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649600" y="32529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643120" y="311616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H="1">
                <a:off x="6648480" y="311616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649600" y="311616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643120" y="2990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H="1">
                <a:off x="6648480" y="29908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649600" y="29908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643120" y="28782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>
                <a:off x="6648480" y="28782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649600" y="28782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643120" y="27925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6648480" y="27925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649600" y="27925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2651040" y="279252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>
                <a:off x="6629400" y="279252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 txBox="1"/>
              <p:nvPr/>
            </p:nvSpPr>
            <p:spPr>
              <a:xfrm>
                <a:off x="2305080" y="264312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 txBox="1"/>
              <p:nvPr/>
            </p:nvSpPr>
            <p:spPr>
              <a:xfrm>
                <a:off x="2435400" y="2583000"/>
                <a:ext cx="23004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643120" y="21448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6648480" y="21448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649600" y="21448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643120" y="1770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>
                <a:off x="6648480" y="1770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649600" y="17701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643120" y="15098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6648480" y="15098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649600" y="15098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643120" y="1297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>
                <a:off x="6648480" y="12970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649600" y="12970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643120" y="11350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H="1">
                <a:off x="6648480" y="11350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649600" y="11350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643120" y="98568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>
                <a:off x="6648480" y="98568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2649600" y="98568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2643120" y="87300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>
                <a:off x="6648480" y="87300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2649600" y="8730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643120" y="76212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>
                <a:off x="6648480" y="76212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649600" y="76212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643120" y="662040"/>
                <a:ext cx="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H="1">
                <a:off x="6648480" y="662040"/>
                <a:ext cx="38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649600" y="662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651040" y="662040"/>
                <a:ext cx="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H="1">
                <a:off x="6629400" y="662040"/>
                <a:ext cx="5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 txBox="1"/>
              <p:nvPr/>
            </p:nvSpPr>
            <p:spPr>
              <a:xfrm>
                <a:off x="2305080" y="514440"/>
                <a:ext cx="295200" cy="237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 txBox="1"/>
              <p:nvPr/>
            </p:nvSpPr>
            <p:spPr>
              <a:xfrm>
                <a:off x="2435400" y="452520"/>
                <a:ext cx="196920" cy="19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649600" y="490860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649600" y="662040"/>
                <a:ext cx="40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V="1">
                <a:off x="263376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V="1">
                <a:off x="6673680" y="650880"/>
                <a:ext cx="0" cy="426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790720" y="700200"/>
                <a:ext cx="3883320" cy="3511800"/>
              </a:xfrm>
              <a:custGeom>
                <a:avLst/>
                <a:gdLst/>
                <a:ahLst/>
                <a:rect l="0" t="0" r="r" b="b"/>
                <a:pathLst>
                  <a:path fill="none" w="10787" h="9755">
                    <a:moveTo>
                      <a:pt x="0" y="0"/>
                    </a:moveTo>
                    <a:lnTo>
                      <a:pt x="1812" y="621"/>
                    </a:lnTo>
                    <a:lnTo>
                      <a:pt x="3602" y="1830"/>
                    </a:lnTo>
                    <a:lnTo>
                      <a:pt x="5394" y="3492"/>
                    </a:lnTo>
                    <a:lnTo>
                      <a:pt x="7184" y="5222"/>
                    </a:lnTo>
                    <a:lnTo>
                      <a:pt x="8996" y="7501"/>
                    </a:lnTo>
                    <a:lnTo>
                      <a:pt x="10787" y="9755"/>
                    </a:lnTo>
                  </a:path>
                </a:pathLst>
              </a:custGeom>
              <a:ln w="12600">
                <a:solidFill>
                  <a:srgbClr val="0000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790720" y="662040"/>
                <a:ext cx="3883320" cy="4023000"/>
              </a:xfrm>
              <a:custGeom>
                <a:avLst/>
                <a:gdLst/>
                <a:ahLst/>
                <a:rect l="0" t="0" r="r" b="b"/>
                <a:pathLst>
                  <a:path fill="none" w="10787" h="11175">
                    <a:moveTo>
                      <a:pt x="0" y="0"/>
                    </a:moveTo>
                    <a:lnTo>
                      <a:pt x="1812" y="308"/>
                    </a:lnTo>
                    <a:lnTo>
                      <a:pt x="3602" y="1278"/>
                    </a:lnTo>
                    <a:lnTo>
                      <a:pt x="5394" y="2936"/>
                    </a:lnTo>
                    <a:lnTo>
                      <a:pt x="7184" y="5463"/>
                    </a:lnTo>
                    <a:lnTo>
                      <a:pt x="8996" y="8577"/>
                    </a:lnTo>
                    <a:lnTo>
                      <a:pt x="10787" y="11175"/>
                    </a:lnTo>
                  </a:path>
                </a:pathLst>
              </a:custGeom>
              <a:ln w="12600">
                <a:solidFill>
                  <a:srgbClr val="008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2790720" y="674640"/>
                <a:ext cx="3883320" cy="2927880"/>
              </a:xfrm>
              <a:custGeom>
                <a:avLst/>
                <a:gdLst/>
                <a:ahLst/>
                <a:rect l="0" t="0" r="r" b="b"/>
                <a:pathLst>
                  <a:path fill="none" w="10787" h="8133">
                    <a:moveTo>
                      <a:pt x="0" y="0"/>
                    </a:moveTo>
                    <a:lnTo>
                      <a:pt x="1812" y="66"/>
                    </a:lnTo>
                    <a:lnTo>
                      <a:pt x="3602" y="758"/>
                    </a:lnTo>
                    <a:lnTo>
                      <a:pt x="5394" y="2832"/>
                    </a:lnTo>
                    <a:lnTo>
                      <a:pt x="7184" y="5120"/>
                    </a:lnTo>
                    <a:lnTo>
                      <a:pt x="8996" y="7057"/>
                    </a:lnTo>
                    <a:lnTo>
                      <a:pt x="10787" y="8133"/>
                    </a:lnTo>
                  </a:path>
                </a:pathLst>
              </a:custGeom>
              <a:ln w="12600">
                <a:solidFill>
                  <a:srgbClr val="ff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790720" y="660240"/>
                <a:ext cx="3883320" cy="2005200"/>
              </a:xfrm>
              <a:custGeom>
                <a:avLst/>
                <a:gdLst/>
                <a:ahLst/>
                <a:rect l="0" t="0" r="r" b="b"/>
                <a:pathLst>
                  <a:path fill="none" w="10787" h="5570">
                    <a:moveTo>
                      <a:pt x="0" y="0"/>
                    </a:moveTo>
                    <a:lnTo>
                      <a:pt x="1812" y="35"/>
                    </a:lnTo>
                    <a:lnTo>
                      <a:pt x="3602" y="621"/>
                    </a:lnTo>
                    <a:lnTo>
                      <a:pt x="5394" y="1971"/>
                    </a:lnTo>
                    <a:lnTo>
                      <a:pt x="7184" y="3700"/>
                    </a:lnTo>
                    <a:lnTo>
                      <a:pt x="8996" y="5120"/>
                    </a:lnTo>
                    <a:lnTo>
                      <a:pt x="10787" y="5570"/>
                    </a:lnTo>
                  </a:path>
                </a:pathLst>
              </a:custGeom>
              <a:ln w="12600">
                <a:solidFill>
                  <a:srgbClr val="00bf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790720" y="660240"/>
                <a:ext cx="3883320" cy="262440"/>
              </a:xfrm>
              <a:custGeom>
                <a:avLst/>
                <a:gdLst/>
                <a:ahLst/>
                <a:rect l="0" t="0" r="r" b="b"/>
                <a:pathLst>
                  <a:path fill="none" w="10787" h="729">
                    <a:moveTo>
                      <a:pt x="0" y="0"/>
                    </a:moveTo>
                    <a:lnTo>
                      <a:pt x="1812" y="0"/>
                    </a:lnTo>
                    <a:lnTo>
                      <a:pt x="3602" y="66"/>
                    </a:lnTo>
                    <a:lnTo>
                      <a:pt x="5394" y="239"/>
                    </a:lnTo>
                    <a:lnTo>
                      <a:pt x="7184" y="516"/>
                    </a:lnTo>
                    <a:lnTo>
                      <a:pt x="8996" y="689"/>
                    </a:lnTo>
                    <a:lnTo>
                      <a:pt x="10787" y="729"/>
                    </a:lnTo>
                  </a:path>
                </a:pathLst>
              </a:custGeom>
              <a:ln w="12600">
                <a:solidFill>
                  <a:srgbClr val="bf00b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7" name=""/>
            <p:cNvSpPr txBox="1"/>
            <p:nvPr/>
          </p:nvSpPr>
          <p:spPr>
            <a:xfrm>
              <a:off x="1146240" y="2290680"/>
              <a:ext cx="206388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cket Error Ratio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 txBox="1"/>
            <p:nvPr/>
          </p:nvSpPr>
          <p:spPr>
            <a:xfrm>
              <a:off x="4357800" y="5130720"/>
              <a:ext cx="132732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N</a:t>
              </a:r>
              <a:r>
                <a:rPr b="0" lang="en-US" sz="1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dB]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 txBox="1"/>
            <p:nvPr/>
          </p:nvSpPr>
          <p:spPr>
            <a:xfrm>
              <a:off x="6369120" y="359244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 txBox="1"/>
            <p:nvPr/>
          </p:nvSpPr>
          <p:spPr>
            <a:xfrm>
              <a:off x="5958000" y="393048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 txBox="1"/>
            <p:nvPr/>
          </p:nvSpPr>
          <p:spPr>
            <a:xfrm>
              <a:off x="6300720" y="31878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 txBox="1"/>
            <p:nvPr/>
          </p:nvSpPr>
          <p:spPr>
            <a:xfrm>
              <a:off x="6238800" y="231444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 txBox="1"/>
            <p:nvPr/>
          </p:nvSpPr>
          <p:spPr>
            <a:xfrm>
              <a:off x="6357960" y="901800"/>
              <a:ext cx="241200" cy="29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"/>
          <p:cNvSpPr txBox="1"/>
          <p:nvPr/>
        </p:nvSpPr>
        <p:spPr>
          <a:xfrm>
            <a:off x="985680" y="586260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 fading, 30 Mbps, 1000 byte packets, delay spread = a) 25 ns, b) 50 ns, c) 100 ns, d) 150 ns, e) 250 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5" name=""/>
          <p:cNvGrpSpPr/>
          <p:nvPr/>
        </p:nvGrpSpPr>
        <p:grpSpPr>
          <a:xfrm>
            <a:off x="2305080" y="554040"/>
            <a:ext cx="4513320" cy="4697280"/>
            <a:chOff x="2305080" y="554040"/>
            <a:chExt cx="4513320" cy="4697280"/>
          </a:xfrm>
        </p:grpSpPr>
        <p:sp>
          <p:nvSpPr>
            <p:cNvPr id="1246" name=""/>
            <p:cNvSpPr/>
            <p:nvPr/>
          </p:nvSpPr>
          <p:spPr>
            <a:xfrm>
              <a:off x="2631960" y="763560"/>
              <a:ext cx="4042080" cy="4246920"/>
            </a:xfrm>
            <a:custGeom>
              <a:avLst/>
              <a:gdLst/>
              <a:ahLst/>
              <a:rect l="0" t="0" r="r" b="b"/>
              <a:pathLst>
                <a:path w="11228" h="11797">
                  <a:moveTo>
                    <a:pt x="0" y="11797"/>
                  </a:moveTo>
                  <a:lnTo>
                    <a:pt x="0" y="0"/>
                  </a:lnTo>
                  <a:lnTo>
                    <a:pt x="11228" y="0"/>
                  </a:lnTo>
                  <a:lnTo>
                    <a:pt x="11228" y="11797"/>
                  </a:lnTo>
                  <a:lnTo>
                    <a:pt x="0" y="117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631960" y="763560"/>
              <a:ext cx="4042080" cy="4246920"/>
            </a:xfrm>
            <a:custGeom>
              <a:avLst/>
              <a:gdLst/>
              <a:ahLst/>
              <a:rect l="0" t="0" r="r" b="b"/>
              <a:pathLst>
                <a:path fill="none" w="11228" h="11797">
                  <a:moveTo>
                    <a:pt x="0" y="11797"/>
                  </a:moveTo>
                  <a:lnTo>
                    <a:pt x="0" y="0"/>
                  </a:lnTo>
                  <a:lnTo>
                    <a:pt x="11228" y="0"/>
                  </a:lnTo>
                  <a:lnTo>
                    <a:pt x="11228" y="1179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26337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308124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352908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39765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442440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488160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532908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57783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622620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667368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649600" y="5010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649600" y="39528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649600" y="28940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649600" y="1820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649600" y="763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649600" y="5010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649600" y="763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26337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667368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649600" y="5010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26337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263376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63376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 txBox="1"/>
            <p:nvPr/>
          </p:nvSpPr>
          <p:spPr>
            <a:xfrm>
              <a:off x="2519280" y="5013360"/>
              <a:ext cx="21744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308124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08124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 txBox="1"/>
            <p:nvPr/>
          </p:nvSpPr>
          <p:spPr>
            <a:xfrm>
              <a:off x="2967120" y="5013360"/>
              <a:ext cx="21744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352908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52908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 txBox="1"/>
            <p:nvPr/>
          </p:nvSpPr>
          <p:spPr>
            <a:xfrm>
              <a:off x="3416400" y="5013360"/>
              <a:ext cx="21744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V="1">
              <a:off x="397656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97656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 txBox="1"/>
            <p:nvPr/>
          </p:nvSpPr>
          <p:spPr>
            <a:xfrm>
              <a:off x="3863880" y="5013360"/>
              <a:ext cx="21744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442440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42440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 txBox="1"/>
            <p:nvPr/>
          </p:nvSpPr>
          <p:spPr>
            <a:xfrm>
              <a:off x="427500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V="1">
              <a:off x="488160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8160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 txBox="1"/>
            <p:nvPr/>
          </p:nvSpPr>
          <p:spPr>
            <a:xfrm>
              <a:off x="473220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532908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32908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 txBox="1"/>
            <p:nvPr/>
          </p:nvSpPr>
          <p:spPr>
            <a:xfrm>
              <a:off x="518004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577836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77836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 txBox="1"/>
            <p:nvPr/>
          </p:nvSpPr>
          <p:spPr>
            <a:xfrm>
              <a:off x="562752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V="1">
              <a:off x="622620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2620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 txBox="1"/>
            <p:nvPr/>
          </p:nvSpPr>
          <p:spPr>
            <a:xfrm>
              <a:off x="607536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6673680" y="4950000"/>
              <a:ext cx="0" cy="6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73680" y="77940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 txBox="1"/>
            <p:nvPr/>
          </p:nvSpPr>
          <p:spPr>
            <a:xfrm>
              <a:off x="6523200" y="50133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643120" y="50101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6648480" y="5010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649600" y="5010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651040" y="501012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6629400" y="501012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 txBox="1"/>
            <p:nvPr/>
          </p:nvSpPr>
          <p:spPr>
            <a:xfrm>
              <a:off x="2305080" y="486252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 txBox="1"/>
            <p:nvPr/>
          </p:nvSpPr>
          <p:spPr>
            <a:xfrm>
              <a:off x="2435400" y="4802040"/>
              <a:ext cx="230040" cy="19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643120" y="46864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6648480" y="4686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649600" y="46864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643120" y="45007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6648480" y="4500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649600" y="45007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643120" y="4376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6648480" y="4376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649600" y="4376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643120" y="42642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6648480" y="4264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649600" y="42642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643120" y="41893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6648480" y="4189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649600" y="41893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643120" y="41148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H="1">
              <a:off x="6648480" y="4114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649600" y="41148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643120" y="4052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6648480" y="4052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649600" y="4052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643120" y="40021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6648480" y="4002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649600" y="4002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643120" y="39528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6648480" y="3952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649600" y="39528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651040" y="395280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6629400" y="395280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 txBox="1"/>
            <p:nvPr/>
          </p:nvSpPr>
          <p:spPr>
            <a:xfrm>
              <a:off x="2305080" y="38037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 txBox="1"/>
            <p:nvPr/>
          </p:nvSpPr>
          <p:spPr>
            <a:xfrm>
              <a:off x="2435400" y="3743280"/>
              <a:ext cx="230040" cy="19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643120" y="36273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6648480" y="3627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649600" y="36273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643120" y="34416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>
              <a:off x="6648480" y="3441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49600" y="34416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643120" y="33037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6648480" y="3303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649600" y="33037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43120" y="32036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H="1">
              <a:off x="6648480" y="3203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600" y="32036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643120" y="31179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6648480" y="3117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49600" y="31179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43120" y="30560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6648480" y="3056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649600" y="30560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643120" y="299412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6648480" y="2994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649600" y="2994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643120" y="29304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6648480" y="2930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49600" y="29304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643120" y="28940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6648480" y="2894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49600" y="28940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651040" y="289404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6629400" y="289404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 txBox="1"/>
            <p:nvPr/>
          </p:nvSpPr>
          <p:spPr>
            <a:xfrm>
              <a:off x="2305080" y="274464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 txBox="1"/>
            <p:nvPr/>
          </p:nvSpPr>
          <p:spPr>
            <a:xfrm>
              <a:off x="2435400" y="2684520"/>
              <a:ext cx="230040" cy="19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43120" y="25700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6648480" y="2570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649600" y="25700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43120" y="23828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6648480" y="2382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649600" y="23828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643120" y="22464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6648480" y="2246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649600" y="22464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43120" y="2144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6648480" y="2144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649600" y="2144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643120" y="20588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6648480" y="2058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649600" y="20588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643120" y="1982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6648480" y="1982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649600" y="1982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643120" y="193500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6648480" y="1935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49600" y="193500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643120" y="18716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6648480" y="1871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649600" y="18716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643120" y="1820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6648480" y="1820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49600" y="1820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651040" y="182088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6629400" y="182088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 txBox="1"/>
            <p:nvPr/>
          </p:nvSpPr>
          <p:spPr>
            <a:xfrm>
              <a:off x="2305080" y="167472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 txBox="1"/>
            <p:nvPr/>
          </p:nvSpPr>
          <p:spPr>
            <a:xfrm>
              <a:off x="2435400" y="1612800"/>
              <a:ext cx="230040" cy="19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643120" y="15112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6648480" y="1511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649600" y="15112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643120" y="13240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6648480" y="1324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649600" y="13240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643120" y="11872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6648480" y="1187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49600" y="11872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643120" y="10875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6648480" y="1087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649600" y="1087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643120" y="10000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6648480" y="1000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649600" y="10000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643120" y="9255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6648480" y="925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9600" y="925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643120" y="86364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648480" y="863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649600" y="86364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643120" y="81288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6648480" y="812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649600" y="81288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643120" y="763560"/>
              <a:ext cx="1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6648480" y="763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649600" y="763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651040" y="763560"/>
              <a:ext cx="6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6629400" y="763560"/>
              <a:ext cx="57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 txBox="1"/>
            <p:nvPr/>
          </p:nvSpPr>
          <p:spPr>
            <a:xfrm>
              <a:off x="2305080" y="615960"/>
              <a:ext cx="295200" cy="237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 txBox="1"/>
            <p:nvPr/>
          </p:nvSpPr>
          <p:spPr>
            <a:xfrm>
              <a:off x="2435400" y="554040"/>
              <a:ext cx="196920" cy="19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649600" y="501012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649600" y="763560"/>
              <a:ext cx="401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263376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V="1">
              <a:off x="6673680" y="752400"/>
              <a:ext cx="0" cy="4267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631960" y="849240"/>
              <a:ext cx="4042080" cy="3340440"/>
            </a:xfrm>
            <a:custGeom>
              <a:avLst/>
              <a:gdLst/>
              <a:ahLst/>
              <a:rect l="0" t="0" r="r" b="b"/>
              <a:pathLst>
                <a:path fill="none" w="11228" h="9279">
                  <a:moveTo>
                    <a:pt x="0" y="0"/>
                  </a:moveTo>
                  <a:lnTo>
                    <a:pt x="1243" y="105"/>
                  </a:lnTo>
                  <a:lnTo>
                    <a:pt x="2487" y="414"/>
                  </a:lnTo>
                  <a:lnTo>
                    <a:pt x="3730" y="1071"/>
                  </a:lnTo>
                  <a:lnTo>
                    <a:pt x="4974" y="2112"/>
                  </a:lnTo>
                  <a:lnTo>
                    <a:pt x="6249" y="3391"/>
                  </a:lnTo>
                  <a:lnTo>
                    <a:pt x="7493" y="5261"/>
                  </a:lnTo>
                  <a:lnTo>
                    <a:pt x="8736" y="6298"/>
                  </a:lnTo>
                  <a:lnTo>
                    <a:pt x="9980" y="8617"/>
                  </a:lnTo>
                  <a:lnTo>
                    <a:pt x="11228" y="9279"/>
                  </a:lnTo>
                </a:path>
              </a:pathLst>
            </a:custGeom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631960" y="947880"/>
              <a:ext cx="4042080" cy="1446480"/>
            </a:xfrm>
            <a:custGeom>
              <a:avLst/>
              <a:gdLst/>
              <a:ahLst/>
              <a:rect l="0" t="0" r="r" b="b"/>
              <a:pathLst>
                <a:path fill="none" w="11228" h="4018">
                  <a:moveTo>
                    <a:pt x="0" y="0"/>
                  </a:moveTo>
                  <a:lnTo>
                    <a:pt x="1243" y="136"/>
                  </a:lnTo>
                  <a:lnTo>
                    <a:pt x="2487" y="207"/>
                  </a:lnTo>
                  <a:lnTo>
                    <a:pt x="3730" y="238"/>
                  </a:lnTo>
                  <a:lnTo>
                    <a:pt x="4974" y="343"/>
                  </a:lnTo>
                  <a:lnTo>
                    <a:pt x="6249" y="485"/>
                  </a:lnTo>
                  <a:lnTo>
                    <a:pt x="7493" y="899"/>
                  </a:lnTo>
                  <a:lnTo>
                    <a:pt x="8736" y="1587"/>
                  </a:lnTo>
                  <a:lnTo>
                    <a:pt x="9980" y="2664"/>
                  </a:lnTo>
                  <a:lnTo>
                    <a:pt x="11228" y="4018"/>
                  </a:lnTo>
                </a:path>
              </a:pathLst>
            </a:custGeom>
            <a:ln w="12600">
              <a:solidFill>
                <a:srgbClr val="008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"/>
          <p:cNvSpPr txBox="1"/>
          <p:nvPr/>
        </p:nvSpPr>
        <p:spPr>
          <a:xfrm>
            <a:off x="1146240" y="221472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3557520" y="505476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-to-Interference Ratio [dB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5397480" y="243036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 txBox="1"/>
          <p:nvPr/>
        </p:nvSpPr>
        <p:spPr>
          <a:xfrm>
            <a:off x="5958000" y="128268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985680" y="586260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 with Co-Channel Inter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0 Mbps, b) 30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"/>
          <p:cNvSpPr/>
          <p:nvPr/>
        </p:nvSpPr>
        <p:spPr>
          <a:xfrm>
            <a:off x="2743200" y="843120"/>
            <a:ext cx="3880080" cy="4077000"/>
          </a:xfrm>
          <a:custGeom>
            <a:avLst/>
            <a:gdLst/>
            <a:ahLst/>
            <a:rect l="0" t="0" r="r" b="b"/>
            <a:pathLst>
              <a:path w="10778" h="11325">
                <a:moveTo>
                  <a:pt x="0" y="11325"/>
                </a:moveTo>
                <a:lnTo>
                  <a:pt x="0" y="0"/>
                </a:lnTo>
                <a:lnTo>
                  <a:pt x="10778" y="0"/>
                </a:lnTo>
                <a:lnTo>
                  <a:pt x="10778" y="11325"/>
                </a:lnTo>
                <a:lnTo>
                  <a:pt x="0" y="113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2743200" y="843120"/>
            <a:ext cx="3880080" cy="4077000"/>
          </a:xfrm>
          <a:custGeom>
            <a:avLst/>
            <a:gdLst/>
            <a:ahLst/>
            <a:rect l="0" t="0" r="r" b="b"/>
            <a:pathLst>
              <a:path fill="none" w="10778" h="11325">
                <a:moveTo>
                  <a:pt x="0" y="11325"/>
                </a:moveTo>
                <a:lnTo>
                  <a:pt x="0" y="0"/>
                </a:lnTo>
                <a:lnTo>
                  <a:pt x="10778" y="0"/>
                </a:lnTo>
                <a:lnTo>
                  <a:pt x="10778" y="1132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V="1">
            <a:off x="27432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31291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35226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 flipV="1">
            <a:off x="39085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 flipV="1">
            <a:off x="429408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V="1">
            <a:off x="46879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507348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4594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 flipV="1">
            <a:off x="58435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62388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66229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760840" y="4919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760840" y="35575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2760840" y="22068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2760840" y="8431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760840" y="4919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760840" y="8431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27432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66229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760840" y="4919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27432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 flipV="1">
            <a:off x="274320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74320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253512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312912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312912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292104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352260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52260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 txBox="1"/>
          <p:nvPr/>
        </p:nvSpPr>
        <p:spPr>
          <a:xfrm>
            <a:off x="331488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 flipV="1">
            <a:off x="390852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390852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 txBox="1"/>
          <p:nvPr/>
        </p:nvSpPr>
        <p:spPr>
          <a:xfrm>
            <a:off x="370044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429408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429408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 txBox="1"/>
          <p:nvPr/>
        </p:nvSpPr>
        <p:spPr>
          <a:xfrm>
            <a:off x="408636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V="1">
            <a:off x="468792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468792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447984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507348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07348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 txBox="1"/>
          <p:nvPr/>
        </p:nvSpPr>
        <p:spPr>
          <a:xfrm>
            <a:off x="486576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V="1">
            <a:off x="545940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545940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 txBox="1"/>
          <p:nvPr/>
        </p:nvSpPr>
        <p:spPr>
          <a:xfrm>
            <a:off x="525132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flipV="1">
            <a:off x="584352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584352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563580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623880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623880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603108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6622920" y="4862520"/>
            <a:ext cx="0" cy="68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2920" y="860400"/>
            <a:ext cx="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6415200" y="4902120"/>
            <a:ext cx="382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2754360" y="49197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H="1">
            <a:off x="6597720" y="49197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760840" y="4919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2760840" y="4919760"/>
            <a:ext cx="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>
            <a:off x="6580080" y="4919760"/>
            <a:ext cx="5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2401920" y="475920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2527200" y="470844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754360" y="4513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 flipH="1">
            <a:off x="6597720" y="45133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2760840" y="45133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2754360" y="42750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6597720" y="42750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2760840" y="42750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754360" y="41068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6597720" y="41068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2760840" y="41068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2754360" y="39751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6597720" y="39751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2760840" y="39751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754360" y="38685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>
            <a:off x="6597720" y="38685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760840" y="38685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2754360" y="37720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6597720" y="37720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2760840" y="37720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754360" y="36892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H="1">
            <a:off x="6597720" y="36892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2760840" y="36892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2754360" y="36291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 flipH="1">
            <a:off x="6597720" y="36291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760840" y="36291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754360" y="35575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>
            <a:off x="6597720" y="35575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2760840" y="35575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2760840" y="3557520"/>
            <a:ext cx="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6580080" y="3557520"/>
            <a:ext cx="5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2401920" y="339732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2527200" y="334656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754360" y="31510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 flipH="1">
            <a:off x="6597720" y="31510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760840" y="31510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754360" y="29113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 flipH="1">
            <a:off x="6597720" y="29113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2760840" y="29113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2754360" y="27446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 flipH="1">
            <a:off x="6597720" y="27446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2760840" y="274464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2754360" y="26128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 flipH="1">
            <a:off x="6597720" y="26128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2760840" y="26128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2754360" y="25052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 flipH="1">
            <a:off x="6597720" y="2505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2760840" y="250524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2754360" y="24098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6597720" y="24098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760840" y="240984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2754360" y="23385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 flipH="1">
            <a:off x="6597720" y="23385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760840" y="23385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2754360" y="22669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6597720" y="22669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2760840" y="22669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754360" y="22068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 flipH="1">
            <a:off x="6597720" y="22068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2760840" y="22068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2760840" y="2206800"/>
            <a:ext cx="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 flipH="1">
            <a:off x="6580080" y="2206800"/>
            <a:ext cx="5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 txBox="1"/>
          <p:nvPr/>
        </p:nvSpPr>
        <p:spPr>
          <a:xfrm>
            <a:off x="2401920" y="204624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2527200" y="1995480"/>
            <a:ext cx="26028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2754360" y="17874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 flipH="1">
            <a:off x="6597720" y="17874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2760840" y="17874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2754360" y="15494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6597720" y="15494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2760840" y="154944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2754360" y="13809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6597720" y="13809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2760840" y="13809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2754360" y="12492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6597720" y="12492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2760840" y="12492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754360" y="114300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 flipH="1">
            <a:off x="6597720" y="114300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2760840" y="114300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754360" y="105876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6597720" y="105876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2760840" y="1058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2754360" y="97488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 flipH="1">
            <a:off x="6597720" y="97488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2760840" y="97488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2754360" y="90324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 flipH="1">
            <a:off x="6597720" y="90324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2760840" y="90324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2754360" y="843120"/>
            <a:ext cx="1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6597720" y="843120"/>
            <a:ext cx="3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2760840" y="8431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760840" y="843120"/>
            <a:ext cx="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flipH="1">
            <a:off x="6580080" y="843120"/>
            <a:ext cx="5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2401920" y="682560"/>
            <a:ext cx="336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2527200" y="633240"/>
            <a:ext cx="230040" cy="19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2760840" y="491976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2760840" y="843120"/>
            <a:ext cx="384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274320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6622920" y="833400"/>
            <a:ext cx="0" cy="409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743200" y="1346040"/>
            <a:ext cx="1551240" cy="2198880"/>
          </a:xfrm>
          <a:custGeom>
            <a:avLst/>
            <a:gdLst/>
            <a:ahLst/>
            <a:rect l="0" t="0" r="r" b="b"/>
            <a:pathLst>
              <a:path fill="none" w="4309" h="6108">
                <a:moveTo>
                  <a:pt x="0" y="0"/>
                </a:moveTo>
                <a:lnTo>
                  <a:pt x="2166" y="1825"/>
                </a:lnTo>
                <a:lnTo>
                  <a:pt x="4309" y="6108"/>
                </a:lnTo>
              </a:path>
            </a:pathLst>
          </a:custGeom>
          <a:ln w="12600">
            <a:solidFill>
              <a:srgbClr val="0000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2743200" y="1225440"/>
            <a:ext cx="3880080" cy="3456360"/>
          </a:xfrm>
          <a:custGeom>
            <a:avLst/>
            <a:gdLst/>
            <a:ahLst/>
            <a:rect l="0" t="0" r="r" b="b"/>
            <a:pathLst>
              <a:path fill="none" w="10778" h="9601">
                <a:moveTo>
                  <a:pt x="0" y="0"/>
                </a:moveTo>
                <a:lnTo>
                  <a:pt x="2165" y="498"/>
                </a:lnTo>
                <a:lnTo>
                  <a:pt x="4308" y="1230"/>
                </a:lnTo>
                <a:lnTo>
                  <a:pt x="6474" y="2924"/>
                </a:lnTo>
                <a:lnTo>
                  <a:pt x="8613" y="5513"/>
                </a:lnTo>
                <a:lnTo>
                  <a:pt x="10778" y="9601"/>
                </a:lnTo>
              </a:path>
            </a:pathLst>
          </a:custGeom>
          <a:ln w="12600">
            <a:solidFill>
              <a:srgbClr val="008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1222200" y="241776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 txBox="1"/>
          <p:nvPr/>
        </p:nvSpPr>
        <p:spPr>
          <a:xfrm>
            <a:off x="3568680" y="187164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 txBox="1"/>
          <p:nvPr/>
        </p:nvSpPr>
        <p:spPr>
          <a:xfrm>
            <a:off x="4815000" y="179064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 txBox="1"/>
          <p:nvPr/>
        </p:nvSpPr>
        <p:spPr>
          <a:xfrm>
            <a:off x="3405240" y="518148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-to-Interference Ratio [dB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985680" y="586260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 with Adjacent Channel Inter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0 Mbps, b) 30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985680" y="586260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 with Continuous Wave Inter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0 Mbps, b) 30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2401920" y="571680"/>
            <a:ext cx="4386240" cy="4525560"/>
            <a:chOff x="2401920" y="571680"/>
            <a:chExt cx="4386240" cy="4525560"/>
          </a:xfrm>
        </p:grpSpPr>
        <p:sp>
          <p:nvSpPr>
            <p:cNvPr id="1610" name=""/>
            <p:cNvSpPr/>
            <p:nvPr/>
          </p:nvSpPr>
          <p:spPr>
            <a:xfrm>
              <a:off x="2743200" y="781200"/>
              <a:ext cx="3880080" cy="4077000"/>
            </a:xfrm>
            <a:custGeom>
              <a:avLst/>
              <a:gdLst/>
              <a:ahLst/>
              <a:rect l="0" t="0" r="r" b="b"/>
              <a:pathLst>
                <a:path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  <a:lnTo>
                    <a:pt x="0" y="11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743200" y="781200"/>
              <a:ext cx="3880080" cy="4077000"/>
            </a:xfrm>
            <a:custGeom>
              <a:avLst/>
              <a:gdLst/>
              <a:ahLst/>
              <a:rect l="0" t="0" r="r" b="b"/>
              <a:pathLst>
                <a:path fill="none"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33894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40338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4687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53341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V="1">
              <a:off x="59785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760840" y="34956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760840" y="2144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27432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7432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 txBox="1"/>
            <p:nvPr/>
          </p:nvSpPr>
          <p:spPr>
            <a:xfrm>
              <a:off x="257184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33894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3894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 txBox="1"/>
            <p:nvPr/>
          </p:nvSpPr>
          <p:spPr>
            <a:xfrm>
              <a:off x="321624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403380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3380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 txBox="1"/>
            <p:nvPr/>
          </p:nvSpPr>
          <p:spPr>
            <a:xfrm>
              <a:off x="386244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46879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6879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 txBox="1"/>
            <p:nvPr/>
          </p:nvSpPr>
          <p:spPr>
            <a:xfrm>
              <a:off x="451656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3341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3341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 txBox="1"/>
            <p:nvPr/>
          </p:nvSpPr>
          <p:spPr>
            <a:xfrm>
              <a:off x="516096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59785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9785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 txBox="1"/>
            <p:nvPr/>
          </p:nvSpPr>
          <p:spPr>
            <a:xfrm>
              <a:off x="580536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6622920" y="480060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622920" y="79848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 txBox="1"/>
            <p:nvPr/>
          </p:nvSpPr>
          <p:spPr>
            <a:xfrm>
              <a:off x="6451560" y="48402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754360" y="4857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6597720" y="4857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760840" y="48578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6580080" y="48578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 txBox="1"/>
            <p:nvPr/>
          </p:nvSpPr>
          <p:spPr>
            <a:xfrm>
              <a:off x="2401920" y="46972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 txBox="1"/>
            <p:nvPr/>
          </p:nvSpPr>
          <p:spPr>
            <a:xfrm>
              <a:off x="2527200" y="464652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754360" y="4451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>
              <a:off x="6597720" y="4451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760840" y="4451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754360" y="4213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6597720" y="4213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760840" y="4213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54360" y="4044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6597720" y="4044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760840" y="4044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754360" y="3913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>
              <a:off x="6597720" y="391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760840" y="3913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754360" y="3807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>
              <a:off x="6597720" y="3807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760840" y="3807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754360" y="3710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>
              <a:off x="6597720" y="3710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760840" y="3710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754360" y="3627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6597720" y="3627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2760840" y="3627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754360" y="35672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>
              <a:off x="6597720" y="3567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760840" y="35672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754360" y="34956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6597720" y="3495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760840" y="34956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760840" y="34956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>
              <a:off x="6580080" y="349560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 txBox="1"/>
            <p:nvPr/>
          </p:nvSpPr>
          <p:spPr>
            <a:xfrm>
              <a:off x="2401920" y="333540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 txBox="1"/>
            <p:nvPr/>
          </p:nvSpPr>
          <p:spPr>
            <a:xfrm>
              <a:off x="2527200" y="328464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754360" y="3089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>
              <a:off x="6597720" y="3089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760840" y="3089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754360" y="28494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>
              <a:off x="6597720" y="2849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760840" y="28494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754360" y="26827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>
              <a:off x="6597720" y="2682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760840" y="26827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754360" y="2550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6597720" y="2550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760840" y="2550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754360" y="24433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>
              <a:off x="6597720" y="2443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760840" y="24433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754360" y="23479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6597720" y="2347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760840" y="23479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754360" y="22766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>
              <a:off x="6597720" y="22766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760840" y="22766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754360" y="2205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6597720" y="2205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760840" y="2205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754360" y="21448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6597720" y="21448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760840" y="21448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760840" y="214488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6580080" y="214488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 txBox="1"/>
            <p:nvPr/>
          </p:nvSpPr>
          <p:spPr>
            <a:xfrm>
              <a:off x="2401920" y="198432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 txBox="1"/>
            <p:nvPr/>
          </p:nvSpPr>
          <p:spPr>
            <a:xfrm>
              <a:off x="2527200" y="193356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754360" y="1725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6597720" y="1725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760840" y="1725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754360" y="14875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6597720" y="1487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760840" y="14875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754360" y="1319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>
              <a:off x="6597720" y="1319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760840" y="1319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754360" y="1187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6597720" y="1187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760840" y="1187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754360" y="1081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6597720" y="1081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760840" y="1081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754360" y="996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>
              <a:off x="6597720" y="996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760840" y="996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754360" y="9129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6597720" y="912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760840" y="9129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754360" y="8413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6597720" y="841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760840" y="8413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754360" y="781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6597720" y="781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760840" y="78120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>
              <a:off x="6580080" y="78120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 txBox="1"/>
            <p:nvPr/>
          </p:nvSpPr>
          <p:spPr>
            <a:xfrm>
              <a:off x="2401920" y="6206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 txBox="1"/>
            <p:nvPr/>
          </p:nvSpPr>
          <p:spPr>
            <a:xfrm>
              <a:off x="2527200" y="571680"/>
              <a:ext cx="23004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760840" y="4857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760840" y="781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274320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6622920" y="77148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743200" y="1152360"/>
              <a:ext cx="1945080" cy="2892960"/>
            </a:xfrm>
            <a:custGeom>
              <a:avLst/>
              <a:gdLst/>
              <a:ahLst/>
              <a:rect l="0" t="0" r="r" b="b"/>
              <a:pathLst>
                <a:path fill="none" w="5403" h="8036">
                  <a:moveTo>
                    <a:pt x="0" y="0"/>
                  </a:moveTo>
                  <a:lnTo>
                    <a:pt x="1795" y="1296"/>
                  </a:lnTo>
                  <a:lnTo>
                    <a:pt x="3586" y="4415"/>
                  </a:lnTo>
                  <a:lnTo>
                    <a:pt x="5403" y="8036"/>
                  </a:lnTo>
                </a:path>
              </a:pathLst>
            </a:custGeom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743200" y="781200"/>
              <a:ext cx="3880080" cy="3264120"/>
            </a:xfrm>
            <a:custGeom>
              <a:avLst/>
              <a:gdLst/>
              <a:ahLst/>
              <a:rect l="0" t="0" r="r" b="b"/>
              <a:pathLst>
                <a:path fill="none" w="10778" h="9067">
                  <a:moveTo>
                    <a:pt x="0" y="0"/>
                  </a:moveTo>
                  <a:lnTo>
                    <a:pt x="1794" y="35"/>
                  </a:lnTo>
                  <a:lnTo>
                    <a:pt x="3585" y="299"/>
                  </a:lnTo>
                  <a:lnTo>
                    <a:pt x="5402" y="1428"/>
                  </a:lnTo>
                  <a:lnTo>
                    <a:pt x="7197" y="3122"/>
                  </a:lnTo>
                  <a:lnTo>
                    <a:pt x="8988" y="6179"/>
                  </a:lnTo>
                  <a:lnTo>
                    <a:pt x="10778" y="9067"/>
                  </a:lnTo>
                </a:path>
              </a:pathLst>
            </a:custGeom>
            <a:ln w="12600">
              <a:solidFill>
                <a:srgbClr val="008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"/>
          <p:cNvSpPr txBox="1"/>
          <p:nvPr/>
        </p:nvSpPr>
        <p:spPr>
          <a:xfrm>
            <a:off x="1222200" y="221472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 txBox="1"/>
          <p:nvPr/>
        </p:nvSpPr>
        <p:spPr>
          <a:xfrm>
            <a:off x="3645000" y="159228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 txBox="1"/>
          <p:nvPr/>
        </p:nvSpPr>
        <p:spPr>
          <a:xfrm>
            <a:off x="4967280" y="166356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3405240" y="497844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-to-Interference Ratio [dB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1676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 of DQPSK, r=3/4 (15 Mbit/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 txBox="1"/>
          <p:nvPr/>
        </p:nvSpPr>
        <p:spPr>
          <a:xfrm>
            <a:off x="985680" y="5862600"/>
            <a:ext cx="778176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 with Narrowband Gaussian No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0 Mbps, b) 30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"/>
          <p:cNvGrpSpPr/>
          <p:nvPr/>
        </p:nvGrpSpPr>
        <p:grpSpPr>
          <a:xfrm>
            <a:off x="2401920" y="506520"/>
            <a:ext cx="4386240" cy="4525560"/>
            <a:chOff x="2401920" y="506520"/>
            <a:chExt cx="4386240" cy="4525560"/>
          </a:xfrm>
        </p:grpSpPr>
        <p:sp>
          <p:nvSpPr>
            <p:cNvPr id="1762" name=""/>
            <p:cNvSpPr/>
            <p:nvPr/>
          </p:nvSpPr>
          <p:spPr>
            <a:xfrm>
              <a:off x="2743200" y="716040"/>
              <a:ext cx="3880080" cy="4077000"/>
            </a:xfrm>
            <a:custGeom>
              <a:avLst/>
              <a:gdLst/>
              <a:ahLst/>
              <a:rect l="0" t="0" r="r" b="b"/>
              <a:pathLst>
                <a:path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  <a:lnTo>
                    <a:pt x="0" y="113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743200" y="716040"/>
              <a:ext cx="3880080" cy="4077000"/>
            </a:xfrm>
            <a:custGeom>
              <a:avLst/>
              <a:gdLst/>
              <a:ahLst/>
              <a:rect l="0" t="0" r="r" b="b"/>
              <a:pathLst>
                <a:path fill="none" w="10778" h="11325">
                  <a:moveTo>
                    <a:pt x="0" y="11325"/>
                  </a:moveTo>
                  <a:lnTo>
                    <a:pt x="0" y="0"/>
                  </a:lnTo>
                  <a:lnTo>
                    <a:pt x="10778" y="0"/>
                  </a:lnTo>
                  <a:lnTo>
                    <a:pt x="10778" y="1132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V="1">
              <a:off x="33894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40338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V="1">
              <a:off x="4687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V="1">
              <a:off x="53341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V="1">
              <a:off x="59785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760840" y="34304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760840" y="20797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27432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7432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 txBox="1"/>
            <p:nvPr/>
          </p:nvSpPr>
          <p:spPr>
            <a:xfrm>
              <a:off x="257184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33894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3894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 txBox="1"/>
            <p:nvPr/>
          </p:nvSpPr>
          <p:spPr>
            <a:xfrm>
              <a:off x="321624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03380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03380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 txBox="1"/>
            <p:nvPr/>
          </p:nvSpPr>
          <p:spPr>
            <a:xfrm>
              <a:off x="386244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V="1">
              <a:off x="46879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6879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 txBox="1"/>
            <p:nvPr/>
          </p:nvSpPr>
          <p:spPr>
            <a:xfrm>
              <a:off x="451656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53341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3341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 txBox="1"/>
            <p:nvPr/>
          </p:nvSpPr>
          <p:spPr>
            <a:xfrm>
              <a:off x="516096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59785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59785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 txBox="1"/>
            <p:nvPr/>
          </p:nvSpPr>
          <p:spPr>
            <a:xfrm>
              <a:off x="580536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V="1">
              <a:off x="6622920" y="473544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22920" y="73332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 txBox="1"/>
            <p:nvPr/>
          </p:nvSpPr>
          <p:spPr>
            <a:xfrm>
              <a:off x="6451560" y="47750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754360" y="47926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6597720" y="47926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760840" y="479268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6580080" y="479268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 txBox="1"/>
            <p:nvPr/>
          </p:nvSpPr>
          <p:spPr>
            <a:xfrm>
              <a:off x="2401920" y="46324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 txBox="1"/>
            <p:nvPr/>
          </p:nvSpPr>
          <p:spPr>
            <a:xfrm>
              <a:off x="2527200" y="458136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754360" y="43862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6597720" y="4386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760840" y="43862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754360" y="41482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6597720" y="41482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760840" y="41482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754360" y="39798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6597720" y="3979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760840" y="39798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754360" y="3848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>
              <a:off x="6597720" y="3848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760840" y="3848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754360" y="3741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6597720" y="3741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760840" y="3741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754360" y="36450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H="1">
              <a:off x="6597720" y="36450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760840" y="36450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754360" y="35622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6597720" y="3562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760840" y="35622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754360" y="35020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6597720" y="3502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760840" y="35020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754360" y="34304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6597720" y="34304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760840" y="34304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760840" y="34304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6580080" y="34304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 txBox="1"/>
            <p:nvPr/>
          </p:nvSpPr>
          <p:spPr>
            <a:xfrm>
              <a:off x="2401920" y="327024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 txBox="1"/>
            <p:nvPr/>
          </p:nvSpPr>
          <p:spPr>
            <a:xfrm>
              <a:off x="2527200" y="321948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2754360" y="3024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 flipH="1">
              <a:off x="6597720" y="3024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2760840" y="3024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754360" y="27846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H="1">
              <a:off x="6597720" y="2784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760840" y="27846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754360" y="26179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>
              <a:off x="6597720" y="2617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760840" y="26179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754360" y="2486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6597720" y="2486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760840" y="2486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754360" y="2378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6597720" y="2378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760840" y="2378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754360" y="22827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6597720" y="22827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760840" y="22827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754360" y="2211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>
              <a:off x="6597720" y="2211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760840" y="2211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754360" y="21398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6597720" y="21398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760840" y="21398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754360" y="20797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6597720" y="2079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760840" y="20797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760840" y="207972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6580080" y="207972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 txBox="1"/>
            <p:nvPr/>
          </p:nvSpPr>
          <p:spPr>
            <a:xfrm>
              <a:off x="2401920" y="191916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 txBox="1"/>
            <p:nvPr/>
          </p:nvSpPr>
          <p:spPr>
            <a:xfrm>
              <a:off x="2527200" y="1868400"/>
              <a:ext cx="26028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754360" y="16606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6597720" y="16606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760840" y="1660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754360" y="14223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6597720" y="1422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2760840" y="14223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754360" y="12542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597720" y="125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760840" y="12542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754360" y="112248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6597720" y="11224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760840" y="11224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754360" y="101592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6597720" y="1015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760840" y="101592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754360" y="932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H="1">
              <a:off x="6597720" y="932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760840" y="932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754360" y="84780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6597720" y="847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760840" y="84780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754360" y="77616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6597720" y="776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760840" y="77616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754360" y="716040"/>
              <a:ext cx="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6597720" y="716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760840" y="716040"/>
              <a:ext cx="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6580080" y="716040"/>
              <a:ext cx="5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 txBox="1"/>
            <p:nvPr/>
          </p:nvSpPr>
          <p:spPr>
            <a:xfrm>
              <a:off x="2401920" y="555480"/>
              <a:ext cx="336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 txBox="1"/>
            <p:nvPr/>
          </p:nvSpPr>
          <p:spPr>
            <a:xfrm>
              <a:off x="2527200" y="506520"/>
              <a:ext cx="230040" cy="19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760840" y="479268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760840" y="716040"/>
              <a:ext cx="384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274320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>
              <a:off x="6622920" y="706320"/>
              <a:ext cx="0" cy="409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743200" y="907920"/>
              <a:ext cx="1945080" cy="2833920"/>
            </a:xfrm>
            <a:custGeom>
              <a:avLst/>
              <a:gdLst/>
              <a:ahLst/>
              <a:rect l="0" t="0" r="r" b="b"/>
              <a:pathLst>
                <a:path fill="none" w="5403" h="7872">
                  <a:moveTo>
                    <a:pt x="0" y="0"/>
                  </a:moveTo>
                  <a:lnTo>
                    <a:pt x="1795" y="1393"/>
                  </a:lnTo>
                  <a:lnTo>
                    <a:pt x="3586" y="4150"/>
                  </a:lnTo>
                  <a:lnTo>
                    <a:pt x="5403" y="7872"/>
                  </a:lnTo>
                </a:path>
              </a:pathLst>
            </a:custGeom>
            <a:ln w="12600">
              <a:solidFill>
                <a:srgbClr val="00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743200" y="716040"/>
              <a:ext cx="3880080" cy="3132360"/>
            </a:xfrm>
            <a:custGeom>
              <a:avLst/>
              <a:gdLst/>
              <a:ahLst/>
              <a:rect l="0" t="0" r="r" b="b"/>
              <a:pathLst>
                <a:path fill="none" w="10778" h="8701">
                  <a:moveTo>
                    <a:pt x="0" y="0"/>
                  </a:moveTo>
                  <a:lnTo>
                    <a:pt x="1794" y="66"/>
                  </a:lnTo>
                  <a:lnTo>
                    <a:pt x="3585" y="533"/>
                  </a:lnTo>
                  <a:lnTo>
                    <a:pt x="5402" y="1662"/>
                  </a:lnTo>
                  <a:lnTo>
                    <a:pt x="7197" y="3421"/>
                  </a:lnTo>
                  <a:lnTo>
                    <a:pt x="8988" y="5914"/>
                  </a:lnTo>
                  <a:lnTo>
                    <a:pt x="10778" y="8701"/>
                  </a:lnTo>
                </a:path>
              </a:pathLst>
            </a:custGeom>
            <a:ln w="12600">
              <a:solidFill>
                <a:srgbClr val="008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8" name=""/>
          <p:cNvSpPr txBox="1"/>
          <p:nvPr/>
        </p:nvSpPr>
        <p:spPr>
          <a:xfrm>
            <a:off x="1222200" y="2290680"/>
            <a:ext cx="206388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Error Rati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 txBox="1"/>
          <p:nvPr/>
        </p:nvSpPr>
        <p:spPr>
          <a:xfrm>
            <a:off x="3720960" y="166860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4890960" y="1739880"/>
            <a:ext cx="2412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 txBox="1"/>
          <p:nvPr/>
        </p:nvSpPr>
        <p:spPr>
          <a:xfrm>
            <a:off x="3328920" y="5054760"/>
            <a:ext cx="315612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-to-Interference Ratio [dB]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19000" y="711360"/>
            <a:ext cx="760248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38160" y="752400"/>
            <a:ext cx="7662960" cy="57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39920" y="773280"/>
            <a:ext cx="6697800" cy="56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90600" y="754200"/>
            <a:ext cx="669780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. Hayes</cp:lastModifiedBy>
  <cp:revision>0</cp:revision>
  <dc:subject/>
  <dc:title>Evaluation Results -1</dc:title>
</cp:coreProperties>
</file>