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8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36EF99-FC3D-4F84-811F-F713C3FB4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 state transition for the 3tap PMA-MLSCE to estimate s(i) transmitted symbol at t=i. It is assumed that a transmitted symbol is binary, the length of a channel impulse response is 3 and the current time is 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example, the PMA-MLSCE defines three state vectors S(t) for t=i, i-1 and i-2 which are consisted from symbol candidates s(i)’s and/or decision results D(i)s. Because D(i)s are deterministic, each state vector can take only 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s where m is the number of symbol candidates in a vector.  Then transitions between the state vectors can be defined as shown in the figur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MA-MLSCE calculates metric, |r(i-k)-S(i-k)h| for all possible state vector values. The calculated metric are summed up along the transitions as a combined metric. The PMA-MLSCE selects a transition which presents the minimum combined metric and outputs the s(i) in the transition as a estimated resul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rder to reduce complexity of implementation, it is possible for the PMA-MLSCE to implement the part  surrounded by the dotted line. In this case, the PMA-MLSCE uses two candidate symbols and one decision result to detect s(i). We denote the reduced PMA-MLSCE as n-m PMA-MLSCE, where n and m are tap number fed candidate symbols and decision results, respectively. Based on the notation, the part  surrounded by the dotted line can be expressed as 2-1 PMA-MLSCE. The implementation of 2-1 PMA-MLSCE for QPSK is demonstrated in the next sli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AFC struc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long as a multipath fading channel is time invariant, received signals produced by the same two sequences are identical. Therefore, by comparing a phase difference between corresponding symbols, frequency offset can be estimated. In order to remove fluctuations caused by Gaussian noise, the phase difference need to be averaged over several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PLL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MA-MLSCE calculates replica of received signals, Sh. Using a phase of an error signal between received signal r(i) and the replica, 2th order  PLL tracking phase variations in a pac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 proposed frame format. The PLCP Preamble consists of 124 symbols in a SYNC field and 8 symbols in a SFD (Start Frame Delimiter) field. The PLCP header includes both a 8-symbol header error check filed and a 6-symbol PSDU length word.  The rest 2 symbols in the PLCP header are used for PLCP control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C filed is basically formed as a repetition of the 64-bit sequence, SEQ64. The SEQ64 can be represented based on the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follow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… 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1111 1111 1111 0000 1111 0011 0011 0000 1100 0000 0000 1111 0000 1100 1100 000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also shows a structure of SYNC field. A receiver executes antenna selection, AGC (Automatic Gain Control) setup, AFC (Automatic Frequency Control) setup and channel impulse response estimation through the SYNC fi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n example of a channel impulse response estimator. By using a preamble sequence of which correlation function becomes impulse,  a channel impulse response can be obtained by calculating correlation between a received preamble and the preamble sequence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ropose to use the SEQ64 for a preamble. The correlation function of  the SEQ64 is presented at next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a correlation function of the SEQ64. It is shown that the correlation function becomes a impulse during 26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present a receiver performance with the PMA-MLSCE and the channel impulse response estim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CCA detection mechanism, we propose to adopt envelope detection mechanism as shown in this figure. When an averaged envelope level of received signals gets over the threshold level (-78dbm), the CCA detector detects that the medium is bus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52280" y="7632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,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86600" y="95400"/>
            <a:ext cx="22096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8/74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87440" y="1689120"/>
            <a:ext cx="893124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2401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DATA of QPSK modulation</a:t>
            </a:r>
            <a:br>
              <a:rPr sz="2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uary, 19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zuhiro OKANOUE, Yoshikazu KAKURA, Tomoki OHSAW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Corporati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1-1, Miyazaki, Miyamae-ku, Kawasaki, 216-8555, JAP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81 44 856 225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81 44 856 223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{okanoue,kakura,ohsawa}@ccm.CL.nec.co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719520" y="328680"/>
            <a:ext cx="24620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40" y="1428840"/>
            <a:ext cx="9875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212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 FEC (64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665496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533520"/>
            <a:ext cx="87631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out FEC (1k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65496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2120" y="4572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 FEC (1k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03584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45720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95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5335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703584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Frequency offset (AWG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68072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Frequency offset (Fading+G-Noi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88356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6858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Performance Summar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0040" y="1682640"/>
            <a:ext cx="838692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45720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Performance Summ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70992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and Overhead related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687920" cy="4889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847080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45720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1) -Basic structur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71262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60948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2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xample of Anti-Multipath schem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33440" y="26668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-by-Symbol detection based on Maximum Likelihood Sequence Estimation during Channel Impulse Response 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alculation amount by using decis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84240" y="2279520"/>
            <a:ext cx="8470800" cy="24512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792440" y="1982880"/>
            <a:ext cx="685476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 Metric Addition MLSCE (PMA-MLS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457200"/>
            <a:ext cx="80010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 (3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tate Transition of PMA-MLSC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87520" y="5972040"/>
            <a:ext cx="236844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(i): symbo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166920" y="5972040"/>
            <a:ext cx="29764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(i-k): Decision result at t=i-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400800" y="5943600"/>
            <a:ext cx="2506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(i): received signal at t=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219320"/>
            <a:ext cx="9001080" cy="453960"/>
            <a:chOff x="457200" y="1219320"/>
            <a:chExt cx="9001080" cy="453960"/>
          </a:xfrm>
        </p:grpSpPr>
        <p:sp>
          <p:nvSpPr>
            <p:cNvPr id="163" name=""/>
            <p:cNvSpPr txBox="1"/>
            <p:nvPr/>
          </p:nvSpPr>
          <p:spPr>
            <a:xfrm>
              <a:off x="457200" y="1219320"/>
              <a:ext cx="900108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xample for channel impulse response(h) of length 3 and binary symb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29080" y="128124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143000" y="1746360"/>
            <a:ext cx="8396280" cy="4012920"/>
            <a:chOff x="1143000" y="1746360"/>
            <a:chExt cx="8396280" cy="4012920"/>
          </a:xfrm>
        </p:grpSpPr>
        <p:sp>
          <p:nvSpPr>
            <p:cNvPr id="166" name=""/>
            <p:cNvSpPr/>
            <p:nvPr/>
          </p:nvSpPr>
          <p:spPr>
            <a:xfrm>
              <a:off x="1862280" y="1746360"/>
              <a:ext cx="4035600" cy="3944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7008840" y="1770120"/>
              <a:ext cx="4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4656240" y="1770120"/>
              <a:ext cx="676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598840" y="1770120"/>
              <a:ext cx="676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=i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1927080" y="2011320"/>
              <a:ext cx="20858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)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4040280" y="2013120"/>
              <a:ext cx="20001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-1),s(i)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319800" y="2013120"/>
              <a:ext cx="19162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(i-2),s(i-1),s(i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1992240" y="2602080"/>
              <a:ext cx="18730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1978200" y="3170160"/>
              <a:ext cx="18730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D(i-1),D(i-2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4354560" y="247320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4354560" y="295596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354560" y="347328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4354560" y="4017960"/>
              <a:ext cx="136512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D(i-1)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838920" y="248616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838920" y="2797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838920" y="31050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838920" y="34164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0,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38920" y="3724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838920" y="403236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0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838920" y="43434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6838920" y="4651200"/>
              <a:ext cx="85896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1,1,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666960" y="2639880"/>
              <a:ext cx="719280" cy="1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68760" y="2817720"/>
              <a:ext cx="718920" cy="83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679920" y="3121200"/>
              <a:ext cx="718920" cy="311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81360" y="3438360"/>
              <a:ext cx="704880" cy="75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91080" y="2674800"/>
              <a:ext cx="1376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1080" y="2692440"/>
              <a:ext cx="1401840" cy="119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38960" y="2971800"/>
              <a:ext cx="1325520" cy="208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41840" y="3186000"/>
              <a:ext cx="1376640" cy="1008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5538960" y="3287880"/>
              <a:ext cx="1376280" cy="37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554800" y="3665520"/>
              <a:ext cx="1338120" cy="84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5500800" y="3591000"/>
              <a:ext cx="1376280" cy="625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1000" y="2511360"/>
              <a:ext cx="6870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1143000" y="1797120"/>
              <a:ext cx="646200" cy="698400"/>
              <a:chOff x="1143000" y="1797120"/>
              <a:chExt cx="646200" cy="698400"/>
            </a:xfrm>
          </p:grpSpPr>
          <p:sp>
            <p:nvSpPr>
              <p:cNvPr id="200" name=""/>
              <p:cNvSpPr txBox="1"/>
              <p:nvPr/>
            </p:nvSpPr>
            <p:spPr>
              <a:xfrm>
                <a:off x="1143000" y="1797120"/>
                <a:ext cx="646200" cy="69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a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(t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290600" y="210672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3919680" y="2652840"/>
              <a:ext cx="140040" cy="646560"/>
            </a:xfrm>
            <a:custGeom>
              <a:avLst/>
              <a:gdLst/>
              <a:ahLst/>
              <a:rect l="0" t="0" r="r" b="b"/>
              <a:pathLst>
                <a:path fill="none" w="389" h="1796">
                  <a:moveTo>
                    <a:pt x="389" y="1796"/>
                  </a:moveTo>
                  <a:lnTo>
                    <a:pt x="389" y="1796"/>
                  </a:lnTo>
                  <a:lnTo>
                    <a:pt x="389" y="1796"/>
                  </a:lnTo>
                  <a:cubicBezTo>
                    <a:pt x="389" y="1481"/>
                    <a:pt x="371" y="1171"/>
                    <a:pt x="337" y="898"/>
                  </a:cubicBezTo>
                  <a:cubicBezTo>
                    <a:pt x="303" y="625"/>
                    <a:pt x="254" y="398"/>
                    <a:pt x="194" y="241"/>
                  </a:cubicBezTo>
                  <a:cubicBezTo>
                    <a:pt x="135" y="83"/>
                    <a:pt x="68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913200" y="3278160"/>
              <a:ext cx="140040" cy="646560"/>
            </a:xfrm>
            <a:custGeom>
              <a:avLst/>
              <a:gdLst/>
              <a:ahLst/>
              <a:rect l="0" t="0" r="r" b="b"/>
              <a:pathLst>
                <a:path fill="none" w="389" h="1796">
                  <a:moveTo>
                    <a:pt x="0" y="1796"/>
                  </a:moveTo>
                  <a:lnTo>
                    <a:pt x="0" y="1796"/>
                  </a:lnTo>
                  <a:cubicBezTo>
                    <a:pt x="68" y="1796"/>
                    <a:pt x="135" y="1713"/>
                    <a:pt x="195" y="1555"/>
                  </a:cubicBezTo>
                  <a:cubicBezTo>
                    <a:pt x="254" y="1398"/>
                    <a:pt x="303" y="1171"/>
                    <a:pt x="337" y="898"/>
                  </a:cubicBezTo>
                  <a:cubicBezTo>
                    <a:pt x="371" y="625"/>
                    <a:pt x="389" y="315"/>
                    <a:pt x="38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53040" y="3554280"/>
              <a:ext cx="152640" cy="1040040"/>
            </a:xfrm>
            <a:custGeom>
              <a:avLst/>
              <a:gdLst/>
              <a:ahLst/>
              <a:rect l="0" t="0" r="r" b="b"/>
              <a:pathLst>
                <a:path fill="none" w="424" h="2889">
                  <a:moveTo>
                    <a:pt x="0" y="2889"/>
                  </a:moveTo>
                  <a:lnTo>
                    <a:pt x="0" y="2889"/>
                  </a:lnTo>
                  <a:cubicBezTo>
                    <a:pt x="74" y="2889"/>
                    <a:pt x="148" y="2756"/>
                    <a:pt x="212" y="2502"/>
                  </a:cubicBezTo>
                  <a:cubicBezTo>
                    <a:pt x="276" y="2248"/>
                    <a:pt x="330" y="1884"/>
                    <a:pt x="367" y="1445"/>
                  </a:cubicBezTo>
                  <a:cubicBezTo>
                    <a:pt x="404" y="1005"/>
                    <a:pt x="424" y="507"/>
                    <a:pt x="424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59520" y="2563920"/>
              <a:ext cx="152640" cy="1038600"/>
            </a:xfrm>
            <a:custGeom>
              <a:avLst/>
              <a:gdLst/>
              <a:ahLst/>
              <a:rect l="0" t="0" r="r" b="b"/>
              <a:pathLst>
                <a:path fill="none" w="424" h="2885">
                  <a:moveTo>
                    <a:pt x="424" y="2885"/>
                  </a:moveTo>
                  <a:lnTo>
                    <a:pt x="424" y="2885"/>
                  </a:lnTo>
                  <a:lnTo>
                    <a:pt x="424" y="2885"/>
                  </a:lnTo>
                  <a:cubicBezTo>
                    <a:pt x="424" y="2379"/>
                    <a:pt x="404" y="1881"/>
                    <a:pt x="367" y="1442"/>
                  </a:cubicBezTo>
                  <a:cubicBezTo>
                    <a:pt x="330" y="1004"/>
                    <a:pt x="276" y="640"/>
                    <a:pt x="212" y="387"/>
                  </a:cubicBezTo>
                  <a:cubicBezTo>
                    <a:pt x="148" y="133"/>
                    <a:pt x="74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1998720" y="5189400"/>
              <a:ext cx="1622520" cy="395640"/>
              <a:chOff x="1998720" y="5189400"/>
              <a:chExt cx="1622520" cy="395640"/>
            </a:xfrm>
          </p:grpSpPr>
          <p:sp>
            <p:nvSpPr>
              <p:cNvPr id="207" name=""/>
              <p:cNvSpPr txBox="1"/>
              <p:nvPr/>
            </p:nvSpPr>
            <p:spPr>
              <a:xfrm>
                <a:off x="1998720" y="5191200"/>
                <a:ext cx="162252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-2)-S(i-2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670120" y="5189400"/>
                <a:ext cx="1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144960" y="519588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275000" y="5189400"/>
              <a:ext cx="1622520" cy="395640"/>
              <a:chOff x="4275000" y="5189400"/>
              <a:chExt cx="1622520" cy="39564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4275000" y="5191200"/>
                <a:ext cx="162252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-1)-S(i-1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946760" y="5189400"/>
                <a:ext cx="176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24480" y="5195880"/>
                <a:ext cx="17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759720" y="5189400"/>
              <a:ext cx="1200240" cy="395640"/>
              <a:chOff x="6759720" y="5189400"/>
              <a:chExt cx="1200240" cy="395640"/>
            </a:xfrm>
          </p:grpSpPr>
          <p:sp>
            <p:nvSpPr>
              <p:cNvPr id="215" name=""/>
              <p:cNvSpPr txBox="1"/>
              <p:nvPr/>
            </p:nvSpPr>
            <p:spPr>
              <a:xfrm>
                <a:off x="6759720" y="5191200"/>
                <a:ext cx="1200240" cy="39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r(i)-S(i)h|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278840" y="518940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51720" y="5195880"/>
                <a:ext cx="17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765520" y="3691080"/>
              <a:ext cx="0" cy="1338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94280" y="4425840"/>
              <a:ext cx="0" cy="644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09000" y="4995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3611520" y="5202360"/>
              <a:ext cx="3240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6141960" y="5202360"/>
              <a:ext cx="32400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8342280" y="5060880"/>
              <a:ext cx="119700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inim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t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70680" y="5370480"/>
              <a:ext cx="454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3166920" y="4262400"/>
              <a:ext cx="1139760" cy="698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>
              <a:off x="5673600" y="4668840"/>
              <a:ext cx="1139760" cy="69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s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633840" y="3944880"/>
              <a:ext cx="334800" cy="32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935680" y="4600440"/>
              <a:ext cx="158760" cy="13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6640" y="4222800"/>
              <a:ext cx="1376280" cy="604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 txBox="1"/>
          <p:nvPr/>
        </p:nvSpPr>
        <p:spPr>
          <a:xfrm>
            <a:off x="1371600" y="5562720"/>
            <a:ext cx="21337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1 PMA-ML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4) - 2-1 PMA-MLSCE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1066680"/>
            <a:ext cx="642636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5) - AFC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200240" y="1836720"/>
            <a:ext cx="3084480" cy="544680"/>
            <a:chOff x="1200240" y="1836720"/>
            <a:chExt cx="3084480" cy="544680"/>
          </a:xfrm>
        </p:grpSpPr>
        <p:sp>
          <p:nvSpPr>
            <p:cNvPr id="241" name=""/>
            <p:cNvSpPr/>
            <p:nvPr/>
          </p:nvSpPr>
          <p:spPr>
            <a:xfrm>
              <a:off x="1200240" y="1836720"/>
              <a:ext cx="2911320" cy="54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7644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353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479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5720" y="2120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6400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12920" y="2120760"/>
              <a:ext cx="5479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206360" y="1868400"/>
              <a:ext cx="2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1592280" y="1868400"/>
              <a:ext cx="312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2651040" y="1868400"/>
              <a:ext cx="339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3654360" y="1855800"/>
              <a:ext cx="630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103640" y="1836720"/>
            <a:ext cx="3084840" cy="544680"/>
            <a:chOff x="4103640" y="1836720"/>
            <a:chExt cx="3084840" cy="544680"/>
          </a:xfrm>
        </p:grpSpPr>
        <p:sp>
          <p:nvSpPr>
            <p:cNvPr id="254" name=""/>
            <p:cNvSpPr/>
            <p:nvPr/>
          </p:nvSpPr>
          <p:spPr>
            <a:xfrm>
              <a:off x="4103640" y="1836720"/>
              <a:ext cx="2911320" cy="542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7984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6387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136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9120" y="2120760"/>
              <a:ext cx="5493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6740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7120" y="1863720"/>
              <a:ext cx="0" cy="517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16680" y="2120760"/>
              <a:ext cx="5475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110120" y="1868400"/>
              <a:ext cx="2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4495680" y="1868400"/>
              <a:ext cx="312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5554800" y="1868400"/>
              <a:ext cx="339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6558120" y="1855800"/>
              <a:ext cx="63036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173240" y="2967120"/>
            <a:ext cx="407880" cy="378000"/>
            <a:chOff x="1173240" y="2967120"/>
            <a:chExt cx="407880" cy="378000"/>
          </a:xfrm>
        </p:grpSpPr>
        <p:sp>
          <p:nvSpPr>
            <p:cNvPr id="267" name=""/>
            <p:cNvSpPr/>
            <p:nvPr/>
          </p:nvSpPr>
          <p:spPr>
            <a:xfrm>
              <a:off x="1173240" y="296712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271520" y="316224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384200" y="238428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00560" y="2384280"/>
            <a:ext cx="0" cy="77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587600" y="3149640"/>
            <a:ext cx="2705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571760" y="3360600"/>
            <a:ext cx="407880" cy="378000"/>
            <a:chOff x="1571760" y="3360600"/>
            <a:chExt cx="407880" cy="378000"/>
          </a:xfrm>
        </p:grpSpPr>
        <p:sp>
          <p:nvSpPr>
            <p:cNvPr id="273" name=""/>
            <p:cNvSpPr/>
            <p:nvPr/>
          </p:nvSpPr>
          <p:spPr>
            <a:xfrm>
              <a:off x="1571760" y="336060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670040" y="355608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644920" y="4071960"/>
            <a:ext cx="407880" cy="378000"/>
            <a:chOff x="2644920" y="4071960"/>
            <a:chExt cx="407880" cy="378000"/>
          </a:xfrm>
        </p:grpSpPr>
        <p:sp>
          <p:nvSpPr>
            <p:cNvPr id="276" name=""/>
            <p:cNvSpPr/>
            <p:nvPr/>
          </p:nvSpPr>
          <p:spPr>
            <a:xfrm>
              <a:off x="2644920" y="4071960"/>
              <a:ext cx="407880" cy="378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2743200" y="426708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1782720" y="2384280"/>
            <a:ext cx="0" cy="974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55880" y="2384280"/>
            <a:ext cx="0" cy="1698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99080" y="2384280"/>
            <a:ext cx="0" cy="117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1986120" y="3556080"/>
            <a:ext cx="2706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72240" y="2384280"/>
            <a:ext cx="0" cy="1889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059280" y="4267080"/>
            <a:ext cx="2706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30320" y="281952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58840" y="5494320"/>
            <a:ext cx="2306520" cy="80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384200" y="3349800"/>
            <a:ext cx="0" cy="2143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782720" y="3755880"/>
            <a:ext cx="0" cy="1749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55880" y="4454640"/>
            <a:ext cx="0" cy="1038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87480" y="4633920"/>
            <a:ext cx="795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86080" y="5506920"/>
            <a:ext cx="1260360" cy="80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192560" y="5640480"/>
            <a:ext cx="1344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(K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84440" y="5880240"/>
            <a:ext cx="7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51480" y="5880240"/>
            <a:ext cx="1195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411880" y="5030640"/>
            <a:ext cx="37274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hase difference per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070520" y="4572000"/>
            <a:ext cx="47545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...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hase offset during 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86040" y="5045040"/>
            <a:ext cx="550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28640" y="5016600"/>
            <a:ext cx="5508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997360" y="5059440"/>
            <a:ext cx="5875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826240" y="5435640"/>
            <a:ext cx="789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68640" y="5665680"/>
            <a:ext cx="331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4920" y="1541520"/>
            <a:ext cx="2910240" cy="303480"/>
          </a:xfrm>
          <a:custGeom>
            <a:avLst/>
            <a:gdLst/>
            <a:ahLst/>
            <a:rect l="0" t="0" r="r" b="b"/>
            <a:pathLst>
              <a:path fill="none" w="8084" h="843">
                <a:moveTo>
                  <a:pt x="8084" y="843"/>
                </a:moveTo>
                <a:lnTo>
                  <a:pt x="8084" y="0"/>
                </a:lnTo>
                <a:lnTo>
                  <a:pt x="0" y="0"/>
                </a:lnTo>
                <a:lnTo>
                  <a:pt x="0" y="84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116080" y="1341360"/>
            <a:ext cx="1401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11400" y="4746600"/>
            <a:ext cx="964080" cy="224280"/>
          </a:xfrm>
          <a:custGeom>
            <a:avLst/>
            <a:gdLst/>
            <a:ahLst/>
            <a:rect l="0" t="0" r="r" b="b"/>
            <a:pathLst>
              <a:path fill="none" w="2678" h="623">
                <a:moveTo>
                  <a:pt x="0" y="623"/>
                </a:moveTo>
                <a:lnTo>
                  <a:pt x="0" y="623"/>
                </a:lnTo>
                <a:cubicBezTo>
                  <a:pt x="470" y="623"/>
                  <a:pt x="932" y="594"/>
                  <a:pt x="1339" y="540"/>
                </a:cubicBezTo>
                <a:cubicBezTo>
                  <a:pt x="1746" y="485"/>
                  <a:pt x="2084" y="406"/>
                  <a:pt x="2319" y="311"/>
                </a:cubicBezTo>
                <a:cubicBezTo>
                  <a:pt x="2554" y="217"/>
                  <a:pt x="2678" y="109"/>
                  <a:pt x="267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28600" y="4740120"/>
            <a:ext cx="964080" cy="224280"/>
          </a:xfrm>
          <a:custGeom>
            <a:avLst/>
            <a:gdLst/>
            <a:ahLst/>
            <a:rect l="0" t="0" r="r" b="b"/>
            <a:pathLst>
              <a:path fill="none" w="2678" h="623">
                <a:moveTo>
                  <a:pt x="0" y="0"/>
                </a:moveTo>
                <a:lnTo>
                  <a:pt x="0" y="0"/>
                </a:lnTo>
                <a:cubicBezTo>
                  <a:pt x="0" y="109"/>
                  <a:pt x="124" y="217"/>
                  <a:pt x="359" y="312"/>
                </a:cubicBezTo>
                <a:cubicBezTo>
                  <a:pt x="594" y="406"/>
                  <a:pt x="932" y="485"/>
                  <a:pt x="1339" y="540"/>
                </a:cubicBezTo>
                <a:cubicBezTo>
                  <a:pt x="1746" y="594"/>
                  <a:pt x="2208" y="623"/>
                  <a:pt x="2678" y="62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011400" y="4741920"/>
            <a:ext cx="1047960" cy="10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00400" y="1541520"/>
            <a:ext cx="2910240" cy="303480"/>
          </a:xfrm>
          <a:custGeom>
            <a:avLst/>
            <a:gdLst/>
            <a:ahLst/>
            <a:rect l="0" t="0" r="r" b="b"/>
            <a:pathLst>
              <a:path fill="none" w="8084" h="843">
                <a:moveTo>
                  <a:pt x="8084" y="843"/>
                </a:moveTo>
                <a:lnTo>
                  <a:pt x="8084" y="0"/>
                </a:lnTo>
                <a:lnTo>
                  <a:pt x="0" y="0"/>
                </a:lnTo>
                <a:lnTo>
                  <a:pt x="0" y="84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011560" y="1341360"/>
            <a:ext cx="14018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93960" y="1168560"/>
            <a:ext cx="2762640" cy="190800"/>
          </a:xfrm>
          <a:custGeom>
            <a:avLst/>
            <a:gdLst/>
            <a:ahLst/>
            <a:rect l="0" t="0" r="r" b="b"/>
            <a:pathLst>
              <a:path fill="none" w="7674" h="530">
                <a:moveTo>
                  <a:pt x="0" y="530"/>
                </a:moveTo>
                <a:lnTo>
                  <a:pt x="0" y="0"/>
                </a:lnTo>
                <a:lnTo>
                  <a:pt x="7674" y="0"/>
                </a:lnTo>
                <a:lnTo>
                  <a:pt x="7674" y="530"/>
                </a:ln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125880" y="960480"/>
            <a:ext cx="208764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Structure(6) - PLL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86080" y="1522440"/>
            <a:ext cx="2181240" cy="714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590840" y="1646280"/>
            <a:ext cx="1959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A-ML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72000" y="1870200"/>
            <a:ext cx="110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762440" y="1789200"/>
            <a:ext cx="1429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762360" y="1246320"/>
            <a:ext cx="1197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04800" y="2843280"/>
            <a:ext cx="2181240" cy="714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647720" y="2967120"/>
            <a:ext cx="1932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2576520" y="2208240"/>
            <a:ext cx="0" cy="654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716360" y="2166840"/>
            <a:ext cx="1094040" cy="458640"/>
            <a:chOff x="4716360" y="2166840"/>
            <a:chExt cx="1094040" cy="458640"/>
          </a:xfrm>
        </p:grpSpPr>
        <p:sp>
          <p:nvSpPr>
            <p:cNvPr id="323" name=""/>
            <p:cNvSpPr txBox="1"/>
            <p:nvPr/>
          </p:nvSpPr>
          <p:spPr>
            <a:xfrm>
              <a:off x="4716360" y="2171520"/>
              <a:ext cx="106992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(i)-S 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54560" y="2166840"/>
              <a:ext cx="231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78560" y="2166840"/>
              <a:ext cx="231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 txBox="1"/>
          <p:nvPr/>
        </p:nvSpPr>
        <p:spPr>
          <a:xfrm>
            <a:off x="1916280" y="3821040"/>
            <a:ext cx="514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1840" y="2211480"/>
            <a:ext cx="15778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088040" y="3430440"/>
            <a:ext cx="762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76520" y="3521160"/>
            <a:ext cx="0" cy="868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742080" y="3959280"/>
            <a:ext cx="1100160" cy="3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2603520" y="2421000"/>
            <a:ext cx="576360" cy="8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392880" y="1916280"/>
            <a:ext cx="722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180120" y="2309760"/>
            <a:ext cx="517680" cy="352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770120" y="4303800"/>
            <a:ext cx="372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2405160" y="4381560"/>
            <a:ext cx="341280" cy="341280"/>
            <a:chOff x="2405160" y="4381560"/>
            <a:chExt cx="341280" cy="341280"/>
          </a:xfrm>
        </p:grpSpPr>
        <p:grpSp>
          <p:nvGrpSpPr>
            <p:cNvPr id="336" name=""/>
            <p:cNvGrpSpPr/>
            <p:nvPr/>
          </p:nvGrpSpPr>
          <p:grpSpPr>
            <a:xfrm>
              <a:off x="2457360" y="4446720"/>
              <a:ext cx="239760" cy="214200"/>
              <a:chOff x="2457360" y="4446720"/>
              <a:chExt cx="239760" cy="214200"/>
            </a:xfrm>
          </p:grpSpPr>
          <p:sp>
            <p:nvSpPr>
              <p:cNvPr id="337" name=""/>
              <p:cNvSpPr/>
              <p:nvPr/>
            </p:nvSpPr>
            <p:spPr>
              <a:xfrm>
                <a:off x="2470320" y="4446720"/>
                <a:ext cx="2142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2457360" y="4446720"/>
                <a:ext cx="2397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2405160" y="4381560"/>
              <a:ext cx="341280" cy="341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116080" y="455940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00" y="4827240"/>
            <a:ext cx="349560" cy="349560"/>
            <a:chOff x="3024000" y="4827240"/>
            <a:chExt cx="349560" cy="349560"/>
          </a:xfrm>
        </p:grpSpPr>
        <p:grpSp>
          <p:nvGrpSpPr>
            <p:cNvPr id="342" name=""/>
            <p:cNvGrpSpPr/>
            <p:nvPr/>
          </p:nvGrpSpPr>
          <p:grpSpPr>
            <a:xfrm>
              <a:off x="3043080" y="4843440"/>
              <a:ext cx="309600" cy="309600"/>
              <a:chOff x="3043080" y="4843440"/>
              <a:chExt cx="309600" cy="309600"/>
            </a:xfrm>
          </p:grpSpPr>
          <p:sp>
            <p:nvSpPr>
              <p:cNvPr id="343" name=""/>
              <p:cNvSpPr/>
              <p:nvPr/>
            </p:nvSpPr>
            <p:spPr>
              <a:xfrm>
                <a:off x="3043080" y="499752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197160" y="484344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3024000" y="4827240"/>
              <a:ext cx="349560" cy="349560"/>
            </a:xfrm>
            <a:custGeom>
              <a:avLst/>
              <a:gdLst/>
              <a:ahLst/>
              <a:rect l="0" t="0" r="r" b="b"/>
              <a:pathLst>
                <a:path fill="none" w="971" h="971">
                  <a:moveTo>
                    <a:pt x="150" y="822"/>
                  </a:moveTo>
                  <a:lnTo>
                    <a:pt x="150" y="822"/>
                  </a:lnTo>
                  <a:cubicBezTo>
                    <a:pt x="154" y="825"/>
                    <a:pt x="157" y="829"/>
                    <a:pt x="161" y="833"/>
                  </a:cubicBezTo>
                  <a:cubicBezTo>
                    <a:pt x="220" y="891"/>
                    <a:pt x="293" y="934"/>
                    <a:pt x="374" y="955"/>
                  </a:cubicBezTo>
                  <a:cubicBezTo>
                    <a:pt x="454" y="977"/>
                    <a:pt x="539" y="977"/>
                    <a:pt x="620" y="955"/>
                  </a:cubicBezTo>
                  <a:cubicBezTo>
                    <a:pt x="700" y="934"/>
                    <a:pt x="774" y="891"/>
                    <a:pt x="833" y="833"/>
                  </a:cubicBezTo>
                  <a:cubicBezTo>
                    <a:pt x="891" y="774"/>
                    <a:pt x="934" y="700"/>
                    <a:pt x="955" y="620"/>
                  </a:cubicBezTo>
                  <a:cubicBezTo>
                    <a:pt x="977" y="539"/>
                    <a:pt x="977" y="454"/>
                    <a:pt x="955" y="374"/>
                  </a:cubicBezTo>
                  <a:cubicBezTo>
                    <a:pt x="934" y="293"/>
                    <a:pt x="891" y="220"/>
                    <a:pt x="833" y="161"/>
                  </a:cubicBezTo>
                  <a:cubicBezTo>
                    <a:pt x="829" y="157"/>
                    <a:pt x="825" y="154"/>
                    <a:pt x="822" y="150"/>
                  </a:cubicBezTo>
                  <a:lnTo>
                    <a:pt x="822" y="150"/>
                  </a:lnTo>
                  <a:cubicBezTo>
                    <a:pt x="818" y="147"/>
                    <a:pt x="815" y="143"/>
                    <a:pt x="811" y="139"/>
                  </a:cubicBezTo>
                  <a:cubicBezTo>
                    <a:pt x="752" y="81"/>
                    <a:pt x="679" y="38"/>
                    <a:pt x="598" y="17"/>
                  </a:cubicBezTo>
                  <a:cubicBezTo>
                    <a:pt x="518" y="-5"/>
                    <a:pt x="433" y="-5"/>
                    <a:pt x="352" y="17"/>
                  </a:cubicBezTo>
                  <a:cubicBezTo>
                    <a:pt x="272" y="38"/>
                    <a:pt x="198" y="81"/>
                    <a:pt x="139" y="139"/>
                  </a:cubicBezTo>
                  <a:cubicBezTo>
                    <a:pt x="81" y="198"/>
                    <a:pt x="38" y="272"/>
                    <a:pt x="17" y="352"/>
                  </a:cubicBezTo>
                  <a:cubicBezTo>
                    <a:pt x="-5" y="433"/>
                    <a:pt x="-5" y="518"/>
                    <a:pt x="17" y="598"/>
                  </a:cubicBezTo>
                  <a:cubicBezTo>
                    <a:pt x="38" y="679"/>
                    <a:pt x="81" y="752"/>
                    <a:pt x="139" y="811"/>
                  </a:cubicBezTo>
                  <a:cubicBezTo>
                    <a:pt x="143" y="815"/>
                    <a:pt x="147" y="818"/>
                    <a:pt x="150" y="82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583000" y="4718160"/>
            <a:ext cx="433800" cy="289440"/>
          </a:xfrm>
          <a:custGeom>
            <a:avLst/>
            <a:gdLst/>
            <a:ahLst/>
            <a:rect l="0" t="0" r="r" b="b"/>
            <a:pathLst>
              <a:path fill="none" w="1205" h="804">
                <a:moveTo>
                  <a:pt x="0" y="0"/>
                </a:moveTo>
                <a:lnTo>
                  <a:pt x="0" y="804"/>
                </a:lnTo>
                <a:lnTo>
                  <a:pt x="1205" y="804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3592440" y="5280120"/>
            <a:ext cx="384120" cy="453960"/>
            <a:chOff x="3592440" y="5280120"/>
            <a:chExt cx="384120" cy="453960"/>
          </a:xfrm>
        </p:grpSpPr>
        <p:sp>
          <p:nvSpPr>
            <p:cNvPr id="348" name=""/>
            <p:cNvSpPr/>
            <p:nvPr/>
          </p:nvSpPr>
          <p:spPr>
            <a:xfrm>
              <a:off x="3592440" y="5315040"/>
              <a:ext cx="38412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 txBox="1"/>
            <p:nvPr/>
          </p:nvSpPr>
          <p:spPr>
            <a:xfrm>
              <a:off x="3602160" y="5280120"/>
              <a:ext cx="366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/>
          <p:nvPr/>
        </p:nvSpPr>
        <p:spPr>
          <a:xfrm>
            <a:off x="3189240" y="5165640"/>
            <a:ext cx="405000" cy="346320"/>
          </a:xfrm>
          <a:custGeom>
            <a:avLst/>
            <a:gdLst/>
            <a:ahLst/>
            <a:rect l="0" t="0" r="r" b="b"/>
            <a:pathLst>
              <a:path fill="none" w="1125" h="962">
                <a:moveTo>
                  <a:pt x="1125" y="962"/>
                </a:moveTo>
                <a:lnTo>
                  <a:pt x="0" y="96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355920" y="3774960"/>
            <a:ext cx="341280" cy="341280"/>
            <a:chOff x="3355920" y="3774960"/>
            <a:chExt cx="341280" cy="341280"/>
          </a:xfrm>
        </p:grpSpPr>
        <p:grpSp>
          <p:nvGrpSpPr>
            <p:cNvPr id="352" name=""/>
            <p:cNvGrpSpPr/>
            <p:nvPr/>
          </p:nvGrpSpPr>
          <p:grpSpPr>
            <a:xfrm>
              <a:off x="3408480" y="3840120"/>
              <a:ext cx="239760" cy="214200"/>
              <a:chOff x="3408480" y="3840120"/>
              <a:chExt cx="239760" cy="214200"/>
            </a:xfrm>
          </p:grpSpPr>
          <p:sp>
            <p:nvSpPr>
              <p:cNvPr id="353" name=""/>
              <p:cNvSpPr/>
              <p:nvPr/>
            </p:nvSpPr>
            <p:spPr>
              <a:xfrm>
                <a:off x="3421080" y="3840120"/>
                <a:ext cx="21420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3408480" y="3840120"/>
                <a:ext cx="23976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3355920" y="3774960"/>
              <a:ext cx="341280" cy="341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 txBox="1"/>
          <p:nvPr/>
        </p:nvSpPr>
        <p:spPr>
          <a:xfrm>
            <a:off x="3402000" y="4275000"/>
            <a:ext cx="3477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554280" y="409248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76600" y="3965400"/>
            <a:ext cx="658800" cy="1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320" bIns="-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362400" y="4992840"/>
            <a:ext cx="1227600" cy="519480"/>
          </a:xfrm>
          <a:custGeom>
            <a:avLst/>
            <a:gdLst/>
            <a:ahLst/>
            <a:rect l="0" t="0" r="r" b="b"/>
            <a:pathLst>
              <a:path fill="none" w="3410" h="1443">
                <a:moveTo>
                  <a:pt x="0" y="0"/>
                </a:moveTo>
                <a:lnTo>
                  <a:pt x="3410" y="0"/>
                </a:lnTo>
                <a:lnTo>
                  <a:pt x="3410" y="1443"/>
                </a:lnTo>
                <a:lnTo>
                  <a:pt x="1685" y="1443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4410000" y="3789360"/>
            <a:ext cx="342000" cy="342000"/>
            <a:chOff x="4410000" y="3789360"/>
            <a:chExt cx="342000" cy="342000"/>
          </a:xfrm>
        </p:grpSpPr>
        <p:grpSp>
          <p:nvGrpSpPr>
            <p:cNvPr id="361" name=""/>
            <p:cNvGrpSpPr/>
            <p:nvPr/>
          </p:nvGrpSpPr>
          <p:grpSpPr>
            <a:xfrm>
              <a:off x="4429080" y="3805200"/>
              <a:ext cx="309600" cy="309600"/>
              <a:chOff x="4429080" y="3805200"/>
              <a:chExt cx="309600" cy="309600"/>
            </a:xfrm>
          </p:grpSpPr>
          <p:sp>
            <p:nvSpPr>
              <p:cNvPr id="362" name=""/>
              <p:cNvSpPr/>
              <p:nvPr/>
            </p:nvSpPr>
            <p:spPr>
              <a:xfrm>
                <a:off x="4429080" y="395928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583160" y="380520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" name=""/>
            <p:cNvSpPr/>
            <p:nvPr/>
          </p:nvSpPr>
          <p:spPr>
            <a:xfrm>
              <a:off x="4410000" y="3789360"/>
              <a:ext cx="342000" cy="342000"/>
            </a:xfrm>
            <a:custGeom>
              <a:avLst/>
              <a:gdLst/>
              <a:ahLst/>
              <a:rect l="0" t="0" r="r" b="b"/>
              <a:pathLst>
                <a:path fill="none" w="950" h="950">
                  <a:moveTo>
                    <a:pt x="139" y="811"/>
                  </a:moveTo>
                  <a:lnTo>
                    <a:pt x="139" y="811"/>
                  </a:lnTo>
                  <a:cubicBezTo>
                    <a:pt x="198" y="870"/>
                    <a:pt x="272" y="912"/>
                    <a:pt x="352" y="934"/>
                  </a:cubicBezTo>
                  <a:cubicBezTo>
                    <a:pt x="433" y="955"/>
                    <a:pt x="517" y="955"/>
                    <a:pt x="598" y="934"/>
                  </a:cubicBezTo>
                  <a:cubicBezTo>
                    <a:pt x="678" y="912"/>
                    <a:pt x="752" y="870"/>
                    <a:pt x="811" y="811"/>
                  </a:cubicBezTo>
                  <a:cubicBezTo>
                    <a:pt x="870" y="752"/>
                    <a:pt x="912" y="678"/>
                    <a:pt x="934" y="598"/>
                  </a:cubicBezTo>
                  <a:cubicBezTo>
                    <a:pt x="955" y="517"/>
                    <a:pt x="955" y="433"/>
                    <a:pt x="934" y="352"/>
                  </a:cubicBezTo>
                  <a:cubicBezTo>
                    <a:pt x="912" y="272"/>
                    <a:pt x="870" y="198"/>
                    <a:pt x="811" y="139"/>
                  </a:cubicBezTo>
                  <a:lnTo>
                    <a:pt x="811" y="139"/>
                  </a:lnTo>
                  <a:lnTo>
                    <a:pt x="811" y="139"/>
                  </a:lnTo>
                  <a:cubicBezTo>
                    <a:pt x="752" y="80"/>
                    <a:pt x="678" y="38"/>
                    <a:pt x="598" y="16"/>
                  </a:cubicBezTo>
                  <a:cubicBezTo>
                    <a:pt x="517" y="-5"/>
                    <a:pt x="433" y="-5"/>
                    <a:pt x="352" y="16"/>
                  </a:cubicBezTo>
                  <a:cubicBezTo>
                    <a:pt x="272" y="38"/>
                    <a:pt x="198" y="80"/>
                    <a:pt x="139" y="139"/>
                  </a:cubicBezTo>
                  <a:cubicBezTo>
                    <a:pt x="80" y="198"/>
                    <a:pt x="38" y="272"/>
                    <a:pt x="16" y="352"/>
                  </a:cubicBezTo>
                  <a:cubicBezTo>
                    <a:pt x="-5" y="433"/>
                    <a:pt x="-5" y="517"/>
                    <a:pt x="16" y="598"/>
                  </a:cubicBezTo>
                  <a:cubicBezTo>
                    <a:pt x="38" y="678"/>
                    <a:pt x="80" y="752"/>
                    <a:pt x="139" y="81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705120" y="3962520"/>
            <a:ext cx="70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4589640" y="412128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16560" y="492120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09920" y="388152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5145120" y="3789360"/>
            <a:ext cx="349560" cy="349560"/>
            <a:chOff x="5145120" y="3789360"/>
            <a:chExt cx="349560" cy="349560"/>
          </a:xfrm>
        </p:grpSpPr>
        <p:grpSp>
          <p:nvGrpSpPr>
            <p:cNvPr id="370" name=""/>
            <p:cNvGrpSpPr/>
            <p:nvPr/>
          </p:nvGrpSpPr>
          <p:grpSpPr>
            <a:xfrm>
              <a:off x="5164200" y="3805200"/>
              <a:ext cx="309600" cy="309600"/>
              <a:chOff x="5164200" y="3805200"/>
              <a:chExt cx="309600" cy="309600"/>
            </a:xfrm>
          </p:grpSpPr>
          <p:sp>
            <p:nvSpPr>
              <p:cNvPr id="371" name=""/>
              <p:cNvSpPr/>
              <p:nvPr/>
            </p:nvSpPr>
            <p:spPr>
              <a:xfrm>
                <a:off x="5164200" y="395928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18280" y="380520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5145120" y="3789360"/>
              <a:ext cx="349560" cy="349560"/>
            </a:xfrm>
            <a:custGeom>
              <a:avLst/>
              <a:gdLst/>
              <a:ahLst/>
              <a:rect l="0" t="0" r="r" b="b"/>
              <a:pathLst>
                <a:path fill="none" w="971" h="971">
                  <a:moveTo>
                    <a:pt x="150" y="822"/>
                  </a:moveTo>
                  <a:lnTo>
                    <a:pt x="150" y="822"/>
                  </a:lnTo>
                  <a:cubicBezTo>
                    <a:pt x="154" y="825"/>
                    <a:pt x="157" y="829"/>
                    <a:pt x="161" y="833"/>
                  </a:cubicBezTo>
                  <a:cubicBezTo>
                    <a:pt x="220" y="891"/>
                    <a:pt x="293" y="934"/>
                    <a:pt x="374" y="955"/>
                  </a:cubicBezTo>
                  <a:cubicBezTo>
                    <a:pt x="454" y="977"/>
                    <a:pt x="539" y="977"/>
                    <a:pt x="620" y="955"/>
                  </a:cubicBezTo>
                  <a:cubicBezTo>
                    <a:pt x="700" y="934"/>
                    <a:pt x="774" y="891"/>
                    <a:pt x="833" y="833"/>
                  </a:cubicBezTo>
                  <a:cubicBezTo>
                    <a:pt x="891" y="774"/>
                    <a:pt x="934" y="700"/>
                    <a:pt x="955" y="620"/>
                  </a:cubicBezTo>
                  <a:cubicBezTo>
                    <a:pt x="977" y="539"/>
                    <a:pt x="977" y="454"/>
                    <a:pt x="955" y="374"/>
                  </a:cubicBezTo>
                  <a:cubicBezTo>
                    <a:pt x="934" y="293"/>
                    <a:pt x="891" y="220"/>
                    <a:pt x="833" y="161"/>
                  </a:cubicBezTo>
                  <a:cubicBezTo>
                    <a:pt x="829" y="157"/>
                    <a:pt x="825" y="154"/>
                    <a:pt x="822" y="150"/>
                  </a:cubicBezTo>
                  <a:lnTo>
                    <a:pt x="822" y="150"/>
                  </a:lnTo>
                  <a:cubicBezTo>
                    <a:pt x="818" y="147"/>
                    <a:pt x="815" y="143"/>
                    <a:pt x="811" y="139"/>
                  </a:cubicBezTo>
                  <a:cubicBezTo>
                    <a:pt x="752" y="81"/>
                    <a:pt x="679" y="38"/>
                    <a:pt x="598" y="17"/>
                  </a:cubicBezTo>
                  <a:cubicBezTo>
                    <a:pt x="518" y="-5"/>
                    <a:pt x="433" y="-5"/>
                    <a:pt x="352" y="17"/>
                  </a:cubicBezTo>
                  <a:cubicBezTo>
                    <a:pt x="272" y="38"/>
                    <a:pt x="198" y="81"/>
                    <a:pt x="139" y="139"/>
                  </a:cubicBezTo>
                  <a:cubicBezTo>
                    <a:pt x="81" y="198"/>
                    <a:pt x="38" y="272"/>
                    <a:pt x="17" y="352"/>
                  </a:cubicBezTo>
                  <a:cubicBezTo>
                    <a:pt x="-5" y="433"/>
                    <a:pt x="-5" y="518"/>
                    <a:pt x="17" y="598"/>
                  </a:cubicBezTo>
                  <a:cubicBezTo>
                    <a:pt x="38" y="679"/>
                    <a:pt x="81" y="752"/>
                    <a:pt x="139" y="811"/>
                  </a:cubicBezTo>
                  <a:cubicBezTo>
                    <a:pt x="143" y="815"/>
                    <a:pt x="147" y="818"/>
                    <a:pt x="150" y="82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713560" y="4241880"/>
            <a:ext cx="384120" cy="453960"/>
            <a:chOff x="5713560" y="4241880"/>
            <a:chExt cx="384120" cy="453960"/>
          </a:xfrm>
        </p:grpSpPr>
        <p:sp>
          <p:nvSpPr>
            <p:cNvPr id="375" name=""/>
            <p:cNvSpPr/>
            <p:nvPr/>
          </p:nvSpPr>
          <p:spPr>
            <a:xfrm>
              <a:off x="5713560" y="4276800"/>
              <a:ext cx="384120" cy="384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5722920" y="4241880"/>
              <a:ext cx="3668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310360" y="4127400"/>
            <a:ext cx="405000" cy="346320"/>
          </a:xfrm>
          <a:custGeom>
            <a:avLst/>
            <a:gdLst/>
            <a:ahLst/>
            <a:rect l="0" t="0" r="r" b="b"/>
            <a:pathLst>
              <a:path fill="none" w="1125" h="962">
                <a:moveTo>
                  <a:pt x="1125" y="962"/>
                </a:moveTo>
                <a:lnTo>
                  <a:pt x="0" y="96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83160" y="3954600"/>
            <a:ext cx="1227600" cy="519480"/>
          </a:xfrm>
          <a:custGeom>
            <a:avLst/>
            <a:gdLst/>
            <a:ahLst/>
            <a:rect l="0" t="0" r="r" b="b"/>
            <a:pathLst>
              <a:path fill="none" w="3410" h="1443">
                <a:moveTo>
                  <a:pt x="0" y="0"/>
                </a:moveTo>
                <a:lnTo>
                  <a:pt x="3410" y="0"/>
                </a:lnTo>
                <a:lnTo>
                  <a:pt x="3410" y="1443"/>
                </a:lnTo>
                <a:lnTo>
                  <a:pt x="1685" y="1443"/>
                </a:lnTo>
              </a:path>
            </a:pathLst>
          </a:custGeom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37320" y="3882960"/>
            <a:ext cx="1429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34000" y="3962520"/>
            <a:ext cx="422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93760" y="2664000"/>
            <a:ext cx="5925960" cy="3314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500960" y="4749840"/>
            <a:ext cx="18622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PLL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N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7862760" y="3786120"/>
            <a:ext cx="342000" cy="342000"/>
            <a:chOff x="7862760" y="3786120"/>
            <a:chExt cx="342000" cy="342000"/>
          </a:xfrm>
        </p:grpSpPr>
        <p:grpSp>
          <p:nvGrpSpPr>
            <p:cNvPr id="384" name=""/>
            <p:cNvGrpSpPr/>
            <p:nvPr/>
          </p:nvGrpSpPr>
          <p:grpSpPr>
            <a:xfrm>
              <a:off x="7881840" y="3801960"/>
              <a:ext cx="309600" cy="309600"/>
              <a:chOff x="7881840" y="3801960"/>
              <a:chExt cx="309600" cy="309600"/>
            </a:xfrm>
          </p:grpSpPr>
          <p:sp>
            <p:nvSpPr>
              <p:cNvPr id="385" name=""/>
              <p:cNvSpPr/>
              <p:nvPr/>
            </p:nvSpPr>
            <p:spPr>
              <a:xfrm>
                <a:off x="7881840" y="3956040"/>
                <a:ext cx="309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035920" y="3801960"/>
                <a:ext cx="0" cy="309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7862760" y="3786120"/>
              <a:ext cx="342000" cy="342000"/>
            </a:xfrm>
            <a:custGeom>
              <a:avLst/>
              <a:gdLst/>
              <a:ahLst/>
              <a:rect l="0" t="0" r="r" b="b"/>
              <a:pathLst>
                <a:path fill="none" w="950" h="950">
                  <a:moveTo>
                    <a:pt x="139" y="811"/>
                  </a:moveTo>
                  <a:lnTo>
                    <a:pt x="139" y="811"/>
                  </a:lnTo>
                  <a:cubicBezTo>
                    <a:pt x="198" y="870"/>
                    <a:pt x="272" y="912"/>
                    <a:pt x="352" y="934"/>
                  </a:cubicBezTo>
                  <a:cubicBezTo>
                    <a:pt x="433" y="955"/>
                    <a:pt x="517" y="955"/>
                    <a:pt x="598" y="934"/>
                  </a:cubicBezTo>
                  <a:cubicBezTo>
                    <a:pt x="678" y="912"/>
                    <a:pt x="752" y="870"/>
                    <a:pt x="811" y="811"/>
                  </a:cubicBezTo>
                  <a:cubicBezTo>
                    <a:pt x="870" y="752"/>
                    <a:pt x="912" y="678"/>
                    <a:pt x="934" y="598"/>
                  </a:cubicBezTo>
                  <a:cubicBezTo>
                    <a:pt x="955" y="517"/>
                    <a:pt x="955" y="433"/>
                    <a:pt x="934" y="352"/>
                  </a:cubicBezTo>
                  <a:cubicBezTo>
                    <a:pt x="912" y="272"/>
                    <a:pt x="870" y="198"/>
                    <a:pt x="811" y="139"/>
                  </a:cubicBezTo>
                  <a:lnTo>
                    <a:pt x="811" y="139"/>
                  </a:lnTo>
                  <a:lnTo>
                    <a:pt x="811" y="139"/>
                  </a:lnTo>
                  <a:cubicBezTo>
                    <a:pt x="752" y="80"/>
                    <a:pt x="678" y="38"/>
                    <a:pt x="598" y="16"/>
                  </a:cubicBezTo>
                  <a:cubicBezTo>
                    <a:pt x="517" y="-5"/>
                    <a:pt x="433" y="-5"/>
                    <a:pt x="352" y="16"/>
                  </a:cubicBezTo>
                  <a:cubicBezTo>
                    <a:pt x="272" y="38"/>
                    <a:pt x="198" y="80"/>
                    <a:pt x="139" y="139"/>
                  </a:cubicBezTo>
                  <a:cubicBezTo>
                    <a:pt x="80" y="198"/>
                    <a:pt x="38" y="272"/>
                    <a:pt x="16" y="352"/>
                  </a:cubicBezTo>
                  <a:cubicBezTo>
                    <a:pt x="-5" y="433"/>
                    <a:pt x="-5" y="517"/>
                    <a:pt x="16" y="598"/>
                  </a:cubicBezTo>
                  <a:cubicBezTo>
                    <a:pt x="38" y="678"/>
                    <a:pt x="80" y="752"/>
                    <a:pt x="139" y="811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8220240" y="3962520"/>
            <a:ext cx="110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39160" y="2282760"/>
            <a:ext cx="0" cy="1508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977240" y="2144880"/>
            <a:ext cx="142920" cy="142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7240680" y="2287440"/>
            <a:ext cx="7891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07360" y="3430440"/>
            <a:ext cx="468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90720" y="1371600"/>
            <a:ext cx="8224560" cy="3429000"/>
            <a:chOff x="990720" y="1371600"/>
            <a:chExt cx="8224560" cy="3429000"/>
          </a:xfrm>
        </p:grpSpPr>
        <p:pic>
          <p:nvPicPr>
            <p:cNvPr id="398" name="" descr=""/>
            <p:cNvPicPr/>
            <p:nvPr/>
          </p:nvPicPr>
          <p:blipFill>
            <a:blip r:embed="rId1"/>
            <a:stretch/>
          </p:blipFill>
          <p:spPr>
            <a:xfrm>
              <a:off x="990720" y="2954160"/>
              <a:ext cx="705492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" descr=""/>
            <p:cNvPicPr/>
            <p:nvPr/>
          </p:nvPicPr>
          <p:blipFill>
            <a:blip r:embed="rId2"/>
            <a:stretch/>
          </p:blipFill>
          <p:spPr>
            <a:xfrm>
              <a:off x="1004760" y="1371600"/>
              <a:ext cx="8210520" cy="117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 flipV="1">
              <a:off x="1052640" y="221760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780080" y="2462040"/>
              <a:ext cx="4343400" cy="54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"/>
          <p:cNvSpPr txBox="1"/>
          <p:nvPr/>
        </p:nvSpPr>
        <p:spPr>
          <a:xfrm>
            <a:off x="2058840" y="5183280"/>
            <a:ext cx="5962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0xFF 0xF0 0xF3 0x30 0xC0 0x0F 0x0C 0xC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Impulse response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29400" y="3121200"/>
            <a:ext cx="0" cy="18349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789360" y="3139920"/>
            <a:ext cx="0" cy="12924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997600" y="3130560"/>
            <a:ext cx="0" cy="12920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43280" y="2509920"/>
            <a:ext cx="185112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784680" y="2509920"/>
            <a:ext cx="221760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427640" y="2668680"/>
            <a:ext cx="91440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787920" y="4414680"/>
            <a:ext cx="221940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344840" y="442116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92600" y="3633840"/>
            <a:ext cx="343080" cy="2858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56160" y="3460680"/>
            <a:ext cx="5144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947960" y="3727440"/>
            <a:ext cx="2225520" cy="39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300480" y="355140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0560" y="3271680"/>
            <a:ext cx="341280" cy="28908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2982960" y="3108240"/>
            <a:ext cx="5144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308400" y="3147840"/>
            <a:ext cx="0" cy="122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92920" y="2509920"/>
            <a:ext cx="1944720" cy="6332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060960" y="2503440"/>
            <a:ext cx="16714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 n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724360" y="4935600"/>
            <a:ext cx="22161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6821640" y="477684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935840" y="3139920"/>
            <a:ext cx="0" cy="178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4859280" y="390204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59280" y="3144960"/>
            <a:ext cx="0" cy="480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952640" y="31719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39880" y="5837400"/>
            <a:ext cx="5046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869000" y="5257800"/>
            <a:ext cx="0" cy="5857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432480" y="5789520"/>
            <a:ext cx="1033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2884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0820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54560" y="5789520"/>
            <a:ext cx="10152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48240" y="5789520"/>
            <a:ext cx="10008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5520" y="5789520"/>
            <a:ext cx="100080" cy="954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713120" y="5845320"/>
            <a:ext cx="330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000760" y="584532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308640" y="5856120"/>
            <a:ext cx="2412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2924280" y="5856120"/>
            <a:ext cx="571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743360" y="4861080"/>
            <a:ext cx="303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121200" y="5443560"/>
            <a:ext cx="328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378240" y="5443560"/>
            <a:ext cx="3301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427640" y="543384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975200" y="5440320"/>
            <a:ext cx="33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026040" y="5430960"/>
            <a:ext cx="3333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303960" y="5430960"/>
            <a:ext cx="331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662880" y="4643280"/>
            <a:ext cx="146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39240" y="4653000"/>
            <a:ext cx="0" cy="7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4541760" y="3786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552920" y="3795840"/>
            <a:ext cx="0" cy="473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435480" y="4267080"/>
            <a:ext cx="111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449520" y="4276800"/>
            <a:ext cx="0" cy="1057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59240" y="533412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738440" y="341784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82720" y="3438360"/>
            <a:ext cx="0" cy="15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08680" y="3149640"/>
            <a:ext cx="0" cy="133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7710480" y="5594400"/>
            <a:ext cx="3142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459400" y="5318280"/>
            <a:ext cx="409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08440" y="5318280"/>
            <a:ext cx="40968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71560" y="4943520"/>
            <a:ext cx="1478160" cy="900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6626160" y="5369040"/>
            <a:ext cx="1519200" cy="398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175280" y="318276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416560" y="3276720"/>
            <a:ext cx="153972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5006880" y="3666960"/>
            <a:ext cx="579600" cy="100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3666960"/>
            <a:ext cx="560520" cy="898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3467160" y="3392640"/>
            <a:ext cx="1954080" cy="11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648480" y="4498920"/>
            <a:ext cx="343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518160" y="4344840"/>
            <a:ext cx="51264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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6326280" y="495468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2446200" y="3735360"/>
            <a:ext cx="11523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2098800" y="2503440"/>
            <a:ext cx="16714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m-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EQ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982880" y="1220760"/>
            <a:ext cx="596268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64=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0xFF 0xF0 0xF3 0x30 0xC0 0x0F 0x0C 0xC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04080" y="203976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794040" y="2039760"/>
            <a:ext cx="0" cy="46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840120" y="2273400"/>
            <a:ext cx="2130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162320" y="2046240"/>
            <a:ext cx="13446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371840" y="5856120"/>
            <a:ext cx="4539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function of SEQ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42788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 and SIFS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642000" cy="33656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249120" y="1143000"/>
            <a:ext cx="938844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=CCATime+RxTxTurnaroundTime+AirPropagationTime+MACProcessing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249120" y="1676520"/>
            <a:ext cx="912168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Time=RxRFDelay+RxPLCPDelay+MACProcessingDelay+RxTxTurnaroun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584360" y="5629320"/>
            <a:ext cx="27813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=8.9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05520" y="5638680"/>
            <a:ext cx="2919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Time=7.4u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Feature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39880" y="1447920"/>
            <a:ext cx="8327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728640" y="2098800"/>
            <a:ext cx="817236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Detection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03584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15-5.2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80931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25-5.3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72496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llocation in 5.725-5.825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91821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ersus Phase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23240" cy="46004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228600" y="6248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495680" y="61722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9436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Narrow-band No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59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CW-j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121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Alternat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711216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Adjacent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5786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AWG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88356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76212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ndix: PER v.s. Co-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9595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533520"/>
            <a:ext cx="87631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18812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533520"/>
            <a:ext cx="89154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26444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7621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64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65496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533520"/>
            <a:ext cx="8420040" cy="9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versus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kbyte-Packet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imple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26444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28600" y="64771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6400800"/>
            <a:ext cx="846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943600" y="64008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ANOUE,KAKURA,OHSAWA, NEC cor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60948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n Fading with Gaussian Noise without FEC (64byte-packet) (Complex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42636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zuhiro Okanoue</dc:creator>
  <dc:description/>
  <dc:language>en-US</dc:language>
  <cp:lastModifiedBy>Kazuhiro Okanoue</cp:lastModifiedBy>
  <cp:revision>0</cp:revision>
  <dc:subject/>
  <dc:title>Proposal of QPSK Modulation  for 5GHz-band Wireless LAN  January, 1998  Kazuhiro OKANOUE, Yoshikazu KAKURA, Tomoki OHSAWA  NEC Corporation 4-1-1, Miyazaki, Miyamae-ku, Kawasaki, 216 Japan Tel: +81 44 856 2255 Fax: +81 44 856 2230 E-mail: {okanoue,kakura,o</dc:title>
</cp:coreProperties>
</file>