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4605-9B69-4BAA-A421-2F13A0A3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F3AD-C012-4BB0-8868-5379E186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5E05-E25A-48AA-8F78-48985128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99D3-C775-4EA7-A2A2-477E8492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34FD-6C0A-409F-B6F5-4EAAFCBF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5917-E2A9-464C-9C0B-2C4A69CA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F724-CA89-4E6F-9191-4BC1DD82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7102-0BD8-412F-A355-093BA2D7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2CC8-98B8-4D9A-B04F-B5F6B072E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03D3-8242-462F-9DD0-CFFA4A83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7F90-2C10-456A-AA83-563F1D4F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56D6-76BD-458E-9C12-1721F48E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23CB-3D3F-492F-A867-883E5AAE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FC45-94E7-4599-928F-5C073C51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55CA-1FC3-4141-9074-5A85E352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005E-6590-4B8B-B254-569E87EA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C45B-3A6C-46A2-A97F-23877541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3A34-2709-4B3B-8304-A983BB80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5A6E-5411-480B-9E6F-DEFD5FC0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7F1F-90AF-4E38-8B4F-5E2B3486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D5C1-871B-4786-9AC2-0F279C16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364-AAB1-4090-9ECB-73178784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CE26-5FBA-476E-B85B-A665DB54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19CF-CD44-4D5D-9272-938EFE30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832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71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F1BEE1D-32C0-4F17-824D-95635C678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8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AC2small" descr=""/>
          <p:cNvPicPr/>
          <p:nvPr/>
        </p:nvPicPr>
        <p:blipFill>
          <a:blip r:embed="rId2"/>
          <a:stretch/>
        </p:blipFill>
        <p:spPr>
          <a:xfrm>
            <a:off x="8163000" y="6381720"/>
            <a:ext cx="371520" cy="39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FB19598-5F74-4014-AF2D-E5DA26166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82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roposal for High Data Rate 2.4 GHz PHY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Variable Rate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Binary Convolutional Coding</a:t>
            </a:r>
            <a:br>
              <a:rPr sz="3200"/>
            </a:b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on QPSK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ris Heegar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thew B. Shoema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ff"/>
                </a:solidFill>
                <a:latin typeface="Times New Roman"/>
              </a:rPr>
              <a:t>Alantro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C2" descr=""/>
          <p:cNvPicPr/>
          <p:nvPr/>
        </p:nvPicPr>
        <p:blipFill>
          <a:blip r:embed="rId1"/>
          <a:stretch/>
        </p:blipFill>
        <p:spPr>
          <a:xfrm>
            <a:off x="6429240" y="3419640"/>
            <a:ext cx="187668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ER, 64 Byte Packets, Primary (11Mbps) Rate, Multipath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ms = 25, 50, 100, 150, 200, 250, 350, 450, 550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32000" y="2590920"/>
          <a:ext cx="4678560" cy="37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2590920"/>
                    <a:ext cx="467856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B3FD-F299-41E4-8B86-5834EA1E745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ER, 1000 Byte Packets, Primary (11Mbps) Rate, Multipath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ms = 25, 50, 100, 150, 200, 250, 350, 450, 550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93920" y="2670120"/>
          <a:ext cx="4554720" cy="365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3920" y="2670120"/>
                    <a:ext cx="4554720" cy="36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1B11-800B-40F2-93A1-0D25A1A0BE0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ER , 64 Byte Packets, Variable Rate, AWGN, Es/No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438280" y="2362320"/>
          <a:ext cx="4316400" cy="36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362320"/>
                    <a:ext cx="431640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288-B140-4A0B-83B1-B638D4CE9F3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ER , 64 Byte Packets, Variable Rate, AWGN, Eb/No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133720" y="2438280"/>
          <a:ext cx="4535280" cy="36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438280"/>
                    <a:ext cx="453528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41DA-B581-4E55-A986-A00A7549C2A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ER , 1000 Byte Packets, Variable Rate, AWGN, Es/No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09680" y="2286000"/>
          <a:ext cx="4592880" cy="36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286000"/>
                    <a:ext cx="459288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839C-6AE2-4F11-86EA-820AE8E1863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ER , 1000 Byte Packets, Variable Rate, AWGN, Eb/No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65480" y="2122560"/>
          <a:ext cx="4611600" cy="36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5480" y="2122560"/>
                    <a:ext cx="461160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B7F0-6909-467D-8A3E-06DFC54D966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Cell Planning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066680" y="1752480"/>
            <a:ext cx="6934320" cy="4343400"/>
            <a:chOff x="1066680" y="1752480"/>
            <a:chExt cx="6934320" cy="4343400"/>
          </a:xfrm>
        </p:grpSpPr>
        <p:sp>
          <p:nvSpPr>
            <p:cNvPr id="170" name=""/>
            <p:cNvSpPr/>
            <p:nvPr/>
          </p:nvSpPr>
          <p:spPr>
            <a:xfrm>
              <a:off x="1066680" y="27432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14480" y="32004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66680" y="37339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66680" y="47242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05120" y="41911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95400" y="51814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5120" y="22096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66680" y="17524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3200" y="27432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91000" y="32004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43200" y="37339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43200" y="47242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81280" y="41911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71920" y="51814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81280" y="22096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43200" y="17524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19720" y="27432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67160" y="32004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19720" y="37339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19720" y="47242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57800" y="41911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48440" y="5181480"/>
              <a:ext cx="1056960" cy="914400"/>
            </a:xfrm>
            <a:prstGeom prst="hexagon">
              <a:avLst>
                <a:gd name="adj" fmla="val 28898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7800" y="22860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19720" y="17524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95880" y="27432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43680" y="320040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95880" y="37339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95880" y="47242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34320" y="419112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24600" y="51814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34320" y="22096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cbcbc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095880" y="1752480"/>
              <a:ext cx="1057320" cy="914400"/>
            </a:xfrm>
            <a:prstGeom prst="hexagon">
              <a:avLst>
                <a:gd name="adj" fmla="val 28907"/>
                <a:gd name="vf" fmla="val 115470"/>
              </a:avLst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5C5B-60ED-4F99-9D0B-5962C88CD72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64 state B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ing Gain for Robust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riable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sonable 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Adaptive Equaliz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obust multipath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bines well with B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sonable 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Backward Compa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listic upgrade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ses existing RF/Antenna, 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</a:rPr>
              <a:t>Ongoing HD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DC20-2F0A-4D4E-B2FF-1E1561DC132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Transmitter &amp; Receiver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371600" y="2133720"/>
            <a:ext cx="4306680" cy="1541520"/>
            <a:chOff x="1371600" y="2133720"/>
            <a:chExt cx="4306680" cy="1541520"/>
          </a:xfrm>
        </p:grpSpPr>
        <p:sp>
          <p:nvSpPr>
            <p:cNvPr id="96" name=""/>
            <p:cNvSpPr/>
            <p:nvPr/>
          </p:nvSpPr>
          <p:spPr>
            <a:xfrm>
              <a:off x="3525840" y="2133720"/>
              <a:ext cx="1052280" cy="4572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ariable 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C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2320" y="2376720"/>
              <a:ext cx="3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52720" y="3445200"/>
              <a:ext cx="3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87480" y="3218040"/>
              <a:ext cx="1052640" cy="4572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QPS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odula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73480" y="3148200"/>
              <a:ext cx="1095480" cy="4572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F Upconverter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mplifi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75080" y="349740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08440" y="31276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1600" y="2173680"/>
              <a:ext cx="54432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540400" y="3027600"/>
              <a:ext cx="137880" cy="138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0000" y="0"/>
                  </a:moveTo>
                  <a:lnTo>
                    <a:pt x="0" y="20000"/>
                  </a:lnTo>
                  <a:lnTo>
                    <a:pt x="20000" y="20000"/>
                  </a:lnTo>
                  <a:lnTo>
                    <a:pt x="100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47760" y="2136960"/>
              <a:ext cx="1050840" cy="4572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97160" y="2375280"/>
              <a:ext cx="3477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582800" y="2373480"/>
              <a:ext cx="176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765680" y="237528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479680" y="28926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68520" y="2892600"/>
              <a:ext cx="0" cy="56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68520" y="3456360"/>
              <a:ext cx="3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900520" y="4204800"/>
            <a:ext cx="4262400" cy="1891080"/>
            <a:chOff x="2900520" y="4204800"/>
            <a:chExt cx="4262400" cy="1891080"/>
          </a:xfrm>
        </p:grpSpPr>
        <p:sp>
          <p:nvSpPr>
            <p:cNvPr id="113" name=""/>
            <p:cNvSpPr/>
            <p:nvPr/>
          </p:nvSpPr>
          <p:spPr>
            <a:xfrm>
              <a:off x="3295800" y="4451040"/>
              <a:ext cx="1116000" cy="4572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F Pre-Amp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own Conve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72160" y="467640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08920" y="4679640"/>
              <a:ext cx="32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31120" y="4452840"/>
              <a:ext cx="1409760" cy="4572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QPSK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emodulaor/Equaliz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48400" y="5533920"/>
              <a:ext cx="1116000" cy="4572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C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eco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72320" y="5767200"/>
              <a:ext cx="3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2160" y="431604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96360" y="5567040"/>
              <a:ext cx="46656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in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02440" y="5536800"/>
              <a:ext cx="1116000" cy="457200"/>
            </a:xfrm>
            <a:prstGeom prst="rect">
              <a:avLst/>
            </a:prstGeom>
            <a:solidFill>
              <a:srgbClr val="ddddd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AC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terfa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18440" y="5770440"/>
              <a:ext cx="3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2900520" y="4204440"/>
              <a:ext cx="136800" cy="136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0000" y="0"/>
                  </a:moveTo>
                  <a:lnTo>
                    <a:pt x="0" y="20000"/>
                  </a:lnTo>
                  <a:lnTo>
                    <a:pt x="20000" y="20000"/>
                  </a:lnTo>
                  <a:lnTo>
                    <a:pt x="1000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143760" y="4668480"/>
              <a:ext cx="176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26640" y="4670280"/>
              <a:ext cx="0" cy="5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3543480" y="5197320"/>
              <a:ext cx="277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32320" y="5206680"/>
              <a:ext cx="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32320" y="5759280"/>
              <a:ext cx="3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3E2-6002-4362-B6EC-C960822BC87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Robust Coding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 state BCC (binary convolutional code) with punctured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ncoded) 1, 2, (coded) 2.75, 5.5, 11, 14.3, 16.5, 17.6, 18.3 and 19.25 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rate: 11 Mbps with +2dB Es/No over 2Mbps DS-PHY (+500%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5 Mbps with -1.2dB Es/No over 2Mbps DS-PHY (+275%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ding gain can save power at transm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B0EA-9988-4614-ADB4-6EA594EA528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Backward Compatibility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PSK mod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Msps Symbol (Chip)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MHz Band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ing RF, Antenna, 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am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pre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compatible, less data/estimation 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performance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FFF7-9DFD-4993-83FE-F904F7FA91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33"/>
                </a:solidFill>
                <a:latin typeface="Times New Roman"/>
              </a:rPr>
              <a:t>Complexity</a:t>
            </a:r>
            <a:endParaRPr b="0" lang="en-US" sz="40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imates of 76k-95k 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st in terms of state-of-the art technology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s based on preliminary HDL design (port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management will reduce average power usage (modules with have sleep mode, CM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feasibility demonstrated; at least one vendor has already agreed to deploy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 low complexity solution that is not robust will hurt the possibility of exciting growth in the WLAN market </a:t>
            </a: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-we all los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506760" y="1523880"/>
          <a:ext cx="5637240" cy="95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6760" y="1523880"/>
                    <a:ext cx="563724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DDB5-56F0-4A2E-BFE2-9BE32CAA8A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BCC’s in Wireless Systems</a:t>
            </a:r>
            <a:endParaRPr b="0" lang="en-US" sz="44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of BCC’s in wireless communications is not a new id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C’s have been proven effective in wireless systems with multipath, and they have been implemented as commercial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-95 standard for digital CDMA cellular phones uses a 256-state B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 standard uses a four state punctured B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tellite systems, such as the small disk digital TV systems (e.g., DirectTV &amp; Primestar) always deploy such a B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ddition, BCC’s have been proposed for the 802.11A (5.0 GHz)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068B-7FE7-49AD-8744-04F82D31F1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rocessing Gain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17560" y="1940040"/>
          <a:ext cx="5707080" cy="297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1940040"/>
                    <a:ext cx="570708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9C51-1D33-4210-92C3-5BBDE1DE1D3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AWGN Performance</a:t>
            </a:r>
            <a:br>
              <a:rPr sz="3200"/>
            </a:b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Detection Complexity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46360" y="2274840"/>
          <a:ext cx="5649840" cy="29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6360" y="2274840"/>
                    <a:ext cx="5649840" cy="29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FA6-3745-4394-B856-F822897D64F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PER versus Trms</a:t>
            </a:r>
            <a:endParaRPr b="0" lang="en-US" sz="3200" spc="-1" strike="noStrike">
              <a:solidFill>
                <a:srgbClr val="ff0033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666880" y="2028960"/>
          <a:ext cx="3810240" cy="28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028960"/>
                    <a:ext cx="3810240" cy="28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 &amp; Matthew Shoemake,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9D5F-2BBB-4C1C-8E00-361CB17E518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Chris Heegard</dc:creator>
  <dc:description/>
  <dc:language>en-US</dc:language>
  <cp:lastModifiedBy>Bozo T. Clown</cp:lastModifiedBy>
  <cp:lastPrinted>1998-03-11T19:03:54Z</cp:lastPrinted>
  <dcterms:modified xsi:type="dcterms:W3CDTF">1998-03-11T19:10:14Z</dcterms:modified>
  <cp:revision>49</cp:revision>
  <dc:subject/>
  <dc:title>VR-BCC QPSK</dc:title>
</cp:coreProperties>
</file>