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0401-C891-4469-904F-4A29DAFE6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FBDF-B77C-4E23-B18D-9A37E65C3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05B2-69D3-43E1-A3B9-FA94EA08A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0F76-A4FE-4279-A4FA-01EDA5565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14AEE-1BD4-42A7-9E7F-2420EC832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67E78-189D-4867-A224-312CC432D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FB710-FF84-4951-B562-9F16448BE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18997-D789-470E-A63D-DABDBD3EA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F385C-7F29-4D91-B23B-D0A5A6F72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14175-E047-4CD2-9665-85B5C6F71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0C294-6E91-4F30-B822-7B1ED4B9E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0F4F-97A8-4420-AA85-B0FECF27B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EB0C2-3A91-4293-948A-6FAA6A5B7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6BFE5-3C3E-44C3-A6FE-E19984A44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9294F-F3CA-4037-9206-D434E41F4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05D01-9E82-4F7C-9812-8A03E4668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625EC-DB98-4962-9E4D-0CE05A489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5CEE-6EF7-4F4F-8216-1E4CA9E1D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CF55-0BC3-4393-A15E-A76839573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B3B2-274B-49A0-9639-34180D608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18AB-81D9-4DDB-8906-57BCA1561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8D66-7834-41FB-B9B6-09475D0A3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E684-DFFF-45BA-8FD6-2AC1968F5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8EA7-7108-46AA-8493-96C195CC7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228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48320" y="639936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447560" y="6399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2D3E8515-4867-44C4-A0F4-350E9345D6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2286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ctr">
            <a:no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98/8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92200" y="6446880"/>
            <a:ext cx="8982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" name="AC2small" descr=""/>
          <p:cNvPicPr/>
          <p:nvPr/>
        </p:nvPicPr>
        <p:blipFill>
          <a:blip r:embed="rId2"/>
          <a:stretch/>
        </p:blipFill>
        <p:spPr>
          <a:xfrm>
            <a:off x="8163000" y="6381720"/>
            <a:ext cx="371520" cy="399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EA8BCB48-FFC0-4E94-ACBD-58F0240534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495680" y="2286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ctr">
            <a:no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98/8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92200" y="6446880"/>
            <a:ext cx="8982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0024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296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29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29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AC2" descr=""/>
          <p:cNvPicPr/>
          <p:nvPr/>
        </p:nvPicPr>
        <p:blipFill>
          <a:blip r:embed="rId1"/>
          <a:stretch/>
        </p:blipFill>
        <p:spPr>
          <a:xfrm>
            <a:off x="6429240" y="3419640"/>
            <a:ext cx="1876680" cy="199044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EC</a:t>
            </a:r>
            <a:br>
              <a:rPr sz="4400"/>
            </a:br>
            <a:r>
              <a:rPr b="0" lang="en-US" sz="4400" spc="-1" strike="noStrike">
                <a:solidFill>
                  <a:srgbClr val="868686"/>
                </a:solidFill>
                <a:latin typeface="Times New Roman"/>
              </a:rPr>
              <a:t>(Forward Error Control)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s Not Overhe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ris Heegar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amp;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tthew B. Shoema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66ff"/>
                </a:solidFill>
                <a:latin typeface="Times New Roman"/>
              </a:rPr>
              <a:t>Alantro Commun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ded Modu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ve each bit of data affect many symb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verage out the noise with the deco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743200" y="2971800"/>
            <a:ext cx="5105520" cy="3808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24080" y="2743200"/>
            <a:ext cx="0" cy="838080"/>
          </a:xfrm>
          <a:prstGeom prst="line">
            <a:avLst/>
          </a:prstGeom>
          <a:ln w="28440">
            <a:solidFill>
              <a:srgbClr val="0099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505320" y="2743200"/>
            <a:ext cx="0" cy="838080"/>
          </a:xfrm>
          <a:prstGeom prst="line">
            <a:avLst/>
          </a:prstGeom>
          <a:ln w="28440">
            <a:solidFill>
              <a:srgbClr val="0099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886200" y="2743200"/>
            <a:ext cx="0" cy="838080"/>
          </a:xfrm>
          <a:prstGeom prst="line">
            <a:avLst/>
          </a:prstGeom>
          <a:ln w="28440">
            <a:solidFill>
              <a:srgbClr val="0099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67080" y="2743200"/>
            <a:ext cx="0" cy="838080"/>
          </a:xfrm>
          <a:prstGeom prst="line">
            <a:avLst/>
          </a:prstGeom>
          <a:ln w="28440">
            <a:solidFill>
              <a:srgbClr val="0099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648320" y="2743200"/>
            <a:ext cx="0" cy="838080"/>
          </a:xfrm>
          <a:prstGeom prst="line">
            <a:avLst/>
          </a:prstGeom>
          <a:ln w="28440">
            <a:solidFill>
              <a:srgbClr val="0099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029200" y="2743200"/>
            <a:ext cx="0" cy="838080"/>
          </a:xfrm>
          <a:prstGeom prst="line">
            <a:avLst/>
          </a:prstGeom>
          <a:ln w="28440">
            <a:solidFill>
              <a:srgbClr val="0099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410080" y="2743200"/>
            <a:ext cx="0" cy="838080"/>
          </a:xfrm>
          <a:prstGeom prst="line">
            <a:avLst/>
          </a:prstGeom>
          <a:ln w="28440">
            <a:solidFill>
              <a:srgbClr val="0099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791320" y="2743200"/>
            <a:ext cx="0" cy="838080"/>
          </a:xfrm>
          <a:prstGeom prst="line">
            <a:avLst/>
          </a:prstGeom>
          <a:ln w="28440">
            <a:solidFill>
              <a:srgbClr val="0099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172200" y="2743200"/>
            <a:ext cx="0" cy="838080"/>
          </a:xfrm>
          <a:prstGeom prst="line">
            <a:avLst/>
          </a:prstGeom>
          <a:ln w="28440">
            <a:solidFill>
              <a:srgbClr val="0099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752840" y="289548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352680" y="335268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200400" y="3962520"/>
            <a:ext cx="304920" cy="304560"/>
          </a:xfrm>
          <a:prstGeom prst="ellipse">
            <a:avLst/>
          </a:prstGeom>
          <a:solidFill>
            <a:srgbClr val="33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733920" y="335268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581280" y="3962520"/>
            <a:ext cx="304920" cy="304560"/>
          </a:xfrm>
          <a:prstGeom prst="ellipse">
            <a:avLst/>
          </a:prstGeom>
          <a:solidFill>
            <a:srgbClr val="33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114800" y="335268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962520" y="3962520"/>
            <a:ext cx="304560" cy="304560"/>
          </a:xfrm>
          <a:prstGeom prst="ellipse">
            <a:avLst/>
          </a:prstGeom>
          <a:solidFill>
            <a:srgbClr val="33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495680" y="335268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3962520"/>
            <a:ext cx="304920" cy="304560"/>
          </a:xfrm>
          <a:prstGeom prst="ellipse">
            <a:avLst/>
          </a:prstGeom>
          <a:solidFill>
            <a:srgbClr val="33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876920" y="335268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724280" y="3962520"/>
            <a:ext cx="304920" cy="304560"/>
          </a:xfrm>
          <a:prstGeom prst="ellipse">
            <a:avLst/>
          </a:prstGeom>
          <a:solidFill>
            <a:srgbClr val="33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257800" y="335268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105520" y="3962520"/>
            <a:ext cx="304560" cy="304560"/>
          </a:xfrm>
          <a:prstGeom prst="ellipse">
            <a:avLst/>
          </a:prstGeom>
          <a:solidFill>
            <a:srgbClr val="33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638680" y="335268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486400" y="3962520"/>
            <a:ext cx="304920" cy="304560"/>
          </a:xfrm>
          <a:prstGeom prst="ellipse">
            <a:avLst/>
          </a:prstGeom>
          <a:solidFill>
            <a:srgbClr val="33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019920" y="335268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67280" y="3962520"/>
            <a:ext cx="304920" cy="304560"/>
          </a:xfrm>
          <a:prstGeom prst="ellipse">
            <a:avLst/>
          </a:prstGeom>
          <a:solidFill>
            <a:srgbClr val="33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960" y="3886200"/>
            <a:ext cx="13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mbo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352680" y="3352680"/>
            <a:ext cx="68580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352680" y="3352680"/>
            <a:ext cx="68580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733920" y="3352680"/>
            <a:ext cx="68580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114800" y="3352680"/>
            <a:ext cx="68580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495680" y="3352680"/>
            <a:ext cx="68580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876920" y="3352680"/>
            <a:ext cx="68580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257800" y="3352680"/>
            <a:ext cx="68580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3352680"/>
            <a:ext cx="68580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3733920" y="3352680"/>
            <a:ext cx="38088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3352320" y="3352680"/>
            <a:ext cx="38124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114800" y="3352680"/>
            <a:ext cx="38088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4495320" y="3352680"/>
            <a:ext cx="38124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4876920" y="3352680"/>
            <a:ext cx="38088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5257800" y="3352680"/>
            <a:ext cx="38088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5638320" y="3352680"/>
            <a:ext cx="38124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6019920" y="3352680"/>
            <a:ext cx="38088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ris Heegard &amp; Matthew Shoemake, Alantro Communica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F36F-D16B-4F32-A694-E3943AA7569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1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king Signals Robu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ximize energy that differentiates distinct sign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WGN (Additive White Gaussian Nois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2895480" y="4114800"/>
            <a:ext cx="2590560" cy="1752480"/>
            <a:chOff x="2895480" y="4114800"/>
            <a:chExt cx="2590560" cy="1752480"/>
          </a:xfrm>
        </p:grpSpPr>
        <p:sp>
          <p:nvSpPr>
            <p:cNvPr id="229" name=""/>
            <p:cNvSpPr/>
            <p:nvPr/>
          </p:nvSpPr>
          <p:spPr>
            <a:xfrm>
              <a:off x="2895480" y="4114800"/>
              <a:ext cx="2590560" cy="17524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240" y="96"/>
                  </a:moveTo>
                  <a:lnTo>
                    <a:pt x="480" y="0"/>
                  </a:lnTo>
                  <a:lnTo>
                    <a:pt x="768" y="144"/>
                  </a:lnTo>
                  <a:lnTo>
                    <a:pt x="864" y="528"/>
                  </a:lnTo>
                  <a:lnTo>
                    <a:pt x="768" y="624"/>
                  </a:lnTo>
                  <a:lnTo>
                    <a:pt x="288" y="864"/>
                  </a:lnTo>
                  <a:lnTo>
                    <a:pt x="96" y="672"/>
                  </a:lnTo>
                  <a:lnTo>
                    <a:pt x="0" y="240"/>
                  </a:lnTo>
                  <a:lnTo>
                    <a:pt x="240" y="96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352680" y="4724280"/>
              <a:ext cx="152280" cy="228600"/>
            </a:xfrm>
            <a:custGeom>
              <a:avLst/>
              <a:gdLst>
                <a:gd name="textAreaLeft" fmla="*/ 62640 w 152280"/>
                <a:gd name="textAreaRight" fmla="*/ 89640 w 152280"/>
                <a:gd name="textAreaTop" fmla="*/ 94320 h 228600"/>
                <a:gd name="textAreaBottom" fmla="*/ 13428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962160" y="4419720"/>
              <a:ext cx="152280" cy="228600"/>
            </a:xfrm>
            <a:custGeom>
              <a:avLst/>
              <a:gdLst>
                <a:gd name="textAreaLeft" fmla="*/ 62640 w 152280"/>
                <a:gd name="textAreaRight" fmla="*/ 89640 w 152280"/>
                <a:gd name="textAreaTop" fmla="*/ 94320 h 228600"/>
                <a:gd name="textAreaBottom" fmla="*/ 13428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71640" y="4419720"/>
              <a:ext cx="152640" cy="228600"/>
            </a:xfrm>
            <a:custGeom>
              <a:avLst/>
              <a:gdLst>
                <a:gd name="textAreaLeft" fmla="*/ 63000 w 152640"/>
                <a:gd name="textAreaRight" fmla="*/ 89640 w 152640"/>
                <a:gd name="textAreaTop" fmla="*/ 94320 h 228600"/>
                <a:gd name="textAreaBottom" fmla="*/ 13428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105160" y="4876920"/>
              <a:ext cx="152280" cy="228600"/>
            </a:xfrm>
            <a:custGeom>
              <a:avLst/>
              <a:gdLst>
                <a:gd name="textAreaLeft" fmla="*/ 62640 w 152280"/>
                <a:gd name="textAreaRight" fmla="*/ 89640 w 152280"/>
                <a:gd name="textAreaTop" fmla="*/ 94320 h 228600"/>
                <a:gd name="textAreaBottom" fmla="*/ 13428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343040" y="5334120"/>
              <a:ext cx="152640" cy="228600"/>
            </a:xfrm>
            <a:custGeom>
              <a:avLst/>
              <a:gdLst>
                <a:gd name="textAreaLeft" fmla="*/ 63000 w 152640"/>
                <a:gd name="textAreaRight" fmla="*/ 89640 w 152640"/>
                <a:gd name="textAreaTop" fmla="*/ 94320 h 228600"/>
                <a:gd name="textAreaBottom" fmla="*/ 13428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581280" y="5410080"/>
              <a:ext cx="152280" cy="228600"/>
            </a:xfrm>
            <a:custGeom>
              <a:avLst/>
              <a:gdLst>
                <a:gd name="textAreaLeft" fmla="*/ 62640 w 152280"/>
                <a:gd name="textAreaRight" fmla="*/ 89640 w 152280"/>
                <a:gd name="textAreaTop" fmla="*/ 94320 h 228600"/>
                <a:gd name="textAreaBottom" fmla="*/ 13428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962160" y="4952880"/>
              <a:ext cx="152280" cy="228600"/>
            </a:xfrm>
            <a:custGeom>
              <a:avLst/>
              <a:gdLst>
                <a:gd name="textAreaLeft" fmla="*/ 62640 w 152280"/>
                <a:gd name="textAreaRight" fmla="*/ 89640 w 152280"/>
                <a:gd name="textAreaTop" fmla="*/ 94320 h 228600"/>
                <a:gd name="textAreaBottom" fmla="*/ 13428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ris Heegard &amp; Matthew Shoemake, Alantro Communica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7F71-2C84-4491-84B0-B3410FC0F6A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1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bust Sign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pa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Times New Roman"/>
              </a:rPr>
              <a:t>It is intuitively correct that signals that have large energy separation at the input of a filter are better distinguishable at the output of the filt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1219320" y="2971800"/>
            <a:ext cx="2971800" cy="2133720"/>
            <a:chOff x="1219320" y="2971800"/>
            <a:chExt cx="2971800" cy="2133720"/>
          </a:xfrm>
        </p:grpSpPr>
        <p:grpSp>
          <p:nvGrpSpPr>
            <p:cNvPr id="240" name=""/>
            <p:cNvGrpSpPr/>
            <p:nvPr/>
          </p:nvGrpSpPr>
          <p:grpSpPr>
            <a:xfrm>
              <a:off x="1371600" y="3124080"/>
              <a:ext cx="2590560" cy="1752480"/>
              <a:chOff x="1371600" y="3124080"/>
              <a:chExt cx="2590560" cy="1752480"/>
            </a:xfrm>
          </p:grpSpPr>
          <p:sp>
            <p:nvSpPr>
              <p:cNvPr id="241" name=""/>
              <p:cNvSpPr/>
              <p:nvPr/>
            </p:nvSpPr>
            <p:spPr>
              <a:xfrm>
                <a:off x="1371600" y="3124080"/>
                <a:ext cx="2590560" cy="1752480"/>
              </a:xfrm>
              <a:custGeom>
                <a:avLst/>
                <a:gdLst/>
                <a:ahLst/>
                <a:rect l="l" t="t" r="r" b="b"/>
                <a:pathLst>
                  <a:path w="864" h="864">
                    <a:moveTo>
                      <a:pt x="240" y="96"/>
                    </a:moveTo>
                    <a:lnTo>
                      <a:pt x="480" y="0"/>
                    </a:lnTo>
                    <a:lnTo>
                      <a:pt x="768" y="144"/>
                    </a:lnTo>
                    <a:lnTo>
                      <a:pt x="864" y="528"/>
                    </a:lnTo>
                    <a:lnTo>
                      <a:pt x="768" y="624"/>
                    </a:lnTo>
                    <a:lnTo>
                      <a:pt x="288" y="864"/>
                    </a:lnTo>
                    <a:lnTo>
                      <a:pt x="96" y="672"/>
                    </a:lnTo>
                    <a:lnTo>
                      <a:pt x="0" y="240"/>
                    </a:lnTo>
                    <a:lnTo>
                      <a:pt x="240" y="96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1828800" y="3733560"/>
                <a:ext cx="152280" cy="228600"/>
              </a:xfrm>
              <a:custGeom>
                <a:avLst/>
                <a:gdLst>
                  <a:gd name="textAreaLeft" fmla="*/ 62640 w 152280"/>
                  <a:gd name="textAreaRight" fmla="*/ 89640 w 152280"/>
                  <a:gd name="textAreaTop" fmla="*/ 94320 h 228600"/>
                  <a:gd name="textAreaBottom" fmla="*/ 134280 h 228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8900" y="8900"/>
                    </a:lnTo>
                    <a:lnTo>
                      <a:pt x="10800" y="0"/>
                    </a:lnTo>
                    <a:lnTo>
                      <a:pt x="12700" y="8900"/>
                    </a:lnTo>
                    <a:lnTo>
                      <a:pt x="21600" y="10800"/>
                    </a:lnTo>
                    <a:lnTo>
                      <a:pt x="12700" y="12700"/>
                    </a:lnTo>
                    <a:lnTo>
                      <a:pt x="10800" y="21600"/>
                    </a:lnTo>
                    <a:lnTo>
                      <a:pt x="8900" y="12700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cbcbcb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2438280" y="3429000"/>
                <a:ext cx="152280" cy="228600"/>
              </a:xfrm>
              <a:custGeom>
                <a:avLst/>
                <a:gdLst>
                  <a:gd name="textAreaLeft" fmla="*/ 62640 w 152280"/>
                  <a:gd name="textAreaRight" fmla="*/ 89640 w 152280"/>
                  <a:gd name="textAreaTop" fmla="*/ 94320 h 228600"/>
                  <a:gd name="textAreaBottom" fmla="*/ 134280 h 228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8900" y="8900"/>
                    </a:lnTo>
                    <a:lnTo>
                      <a:pt x="10800" y="0"/>
                    </a:lnTo>
                    <a:lnTo>
                      <a:pt x="12700" y="8900"/>
                    </a:lnTo>
                    <a:lnTo>
                      <a:pt x="21600" y="10800"/>
                    </a:lnTo>
                    <a:lnTo>
                      <a:pt x="12700" y="12700"/>
                    </a:lnTo>
                    <a:lnTo>
                      <a:pt x="10800" y="21600"/>
                    </a:lnTo>
                    <a:lnTo>
                      <a:pt x="8900" y="12700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cbcbcb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047760" y="3429000"/>
                <a:ext cx="152640" cy="228600"/>
              </a:xfrm>
              <a:custGeom>
                <a:avLst/>
                <a:gdLst>
                  <a:gd name="textAreaLeft" fmla="*/ 63000 w 152640"/>
                  <a:gd name="textAreaRight" fmla="*/ 89640 w 152640"/>
                  <a:gd name="textAreaTop" fmla="*/ 94320 h 228600"/>
                  <a:gd name="textAreaBottom" fmla="*/ 134280 h 228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8900" y="8900"/>
                    </a:lnTo>
                    <a:lnTo>
                      <a:pt x="10800" y="0"/>
                    </a:lnTo>
                    <a:lnTo>
                      <a:pt x="12700" y="8900"/>
                    </a:lnTo>
                    <a:lnTo>
                      <a:pt x="21600" y="10800"/>
                    </a:lnTo>
                    <a:lnTo>
                      <a:pt x="12700" y="12700"/>
                    </a:lnTo>
                    <a:lnTo>
                      <a:pt x="10800" y="21600"/>
                    </a:lnTo>
                    <a:lnTo>
                      <a:pt x="8900" y="12700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cbcbcb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3581280" y="3886200"/>
                <a:ext cx="152280" cy="228600"/>
              </a:xfrm>
              <a:custGeom>
                <a:avLst/>
                <a:gdLst>
                  <a:gd name="textAreaLeft" fmla="*/ 62640 w 152280"/>
                  <a:gd name="textAreaRight" fmla="*/ 89640 w 152280"/>
                  <a:gd name="textAreaTop" fmla="*/ 94320 h 228600"/>
                  <a:gd name="textAreaBottom" fmla="*/ 134280 h 228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8900" y="8900"/>
                    </a:lnTo>
                    <a:lnTo>
                      <a:pt x="10800" y="0"/>
                    </a:lnTo>
                    <a:lnTo>
                      <a:pt x="12700" y="8900"/>
                    </a:lnTo>
                    <a:lnTo>
                      <a:pt x="21600" y="10800"/>
                    </a:lnTo>
                    <a:lnTo>
                      <a:pt x="12700" y="12700"/>
                    </a:lnTo>
                    <a:lnTo>
                      <a:pt x="10800" y="21600"/>
                    </a:lnTo>
                    <a:lnTo>
                      <a:pt x="8900" y="12700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cbcbcb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2819160" y="4343400"/>
                <a:ext cx="152640" cy="228600"/>
              </a:xfrm>
              <a:custGeom>
                <a:avLst/>
                <a:gdLst>
                  <a:gd name="textAreaLeft" fmla="*/ 63000 w 152640"/>
                  <a:gd name="textAreaRight" fmla="*/ 89640 w 152640"/>
                  <a:gd name="textAreaTop" fmla="*/ 94320 h 228600"/>
                  <a:gd name="textAreaBottom" fmla="*/ 134280 h 228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8900" y="8900"/>
                    </a:lnTo>
                    <a:lnTo>
                      <a:pt x="10800" y="0"/>
                    </a:lnTo>
                    <a:lnTo>
                      <a:pt x="12700" y="8900"/>
                    </a:lnTo>
                    <a:lnTo>
                      <a:pt x="21600" y="10800"/>
                    </a:lnTo>
                    <a:lnTo>
                      <a:pt x="12700" y="12700"/>
                    </a:lnTo>
                    <a:lnTo>
                      <a:pt x="10800" y="21600"/>
                    </a:lnTo>
                    <a:lnTo>
                      <a:pt x="8900" y="12700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cbcbcb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057400" y="4419360"/>
                <a:ext cx="152280" cy="228600"/>
              </a:xfrm>
              <a:custGeom>
                <a:avLst/>
                <a:gdLst>
                  <a:gd name="textAreaLeft" fmla="*/ 62640 w 152280"/>
                  <a:gd name="textAreaRight" fmla="*/ 89640 w 152280"/>
                  <a:gd name="textAreaTop" fmla="*/ 94320 h 228600"/>
                  <a:gd name="textAreaBottom" fmla="*/ 134280 h 228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8900" y="8900"/>
                    </a:lnTo>
                    <a:lnTo>
                      <a:pt x="10800" y="0"/>
                    </a:lnTo>
                    <a:lnTo>
                      <a:pt x="12700" y="8900"/>
                    </a:lnTo>
                    <a:lnTo>
                      <a:pt x="21600" y="10800"/>
                    </a:lnTo>
                    <a:lnTo>
                      <a:pt x="12700" y="12700"/>
                    </a:lnTo>
                    <a:lnTo>
                      <a:pt x="10800" y="21600"/>
                    </a:lnTo>
                    <a:lnTo>
                      <a:pt x="8900" y="12700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cbcbcb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2438280" y="3962160"/>
                <a:ext cx="152280" cy="228600"/>
              </a:xfrm>
              <a:custGeom>
                <a:avLst/>
                <a:gdLst>
                  <a:gd name="textAreaLeft" fmla="*/ 62640 w 152280"/>
                  <a:gd name="textAreaRight" fmla="*/ 89640 w 152280"/>
                  <a:gd name="textAreaTop" fmla="*/ 94320 h 228600"/>
                  <a:gd name="textAreaBottom" fmla="*/ 134280 h 228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8900" y="8900"/>
                    </a:lnTo>
                    <a:lnTo>
                      <a:pt x="10800" y="0"/>
                    </a:lnTo>
                    <a:lnTo>
                      <a:pt x="12700" y="8900"/>
                    </a:lnTo>
                    <a:lnTo>
                      <a:pt x="21600" y="10800"/>
                    </a:lnTo>
                    <a:lnTo>
                      <a:pt x="12700" y="12700"/>
                    </a:lnTo>
                    <a:lnTo>
                      <a:pt x="10800" y="21600"/>
                    </a:lnTo>
                    <a:lnTo>
                      <a:pt x="8900" y="12700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cbcbcb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9" name=""/>
            <p:cNvSpPr/>
            <p:nvPr/>
          </p:nvSpPr>
          <p:spPr>
            <a:xfrm>
              <a:off x="2666880" y="2971800"/>
              <a:ext cx="0" cy="213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219320" y="3886200"/>
              <a:ext cx="297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5334120" y="3124080"/>
            <a:ext cx="2590560" cy="1752840"/>
          </a:xfrm>
          <a:custGeom>
            <a:avLst/>
            <a:gdLst/>
            <a:ahLst/>
            <a:rect l="l" t="t" r="r" b="b"/>
            <a:pathLst>
              <a:path w="864" h="864">
                <a:moveTo>
                  <a:pt x="240" y="96"/>
                </a:moveTo>
                <a:lnTo>
                  <a:pt x="480" y="0"/>
                </a:lnTo>
                <a:lnTo>
                  <a:pt x="768" y="144"/>
                </a:lnTo>
                <a:lnTo>
                  <a:pt x="864" y="528"/>
                </a:lnTo>
                <a:lnTo>
                  <a:pt x="768" y="624"/>
                </a:lnTo>
                <a:lnTo>
                  <a:pt x="288" y="864"/>
                </a:lnTo>
                <a:lnTo>
                  <a:pt x="96" y="672"/>
                </a:lnTo>
                <a:lnTo>
                  <a:pt x="0" y="240"/>
                </a:lnTo>
                <a:lnTo>
                  <a:pt x="240" y="96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791320" y="3809880"/>
            <a:ext cx="152280" cy="228600"/>
          </a:xfrm>
          <a:custGeom>
            <a:avLst/>
            <a:gdLst>
              <a:gd name="textAreaLeft" fmla="*/ 62640 w 152280"/>
              <a:gd name="textAreaRight" fmla="*/ 89640 w 15228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553080" y="3352680"/>
            <a:ext cx="152640" cy="228600"/>
          </a:xfrm>
          <a:custGeom>
            <a:avLst/>
            <a:gdLst>
              <a:gd name="textAreaLeft" fmla="*/ 63000 w 152640"/>
              <a:gd name="textAreaRight" fmla="*/ 89640 w 15264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010280" y="3429000"/>
            <a:ext cx="152640" cy="228600"/>
          </a:xfrm>
          <a:custGeom>
            <a:avLst/>
            <a:gdLst>
              <a:gd name="textAreaLeft" fmla="*/ 63000 w 152640"/>
              <a:gd name="textAreaRight" fmla="*/ 89640 w 15264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543800" y="3657600"/>
            <a:ext cx="152280" cy="228600"/>
          </a:xfrm>
          <a:custGeom>
            <a:avLst/>
            <a:gdLst>
              <a:gd name="textAreaLeft" fmla="*/ 62640 w 152280"/>
              <a:gd name="textAreaRight" fmla="*/ 89640 w 15228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629400" y="4419720"/>
            <a:ext cx="152280" cy="228600"/>
          </a:xfrm>
          <a:custGeom>
            <a:avLst/>
            <a:gdLst>
              <a:gd name="textAreaLeft" fmla="*/ 62640 w 152280"/>
              <a:gd name="textAreaRight" fmla="*/ 89640 w 15228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19920" y="4419720"/>
            <a:ext cx="152280" cy="228600"/>
          </a:xfrm>
          <a:custGeom>
            <a:avLst/>
            <a:gdLst>
              <a:gd name="textAreaLeft" fmla="*/ 62640 w 152280"/>
              <a:gd name="textAreaRight" fmla="*/ 89640 w 15228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400800" y="3962520"/>
            <a:ext cx="152280" cy="228600"/>
          </a:xfrm>
          <a:custGeom>
            <a:avLst/>
            <a:gdLst>
              <a:gd name="textAreaLeft" fmla="*/ 62640 w 152280"/>
              <a:gd name="textAreaRight" fmla="*/ 89640 w 15228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171840" y="2895480"/>
            <a:ext cx="1066680" cy="228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5181480" y="3581280"/>
            <a:ext cx="297180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267080" y="3657600"/>
            <a:ext cx="6858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190760" y="2971800"/>
            <a:ext cx="84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ris Heegard &amp; Matthew Shoemake, Alantro Communica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F188-C6A5-4FBF-A94B-9DA9963E529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1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verhead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tracts from the primary goal of transmiss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iable conveyance of user information (messages from transmitter to receiv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057400" y="4876920"/>
            <a:ext cx="1447920" cy="30456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505320" y="4876920"/>
            <a:ext cx="380880" cy="30456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733920" y="434340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86200" y="4876920"/>
            <a:ext cx="1447920" cy="30456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334120" y="4876920"/>
            <a:ext cx="380880" cy="30456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715000" y="4876920"/>
            <a:ext cx="1447920" cy="30456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162920" y="4876920"/>
            <a:ext cx="380880" cy="30456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562720" y="434340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391520" y="434340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ris Heegard &amp; Matthew Shoemake, Alantro Communica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02BF-4286-4910-84A1-0791D11FD9D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1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s of Overhe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rame synchronization in a packet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acket pream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ilot t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se functions help with higher level objectives or for estimation and tracking of channel param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ris Heegard &amp; Matthew Shoemake, Alantro Communica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FEF5-2100-4576-A557-261921E612B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1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dundanc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s to the primary goal of transmi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iable conveyance of user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057400" y="4876920"/>
            <a:ext cx="1447920" cy="30456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505320" y="4876920"/>
            <a:ext cx="380880" cy="304560"/>
          </a:xfrm>
          <a:prstGeom prst="rect">
            <a:avLst/>
          </a:prstGeom>
          <a:solidFill>
            <a:srgbClr val="00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733920" y="434340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886200" y="4876920"/>
            <a:ext cx="1447920" cy="30456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715000" y="4876920"/>
            <a:ext cx="1447920" cy="30456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34120" y="4876920"/>
            <a:ext cx="380880" cy="304560"/>
          </a:xfrm>
          <a:prstGeom prst="rect">
            <a:avLst/>
          </a:prstGeom>
          <a:solidFill>
            <a:srgbClr val="00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162920" y="4876920"/>
            <a:ext cx="380880" cy="304560"/>
          </a:xfrm>
          <a:prstGeom prst="rect">
            <a:avLst/>
          </a:prstGeom>
          <a:solidFill>
            <a:srgbClr val="00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2743200" y="434340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743200" y="4343400"/>
            <a:ext cx="99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434340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4572000" y="434340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0" y="4343400"/>
            <a:ext cx="99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391520" y="434340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6400800" y="434340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400800" y="4343400"/>
            <a:ext cx="99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ris Heegard &amp; Matthew Shoemake, Alantro Communica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ED14-FA6A-472F-B5B1-9E54C67CDF4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1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Distinguishing Fea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head is independent of the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helps with auxiliary functions, yet subtracts from re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9440" indent="-212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9440" indent="-212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9440" indent="-212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undancy is a function of the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help with the primary function, it enhances the utilization of re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ris Heegard &amp; Matthew Shoemake, Alantro Communica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69EE-0FFA-4844-B3AD-2A8AAC19024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1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EC is considered as “overhead” when applied as a “Band-Aid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communications system is designed without coding, it is not robust enoug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ECC (error control code) is used to “fix” the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ovement of reli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ss in rate (“overhead”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approach is a mistake in the design of a fresh system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ris Heegard &amp; Matthew Shoemake, Alantro Communica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2652-36A3-4947-A1E9-C155669B3A2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1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to Correctly Design an FE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x a data rate (user rate) 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e a large signal set that generates more than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R*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ignals in T seco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diciously select a subset of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R*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ignals from the large s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noise immun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ep distinct signal well separated (Energ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ris Heegard &amp; Matthew Shoemake, Alantro Communica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705F-36FE-4035-B560-949F094C2EF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1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“Overhead” of QPSK as a Coding of Q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657600" y="3733920"/>
            <a:ext cx="152280" cy="15228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114800" y="3733920"/>
            <a:ext cx="152280" cy="152280"/>
          </a:xfrm>
          <a:prstGeom prst="ellipse">
            <a:avLst/>
          </a:prstGeom>
          <a:solidFill>
            <a:srgbClr val="33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0" y="3733920"/>
            <a:ext cx="152280" cy="152280"/>
          </a:xfrm>
          <a:prstGeom prst="ellipse">
            <a:avLst/>
          </a:prstGeom>
          <a:solidFill>
            <a:srgbClr val="33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029200" y="3733920"/>
            <a:ext cx="152280" cy="15228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657600" y="4191120"/>
            <a:ext cx="152280" cy="152280"/>
          </a:xfrm>
          <a:prstGeom prst="ellipse">
            <a:avLst/>
          </a:prstGeom>
          <a:solidFill>
            <a:srgbClr val="33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114800" y="4191120"/>
            <a:ext cx="152280" cy="152280"/>
          </a:xfrm>
          <a:prstGeom prst="ellipse">
            <a:avLst/>
          </a:prstGeom>
          <a:solidFill>
            <a:srgbClr val="33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0" y="4191120"/>
            <a:ext cx="152280" cy="152280"/>
          </a:xfrm>
          <a:prstGeom prst="ellipse">
            <a:avLst/>
          </a:prstGeom>
          <a:solidFill>
            <a:srgbClr val="33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4191120"/>
            <a:ext cx="152280" cy="152280"/>
          </a:xfrm>
          <a:prstGeom prst="ellipse">
            <a:avLst/>
          </a:prstGeom>
          <a:solidFill>
            <a:srgbClr val="33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657600" y="4648320"/>
            <a:ext cx="152280" cy="152280"/>
          </a:xfrm>
          <a:prstGeom prst="ellipse">
            <a:avLst/>
          </a:prstGeom>
          <a:solidFill>
            <a:srgbClr val="33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114800" y="4648320"/>
            <a:ext cx="152280" cy="152280"/>
          </a:xfrm>
          <a:prstGeom prst="ellipse">
            <a:avLst/>
          </a:prstGeom>
          <a:solidFill>
            <a:srgbClr val="33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572000" y="4648320"/>
            <a:ext cx="152280" cy="152280"/>
          </a:xfrm>
          <a:prstGeom prst="ellipse">
            <a:avLst/>
          </a:prstGeom>
          <a:solidFill>
            <a:srgbClr val="33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029200" y="4648320"/>
            <a:ext cx="152280" cy="152280"/>
          </a:xfrm>
          <a:prstGeom prst="ellipse">
            <a:avLst/>
          </a:prstGeom>
          <a:solidFill>
            <a:srgbClr val="33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657600" y="5105520"/>
            <a:ext cx="152280" cy="15228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114800" y="5105520"/>
            <a:ext cx="152280" cy="152280"/>
          </a:xfrm>
          <a:prstGeom prst="ellipse">
            <a:avLst/>
          </a:prstGeom>
          <a:solidFill>
            <a:srgbClr val="33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0" y="5105520"/>
            <a:ext cx="152280" cy="152280"/>
          </a:xfrm>
          <a:prstGeom prst="ellipse">
            <a:avLst/>
          </a:prstGeom>
          <a:solidFill>
            <a:srgbClr val="33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029200" y="5105520"/>
            <a:ext cx="152280" cy="152280"/>
          </a:xfrm>
          <a:prstGeom prst="ellipse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352680" y="4495680"/>
            <a:ext cx="2133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419720" y="3352680"/>
            <a:ext cx="0" cy="221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te = 2 bits/symb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head = 2 bits/symbol 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ris Heegard &amp; Matthew Shoemake, Alantro Communica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F54B-8441-4573-9C4D-1D594727F62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1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coded Modu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eak data stream into small pie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p onto independent dimensions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ise occasionally causes symbol err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=&gt; data err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057400" y="3657600"/>
            <a:ext cx="5105520" cy="3808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438280" y="3429000"/>
            <a:ext cx="0" cy="838080"/>
          </a:xfrm>
          <a:prstGeom prst="line">
            <a:avLst/>
          </a:prstGeom>
          <a:ln w="28440">
            <a:solidFill>
              <a:srgbClr val="0099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819520" y="3429000"/>
            <a:ext cx="0" cy="838080"/>
          </a:xfrm>
          <a:prstGeom prst="line">
            <a:avLst/>
          </a:prstGeom>
          <a:ln w="28440">
            <a:solidFill>
              <a:srgbClr val="0099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200400" y="3429000"/>
            <a:ext cx="0" cy="838080"/>
          </a:xfrm>
          <a:prstGeom prst="line">
            <a:avLst/>
          </a:prstGeom>
          <a:ln w="28440">
            <a:solidFill>
              <a:srgbClr val="0099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581280" y="3429000"/>
            <a:ext cx="0" cy="838080"/>
          </a:xfrm>
          <a:prstGeom prst="line">
            <a:avLst/>
          </a:prstGeom>
          <a:ln w="28440">
            <a:solidFill>
              <a:srgbClr val="0099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962520" y="3429000"/>
            <a:ext cx="0" cy="838080"/>
          </a:xfrm>
          <a:prstGeom prst="line">
            <a:avLst/>
          </a:prstGeom>
          <a:ln w="28440">
            <a:solidFill>
              <a:srgbClr val="0099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343400" y="3429000"/>
            <a:ext cx="0" cy="838080"/>
          </a:xfrm>
          <a:prstGeom prst="line">
            <a:avLst/>
          </a:prstGeom>
          <a:ln w="28440">
            <a:solidFill>
              <a:srgbClr val="0099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429000"/>
            <a:ext cx="0" cy="838080"/>
          </a:xfrm>
          <a:prstGeom prst="line">
            <a:avLst/>
          </a:prstGeom>
          <a:ln w="28440">
            <a:solidFill>
              <a:srgbClr val="0099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105520" y="3429000"/>
            <a:ext cx="0" cy="838080"/>
          </a:xfrm>
          <a:prstGeom prst="line">
            <a:avLst/>
          </a:prstGeom>
          <a:ln w="28440">
            <a:solidFill>
              <a:srgbClr val="0099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486400" y="3429000"/>
            <a:ext cx="0" cy="838080"/>
          </a:xfrm>
          <a:prstGeom prst="line">
            <a:avLst/>
          </a:prstGeom>
          <a:ln w="28440">
            <a:solidFill>
              <a:srgbClr val="0099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7040" y="358128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666880" y="403848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514600" y="4648320"/>
            <a:ext cx="304920" cy="304560"/>
          </a:xfrm>
          <a:prstGeom prst="ellipse">
            <a:avLst/>
          </a:prstGeom>
          <a:solidFill>
            <a:srgbClr val="33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048120" y="403848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5480" y="4648320"/>
            <a:ext cx="304920" cy="304560"/>
          </a:xfrm>
          <a:prstGeom prst="ellipse">
            <a:avLst/>
          </a:prstGeom>
          <a:solidFill>
            <a:srgbClr val="33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03848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276720" y="4648320"/>
            <a:ext cx="304560" cy="304560"/>
          </a:xfrm>
          <a:prstGeom prst="ellipse">
            <a:avLst/>
          </a:prstGeom>
          <a:solidFill>
            <a:srgbClr val="33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809880" y="403848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657600" y="4648320"/>
            <a:ext cx="304920" cy="304560"/>
          </a:xfrm>
          <a:prstGeom prst="ellipse">
            <a:avLst/>
          </a:prstGeom>
          <a:solidFill>
            <a:srgbClr val="33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191120" y="403848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038480" y="4648320"/>
            <a:ext cx="304920" cy="304560"/>
          </a:xfrm>
          <a:prstGeom prst="ellipse">
            <a:avLst/>
          </a:prstGeom>
          <a:solidFill>
            <a:srgbClr val="33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572000" y="403848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419720" y="4648320"/>
            <a:ext cx="304560" cy="304560"/>
          </a:xfrm>
          <a:prstGeom prst="ellipse">
            <a:avLst/>
          </a:prstGeom>
          <a:solidFill>
            <a:srgbClr val="33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952880" y="403848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4648320"/>
            <a:ext cx="304920" cy="304560"/>
          </a:xfrm>
          <a:prstGeom prst="ellipse">
            <a:avLst/>
          </a:prstGeom>
          <a:solidFill>
            <a:srgbClr val="33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403848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81480" y="4648320"/>
            <a:ext cx="304920" cy="304560"/>
          </a:xfrm>
          <a:prstGeom prst="ellipse">
            <a:avLst/>
          </a:prstGeom>
          <a:solidFill>
            <a:srgbClr val="33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6160" y="4572000"/>
            <a:ext cx="13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mbo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ris Heegard &amp; Matthew Shoemake, Alantro Communica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9108-B982-4ABA-B19A-9B6E1721086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1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0T13:07:52Z</dcterms:created>
  <dc:creator>Chris Heegard</dc:creator>
  <dc:description/>
  <dc:language>en-US</dc:language>
  <cp:lastModifiedBy>Bozo T. Clown</cp:lastModifiedBy>
  <cp:lastPrinted>1998-03-11T19:17:52Z</cp:lastPrinted>
  <dcterms:modified xsi:type="dcterms:W3CDTF">1998-03-11T19:19:08Z</dcterms:modified>
  <cp:revision>29</cp:revision>
  <dc:subject/>
  <dc:title>FEC is Not Overhead</dc:title>
</cp:coreProperties>
</file>