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March, 1998</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8/114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9DD0A0CA-32F5-4F73-9DA5-F41C72A8FB8C}"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371600"/>
            <a:ext cx="7924680" cy="133560"/>
            <a:chOff x="609480" y="1371600"/>
            <a:chExt cx="7924680" cy="133560"/>
          </a:xfrm>
        </p:grpSpPr>
        <p:sp>
          <p:nvSpPr>
            <p:cNvPr id="6" name=""/>
            <p:cNvSpPr/>
            <p:nvPr/>
          </p:nvSpPr>
          <p:spPr>
            <a:xfrm>
              <a:off x="609480" y="137160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47168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83808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021040"/>
            <a:ext cx="7772400" cy="404496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Titl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H Interoperability Addition to Harris HS PHYProposal</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Dat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rch 9, 1998</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Autho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11 Mbps Cross Interference and  CCA</a:t>
            </a:r>
            <a:endParaRPr b="0" lang="en-US" sz="3600" spc="-1" strike="noStrike">
              <a:solidFill>
                <a:srgbClr val="000000"/>
              </a:solidFill>
              <a:latin typeface="Arial"/>
            </a:endParaRPr>
          </a:p>
        </p:txBody>
      </p:sp>
      <p:sp>
        <p:nvSpPr>
          <p:cNvPr id="69"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f there is only one BSS, there will not be excessive collisions with the mixed FH and HS opera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veryone will hear the FH interoperability header</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there are more than one BSS, there may be 1/2 Mbps FH traffic at other channels inside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y not see the FH header, but could see the wideband HS heade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robability of interference of this mixed mode case is in general better than that of two hopping HS BSS’s because adjacent HS channels are less of a problem</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mplementation options available to perform CCA on all 1 MHz channels within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vary from simple RSSI techniques to more complex algorithms implemented mainly at the cost of additional g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Algorithms</a:t>
            </a:r>
            <a:endParaRPr b="0" lang="en-US" sz="3600" spc="-1" strike="noStrike">
              <a:solidFill>
                <a:srgbClr val="000000"/>
              </a:solidFill>
              <a:latin typeface="Arial"/>
            </a:endParaRPr>
          </a:p>
        </p:txBody>
      </p:sp>
      <p:sp>
        <p:nvSpPr>
          <p:cNvPr id="7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algorithms and triggers for rate switching between the rates in the released standard are not specified by 802.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be the same in the case of 1/2 Mbps FH to HS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Considerations  </a:t>
            </a:r>
            <a:endParaRPr b="0" lang="en-US" sz="3600" spc="-1" strike="noStrike">
              <a:solidFill>
                <a:srgbClr val="000000"/>
              </a:solidFill>
              <a:latin typeface="Arial"/>
            </a:endParaRPr>
          </a:p>
        </p:txBody>
      </p:sp>
      <p:sp>
        <p:nvSpPr>
          <p:cNvPr id="73"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mplementation issues need to be addressed in the standards process to validate the practicality of the proposa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ollowing discussion summarizes an implementation currently in a joint development process between Harris and Symbo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sulting chip set, when released, will be widely available from Harris to all interested companies at fair and reasonable ter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iscussion here assumes primarily digital implementation of the FH process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st of the non-digital functions and components are  common with that needed for HS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wo modes of FH processing </a:t>
            </a:r>
            <a:endParaRPr b="0" lang="en-US" sz="3600" spc="-1" strike="noStrike">
              <a:solidFill>
                <a:srgbClr val="000000"/>
              </a:solidFill>
              <a:latin typeface="Arial"/>
            </a:endParaRPr>
          </a:p>
        </p:txBody>
      </p:sp>
      <p:sp>
        <p:nvSpPr>
          <p:cNvPr id="7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Wideband mode allows full interoperability with both HS and FH pack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the same bandwidth SAW as the HS signal processing</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witch instantaneously from narrow FH preamble to wideband HS packe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selectivity will be less than specified in the FH section.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 narrowband mode, FH operation with maximum selectivity performance ensures best possible performance in interference limited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a 1 MHz SAW to achieve the selectivity of an FH compliant devi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oth modes needed to achieve the full benefits of the FH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nly wideband mode necessary if you only care about backward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ransmitter Block Diagram and Spectrum</a:t>
            </a:r>
            <a:endParaRPr b="0" lang="en-US" sz="3600" spc="-1" strike="noStrike">
              <a:solidFill>
                <a:srgbClr val="000000"/>
              </a:solidFill>
              <a:latin typeface="Arial"/>
            </a:endParaRPr>
          </a:p>
        </p:txBody>
      </p:sp>
      <p:pic>
        <p:nvPicPr>
          <p:cNvPr id="77" name="" descr=""/>
          <p:cNvPicPr/>
          <p:nvPr/>
        </p:nvPicPr>
        <p:blipFill>
          <a:blip r:embed="rId1"/>
          <a:stretch/>
        </p:blipFill>
        <p:spPr>
          <a:xfrm>
            <a:off x="158760" y="1765440"/>
            <a:ext cx="8826480" cy="2692440"/>
          </a:xfrm>
          <a:prstGeom prst="rect">
            <a:avLst/>
          </a:prstGeom>
          <a:ln w="0">
            <a:noFill/>
          </a:ln>
        </p:spPr>
      </p:pic>
      <p:pic>
        <p:nvPicPr>
          <p:cNvPr id="78" name="" descr=""/>
          <p:cNvPicPr/>
          <p:nvPr/>
        </p:nvPicPr>
        <p:blipFill>
          <a:blip r:embed="rId2"/>
          <a:stretch/>
        </p:blipFill>
        <p:spPr>
          <a:xfrm>
            <a:off x="444600" y="4546440"/>
            <a:ext cx="8255160" cy="18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eceiver Block Diagram and Signal Spectrum</a:t>
            </a:r>
            <a:endParaRPr b="0" lang="en-US" sz="3600" spc="-1" strike="noStrike">
              <a:solidFill>
                <a:srgbClr val="000000"/>
              </a:solidFill>
              <a:latin typeface="Arial"/>
            </a:endParaRPr>
          </a:p>
        </p:txBody>
      </p:sp>
      <p:pic>
        <p:nvPicPr>
          <p:cNvPr id="80" name="" descr=""/>
          <p:cNvPicPr/>
          <p:nvPr/>
        </p:nvPicPr>
        <p:blipFill>
          <a:blip r:embed="rId1"/>
          <a:stretch/>
        </p:blipFill>
        <p:spPr>
          <a:xfrm>
            <a:off x="2273400" y="4622760"/>
            <a:ext cx="4597560" cy="1854360"/>
          </a:xfrm>
          <a:prstGeom prst="rect">
            <a:avLst/>
          </a:prstGeom>
          <a:ln w="0">
            <a:noFill/>
          </a:ln>
        </p:spPr>
      </p:pic>
      <p:pic>
        <p:nvPicPr>
          <p:cNvPr id="81" name="" descr=""/>
          <p:cNvPicPr/>
          <p:nvPr/>
        </p:nvPicPr>
        <p:blipFill>
          <a:blip r:embed="rId2"/>
          <a:stretch/>
        </p:blipFill>
        <p:spPr>
          <a:xfrm>
            <a:off x="44280" y="1625760"/>
            <a:ext cx="905508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a:t>
            </a:r>
            <a:endParaRPr b="0" lang="en-US" sz="3600" spc="-1" strike="noStrike">
              <a:solidFill>
                <a:srgbClr val="000000"/>
              </a:solidFill>
              <a:latin typeface="Arial"/>
            </a:endParaRPr>
          </a:p>
        </p:txBody>
      </p:sp>
      <p:sp>
        <p:nvSpPr>
          <p:cNvPr id="83"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requirements, problems, and tradeoffs encountered in implementation bring up possible changes to the proposal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example is the necessity to have a high degree of phase and amplitude balance and small DC offs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hase and amplitude imbalance in the transmitter causes images on the other side of DC that will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C offsets in the transmitter causes unmodulated carrier components which would also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n the receiver, phase and amplitude imbalance distorts the signal slightly and reduces the selectivity which would be achievable otherwis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way to achieve receiver balancing is to estimate and correct the imbalances and offsets during the preamble of a receive pack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When the FH channel is at the same center frequency as the HS channel, the preamble will vary in I/Q space about 60° on the unit circ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ifficult to separate the I and Q imbalance and offset compon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 (cont.)</a:t>
            </a:r>
            <a:endParaRPr b="0" lang="en-US" sz="3600" spc="-1" strike="noStrike">
              <a:solidFill>
                <a:srgbClr val="000000"/>
              </a:solidFill>
              <a:latin typeface="Arial"/>
            </a:endParaRPr>
          </a:p>
        </p:txBody>
      </p:sp>
      <p:sp>
        <p:nvSpPr>
          <p:cNvPr id="8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ree options to resolve this problem are:</a:t>
            </a:r>
            <a:endParaRPr b="0" lang="en-US" sz="20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easure and correct between regular packets</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fset LO tuning and process signal at a small frequency offset</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lect a different center frequency for the wideband signal, i.e., the channel center frequency 5 MHz away.  This will increase the number of channels to 13 overlapping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irst two options only affect the implementation, whereas the third one changes the protocol to simplify the implementation.  In this particular case, the degree of change to the protocol is probably not warra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a:t>
            </a:r>
            <a:endParaRPr b="0" lang="en-US" sz="3600" spc="-1" strike="noStrike">
              <a:solidFill>
                <a:srgbClr val="000000"/>
              </a:solidFill>
              <a:latin typeface="Arial"/>
            </a:endParaRPr>
          </a:p>
        </p:txBody>
      </p:sp>
      <p:sp>
        <p:nvSpPr>
          <p:cNvPr id="49" name=""/>
          <p:cNvSpPr txBox="1"/>
          <p:nvPr/>
        </p:nvSpPr>
        <p:spPr>
          <a:xfrm>
            <a:off x="685800" y="160020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1/2 Mbps DS PHY is provided for within the Harris High Speed (HS) DS PHY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mportant for maximum range, robustness in severe multipath, minimum collisions (CCA), variety of cost vs performance tradeoff options, and preservation of customer investment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e propose an FH PHY backward interoperability mode as an option for the Harris HS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proposal does not modify the basic modulation format, but it assumes the addition of the HS preamble; wraps around the Harris proposal</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wo fundamental changes required for FH interoperability are </a:t>
            </a:r>
            <a:endParaRPr b="0" lang="en-US" sz="18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1) hopping of the wideband DS signal synchronized to the FH hop sequences </a:t>
            </a:r>
            <a:endParaRPr b="0" lang="en-US" sz="16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2) using the FH preamble in front of the HS preamble and data</a:t>
            </a: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Resulting system is not a hybrid system with regard to FCC rules, but a dual mode radio: an FH mode and a DS mode that also h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y is FH interoperability important?</a:t>
            </a:r>
            <a:endParaRPr b="0" lang="en-US" sz="3600" spc="-1" strike="noStrike">
              <a:solidFill>
                <a:srgbClr val="000000"/>
              </a:solidFill>
              <a:latin typeface="Arial"/>
            </a:endParaRPr>
          </a:p>
        </p:txBody>
      </p:sp>
      <p:sp>
        <p:nvSpPr>
          <p:cNvPr id="51" name=""/>
          <p:cNvSpPr txBox="1"/>
          <p:nvPr/>
        </p:nvSpPr>
        <p:spPr>
          <a:xfrm>
            <a:off x="685800" y="1600200"/>
            <a:ext cx="7772400" cy="4427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same reasons that applied to the DS PHY plus improved reliability, or survivability, in interference limited environmen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pping of the wideband HS signal will provide a level of protection against a variety of fixed frequency intere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s a last line of defense, backing down to 1/2 Mbps FH with 79 1 MHz channels will provide the best chance of operating through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Symbol’s experiences in the 900 MHz band since 1990 have show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ixed frequency system will fail in the presence of inter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anging channels is slow and often does not work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ur proprietary format 900 MHz DS system has evolved into a hopping DS system to provide reliable connection in the presence of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2.4 GHz band may eventually be worse than the 900 MHz band since it is the only unlicensed band available worldwid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so, non-802.11 systems in this band are already and will continue to be a significant portion of the usage of this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Efficiency of Frequency Plan</a:t>
            </a:r>
            <a:endParaRPr b="0" lang="en-US" sz="3600" spc="-1" strike="noStrike">
              <a:solidFill>
                <a:srgbClr val="000000"/>
              </a:solidFill>
              <a:latin typeface="Arial"/>
            </a:endParaRPr>
          </a:p>
        </p:txBody>
      </p:sp>
      <p:sp>
        <p:nvSpPr>
          <p:cNvPr id="53" name=""/>
          <p:cNvSpPr txBox="1"/>
          <p:nvPr/>
        </p:nvSpPr>
        <p:spPr>
          <a:xfrm>
            <a:off x="685800" y="1676520"/>
            <a:ext cx="7772400" cy="45720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ost efficient use of the band would be achieved by frequency planning in a cellular arrangement such as used by D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haring possible with other 802.11 DS system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hat requires exclusive use of the band which cannot be guaranteed in the unlicensed ISM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 MHz FH can perform quite well without control of the ban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lows more overlapping BSS’s (essentially non interfering) than D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re tolerant to non-802.11 device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H interoperability mode achieves a compromise of the best of both formats, achieving both 11 Mbps peak data rates and falling back to 1 MHz FH for maximum reliability in dense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t trades off the efficiency of the cell planning approach for the reliability of frequency hopping and the flexibility of scaling down to a 1 MHz narrow FH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032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Hop Sequences, Synchronization, and Frequency Plan</a:t>
            </a:r>
            <a:endParaRPr b="0" lang="en-US" sz="3200" spc="-1" strike="noStrike">
              <a:solidFill>
                <a:srgbClr val="000000"/>
              </a:solidFill>
              <a:latin typeface="Arial"/>
            </a:endParaRPr>
          </a:p>
        </p:txBody>
      </p:sp>
      <p:sp>
        <p:nvSpPr>
          <p:cNvPr id="55" name=""/>
          <p:cNvSpPr txBox="1"/>
          <p:nvPr/>
        </p:nvSpPr>
        <p:spPr>
          <a:xfrm>
            <a:off x="685800" y="1676520"/>
            <a:ext cx="7772400" cy="41421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Hopping of the HS PHY will be defined and synchronized using the mechanisms contained in the existing 802.11 FH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articular 1 MHz channel selected will be associated with a HS PHY channel center frequency</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5 HS PHY channels about 22 MHz null to null bandwidth, partially overlapped with a channel spacing of 15 M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ubset of the center frequencies defined in the DS PHY sec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 number of 1 MHz FH channels are assigned to each HS channel</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S channel that has its center frequency closest to the selected 1 MHz channel is used to transmit and receive HS data</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ximum offset in center frequency between 1 MHz FH and HS channel is generally +/- 7 MHz except at band edge (-10 to +8 MHz).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ower and sensitivity would be reduced by several dB at the -10 MHz offset due to filter rej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requency Plan of HS PHY and FH PHY channels</a:t>
            </a:r>
            <a:endParaRPr b="0" lang="en-US" sz="3600" spc="-1" strike="noStrike">
              <a:solidFill>
                <a:srgbClr val="000000"/>
              </a:solidFill>
              <a:latin typeface="Arial"/>
            </a:endParaRPr>
          </a:p>
        </p:txBody>
      </p:sp>
      <p:pic>
        <p:nvPicPr>
          <p:cNvPr id="57" name="" descr=""/>
          <p:cNvPicPr/>
          <p:nvPr/>
        </p:nvPicPr>
        <p:blipFill>
          <a:blip r:embed="rId1"/>
          <a:stretch/>
        </p:blipFill>
        <p:spPr>
          <a:xfrm>
            <a:off x="838080" y="1539720"/>
            <a:ext cx="746748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Other Frequency Consideration</a:t>
            </a:r>
            <a:endParaRPr b="0" lang="en-US" sz="3600" spc="-1" strike="noStrike">
              <a:solidFill>
                <a:srgbClr val="000000"/>
              </a:solidFill>
              <a:latin typeface="Arial"/>
            </a:endParaRPr>
          </a:p>
        </p:txBody>
      </p:sp>
      <p:sp>
        <p:nvSpPr>
          <p:cNvPr id="59" name=""/>
          <p:cNvSpPr txBox="1"/>
          <p:nvPr/>
        </p:nvSpPr>
        <p:spPr>
          <a:xfrm>
            <a:off x="685800" y="1600200"/>
            <a:ext cx="7772400" cy="48006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Consider option of adding new FH hop sequences which improves performance in the mixed HS and FH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1) By hopping a minimum of 15 MHz instead of 6 would guarantee that the next hop will also hop the wideband channel.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a) Reducing the number of channels to 77 by chopping off the bottom 2 channels would limit the frequency offset of the 1 MHz FH channel to +/- 8 MHz from the HS channel center; use 2404 to 2480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b) The minimum number of FH channels specified by the FCC is 75. Chopping off 1 more channel on each end of the band from (2a) would limit the FH to HS channel offsets to +/- 7 MHz; use 2405 to 2479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the DS PHY necessitates turning off the hopping feature since hopping is not part of existing DS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urning off the HS hopping of course loses the interference mitigation capabilities of the ho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 Header</a:t>
            </a:r>
            <a:endParaRPr b="0" lang="en-US" sz="3600" spc="-1" strike="noStrike">
              <a:solidFill>
                <a:srgbClr val="000000"/>
              </a:solidFill>
              <a:latin typeface="Arial"/>
            </a:endParaRPr>
          </a:p>
        </p:txBody>
      </p:sp>
      <p:sp>
        <p:nvSpPr>
          <p:cNvPr id="6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Proposal uses an FH 1 Mbps preamble and headerprior to the short HS preamble and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des for 1/2 Mbps FH operation when range, multipath, or backwards interoperability require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nits that are operating in 1/2 Mbps FH mode only will be able to see the length of the frame and defer for the duration of the frame.  </a:t>
            </a:r>
            <a:endParaRPr b="0" lang="en-US" sz="1800" spc="-1" strike="noStrike">
              <a:solidFill>
                <a:srgbClr val="000000"/>
              </a:solidFill>
              <a:latin typeface="Arial"/>
            </a:endParaRPr>
          </a:p>
        </p:txBody>
      </p:sp>
      <p:pic>
        <p:nvPicPr>
          <p:cNvPr id="62" name="" descr=""/>
          <p:cNvPicPr/>
          <p:nvPr/>
        </p:nvPicPr>
        <p:blipFill>
          <a:blip r:embed="rId1"/>
          <a:stretch/>
        </p:blipFill>
        <p:spPr>
          <a:xfrm>
            <a:off x="1962000" y="3835440"/>
            <a:ext cx="5981760" cy="1003320"/>
          </a:xfrm>
          <a:prstGeom prst="rect">
            <a:avLst/>
          </a:prstGeom>
          <a:ln w="0">
            <a:noFill/>
          </a:ln>
        </p:spPr>
      </p:pic>
      <p:pic>
        <p:nvPicPr>
          <p:cNvPr id="63" name="" descr=""/>
          <p:cNvPicPr/>
          <p:nvPr/>
        </p:nvPicPr>
        <p:blipFill>
          <a:blip r:embed="rId2"/>
          <a:stretch/>
        </p:blipFill>
        <p:spPr>
          <a:xfrm>
            <a:off x="1965240" y="5207040"/>
            <a:ext cx="5981760" cy="1003320"/>
          </a:xfrm>
          <a:prstGeom prst="rect">
            <a:avLst/>
          </a:prstGeom>
          <a:ln w="0">
            <a:noFill/>
          </a:ln>
        </p:spPr>
      </p:pic>
      <p:sp>
        <p:nvSpPr>
          <p:cNvPr id="64" name=""/>
          <p:cNvSpPr txBox="1"/>
          <p:nvPr/>
        </p:nvSpPr>
        <p:spPr>
          <a:xfrm>
            <a:off x="365040" y="380844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FH Backward Interoperability Frame Format</a:t>
            </a:r>
            <a:endParaRPr b="0" lang="en-US" sz="1600" spc="-1" strike="noStrike">
              <a:solidFill>
                <a:srgbClr val="000000"/>
              </a:solidFill>
              <a:latin typeface="Arial"/>
            </a:endParaRPr>
          </a:p>
        </p:txBody>
      </p:sp>
      <p:sp>
        <p:nvSpPr>
          <p:cNvPr id="65" name=""/>
          <p:cNvSpPr txBox="1"/>
          <p:nvPr/>
        </p:nvSpPr>
        <p:spPr>
          <a:xfrm>
            <a:off x="365040" y="510372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S Backward Interoperability Frame Form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ata Rates in Modified PLCP Signaling Field</a:t>
            </a:r>
            <a:endParaRPr b="0" lang="en-US" sz="3600" spc="-1" strike="noStrike">
              <a:solidFill>
                <a:srgbClr val="000000"/>
              </a:solidFill>
              <a:latin typeface="Arial"/>
            </a:endParaRPr>
          </a:p>
        </p:txBody>
      </p:sp>
      <p:sp>
        <p:nvSpPr>
          <p:cNvPr id="67"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4 bit FH PLCP Signaling Field will be modified to utilize the reserved bit b0 to expand the data rates from 8 to 16 values</a:t>
            </a:r>
            <a:endParaRPr b="0" lang="en-US" sz="20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b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2</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3</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dicated rate</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ates 1 - 4.5 Mbps per existing text</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6.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2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7.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3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8.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4 Mbps</a:t>
            </a:r>
            <a:endParaRPr b="0" lang="en-US" sz="1600" spc="-1" strike="noStrike">
              <a:solidFill>
                <a:srgbClr val="000000"/>
              </a:solidFill>
              <a:latin typeface="Arial"/>
            </a:endParaRPr>
          </a:p>
          <a:p>
            <a:pPr marL="1143000" indent="-228600">
              <a:lnSpc>
                <a:spcPct val="100000"/>
              </a:lnSpc>
            </a:pP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o maintain hopping without the FH PHY backward interoperability header, the base rate of the BSS could be set at the high speed r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o retain the 1/2 Mbps FH rate scaling capability, the 1 Mbps FH header must be added on whenever the rate scaling feature i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