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E0AB56-0274-4282-B753-483238347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32448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85800"/>
            <a:ext cx="7772400" cy="13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6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590920"/>
            <a:ext cx="7772400" cy="35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rson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4-7, 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trecht, the 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5032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y 4, 10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.11 Full W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3600" y="1828800"/>
            <a:ext cx="90630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in the WPAN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78176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May 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pening of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roductory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May 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proval of minutes from Cambridge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option of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May 4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objectives of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functional requirement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uss requirements for a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 May 5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PAR process/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view draft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termine nex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eak into working groups for the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 May 6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orts by PAR working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SG report for afternoon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 May 7, 19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lete work on draft of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cuss Call fo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utpu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cation/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. Gifford</dc:creator>
  <dc:description>Ian Gifford, M/A-COM</dc:description>
  <dc:language>en-US</dc:language>
  <cp:lastModifiedBy>I. Gifford</cp:lastModifiedBy>
  <cp:revision>0</cp:revision>
  <dc:subject>Draft Agenda WPAN SG Utrecht, NL 5/4-8/98</dc:subject>
  <dc:title>doc.: IEEE 802.11-98/169</dc:title>
</cp:coreProperties>
</file>