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96880" y="1689120"/>
            <a:ext cx="8128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360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130400"/>
            <a:ext cx="840744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51040" y="546120"/>
            <a:ext cx="74674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647640"/>
            <a:ext cx="7035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805176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46040" y="1739880"/>
            <a:ext cx="648972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sa Dane</cp:lastModifiedBy>
  <cp:revision>0</cp:revision>
  <dc:subject/>
  <dc:title>No Slide Title</dc:title>
</cp:coreProperties>
</file>