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476600" y="396720"/>
            <a:ext cx="398160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8288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205-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685800" y="6475320"/>
            <a:ext cx="7113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914400" y="2514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ial Pulse Position Modulat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5 GHz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7240" y="609480"/>
            <a:ext cx="7770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PP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352680" y="2133720"/>
            <a:ext cx="24382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278080" y="4335480"/>
            <a:ext cx="4883040" cy="666720"/>
          </a:xfrm>
          <a:prstGeom prst="rect">
            <a:avLst/>
          </a:prstGeom>
          <a:noFill/>
          <a:ln w="12600">
            <a:solidFill>
              <a:srgbClr val="3333cc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 Proven Path to Produ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xity &amp; C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DPP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33520" y="1295280"/>
            <a:ext cx="7772400" cy="77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Cost, Low-Complexity 5 GHz 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Coherent De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Equalizer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alizer Training &amp; Error Propagation ar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undament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bl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-Book” Equalizers and their Simulations don’t make Product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FFT Proc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DM more suitable for outdo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-optimal for indo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Effic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t with Nonlinear PA &amp; Pul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 with low-current Baseband Process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 Throughput Effic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-NII Compli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Mbps products at 5.2, 5.3, &amp; 5.775 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ed Implementations evidence at 10 Mb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GHz technology available for licen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667560" y="1638360"/>
            <a:ext cx="1828800" cy="1828800"/>
            <a:chOff x="6667560" y="1638360"/>
            <a:chExt cx="1828800" cy="1828800"/>
          </a:xfrm>
        </p:grpSpPr>
        <p:sp>
          <p:nvSpPr>
            <p:cNvPr id="48" name=""/>
            <p:cNvSpPr/>
            <p:nvPr/>
          </p:nvSpPr>
          <p:spPr>
            <a:xfrm>
              <a:off x="6667560" y="1638360"/>
              <a:ext cx="1828800" cy="18288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cc33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7075440" y="1873080"/>
              <a:ext cx="1106640" cy="1360800"/>
            </a:xfrm>
            <a:prstGeom prst="line">
              <a:avLst/>
            </a:prstGeom>
            <a:ln w="381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flipV="1">
              <a:off x="6891480" y="1968480"/>
              <a:ext cx="1290600" cy="1166760"/>
            </a:xfrm>
            <a:prstGeom prst="line">
              <a:avLst/>
            </a:prstGeom>
            <a:ln w="381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 txBox="1"/>
          <p:nvPr/>
        </p:nvSpPr>
        <p:spPr>
          <a:xfrm>
            <a:off x="6781680" y="2133720"/>
            <a:ext cx="16905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al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 to DPP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762120" y="1523880"/>
            <a:ext cx="8153280" cy="58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xplored Potential for RF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y popular for high-speed optical communication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WGN &amp; Multipath Channe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iber optics, sattelite communications, IR WLA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y Low RF Power Communications Candidate,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CC 15.249: “Low-Power Devices”, RadioLAN Produc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PPM has higher capacity and cutoff rate than P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PPM with overlapping pulses: Ideal for Power-Limited &amp; Bandwidth-Limited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PPM is a simple nonlinear block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binary L-tuples with unity hamming weig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PPM Transcei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281320" y="2357280"/>
            <a:ext cx="847800" cy="542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0808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P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o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06560" y="2590920"/>
            <a:ext cx="3794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447920" y="2057400"/>
            <a:ext cx="703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b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25880" y="2590920"/>
            <a:ext cx="760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124080" y="2057400"/>
            <a:ext cx="949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tt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p Sequ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881520" y="2357280"/>
            <a:ext cx="847800" cy="542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0808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26080" y="2590920"/>
            <a:ext cx="3794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00480" y="2357280"/>
            <a:ext cx="390600" cy="390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83280" y="2440080"/>
            <a:ext cx="226800" cy="226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183280" y="2440080"/>
            <a:ext cx="226800" cy="226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64160" y="2590920"/>
            <a:ext cx="3794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5334120" y="2743200"/>
            <a:ext cx="0" cy="3794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029200" y="3048120"/>
            <a:ext cx="5446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ri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938920" y="2281320"/>
            <a:ext cx="619560" cy="619560"/>
          </a:xfrm>
          <a:custGeom>
            <a:avLst/>
            <a:gdLst/>
            <a:ahLst/>
            <a:rect l="0" t="0" r="r" b="b"/>
            <a:pathLst>
              <a:path w="1721" h="1721">
                <a:moveTo>
                  <a:pt x="1721" y="1721"/>
                </a:moveTo>
                <a:lnTo>
                  <a:pt x="0" y="1721"/>
                </a:lnTo>
                <a:lnTo>
                  <a:pt x="860" y="0"/>
                </a:lnTo>
                <a:lnTo>
                  <a:pt x="1721" y="172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562720" y="1905120"/>
            <a:ext cx="1166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linear 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554880" y="2590920"/>
            <a:ext cx="3794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59440" y="2592360"/>
            <a:ext cx="379440" cy="3031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859440" y="2287440"/>
            <a:ext cx="379440" cy="3034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290600" y="4186080"/>
            <a:ext cx="847800" cy="542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0808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P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915840" y="4419720"/>
            <a:ext cx="3794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3886200"/>
            <a:ext cx="744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ected b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2135160" y="4419720"/>
            <a:ext cx="3794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133720" y="3886200"/>
            <a:ext cx="949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c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p Sequ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491000" y="4186080"/>
            <a:ext cx="847800" cy="542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0808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t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5335560" y="4419720"/>
            <a:ext cx="3794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10320" y="4186080"/>
            <a:ext cx="390600" cy="390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92760" y="4268880"/>
            <a:ext cx="227160" cy="226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5792760" y="4268880"/>
            <a:ext cx="227160" cy="226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173640" y="4419720"/>
            <a:ext cx="3794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5943600" y="4572000"/>
            <a:ext cx="0" cy="3794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638680" y="4876920"/>
            <a:ext cx="5446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ri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548400" y="4110120"/>
            <a:ext cx="619560" cy="619560"/>
          </a:xfrm>
          <a:custGeom>
            <a:avLst/>
            <a:gdLst/>
            <a:ahLst/>
            <a:rect l="0" t="0" r="r" b="b"/>
            <a:pathLst>
              <a:path w="1721" h="1721">
                <a:moveTo>
                  <a:pt x="0" y="1721"/>
                </a:moveTo>
                <a:lnTo>
                  <a:pt x="1721" y="1721"/>
                </a:lnTo>
                <a:lnTo>
                  <a:pt x="860" y="0"/>
                </a:lnTo>
                <a:lnTo>
                  <a:pt x="0" y="172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629400" y="3657600"/>
            <a:ext cx="549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7164360" y="4419720"/>
            <a:ext cx="3794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469280" y="4421160"/>
            <a:ext cx="379440" cy="3031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469280" y="4116240"/>
            <a:ext cx="379440" cy="3034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728880" y="4186080"/>
            <a:ext cx="390600" cy="390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11680" y="4268880"/>
            <a:ext cx="226800" cy="226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811680" y="4268880"/>
            <a:ext cx="226800" cy="226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3962520" y="4572000"/>
            <a:ext cx="0" cy="3794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657600" y="4876920"/>
            <a:ext cx="6890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Carri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4116240" y="4419720"/>
            <a:ext cx="3794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09920" y="4186080"/>
            <a:ext cx="847800" cy="542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68680" y="4267080"/>
            <a:ext cx="226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895480" y="4268880"/>
            <a:ext cx="0" cy="303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97280" y="4572000"/>
            <a:ext cx="226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68680" y="4419720"/>
            <a:ext cx="455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354480" y="4419720"/>
            <a:ext cx="3794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Efficient Transmi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28600" y="1676520"/>
            <a:ext cx="7772400" cy="54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linear Amplif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sed 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 Current Competitive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 of MMIC / Power De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x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cal /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t Power Competitive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 U-NII Reg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Re-Consid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114800" y="3352680"/>
            <a:ext cx="5643720" cy="1359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114800" y="2057400"/>
            <a:ext cx="5643720" cy="1359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876920" y="4648320"/>
            <a:ext cx="564372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562720" y="4802040"/>
            <a:ext cx="0" cy="912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 Tole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Symb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edded Guard-Ti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nsec Guard-Time is one of the “Pulse Position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se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Symb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a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ankingpost-rising-edge distor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ge-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etector Implementations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871880" y="4948200"/>
            <a:ext cx="847800" cy="542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0808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m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001000" y="4572000"/>
            <a:ext cx="5079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564160" y="4800600"/>
            <a:ext cx="3031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862600" y="4567320"/>
            <a:ext cx="1076400" cy="542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0808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ak Det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935760" y="4876920"/>
            <a:ext cx="3794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002440" y="5105520"/>
            <a:ext cx="2271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224920" y="4948200"/>
            <a:ext cx="619560" cy="619560"/>
          </a:xfrm>
          <a:custGeom>
            <a:avLst/>
            <a:gdLst/>
            <a:ahLst/>
            <a:rect l="0" t="0" r="r" b="b"/>
            <a:pathLst>
              <a:path w="1721" h="1721">
                <a:moveTo>
                  <a:pt x="1721" y="1721"/>
                </a:moveTo>
                <a:lnTo>
                  <a:pt x="0" y="1721"/>
                </a:lnTo>
                <a:lnTo>
                  <a:pt x="860" y="0"/>
                </a:lnTo>
                <a:lnTo>
                  <a:pt x="1721" y="172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862600" y="5405400"/>
            <a:ext cx="1076400" cy="542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0808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ak Det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564160" y="5715000"/>
            <a:ext cx="3031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935760" y="5715000"/>
            <a:ext cx="3794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850160" y="5334120"/>
            <a:ext cx="3794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7310520" y="4567320"/>
            <a:ext cx="466560" cy="145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0808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8001000" y="4497480"/>
            <a:ext cx="0" cy="608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7924680" y="5715000"/>
            <a:ext cx="3888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/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97480" y="5257800"/>
            <a:ext cx="3794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038480" y="5029200"/>
            <a:ext cx="677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b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840880" y="5257800"/>
            <a:ext cx="226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86400" y="2897280"/>
            <a:ext cx="0" cy="912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795920" y="3043080"/>
            <a:ext cx="847800" cy="542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0808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m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001000" y="2514600"/>
            <a:ext cx="5079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7840" y="2895480"/>
            <a:ext cx="303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786280" y="2662200"/>
            <a:ext cx="1076400" cy="542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0808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a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59440" y="2971800"/>
            <a:ext cx="3794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26480" y="3200400"/>
            <a:ext cx="226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148600" y="3043080"/>
            <a:ext cx="619560" cy="619560"/>
          </a:xfrm>
          <a:custGeom>
            <a:avLst/>
            <a:gdLst/>
            <a:ahLst/>
            <a:rect l="0" t="0" r="r" b="b"/>
            <a:pathLst>
              <a:path w="1721" h="1721">
                <a:moveTo>
                  <a:pt x="1721" y="1721"/>
                </a:moveTo>
                <a:lnTo>
                  <a:pt x="0" y="1721"/>
                </a:lnTo>
                <a:lnTo>
                  <a:pt x="860" y="0"/>
                </a:lnTo>
                <a:lnTo>
                  <a:pt x="1721" y="172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786280" y="3500280"/>
            <a:ext cx="1076400" cy="542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0808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G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87840" y="3809880"/>
            <a:ext cx="303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59440" y="3809880"/>
            <a:ext cx="3794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773840" y="3429000"/>
            <a:ext cx="3794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7234200" y="2662200"/>
            <a:ext cx="542880" cy="145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80808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/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7924680" y="2592360"/>
            <a:ext cx="0" cy="608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7848720" y="3809880"/>
            <a:ext cx="3888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/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421160" y="3352680"/>
            <a:ext cx="3794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114800" y="3124080"/>
            <a:ext cx="677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b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764560" y="3352680"/>
            <a:ext cx="2271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Efficient Recie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1981080"/>
            <a:ext cx="777240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 Receiver DC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er Current due to Non-Coherent RF/IF Rece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band Processor DC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 Baseband Current Competitive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 Baseband Complexity Competitive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895480" y="4724280"/>
            <a:ext cx="5643720" cy="10666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895480" y="3200400"/>
            <a:ext cx="564372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oughput Effici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198108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-Channel, Single Rate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gregate Rate per AP, Single Rate, Indoor per Cha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gregate Rate per AP, Multi Rate, Indoor per Cha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gregate Rate per AP, Single Rate, Free Space per Cha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gregate Rate per AP, Multi Rate, Free Space per Cha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600200" y="4267080"/>
            <a:ext cx="598788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PPM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0880" y="1371600"/>
            <a:ext cx="8763120" cy="9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Cost, Low-Complexity 5 GHz 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Cohe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Equalizer  (Equalizer Training &amp; Error Propagation a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undament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ble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FFT Proces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Effic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 Throughput Efficien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Mbps Fall-back rate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er data rates are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-NII Compli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CC-Approved 10 Mbps, U-NII products at 5.2, 5.3, &amp; 5.775 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ed Implementations evidence at 10 Mb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GHz Chip-set and technology available for licen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. Hayes</dc:creator>
  <dc:description/>
  <dc:language>en-US</dc:language>
  <cp:lastModifiedBy>V. Hayes</cp:lastModifiedBy>
  <cp:revision>0</cp:revision>
  <dc:subject/>
  <dc:title>No Slide Title</dc:title>
</cp:coreProperties>
</file>